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724-9031-4B5C-ADFE-6A32CED9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DC0-07A0-4A46-9943-790079F3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99B-84FB-4135-8BAD-27132528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F85-7B17-4CE6-8E95-8EAECD4C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D10-C676-4754-9E0F-D5BC0D2C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E71-F4CD-4340-9AA3-E101F706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407-B6F1-4C7F-94A3-025D05F3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2B2-AE22-48EB-B70A-4151C968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741-9E2C-4EF8-B2AA-97F057BD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74A-FF93-486C-9FE9-5B164A55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9A2-90C5-4302-A23C-F165EA67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E18-D788-41D7-A66E-70F4BF5B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E0D5-AEB7-40FB-B812-12F081781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2" descr=""/>
          <p:cNvPicPr/>
          <p:nvPr/>
        </p:nvPicPr>
        <p:blipFill>
          <a:blip r:embed="rId1"/>
          <a:stretch/>
        </p:blipFill>
        <p:spPr>
          <a:xfrm>
            <a:off x="5297400" y="603360"/>
            <a:ext cx="4857840" cy="18111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9"/>
          <p:cNvSpPr/>
          <p:nvPr/>
        </p:nvSpPr>
        <p:spPr>
          <a:xfrm>
            <a:off x="324000" y="404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Муниципальное  дошкольное образовательное учреждение «Детский сад № 73 «Аистё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г. Волжского Волгоградской обла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4286160" y="48578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Составители: Кречковская С.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старший воспитатель; Терентьева Л.Т., воспитатель Медведева О.С.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2000160" y="192888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нтернет-марафон для родителей по адатации детей к детскому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395280" y="351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Отзывы родителей об интернет-мараф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D:\Документы\Рабочий стол\Отзыв 1.jpg"/>
          <p:cNvPicPr/>
          <p:nvPr/>
        </p:nvPicPr>
        <p:blipFill>
          <a:blip r:embed="rId2"/>
          <a:stretch/>
        </p:blipFill>
        <p:spPr>
          <a:xfrm>
            <a:off x="5429160" y="785880"/>
            <a:ext cx="326412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3"/>
          <a:stretch/>
        </p:blipFill>
        <p:spPr>
          <a:xfrm>
            <a:off x="214200" y="928800"/>
            <a:ext cx="2320920" cy="4333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1"/>
          <p:cNvSpPr/>
          <p:nvPr/>
        </p:nvSpPr>
        <p:spPr>
          <a:xfrm>
            <a:off x="71280" y="5286240"/>
            <a:ext cx="27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ма Лугового Дани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5214960" y="585792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ма Зиновьевой Маргари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4"/>
          <a:stretch/>
        </p:blipFill>
        <p:spPr>
          <a:xfrm>
            <a:off x="2786040" y="857160"/>
            <a:ext cx="2154240" cy="2276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5"/>
          <a:stretch/>
        </p:blipFill>
        <p:spPr>
          <a:xfrm>
            <a:off x="2714760" y="2638440"/>
            <a:ext cx="2714400" cy="36482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1"/>
          <p:cNvSpPr/>
          <p:nvPr/>
        </p:nvSpPr>
        <p:spPr>
          <a:xfrm>
            <a:off x="2714760" y="642924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ма Мишура Катюш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2"/>
          <p:cNvSpPr txBox="1"/>
          <p:nvPr/>
        </p:nvSpPr>
        <p:spPr>
          <a:xfrm>
            <a:off x="611280" y="1341360"/>
            <a:ext cx="82296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68360" y="333360"/>
            <a:ext cx="846144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привыкают к детскому саду в среднем в течение четырех недель при условии, если адаптация прошла безболезненно. Если ребенок пришел в группу неподготовленный, то адаптация может растянуться на несколько меся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 этапе подготовки ребенка к детскому саду многие родители допускают ошибки, которые осложняют период адап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казать им консультационную помощь, воспитатели первых младших групп провели недельный интернет-мараф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а создана специальная группа для родителей воспитанников ДОУ и родителей, планирующих привести ребенка в детский сад, чтобы охватить максимальное число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71680" y="504936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 течение недели каждый день для родителей публиковались посты с информацией и зад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чем ребенку ритуал прощ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ебенка важна стабильность. Он видит, что изо дня в день вы куда-то уходите, прощаетесь у порога и каждый раз возвращаетесь. В детском саду ритуал поможет ему быть спокойнее, когда утром вы оставите его в группе. Конечно, ребенку будет грустно, в первое время он будет плакать и скучать. Но психологически он будет готов, ведь вы уже много раз доказывали ему - вы каждый раз приходите обрат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чем вам ритуал прощ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туал помогает маме психологически подготовиться к тому, что придется отпустить малыша. Часто происходит ситуация, когда после прощания с мамой малыш плачет и воспитатель общается с ним, придумывает игры, чтобы его отвлечь. Но как только малыш отвлекается, мама вдруг вспоминает, что забыла положить ему носовой платочек, и заглядывает в группу. И ребенок заново испытывает тот же стресс. В другой ситуации мама тоже вспоминает про условный платочек, но не возвращается, потому что знает о последствиях. Она весь день корит себя, чувствует вину. Такая мама тоже не научилась отпускать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создать свой риту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щайтесь каждый раз одним и тем же способом. Четко проговаривайте, во сколько вернетесь: «Я вернусь, когда закончится мультик», «Ты погуляешь, пообедаешь, и я приду за тобой». Сразу уходите. И запомните: малыш имеет право расстраиваться и плакать, когда вы уходите, ведь он вас очень любит. Это норм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думайте свой ритуал и начните использовать его каждый день. Ритуал «сработает» не сразу, потребуется время, чтобы ребенок привык. Поэтому не торопитесь менять 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642960" y="28584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День 1. Зачем нужен ритуал прощ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image2"/>
          <p:cNvPicPr/>
          <p:nvPr/>
        </p:nvPicPr>
        <p:blipFill>
          <a:blip r:embed="rId2"/>
          <a:stretch/>
        </p:blipFill>
        <p:spPr>
          <a:xfrm>
            <a:off x="142920" y="642960"/>
            <a:ext cx="441360" cy="94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714240" y="153360"/>
            <a:ext cx="7972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11280" y="333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image1"/>
          <p:cNvPicPr/>
          <p:nvPr/>
        </p:nvPicPr>
        <p:blipFill>
          <a:blip r:embed="rId3"/>
          <a:stretch/>
        </p:blipFill>
        <p:spPr>
          <a:xfrm>
            <a:off x="714240" y="142920"/>
            <a:ext cx="547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6800" y="142560"/>
            <a:ext cx="79009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День 2.Какие навыки самообслуживания и опрятности необходи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9680" y="785880"/>
            <a:ext cx="81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Почему важно уметь раздева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ет ли ваш ребенок сам снимать сандалики, носочки, колготки, юбочку или шортики? Ребенок, который уже научился раздеваться, сможет беспрепятственно пользоваться горшком. Малыш без этих навыков будет ждать, когда кто-то из взрослых его разденет и посадит, а в группе 20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рьте одежду ребенка. Даже если ребенок умеет снимать ее, но она тугая и неудобная - он может не справиться, будет мучиться с пуговками, тугими резинками и может не успеть, написать в штанишки. Так у малыша может возникнуть негативная реакция на горшок в детском са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Почему важно уметь вытирать по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ет ли ваш ребенок пользоваться горшком? А самостоятельно вытирать попу салфеткой? Ему будет комфортнее, если не чужая тетя будет это делать, а он сам. Начните учить его этому навыку дома, в спокойной обстанов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щали ли вы внимание, как дети вытирают лицо после непрошенного поцелуя или не дают себя обнять? Они не идут на руки к посторонним людям, иногда даже к бабушкам и дедушкам. Это нормально, так дети демонстрируют границы собственного тела. Эти границы сейчас еще формируются: «ко мне прикасаются только самые близкие, мама и папа», «это мое тело», «у меня есть интимные части тела, которые я никому не показываю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ьте себе на вопросы:  «Умеет ли мой ребенок надевать и снимать носочки, колготки, трусики, шортики?» ,  «Сможет ли мой ребенок вытереть попу салфеткой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Если ответы утвердительные - отлично! Если нет - у вас еще есть время для ежедневных тренировок перед детским садом. Удачи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-9651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286000" y="20098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250920" y="476280"/>
            <a:ext cx="8642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image4"/>
          <p:cNvPicPr/>
          <p:nvPr/>
        </p:nvPicPr>
        <p:blipFill>
          <a:blip r:embed="rId2"/>
          <a:stretch/>
        </p:blipFill>
        <p:spPr>
          <a:xfrm>
            <a:off x="0" y="0"/>
            <a:ext cx="121428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1357200" y="14292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3. Как помочь ребенку привыкнуть к режиму дня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357120" y="928800"/>
            <a:ext cx="850104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ого режима дня придержива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епенно переходите на режим дня детского сада. Завтрак начинается в 08:30, прогулка с 09:40 до 11:20, обед в 11:40, сон с 12:10 до 14:40, полдник в 15:00, ужин в 16:15. Вечером укладывайте ребенка спать не позднее 21:00. Это связано с возрастными периодами дневной выносливости и выработкой гормонов сна и роста - мелатонина, а при переутомлении и «перегуле» - кортизола, гормона стр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Что нужно знать о периодах дневной вынослив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выносливости - это временной промежуток без сна, который ребенок может выдержать без переутомления. То есть это период времени с момента, когда малыш начал просыпаться, до момента, когда он зас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ебенка двух лет период дневной выносливости длится 5-6 часов. Это значит, что если ваш ребенок проснулся после дневного сна в 14:40, то в 19:40-20:40 он устанет и захочет спать. Точная продолжительность дневной выносливости индивидуальна: один малыш готов уснуть через 5 часов, другой - только через 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епенно переходите на режим дня детского сада. Отслеживайте время, когда ребенку нужно погулять, поесть и ложиться спать. Проговаривайте ему: «Тебе пора спать», «Сейчас погуляем и пойдем куша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image6"/>
          <p:cNvPicPr/>
          <p:nvPr/>
        </p:nvPicPr>
        <p:blipFill>
          <a:blip r:embed="rId2"/>
          <a:stretch/>
        </p:blipFill>
        <p:spPr>
          <a:xfrm>
            <a:off x="142920" y="0"/>
            <a:ext cx="1181160" cy="1271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3"/>
          <p:cNvSpPr/>
          <p:nvPr/>
        </p:nvSpPr>
        <p:spPr>
          <a:xfrm>
            <a:off x="285840" y="928800"/>
            <a:ext cx="8501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Как физиология малыша связана с режимом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режим детского сада нужно перейти минимум за месяц. Причина в физиологии малыша. Если ребенок привык обедать в час дня, то к этому времени у него начинает вырабатываться желудочный сок и он испытывает чувство голода. Такой малыш не захочет кушать в 11:30, когда в ясельной группе начнется обед. Потом, к часу дня, он проголодается и не сможет уснуть в тихий час или будет постоянно просыпаться и плакать. Таким же образом на ребенка повлияет смещенное время дневного с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1357200" y="142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4. Какие ещё навыки самообслуживания ва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142920" y="714240"/>
            <a:ext cx="9001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учить малыша складывать одежду на стульч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кажите малышу, что в детском саду после обеда все ребята ставят свои стульчики в кружок и раздеваются, аккуратно складывают одежду на стульчик и идут в свою кроватку. Научите ребенка просить помощи в тех случаях, когда он не может что-то снять самостоятельно, и поощряйте, когда у него будет получ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танете учить ребенка, заодно протестируйте его одежду на удобство. На первые месяцы уберите из гардероба вещи, которые можно снять и надеть только с помощью взрослого. Ведь главная задача - научить ребенка навыкам самообслуживания, а красивые сложные наряды можно достать чуть поз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м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ребенка раздеваться и аккуратно складывать вещи на стульчик. Заодно проверьте его одежду - насколько удобно будет малышу снимать и надевать ее самостоятельно. Не стремитесь ускорить процесс раздевания, помогая ребенку. Уделите этому чуть больше времени. Если у ребенка не получается сложить вещи, сделайте это вместе. Главное - не торопите его и не ругайте за нелов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п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пите и повесьте в доме два пластиковых крючка на уровне плеч ребенка - в ванной для полотенца и в прихожей для верхней одежды. Приучайте ребенка вытирать руки после мытья и самостоятельно вешать полотенце на крючок. Организуйте совместное мытье рук с ребенком, чтобы он повторял за вами действия в нужной последовательности. Когда возвращаетесь домой, помогайте ребенку снять верхнюю одежду, но учите вешать ее на крючок без вашей помощ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642960" y="642960"/>
            <a:ext cx="8143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Почему важно уметь держать лож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жаем осваивать навыки самообслуживания. Ответьте на вопрос: «Мой ребенок кушает самостоятельно или он только пережевывает пищу, а ложкой орудует мама?» Ребенок, который хорошо держит ложку и активно пользуется ею, не будет испытывать стресс во время приема пищи в детском саду. Ему не придется ждать, пока его покормит малознакомая тетя. Воспитатель и няня докармливают всех, кто не берет ложку, но не каждый ребенок к этому готов. Поэтому ваша задача - помочь ребенку быть самостоятельным, когда он ес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image8"/>
          <p:cNvPicPr/>
          <p:nvPr/>
        </p:nvPicPr>
        <p:blipFill>
          <a:blip r:embed="rId2"/>
          <a:stretch/>
        </p:blipFill>
        <p:spPr>
          <a:xfrm>
            <a:off x="142920" y="0"/>
            <a:ext cx="9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1357200" y="142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5. Как рассказать ребенку про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142920" y="714240"/>
            <a:ext cx="900108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Что говорить ребенку и как ча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айшие три месяца повторяйте ребенку две установки. Первая: «Мамы и папы ходят на ра­боту, а все детки твоего возраста ходят в детский сад». В этой фразе нужно сделать упор на сло­ве «все». Вторая: «Дети в садике не живут, их родители приводят туда по утрам, а вечером заби­рают домой». Делаем упор на «не живу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ий раз, когда вы идете с ребенком мимо детского сада, напоминайте, как ему повезло, ведь совсем скоро он будет сюда ходить. При ребенке говорите близким, как гордитесь им, ведь его взяли в детский садик. Скоро ребенок сам начнет хваст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Что рассказать о распорядке дня в детском с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ворите с малышом о будущем распорядке дня - чем и в какой очередности он будет там заниматься. Детей пугает неизвест­ность, и чем подробнее вы опишете режим, тем спокойнее ребенок будет себя чувствовать. Переспрашивайте у него, помнит ли он, что произойдет после прогулки, куда следует сложить вещи, кто ему поможет раздеть­ся, к кому обратиться за помощью, что будут делать дети после обе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3"/>
          <p:cNvSpPr/>
          <p:nvPr/>
        </p:nvSpPr>
        <p:spPr>
          <a:xfrm>
            <a:off x="785880" y="642960"/>
            <a:ext cx="800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начать разговаривать с малышом о детском са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райтесь объяснить ребенку, что такое детский сад, зачем детям надо туда ходить, поче­му вы хотите, чтобы он туда пошел. Например: «Детский сад - это огромный дом для маленьких деток. Их туда приводят родители, чтобы они могли вместе покушать, поиграть и погулять. Пока ты будешь там, вместо меня о тебе будет заботиться тетя-воспитатель. Она покажет тебе много­много игрушек, детскую площадку, песочницу, научит играть с другими детками в разные игр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image9"/>
          <p:cNvPicPr/>
          <p:nvPr/>
        </p:nvPicPr>
        <p:blipFill>
          <a:blip r:embed="rId2"/>
          <a:stretch/>
        </p:blipFill>
        <p:spPr>
          <a:xfrm>
            <a:off x="214200" y="0"/>
            <a:ext cx="928800" cy="113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Admin\AppData\Local\Temp\FineReader12.00\media\image10.png"/>
          <p:cNvPicPr/>
          <p:nvPr/>
        </p:nvPicPr>
        <p:blipFill>
          <a:blip r:embed="rId3"/>
          <a:stretch/>
        </p:blipFill>
        <p:spPr>
          <a:xfrm>
            <a:off x="0" y="45720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5721480" y="277920"/>
            <a:ext cx="13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14200" y="522216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Что рассказать о трудностях в детском с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койно расскажите ребенку, с какими возможными трудно­стями он столкнется и как их преодолеть. Например: «Если ты за­хочешь в туалет, скажи об этом тете-воспитателю». Мягко преду­предите ребенка о том, что в группе много детей, и иногда ему нужно будет подождать своей очереди: «Если тетя-воспитатель бы­ла занята с другими ребятами и не услышала тебя, подожди и спро­си ее еще ра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Задание для семь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говорите с ребенком о детском са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160" y="468000"/>
            <a:ext cx="244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1357200" y="142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6. Как научить малыша пользоваться горш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142920" y="714240"/>
            <a:ext cx="900108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огда ребенок готов перейти на горш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кажите малышу, что в детском саду после обеда все ребята ставят свои стульчики в кружок и раздеваются, аккуратно складывают одежду на стульчик и идут в свою кроватку. Научите ребен­ка просить помощи в тех случаях, когда он не может что-то снять самостоятельно, и поощряйте, когда у него будет получ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танете учить ребенка, заодно протестируйте его одежду на удобство. На первые меся­цы уберите из гардероба вещи, которые можно снять и надеть только с помощью взрослого. Ведь главная задача - научить ребенка навыкам самообслуживания, а красивые сложные наряды мож­но достать чуть поз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ие есть правила для гор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шок должен быть один. Он должен быть устойчивым и физиологически удобным для ребен­ка. Не ставьте горшок среди игрушек, не покупайте горшки с музыкой или подсветкой - он не дол­жен ассоциироваться с иг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ередвигайте горшок, пусть он стоит на одном месте и днем, и ночью. Если ночью ребенок просыпается по нужде, то идет к горшку на его обычном месте. За горшок можно только хвалить, ругать за оплошности нельз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В многодетных семьях дети учатся садиться на горшок бы­стрее, потому что перед глазами есть пример старших братьев и сестер. Чтобы помочь ребенку, сходите в гости, где есть ма­лыш одного пола с вашим ребенком. На своем примере он по­кажет, что горшок - это удоб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 сажайте ребенка на горшок только при полном мочевом пузыре, чтобы сформировать связку «ощущение наполненности - горшок - мочеиспускание». Как только ребенок сам, без вашей просьбы, сходил на горшок, уби­райте дневные памперсы и надевайте обычные трусики. Оставляйте ребенка на ночной сон без памперса только после двух недель без дневных «промашек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642960" y="642960"/>
            <a:ext cx="8358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огда можно считать, что ребенок умеет пользоваться горш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ык сформирован, только если ребенок без напоминаний, осознанно садится на горшок. Ес­ли вы каждый раз просите ребенка, используете определенные слова или звук воды - сформиро­ван не навык, а условный рефлекс. В стрессовой ситуации при адаптации к детскому саду ребенок начнет игнорировать горшок. То же самое, если ребенок только показывает, что хочет на горшок, но все за него делает ма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image11"/>
          <p:cNvPicPr/>
          <p:nvPr/>
        </p:nvPicPr>
        <p:blipFill>
          <a:blip r:embed="rId2"/>
          <a:stretch/>
        </p:blipFill>
        <p:spPr>
          <a:xfrm>
            <a:off x="142920" y="0"/>
            <a:ext cx="10000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357200" y="142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7. Почему в детском саду дети начинают чаще бол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142920" y="714240"/>
            <a:ext cx="9001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ие типы поведения мамы мешают адап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яжелая адаптация из-за мамы бывает в трех случаях. Первый - если у мамы есть возможность сидеть дома, и ей не хочется расставаться с ребенком. Второй - у мамы нет возможности сидеть дома, но и на работу выходить не хочется. В этих случаях ребенок будет подсознательно помогать и болеть, а мама будет сидеть с ним на больничных. В третьем случае мама живет жизнью ребенка, очень тревожится, гиперопекает. Такая мама обычно активный участник форумов, лучше всех знает, что нужно ее ребенку. Она переживает, когда малыш в детском саду, - накормлен ли он, не обижают ли его, не потерял ли он носовой платочек. В этом случае мама не дает ребенку шанса повзрослеть и отделиться, а ребенок подчиня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Что делать, если ребенок часто болеет в детском с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лучае частых болезней приведите ребенка к инфекционисту и иммунологу. А если вы допускаете, что можете относиться к типам поведения из абзаца выше, проконсультируйтесь у психолога. Важно осознать проблему и принять ее, а дальше пробовать ее реш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1214280" y="64296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адаптация влияет на иммун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которые дети начинают часто болеть в детском саду. Причина может быть в иммунитете. В период адаптации он часто снижается, вылезают недолеченные инфе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image14"/>
          <p:cNvPicPr/>
          <p:nvPr/>
        </p:nvPicPr>
        <p:blipFill>
          <a:blip r:embed="rId2"/>
          <a:stretch/>
        </p:blipFill>
        <p:spPr>
          <a:xfrm>
            <a:off x="0" y="428760"/>
            <a:ext cx="1285920" cy="11602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2"/>
          <p:cNvSpPr/>
          <p:nvPr/>
        </p:nvSpPr>
        <p:spPr>
          <a:xfrm>
            <a:off x="357120" y="12859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родители влияют на адаптацию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4"/>
          <p:cNvSpPr/>
          <p:nvPr/>
        </p:nvSpPr>
        <p:spPr>
          <a:xfrm>
            <a:off x="142920" y="1571760"/>
            <a:ext cx="8858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чина болезней может быть в психологии матери - так называемая вторичная выгода мамы, которую она не осознает. Готовность родителей отправить ребенка в детский сад - решающий фактор во всей адаптации. Если мама позволяет малышу взрослеть и отделяться, понимает, что детский сад нужен и ребенку, и ей, - адаптация пройдет успеш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8:02:07Z</dcterms:created>
  <dc:creator>srdhotgl</dc:creator>
  <dc:description/>
  <dc:language>en-US</dc:language>
  <cp:lastModifiedBy>c400</cp:lastModifiedBy>
  <dcterms:modified xsi:type="dcterms:W3CDTF">2020-12-01T13:09:51Z</dcterms:modified>
  <cp:revision>86</cp:revision>
  <dc:subject/>
  <dc:title>Слайд 1</dc:title>
</cp:coreProperties>
</file>