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458C-846C-4EB6-AA0F-12F5CD132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CE9E-4A85-4908-BF99-78511A3D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66AE-504D-4EAC-A82E-4D6EBCCDA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D802-7A48-4957-8DE6-91F3CC59C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71A4-3E06-42CB-BFDE-539357B4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E35C-9DFA-4CC4-8F4D-4675312F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ED56-BBD8-4824-97C7-B0A641F9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267B-731D-4760-B5A5-4F785EC5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4CC7-635F-44C0-80E6-947C0F13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D66D-A362-4CC7-AC4E-36330254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81FF-FCD6-4490-8FB1-7F46D8D3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9380-AEDC-493A-980C-EA64012F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FA93-16E4-4ED0-92B4-3DF8A174CC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Прямоугольник 2" descr=""/>
          <p:cNvPicPr/>
          <p:nvPr/>
        </p:nvPicPr>
        <p:blipFill>
          <a:blip r:embed="rId1"/>
          <a:stretch/>
        </p:blipFill>
        <p:spPr>
          <a:xfrm>
            <a:off x="5297400" y="603360"/>
            <a:ext cx="4857840" cy="18111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9"/>
          <p:cNvSpPr/>
          <p:nvPr/>
        </p:nvSpPr>
        <p:spPr>
          <a:xfrm>
            <a:off x="324000" y="404640"/>
            <a:ext cx="83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Муниципальное  дошкольное образовательное учреждение «Детский сад № 73 «Аистён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г. Волжского Волгоградской облас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0"/>
          <p:cNvSpPr/>
          <p:nvPr/>
        </p:nvSpPr>
        <p:spPr>
          <a:xfrm>
            <a:off x="4286160" y="4857840"/>
            <a:ext cx="43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Составители: Кречковская С.Г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старший воспитатель; Терентьева Л.Т., воспитатель Медведева О.С.,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0"/>
          <p:cNvSpPr/>
          <p:nvPr/>
        </p:nvSpPr>
        <p:spPr>
          <a:xfrm>
            <a:off x="2000160" y="1928880"/>
            <a:ext cx="650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Интернет-марафон для родителей по адатации детей к детскому са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1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2"/>
          <p:cNvSpPr/>
          <p:nvPr/>
        </p:nvSpPr>
        <p:spPr>
          <a:xfrm>
            <a:off x="395280" y="35100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Отзывы родителей об интернет-марафо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D:\Документы\Рабочий стол\Отзыв 1.jpg"/>
          <p:cNvPicPr/>
          <p:nvPr/>
        </p:nvPicPr>
        <p:blipFill>
          <a:blip r:embed="rId2"/>
          <a:stretch/>
        </p:blipFill>
        <p:spPr>
          <a:xfrm>
            <a:off x="5429160" y="785880"/>
            <a:ext cx="3264120" cy="5029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"/>
          <p:cNvPicPr/>
          <p:nvPr/>
        </p:nvPicPr>
        <p:blipFill>
          <a:blip r:embed="rId3"/>
          <a:stretch/>
        </p:blipFill>
        <p:spPr>
          <a:xfrm>
            <a:off x="214200" y="928800"/>
            <a:ext cx="2320920" cy="43336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1"/>
          <p:cNvSpPr/>
          <p:nvPr/>
        </p:nvSpPr>
        <p:spPr>
          <a:xfrm>
            <a:off x="71280" y="5286240"/>
            <a:ext cx="27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ама Лугового Дании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2"/>
          <p:cNvSpPr/>
          <p:nvPr/>
        </p:nvSpPr>
        <p:spPr>
          <a:xfrm>
            <a:off x="5214960" y="5857920"/>
            <a:ext cx="36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ама Зиновьевой Маргари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4"/>
          <a:stretch/>
        </p:blipFill>
        <p:spPr>
          <a:xfrm>
            <a:off x="2786040" y="857160"/>
            <a:ext cx="2154240" cy="2276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"/>
          <p:cNvPicPr/>
          <p:nvPr/>
        </p:nvPicPr>
        <p:blipFill>
          <a:blip r:embed="rId5"/>
          <a:stretch/>
        </p:blipFill>
        <p:spPr>
          <a:xfrm>
            <a:off x="2714760" y="2638440"/>
            <a:ext cx="2714400" cy="36482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1"/>
          <p:cNvSpPr/>
          <p:nvPr/>
        </p:nvSpPr>
        <p:spPr>
          <a:xfrm>
            <a:off x="2714760" y="6429240"/>
            <a:ext cx="27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Мама Мишура Катюш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5003640" y="58770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2"/>
          <p:cNvSpPr txBox="1"/>
          <p:nvPr/>
        </p:nvSpPr>
        <p:spPr>
          <a:xfrm>
            <a:off x="611280" y="1341360"/>
            <a:ext cx="822960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7"/>
          <p:cNvSpPr/>
          <p:nvPr/>
        </p:nvSpPr>
        <p:spPr>
          <a:xfrm>
            <a:off x="468360" y="333360"/>
            <a:ext cx="846144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привыкают к детскому саду в среднем в течение четырех недель при условии, если адаптация прошла безболезненно. Если ребенок пришел в группу неподготовленный, то адаптация может растянуться на несколько месяц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 этапе подготовки ребенка к детскому саду многие родители допускают ошибки, которые осложняют период адапт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оказать им консультационную помощь, воспитатели первых младших групп провели недельный интернет-марафо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е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ber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а создана специальная группа для родителей воспитанников ДОУ и родителей, планирующих привести ребенка в детский сад, чтобы охватить максимальное число род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571680" y="5049360"/>
            <a:ext cx="857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 течение недели каждый день для родителей публиковались посты с информацией и задан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0004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Зачем ребенку ритуал прощ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ребенка важна стабильность. Он видит, что изо дня в день вы куда-то уходите, прощаетесь у порога и каждый раз возвращаетесь. В детском саду ритуал поможет ему быть спокойнее, когда утром вы оставите его в группе. Конечно, ребенку будет грустно, в первое время он будет плакать и скучать. Но психологически он будет готов, ведь вы уже много раз доказывали ему - вы каждый раз приходите обрат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Зачем вам ритуал прощ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итуал помогает маме психологически подготовиться к тому, что придется отпустить малыша. Часто происходит ситуация, когда после прощания с мамой малыш плачет и воспитатель общается с ним, придумывает игры, чтобы его отвлечь. Но как только малыш отвлекается, мама вдруг вспоминает, что забыла положить ему носовой платочек, и заглядывает в группу. И ребенок заново испытывает тот же стресс. В другой ситуации мама тоже вспоминает про условный платочек, но не возвращается, потому что знает о последствиях. Она весь день корит себя, чувствует вину. Такая мама тоже не научилась отпускать ребе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Как создать свой ритуа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щайтесь каждый раз одним и тем же способом. Четко проговаривайте, во сколько вернетесь: «Я вернусь, когда закончится мультик», «Ты погуляешь, пообедаешь, и я приду за тобой». Сразу уходите. И запомните: малыш имеет право расстраиваться и плакать, когда вы уходите, ведь он вас очень любит. Это нормаль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Задание для семь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думайте свой ритуал и начните использовать его каждый день. Ритуал «сработает» не сразу, потребуется время, чтобы ребенок привык. Поэтому не торопитесь менять е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5003640" y="58770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642960" y="28584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День 1. Зачем нужен ритуал прощ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3" descr="image2"/>
          <p:cNvPicPr/>
          <p:nvPr/>
        </p:nvPicPr>
        <p:blipFill>
          <a:blip r:embed="rId2"/>
          <a:stretch/>
        </p:blipFill>
        <p:spPr>
          <a:xfrm>
            <a:off x="142920" y="642960"/>
            <a:ext cx="441360" cy="9414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714240" y="153360"/>
            <a:ext cx="7972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611280" y="333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4" descr="image1"/>
          <p:cNvPicPr/>
          <p:nvPr/>
        </p:nvPicPr>
        <p:blipFill>
          <a:blip r:embed="rId3"/>
          <a:stretch/>
        </p:blipFill>
        <p:spPr>
          <a:xfrm>
            <a:off x="714240" y="142920"/>
            <a:ext cx="547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6800" y="142560"/>
            <a:ext cx="790092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День 2.Какие навыки самообслуживания и опрятности необходи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9680" y="785880"/>
            <a:ext cx="81867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Почему важно уметь раздевать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меет ли ваш ребенок сам снимать сандалики, носочки, колготки, юбочку или шортики? Ребенок, который уже научился раздеваться, сможет беспрепятственно пользоваться горшком. Малыш без этих навыков будет ждать, когда кто-то из взрослых его разденет и посадит, а в группе 20 де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верьте одежду ребенка. Даже если ребенок умеет снимать ее, но она тугая и неудобная - он может не справиться, будет мучиться с пуговками, тугими резинками и может не успеть, написать в штанишки. Так у малыша может возникнуть негативная реакция на горшок в детском са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Почему важно уметь вытирать поп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меет ли ваш ребенок пользоваться горшком? А самостоятельно вытирать попу салфеткой? Ему будет комфортнее, если не чужая тетя будет это делать, а он сам. Начните учить его этому навыку дома, в спокойной обстанов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щали ли вы внимание, как дети вытирают лицо после непрошенного поцелуя или не дают себя обнять? Они не идут на руки к посторонним людям, иногда даже к бабушкам и дедушкам. Это нормально, так дети демонстрируют границы собственного тела. Эти границы сейчас еще формируются: «ко мне прикасаются только самые близкие, мама и папа», «это мое тело», «у меня есть интимные части тела, которые я никому не показываю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Задание для семь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ветьте себе на вопросы:  «Умеет ли мой ребенок надевать и снимать носочки, колготки, трусики, шортики?» ,  «Сможет ли мой ребенок вытереть попу салфеткой?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Если ответы утвердительные - отлично! Если нет - у вас еще есть время для ежедневных тренировок перед детским садом. Удачи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5003640" y="58770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-96516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2286000" y="200988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250920" y="476280"/>
            <a:ext cx="86421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" descr="image4"/>
          <p:cNvPicPr/>
          <p:nvPr/>
        </p:nvPicPr>
        <p:blipFill>
          <a:blip r:embed="rId2"/>
          <a:stretch/>
        </p:blipFill>
        <p:spPr>
          <a:xfrm>
            <a:off x="0" y="0"/>
            <a:ext cx="121428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5003640" y="58770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7"/>
          <p:cNvSpPr/>
          <p:nvPr/>
        </p:nvSpPr>
        <p:spPr>
          <a:xfrm>
            <a:off x="1357200" y="14292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День 3. Как помочь ребенку привыкнуть к режиму дня в детском са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8"/>
          <p:cNvSpPr/>
          <p:nvPr/>
        </p:nvSpPr>
        <p:spPr>
          <a:xfrm>
            <a:off x="357120" y="928800"/>
            <a:ext cx="8501040" cy="59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Какого режима дня придерживать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епенно переходите на режим дня детского сада. Завтрак начинается в 08:30, прогулка с 09:40 до 11:20, обед в 11:40, сон с 12:10 до 14:40, полдник в 15:00, ужин в 16:15. Вечером укладывайте ребенка спать не позднее 21:00. Это связано с возрастными периодами дневной выносливости и выработкой гормонов сна и роста - мелатонина, а при переутомлении и «перегуле» - кортизола, гормона стрес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Что нужно знать о периодах дневной вынослив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иод выносливости - это временной промежуток без сна, который ребенок может выдержать без переутомления. То есть это период времени с момента, когда малыш начал просыпаться, до момента, когда он засн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ребенка двух лет период дневной выносливости длится 5-6 часов. Это значит, что если ваш ребенок проснулся после дневного сна в 14:40, то в 19:40-20:40 он устанет и захочет спать. Точная продолжительность дневной выносливости индивидуальна: один малыш готов уснуть через 5 часов, другой - только через 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Задание для семь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епенно переходите на режим дня детского сада. Отслеживайте время, когда ребенку нужно погулять, поесть и ложиться спать. Проговаривайте ему: «Тебе пора спать», «Сейчас погуляем и пойдем кушать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image6"/>
          <p:cNvPicPr/>
          <p:nvPr/>
        </p:nvPicPr>
        <p:blipFill>
          <a:blip r:embed="rId2"/>
          <a:stretch/>
        </p:blipFill>
        <p:spPr>
          <a:xfrm>
            <a:off x="142920" y="0"/>
            <a:ext cx="1181160" cy="12715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3"/>
          <p:cNvSpPr/>
          <p:nvPr/>
        </p:nvSpPr>
        <p:spPr>
          <a:xfrm>
            <a:off x="285840" y="928800"/>
            <a:ext cx="85010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  <a:ea typeface="Arial"/>
              </a:rPr>
              <a:t>Как физиология малыша связана с режимом д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а режим детского сада нужно перейти минимум за месяц. Причина в физиологии малыша. Если ребенок привык обедать в час дня, то к этому времени у него начинает вырабатываться желудочный сок и он испытывает чувство голода. Такой малыш не захочет кушать в 11:30, когда в ясельной группе начнется обед. Потом, к часу дня, он проголодается и не сможет уснуть в тихий час или будет постоянно просыпаться и плакать. Таким же образом на ребенка повлияет смещенное время дневного с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5003640" y="58770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7"/>
          <p:cNvSpPr/>
          <p:nvPr/>
        </p:nvSpPr>
        <p:spPr>
          <a:xfrm>
            <a:off x="1357200" y="14292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День 4. Какие ещё навыки самообслуживания важ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8"/>
          <p:cNvSpPr/>
          <p:nvPr/>
        </p:nvSpPr>
        <p:spPr>
          <a:xfrm>
            <a:off x="142920" y="714240"/>
            <a:ext cx="900108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Как учить малыша складывать одежду на стульч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скажите малышу, что в детском саду после обеда все ребята ставят свои стульчики в кружок и раздеваются, аккуратно складывают одежду на стульчик и идут в свою кроватку. Научите ребенка просить помощи в тех случаях, когда он не может что-то снять самостоятельно, и поощряйте, когда у него будет получать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гда станете учить ребенка, заодно протестируйте его одежду на удобство. На первые месяцы уберите из гардероба вещи, которые можно снять и надеть только с помощью взрослого. Ведь главная задача - научить ребенка навыкам самообслуживания, а красивые сложные наряды можно достать чуть позж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Задание для м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учите ребенка раздеваться и аккуратно складывать вещи на стульчик. Заодно проверьте его одежду - насколько удобно будет малышу снимать и надевать ее самостоятельно. Не стремитесь ускорить процесс раздевания, помогая ребенку. Уделите этому чуть больше времени. Если у ребенка не получается сложить вещи, сделайте это вместе. Главное - не торопите его и не ругайте за неловк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Задание для па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пите и повесьте в доме два пластиковых крючка на уровне плеч ребенка - в ванной для полотенца и в прихожей для верхней одежды. Приучайте ребенка вытирать руки после мытья и самостоятельно вешать полотенце на крючок. Организуйте совместное мытье рук с ребенком, чтобы он повторял за вами действия в нужной последовательности. Когда возвращаетесь домой, помогайте ребенку снять верхнюю одежду, но учите вешать ее на крючок без вашей помощи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3"/>
          <p:cNvSpPr/>
          <p:nvPr/>
        </p:nvSpPr>
        <p:spPr>
          <a:xfrm>
            <a:off x="642960" y="642960"/>
            <a:ext cx="81439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Почему важно уметь держать лож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должаем осваивать навыки самообслуживания. Ответьте на вопрос: «Мой ребенок кушает самостоятельно или он только пережевывает пищу, а ложкой орудует мама?» Ребенок, который хорошо держит ложку и активно пользуется ею, не будет испытывать стресс во время приема пищи в детском саду. Ему не придется ждать, пока его покормит малознакомая тетя. Воспитатель и няня докармливают всех, кто не берет ложку, но не каждый ребенок к этому готов. Поэтому ваша задача - помочь ребенку быть самостоятельным, когда он ес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image8"/>
          <p:cNvPicPr/>
          <p:nvPr/>
        </p:nvPicPr>
        <p:blipFill>
          <a:blip r:embed="rId2"/>
          <a:stretch/>
        </p:blipFill>
        <p:spPr>
          <a:xfrm>
            <a:off x="142920" y="0"/>
            <a:ext cx="928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5003640" y="58770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7"/>
          <p:cNvSpPr/>
          <p:nvPr/>
        </p:nvSpPr>
        <p:spPr>
          <a:xfrm>
            <a:off x="1357200" y="14292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День 5. Как рассказать ребенку про детский с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8"/>
          <p:cNvSpPr/>
          <p:nvPr/>
        </p:nvSpPr>
        <p:spPr>
          <a:xfrm>
            <a:off x="142920" y="714240"/>
            <a:ext cx="900108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Что говорить ребенку и как час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ижайшие три месяца повторяйте ребенку две установки. Первая: «Мамы и папы ходят на ра­боту, а все детки твоего возраста ходят в детский сад». В этой фразе нужно сделать упор на сло­ве «все». Вторая: «Дети в садике не живут, их родители приводят туда по утрам, а вечером заби­рают домой». Делаем упор на «не живут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який раз, когда вы идете с ребенком мимо детского сада, напоминайте, как ему повезло, ведь совсем скоро он будет сюда ходить. При ребенке говорите близким, как гордитесь им, ведь его взяли в детский садик. Скоро ребенок сам начнет хвастать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Что рассказать о распорядке дня в детском са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ворите с малышом о будущем распорядке дня - чем и в какой очередности он будет там заниматься. Детей пугает неизвест­ность, и чем подробнее вы опишете режим, тем спокойнее ребенок будет себя чувствовать. Переспрашивайте у него, помнит ли он, что произойдет после прогулки, куда следует сложить вещи, кто ему поможет раздеть­ся, к кому обратиться за помощью, что будут делать дети после обе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3"/>
          <p:cNvSpPr/>
          <p:nvPr/>
        </p:nvSpPr>
        <p:spPr>
          <a:xfrm>
            <a:off x="785880" y="642960"/>
            <a:ext cx="8001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Как начать разговаривать с малышом о детском са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арайтесь объяснить ребенку, что такое детский сад, зачем детям надо туда ходить, поче­му вы хотите, чтобы он туда пошел. Например: «Детский сад - это огромный дом для маленьких деток. Их туда приводят родители, чтобы они могли вместе покушать, поиграть и погулять. Пока ты будешь там, вместо меня о тебе будет заботиться тетя-воспитатель. Она покажет тебе много­много игрушек, детскую площадку, песочницу, научит играть с другими детками в разные игры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image9"/>
          <p:cNvPicPr/>
          <p:nvPr/>
        </p:nvPicPr>
        <p:blipFill>
          <a:blip r:embed="rId2"/>
          <a:stretch/>
        </p:blipFill>
        <p:spPr>
          <a:xfrm>
            <a:off x="214200" y="0"/>
            <a:ext cx="928800" cy="1133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Users\Admin\AppData\Local\Temp\FineReader12.00\media\image10.png"/>
          <p:cNvPicPr/>
          <p:nvPr/>
        </p:nvPicPr>
        <p:blipFill>
          <a:blip r:embed="rId3"/>
          <a:stretch/>
        </p:blipFill>
        <p:spPr>
          <a:xfrm>
            <a:off x="0" y="45720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5721480" y="277920"/>
            <a:ext cx="13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214200" y="5222160"/>
            <a:ext cx="87868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  <a:ea typeface="Arial"/>
              </a:rPr>
              <a:t>Что рассказать о трудностях в детском са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покойно расскажите ребенку, с какими возможными трудно­стями он столкнется и как их преодолеть. Например: «Если ты за­хочешь в туалет, скажи об этом тете-воспитателю». Мягко преду­предите ребенка о том, что в группе много детей, и иногда ему нужно будет подождать своей очереди: «Если тетя-воспитатель бы­ла занята с другими ребятами и не услышала тебя, подожди и спро­си ее еще раз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  <a:ea typeface="Arial"/>
              </a:rPr>
              <a:t>                  </a:t>
            </a:r>
            <a:r>
              <a:rPr b="1" lang="ru-RU" sz="1400" spc="-1" strike="noStrike">
                <a:solidFill>
                  <a:srgbClr val="3333ff"/>
                </a:solidFill>
                <a:latin typeface="Arial"/>
                <a:ea typeface="Arial"/>
              </a:rPr>
              <a:t>Задание для семьи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говорите с ребенком о детском са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45720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2160" y="468000"/>
            <a:ext cx="2448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5003640" y="58770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7"/>
          <p:cNvSpPr/>
          <p:nvPr/>
        </p:nvSpPr>
        <p:spPr>
          <a:xfrm>
            <a:off x="1357200" y="14292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День 6. Как научить малыша пользоваться горш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8"/>
          <p:cNvSpPr/>
          <p:nvPr/>
        </p:nvSpPr>
        <p:spPr>
          <a:xfrm>
            <a:off x="142920" y="714240"/>
            <a:ext cx="9001080" cy="61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Когда ребенок готов перейти на горшо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скажите малышу, что в детском саду после обеда все ребята ставят свои стульчики в кружок и раздеваются, аккуратно складывают одежду на стульчик и идут в свою кроватку. Научите ребен­ка просить помощи в тех случаях, когда он не может что-то снять самостоятельно, и поощряйте, когда у него будет получать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гда станете учить ребенка, заодно протестируйте его одежду на удобство. На первые меся­цы уберите из гардероба вещи, которые можно снять и надеть только с помощью взрослого. Ведь главная задача - научить ребенка навыкам самообслуживания, а красивые сложные наряды мож­но достать чуть позж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Какие есть правила для горш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шок должен быть один. Он должен быть устойчивым и физиологически удобным для ребен­ка. Не ставьте горшок среди игрушек, не покупайте горшки с музыкой или подсветкой - он не дол­жен ассоциироваться с игр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ередвигайте горшок, пусть он стоит на одном месте и днем, и ночью. Если ночью ребенок просыпается по нужде, то идет к горшку на его обычном месте. За горшок можно только хвалить, ругать за оплошности нельз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В многодетных семьях дети учатся садиться на горшок бы­стрее, потому что перед глазами есть пример старших братьев и сестер. Чтобы помочь ребенку, сходите в гости, где есть ма­лыш одного пола с вашим ребенком. На своем примере он по­кажет, что горшок - это удоб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 сажайте ребенка на горшок только при полном мочевом пузыре, чтобы сформировать связку «ощущение наполненности - горшок - мочеиспускание». Как только ребенок сам, без вашей просьбы, сходил на горшок, уби­райте дневные памперсы и надевайте обычные трусики. Оставляйте ребенка на ночной сон без памперса только после двух недель без дневных «промашек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3"/>
          <p:cNvSpPr/>
          <p:nvPr/>
        </p:nvSpPr>
        <p:spPr>
          <a:xfrm>
            <a:off x="642960" y="642960"/>
            <a:ext cx="8358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Когда можно считать, что ребенок умеет пользоваться горшк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вык сформирован, только если ребенок без напоминаний, осознанно садится на горшок. Ес­ли вы каждый раз просите ребенка, используете определенные слова или звук воды - сформиро­ван не навык, а условный рефлекс. В стрессовой ситуации при адаптации к детскому саду ребенок начнет игнорировать горшок. То же самое, если ребенок только показывает, что хочет на горшок, но все за него делает ма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image11"/>
          <p:cNvPicPr/>
          <p:nvPr/>
        </p:nvPicPr>
        <p:blipFill>
          <a:blip r:embed="rId2"/>
          <a:stretch/>
        </p:blipFill>
        <p:spPr>
          <a:xfrm>
            <a:off x="142920" y="0"/>
            <a:ext cx="100008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5003640" y="58770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7"/>
          <p:cNvSpPr/>
          <p:nvPr/>
        </p:nvSpPr>
        <p:spPr>
          <a:xfrm>
            <a:off x="1357200" y="14292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День 7. Почему в детском саду дети начинают чаще бол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8"/>
          <p:cNvSpPr/>
          <p:nvPr/>
        </p:nvSpPr>
        <p:spPr>
          <a:xfrm>
            <a:off x="142920" y="714240"/>
            <a:ext cx="900108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Какие типы поведения мамы мешают адап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яжелая адаптация из-за мамы бывает в трех случаях. Первый - если у мамы есть возможность сидеть дома, и ей не хочется расставаться с ребенком. Второй - у мамы нет возможности сидеть дома, но и на работу выходить не хочется. В этих случаях ребенок будет подсознательно помогать и болеть, а мама будет сидеть с ним на больничных. В третьем случае мама живет жизнью ребенка, очень тревожится, гиперопекает. Такая мама обычно активный участник форумов, лучше всех знает, что нужно ее ребенку. Она переживает, когда малыш в детском саду, - накормлен ли он, не обижают ли его, не потерял ли он носовой платочек. В этом случае мама не дает ребенку шанса повзрослеть и отделиться, а ребенок подчиняе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Что делать, если ребенок часто болеет в детском са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случае частых болезней приведите ребенка к инфекционисту и иммунологу. А если вы допускаете, что можете относиться к типам поведения из абзаца выше, проконсультируйтесь у психолога. Важно осознать проблему и принять ее, а дальше пробовать ее реш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3"/>
          <p:cNvSpPr/>
          <p:nvPr/>
        </p:nvSpPr>
        <p:spPr>
          <a:xfrm>
            <a:off x="1214280" y="642960"/>
            <a:ext cx="778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Как адаптация влияет на иммунит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которые дети начинают часто болеть в детском саду. Причина может быть в иммунитете. В период адаптации он часто снижается, вылезают недолеченные инфек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image14"/>
          <p:cNvPicPr/>
          <p:nvPr/>
        </p:nvPicPr>
        <p:blipFill>
          <a:blip r:embed="rId2"/>
          <a:stretch/>
        </p:blipFill>
        <p:spPr>
          <a:xfrm>
            <a:off x="0" y="428760"/>
            <a:ext cx="1285920" cy="116028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12"/>
          <p:cNvSpPr/>
          <p:nvPr/>
        </p:nvSpPr>
        <p:spPr>
          <a:xfrm>
            <a:off x="357120" y="1285920"/>
            <a:ext cx="864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Как родители влияют на адаптацию ребе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4"/>
          <p:cNvSpPr/>
          <p:nvPr/>
        </p:nvSpPr>
        <p:spPr>
          <a:xfrm>
            <a:off x="142920" y="1571760"/>
            <a:ext cx="88581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чина болезней может быть в психологии матери - так называемая вторичная выгода мамы, которую она не осознает. Готовность родителей отправить ребенка в детский сад - решающий фактор во всей адаптации. Если мама позволяет малышу взрослеть и отделяться, понимает, что детский сад нужен и ребенку, и ей, - адаптация пройдет успеш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18:02:07Z</dcterms:created>
  <dc:creator>srdhotgl</dc:creator>
  <dc:description/>
  <dc:language>en-US</dc:language>
  <cp:lastModifiedBy>c400</cp:lastModifiedBy>
  <dcterms:modified xsi:type="dcterms:W3CDTF">2020-12-01T13:09:51Z</dcterms:modified>
  <cp:revision>86</cp:revision>
  <dc:subject/>
  <dc:title>Слайд 1</dc:title>
</cp:coreProperties>
</file>