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B27-A90D-43CD-B139-DECDA984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41B-9F5A-4674-8177-9169ABB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F87-E556-4413-A1C1-689413F3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9DE-0986-490D-ABC8-A17A10D2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63EF-1E04-400A-960B-E1B8E2D8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3D82-2983-430C-8536-B51C3F7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6AA-EF46-489C-8A84-B31F69A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E074-8F82-461D-86F6-61FE2AC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4BE0-C723-4DED-9140-138251CD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F7D-D216-49BD-AC8C-36D6DE6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A99-7A5A-4E18-9F0F-E0D87E6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AE2-6984-46D6-987E-69491EB6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DD81-0B13-414B-BDEE-6E01B25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119-4B20-4AA7-BC43-50436F96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2D7E-DD38-4AA7-86F8-0543B3DA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271-E354-4E14-9591-E84DAFE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2310-5F90-4AE5-86DB-D777FF43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311D-067F-43FE-B8BB-ED5FEB7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561-78F7-449F-B2BB-A927B37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6D0-B962-4C92-901C-D6EF762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57B-21BB-4BE1-B9D8-EB155B7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0A9-2893-4B93-B6DE-DE3072D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6D6-7C67-4076-9BE6-043BE6A0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E4E-39C3-4C77-B1D2-51B2951B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79C5-8AFD-44C4-BA24-0A5C4A7FB6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F674-6BA6-4402-8E38-BC10AC5D24D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0099"/>
                </a:solidFill>
                <a:latin typeface="Arial"/>
              </a:rPr>
              <a:t>ЗАГАДОЧНЫЕ КАМНИ КАСТАРМЫ</a:t>
            </a: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8920" y="3141720"/>
            <a:ext cx="820908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офалария – страна го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343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666880" y="1533600"/>
            <a:ext cx="381024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55520" y="46080"/>
            <a:ext cx="3809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416720" cy="56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ь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знать как можно больше о загадочных камнях реки Кастарм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авда ли, что «кастарминки» считаются оберегам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спользовали ли их шаманы для своих ритуал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ть ли подобные камни в природе и в других местах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 образуются «кастарминки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539640" y="1700280"/>
            <a:ext cx="8064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7:03:46Z</dcterms:created>
  <dc:creator>1</dc:creator>
  <dc:description/>
  <dc:language>en-US</dc:language>
  <cp:lastModifiedBy>User</cp:lastModifiedBy>
  <dcterms:modified xsi:type="dcterms:W3CDTF">2023-10-18T09:08:06Z</dcterms:modified>
  <cp:revision>14</cp:revision>
  <dc:subject/>
  <dc:title>ЗАГАДОЧНЫЕ КАМНИ КАСТАРМЫ </dc:title>
</cp:coreProperties>
</file>