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F460-7E7B-4647-AFDC-22172240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BED4-61C4-491C-92F6-B7DC7B8E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68B6-4E9A-4628-9CE5-DFD08F3F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32BC-0786-4324-A8AC-AEAECE52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BAD2-827C-402F-8EAC-4AD3B381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6C83-4965-4FA4-A1C0-ECE0940C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2C1E-F866-4EE5-936D-490E32D7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08C0-79CF-435B-91A8-156F72EC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5302-91FE-42F5-871D-903B8B18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FF50-07A0-4576-889D-94B172A5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6CF4-9A78-443F-93A7-8E1F2323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5B91-7F08-4137-9564-8CD410E7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F22C-A369-46E4-BE91-18AB64B7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0764-3004-4005-AF7E-1CAC318A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8B93-127A-4E9E-B8FE-D7C847E2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A859-D364-4A71-B779-826CF418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C1C9-049E-4282-B6AE-7C5AAE2F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8B52-6028-49D4-BA09-6118E1B2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8B4-AA96-41FB-9794-10EB3013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C874-014A-4379-A33E-2EB13177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D40F-7021-4A68-9C58-5AFBC6EB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5F0-801F-4253-A509-1CCF0DBC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36A0-F05E-4495-B164-C0B24E9B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4465-5D07-4183-9056-ADA75421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E7EB-6E69-471F-850F-C59AFE65A6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BC9A-983E-47E4-B49F-27F1BD39D317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000099"/>
                </a:solidFill>
                <a:latin typeface="Arial"/>
              </a:rPr>
              <a:t>ЗАГАДОЧНЫЕ КАМНИ КАСТАРМЫ</a:t>
            </a: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78920" y="3141720"/>
            <a:ext cx="8209080" cy="24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офалария – страна го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3436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4247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2666880" y="1533600"/>
            <a:ext cx="381024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155520" y="46080"/>
            <a:ext cx="380988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416720" cy="56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Цель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знать как можно больше о загадочных камнях реки Кастармы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равда ли, что «кастарминки» считаются оберегами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Использовали ли их шаманы для своих ритуалов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Есть ли подобные камни в природе и в других местах?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к образуются «кастарминки»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539640" y="1700280"/>
            <a:ext cx="806472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7:03:46Z</dcterms:created>
  <dc:creator>1</dc:creator>
  <dc:description/>
  <dc:language>en-US</dc:language>
  <cp:lastModifiedBy>User</cp:lastModifiedBy>
  <dcterms:modified xsi:type="dcterms:W3CDTF">2023-10-18T09:08:06Z</dcterms:modified>
  <cp:revision>14</cp:revision>
  <dc:subject/>
  <dc:title>ЗАГАДОЧНЫЕ КАМНИ КАСТАРМЫ </dc:title>
</cp:coreProperties>
</file>