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jpeg" ContentType="image/jpeg"/>
  <Override PartName="/ppt/media/image13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11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A829-6293-4790-8697-A6206FC366B5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702F-8D61-40FB-B6BA-220E98970B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ий колючий полукустарник 1,5—2 м высоты  с двулетними, плодоносящими на второй год стеблями. Листья сверху темно-зеленые, снизу беловойлочные, пятерные, черешковые, очередные, с яйцевидными пильчатыми по краю листочками. Соцветие — небольшая пазушная кисть из нескольких белых цветков. Плоды — темно-красные, сочные многосемянки (ягоды) с мелкими желтоватыми семенами. Цветет в июне —- июле. Плоды созревают в июле — августе. Размножается вегетативно {корневыми   отростк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астет в лесной и лесостепной зонах европейской части СССР и Сибири. Встречается в горах Кавказа и Средней Аз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ской практике используют плоды, которые собирают в период созревания, очищают, завяливают на солнце и затем досушивают в печи при температуре 60—80 °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лоды содержат органические кислоты, сахара, вита­мины, дубильные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епараты: настой и отвар плодов применяют как пото­гонное, жаропонижающее средств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остудных заболев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C4A0-CDFB-4987-893D-A9BAF5BE65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Дерево или крупный кустарник до 10 м высоты. Листья очередные, эллиптические, на коротких черешках, по краю остропильчатые. Белые ароматные цветки собраны в густые поникающие кисти. Плоды — черные блестящие костянки со сладкой вяжущей мяко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в апреле — июне, плоды созревают в июле — сентябре. Размно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е используют плоды черемухи в качестве вяжущего средства. Применяют в виде настоя и отвара. Широко распространена в европейской части СССР, в горах Кавказа, в Средней Азии и Западной Сибири. Собирают зрелые ягоды. Сушат в сушилках или печах при температуре 40°—50°, на открытом воздухе или чердаках с хорошей вентиля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2A4-DFB9-46FA-BEC5-478441D0F1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ее травянистое растение до 50 см высоты с одной или несколькими цветочными стрелками. Листья широкояйцевидной формы, черешковые, составляют розетку. Мелкие невзрачные цветки собраны в цилиндрические колосья. Плод — коробо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с мая до сентября, плоды созревают с июня до осени. Размно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 медицине используют листья подорожника при желудочно-кишечных заболеваниях и в качестве отхаркивающего средства. Применяют в виде настоя и от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орожник большой широко распространен по всей территории СССР. Заготавливают листья практически все лето до начала увядания. Сушат на чердаках, под навесами, на воздухе в т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EFBD-76B2-4AFC-8CD6-3D774203D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ноголетнее травянистое растение до 50 см высоты с относительно толстым, вертикальным, почти неветвистым корнем. Листья перистолопастные собраны в прикорневую розетку. Цветки все язычковые, золотисто-желтые, собраны в одиночные корзинки, расположенные на длинных, полых внутри, цветочных стрелках. Плод —семянка с хохолком. Цветет в мае — июле, плоды созревают примерно через месяц после начала цветения. Размножается семенами. В медицине используют корни растения в качестве возбужда­ющего аппетит средства и как желчегонное.Применяют в виде настоя и отва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аспространен по всей территории СССР, кроме Арктики. Заготавливают корни осенью в стадии увядания листьев, затем промывают и провяливают на воздухе несколько дней, до тех пор, пока из корней перестанет выделяться млечный сок. Сушат, разложив в один слой, под навесами и на черда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86C-30C8-4768-BF71-F2F37C68FD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Дерево до 15 м высоты с очередными черешковыми листьями. Дольки листа продолговатые, по краю остропильчатые. Белые душистые цветки собраны в рыхлые зонтики. Плоды — яблокообразные, ярко оранжево-крас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Цветет в мае — июне, плоды созревают в сентябре. Размно­жается семен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медицине используют плоды рябины в качестве поливитаминного средства. Применяют в виде настоя и отвара. Распространена по всей европейской части СССР, в горной части Крыма и Кавказа. Заготавливают плоды в период полного созревания до наступления заморозков. Сушат в печах и сушилках при" температуре 60°—80°, хорошо проветриваемых помещениях или под наве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038-9FAE-4F99-8C6C-D4595E001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032-EDA8-43C6-9D9E-1ACBD79687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D7B-423A-4B4F-8E07-8DC2996872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452-7855-4E84-B48C-3BA7787309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98FC-D27B-414B-A172-DEDE9425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0192-B075-4112-B527-C2AB3FC1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C08C-F3E3-460A-A367-1CAC62C6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77AB-7F01-4DAC-8437-DFBF0500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5E0E6-1FC4-4EAC-AB68-62344A4B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2F3BE-3587-4761-AB13-5F53888D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EE114-F3AB-445D-A45E-F5F1ABB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802B-2951-4566-8165-A417539C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F33AF-0FB4-4CCF-B6E4-EF27ED8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96394-83A7-421F-AA38-AA6C962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87CD4-79AB-406E-A224-1D630B4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BEE2-FCCB-486A-A132-780F030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3BE3-AF2D-43E8-86C7-5087374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F2DA-7C29-40C0-8F98-78BC627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872AD-4025-4BF5-B206-8464B08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24E1-C654-475A-8597-E4AF8B56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DCD67-8FB9-402B-9FFE-F1B75C1B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D3F17-96B5-4EC4-BA83-8222F12F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E5199-07B7-4D9F-BD95-46283474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F1391-ED35-4395-AFB3-2310864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88156-2A4C-4CF0-B63C-F9EE2045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1EF07-03D1-4905-BCEC-F7ACD2F1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BAED-E4F2-4BA1-B113-CFBA5C46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FC014-00FA-4D46-8AD1-A83AEE8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ED67B-DC21-4F65-8CA9-BA9836E1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872D6-C3CC-4A72-A924-3E981E6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C3CCB-C9E9-4357-8CE9-D6F1AEA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8F85C-3115-4ED2-9888-258505A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DD2CF-8B53-4461-A6D1-C2FCF75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1605B-00A4-4EB4-A406-4C8F297F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416B7-2A7C-4F36-9072-3FC36143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C746B-C30D-4085-AAF9-47FECA42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D50A6-5C95-4791-8681-45309D5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EB74-FD77-4476-93E9-6DE1161E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2AB94-2983-4937-A33C-977A1A02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147D3-4E27-4A3F-BCF4-F8CB013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DD8A1-B0C8-4F4D-9D57-93990A28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E69C8-379B-40B6-A1DB-6E7347DA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E95DE-2770-4C55-99A9-89EFC4E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A400D-F5A4-45D5-A42D-DA359A3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C6277-04DE-4EF7-9F2F-A9F13DC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8C31F-85BF-463C-B2E0-9E95C697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18E7C-FE6F-4313-BE58-EEF942E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E40A4-C723-4A5F-BAE0-E50B18AF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A333-1311-4884-9607-4B6D01D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48B04-16E7-47E7-8646-D5CB8B2E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81129-DC7C-47AD-B54B-371BC2B1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5CFEB-8035-42A0-A497-D5853262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85BB8-61E1-48DA-B8CC-1123088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7563F-E1E4-40DE-8C4E-CB1D168C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ADC06-22F0-4716-95C5-7AD2934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D9A15-6C19-4E3B-A326-4FEC798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75B0E-3F53-40B9-B148-E5436F0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105EA-8C0E-4543-BE93-73945EBC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FDDD2-5C76-4CA3-91B8-14CFB630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4C3B-DF85-483A-B6B8-4EA7472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71946-3408-4080-8338-DEB1F8CF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B3F1B-9899-4115-983A-524D45F1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1EEEE-2408-4487-B208-1AD2584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E27CF-E6F8-4DA7-9EB7-243E321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8CD48-F559-4EAF-AB59-7C679C34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FB591-823D-4759-9E02-9AC2F6E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EB5F1-7B12-446B-A446-06421DE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25A90-F8CC-4752-B512-7B9DF5A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2775D-354E-4BA5-AE0A-9728970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ED1BD-4327-466D-87E8-11B839B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5D3E-8BBB-4C4D-BAA8-E177A5F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3B492-EC5E-4F6F-8AEC-57A6E76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DEE1D-7B5A-4A6C-8F57-E55CB84A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B4D40-07A5-49C2-B2BE-0ADCDE5D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BD482-47E8-4A5C-9750-E2C1B65C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26444-3410-49D6-8F7F-FD8D68CB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9BCF7-8920-43A5-8587-961A96F8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31060-8A74-4317-AD67-03B94093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19905-A043-4C39-A980-1C0B036F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BC886-EEC3-4DF4-88B6-54A92A4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13ABA-4154-438D-A3C0-1D036C4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792A-29DD-42F6-A2DF-30E320A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58CBA-AB80-40C5-AE31-3739F39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2D7E9-5142-4CFB-903A-B05AE65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3C782-50EF-4145-AC66-162BB7AC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B2ECA-90BB-44F5-9EE6-051D9A6E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D05C3-C0E5-4BDC-B04A-032935D3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C2C66-4AA3-4921-A762-347B18AD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D9CC3-31C2-46E3-B26C-A666BE8F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2D722-F582-442B-9758-C8C3A77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F81540-1661-405C-B791-D966F15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47017-98E5-48A4-88E0-958A8EC7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6F86-7A78-4A61-9D6B-813726E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B9F798-6EF5-4CD8-BF72-AE154C4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D7741-E194-4BAD-96CE-13596A8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D0D722-992E-4B4B-ADDE-80CC878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FEC8F6-F57F-45AE-8E11-A77725D0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BA467-EC7E-442C-935C-F64A9BE4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8EB70-4EAF-4616-A9F2-DFDB2092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8B0BD-D7E7-4AF5-B028-0A0DD9FE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89360" y="-191880"/>
            <a:ext cx="2925000" cy="7046280"/>
            <a:chOff x="-189360" y="-191880"/>
            <a:chExt cx="2925000" cy="7046280"/>
          </a:xfrm>
        </p:grpSpPr>
        <p:sp>
          <p:nvSpPr>
            <p:cNvPr id="1" name=""/>
            <p:cNvSpPr/>
            <p:nvPr/>
          </p:nvSpPr>
          <p:spPr>
            <a:xfrm>
              <a:off x="-87480" y="5155560"/>
              <a:ext cx="76896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46440" y="3836520"/>
              <a:ext cx="1024560" cy="803520"/>
              <a:chOff x="-46440" y="3836520"/>
              <a:chExt cx="1024560" cy="80352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3680" y="3856320"/>
                <a:ext cx="251640" cy="30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03400" y="4267800"/>
                <a:ext cx="43092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11640" y="4096440"/>
                <a:ext cx="45252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7680" y="2699640"/>
              <a:ext cx="115776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89360" y="2438280"/>
              <a:ext cx="2925000" cy="3267720"/>
              <a:chOff x="-189360" y="2438280"/>
              <a:chExt cx="2925000" cy="326772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219600" y="2541960"/>
                <a:ext cx="1042200" cy="10490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80280" y="2692440"/>
                <a:ext cx="872280" cy="1067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89000" y="2913120"/>
                <a:ext cx="307440" cy="537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752040" y="368604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671760" y="375048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662760" y="3669480"/>
                <a:ext cx="2072880" cy="2036520"/>
                <a:chOff x="662760" y="3669480"/>
                <a:chExt cx="2072880" cy="20365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104120" y="3577680"/>
                  <a:ext cx="588960" cy="1356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19840" y="4815360"/>
                  <a:ext cx="134640" cy="5558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13160" y="5530320"/>
                  <a:ext cx="245160" cy="921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57480" y="6133680"/>
              <a:ext cx="878400" cy="695160"/>
              <a:chOff x="357480" y="6133680"/>
              <a:chExt cx="878400" cy="69516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6240" y="6131520"/>
                <a:ext cx="214920" cy="280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87240" y="6505200"/>
                <a:ext cx="369000" cy="232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67480" y="63914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23560" y="1688400"/>
              <a:ext cx="839880" cy="734400"/>
              <a:chOff x="223560" y="1688400"/>
              <a:chExt cx="839880" cy="7344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4440" y="1656720"/>
                <a:ext cx="217080" cy="317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28200" y="2088720"/>
                <a:ext cx="374400" cy="263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117360" y="2144520"/>
                <a:ext cx="391320" cy="13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1720" y="-93600"/>
              <a:ext cx="559440" cy="586800"/>
              <a:chOff x="1251720" y="-93600"/>
              <a:chExt cx="559440" cy="5868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1720" y="-93600"/>
                <a:ext cx="17604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480" y="10800"/>
                <a:ext cx="3016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560" y="401400"/>
                <a:ext cx="31680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2640" y="57600"/>
              <a:ext cx="113976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160" y="5381640"/>
              <a:ext cx="21348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46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840" y="6519960"/>
              <a:ext cx="19044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118480"/>
              <a:ext cx="81000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6080" y="564120"/>
              <a:ext cx="56016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5360" y="1122840"/>
              <a:ext cx="271080" cy="1828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57520" y="366480"/>
              <a:ext cx="23832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44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732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332000"/>
              <a:ext cx="58608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1520" y="39600"/>
              <a:ext cx="131148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692C-CDCC-490D-B624-61D54AF7508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85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89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CCEB-A7B5-499E-A00C-0194B561B4F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48040" y="1308240"/>
            <a:ext cx="8380800" cy="5370840"/>
            <a:chOff x="248040" y="1308240"/>
            <a:chExt cx="8380800" cy="5370840"/>
          </a:xfrm>
        </p:grpSpPr>
        <p:sp>
          <p:nvSpPr>
            <p:cNvPr id="163" name=""/>
            <p:cNvSpPr/>
            <p:nvPr/>
          </p:nvSpPr>
          <p:spPr>
            <a:xfrm flipV="1" rot="20820000">
              <a:off x="320400" y="1621800"/>
              <a:ext cx="2480400" cy="684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760000">
              <a:off x="308160" y="1765080"/>
              <a:ext cx="289152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760000">
              <a:off x="301680" y="1872360"/>
              <a:ext cx="3195000" cy="684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700000">
              <a:off x="280440" y="2000880"/>
              <a:ext cx="3522240" cy="75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640000">
              <a:off x="267840" y="2173680"/>
              <a:ext cx="394056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580000">
              <a:off x="248040" y="2364480"/>
              <a:ext cx="435060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460000">
              <a:off x="209520" y="2622240"/>
              <a:ext cx="4841280" cy="720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340000">
              <a:off x="201240" y="2879280"/>
              <a:ext cx="533376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20220000">
              <a:off x="106920" y="3165120"/>
              <a:ext cx="59886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20100000">
              <a:off x="35640" y="3523320"/>
              <a:ext cx="6562080" cy="61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920000">
              <a:off x="-102960" y="4020480"/>
              <a:ext cx="739872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9680000">
              <a:off x="353160" y="4419360"/>
              <a:ext cx="76845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9380000">
              <a:off x="2218680" y="4490280"/>
              <a:ext cx="6562080" cy="61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9020000">
              <a:off x="4157280" y="4705200"/>
              <a:ext cx="50875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8600000">
              <a:off x="6013440" y="5361840"/>
              <a:ext cx="3145320" cy="6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 rot="18360000">
              <a:off x="7956720" y="6367680"/>
              <a:ext cx="757080" cy="5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">
              <a:off x="132840" y="3631320"/>
              <a:ext cx="86029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560000">
              <a:off x="60120" y="5199480"/>
              <a:ext cx="58932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40000">
              <a:off x="106920" y="5544000"/>
              <a:ext cx="39888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80000">
              <a:off x="185400" y="5995800"/>
              <a:ext cx="19911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380000">
              <a:off x="34200" y="4936320"/>
              <a:ext cx="77932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960000">
              <a:off x="176760" y="3281400"/>
              <a:ext cx="85600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960000">
              <a:off x="454680" y="3006000"/>
              <a:ext cx="81900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840000">
              <a:off x="872640" y="2786760"/>
              <a:ext cx="77904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80000">
              <a:off x="1548360" y="2453400"/>
              <a:ext cx="70797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20000">
              <a:off x="1840680" y="2292840"/>
              <a:ext cx="677088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">
              <a:off x="2112480" y="2143440"/>
              <a:ext cx="648396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660000">
              <a:off x="2456280" y="2036160"/>
              <a:ext cx="6138000" cy="54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660000">
              <a:off x="2688840" y="1905840"/>
              <a:ext cx="5910480" cy="7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840000">
              <a:off x="1209960" y="2608560"/>
              <a:ext cx="7404480" cy="7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260000">
              <a:off x="51840" y="4564800"/>
              <a:ext cx="875052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200000">
              <a:off x="92520" y="4091040"/>
              <a:ext cx="8685000" cy="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3560" y="5145120"/>
              <a:ext cx="237600" cy="143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440" y="4713480"/>
              <a:ext cx="237240" cy="142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6640" y="5588640"/>
              <a:ext cx="277200" cy="15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96520" y="4088520"/>
              <a:ext cx="220680" cy="12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81160" y="4716720"/>
              <a:ext cx="237600" cy="142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39960" y="4385520"/>
              <a:ext cx="220320" cy="134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7960" y="4357800"/>
              <a:ext cx="2134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2920" y="4080960"/>
              <a:ext cx="211680" cy="12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08440" y="40597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7680" y="3822120"/>
              <a:ext cx="220320" cy="124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58920" y="356328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48520" y="332136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2600" y="3549600"/>
              <a:ext cx="197640" cy="107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2320" y="2933640"/>
              <a:ext cx="18216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6160" y="277308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61480" y="293076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880" y="2751840"/>
              <a:ext cx="180720" cy="92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4360" y="312408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8320" y="3330360"/>
              <a:ext cx="18756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73640" y="3773520"/>
              <a:ext cx="211680" cy="134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91960" y="3130560"/>
              <a:ext cx="1962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93720" y="3352680"/>
              <a:ext cx="1962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35440" y="355896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2880" y="315936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5960" y="279000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75360" y="295452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8080" y="278676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13160" y="294444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600" y="276552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9440" y="3136680"/>
              <a:ext cx="189000" cy="108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7400" y="333900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76360" y="296100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840" y="278064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1120" y="293832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5440" y="3576960"/>
              <a:ext cx="196200" cy="90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9040" y="3357360"/>
              <a:ext cx="189000" cy="90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63400" y="3802680"/>
              <a:ext cx="2206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1080" y="3110760"/>
              <a:ext cx="197640" cy="107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4160" y="263412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6720" y="248112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11560" y="2340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96120" y="247500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67720" y="2618640"/>
              <a:ext cx="17460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2560" y="2349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0560" y="262800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78120" y="248400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60520" y="2612880"/>
              <a:ext cx="17352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87520" y="2349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45080" y="247788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4920" y="23432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760" y="263088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9240" y="2475000"/>
              <a:ext cx="17460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2480" y="2347920"/>
              <a:ext cx="17460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94280" y="261576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54920" y="248112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36440" y="234036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90360" y="235080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92120" y="2635560"/>
              <a:ext cx="1807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55640" y="2494800"/>
              <a:ext cx="18072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5040" y="5590080"/>
              <a:ext cx="277200" cy="1663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46760" y="6136560"/>
              <a:ext cx="270360" cy="1677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12880" y="4737960"/>
              <a:ext cx="237600" cy="1422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440028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77680" y="4098960"/>
              <a:ext cx="220680" cy="125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62960" y="3774960"/>
              <a:ext cx="211680" cy="1346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03760" y="514656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8800" y="354492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04800" y="310896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81880" y="3327120"/>
              <a:ext cx="18900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83800" y="293364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4200" y="2780640"/>
              <a:ext cx="18216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51800" y="2634120"/>
              <a:ext cx="174600" cy="752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73920" y="24872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75880" y="2349360"/>
              <a:ext cx="180720" cy="752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6600" y="2226600"/>
              <a:ext cx="15624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8160" y="22251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6960" y="22251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0200" y="2128320"/>
              <a:ext cx="15624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26160" y="201636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8240" y="1831680"/>
              <a:ext cx="1580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17440" y="2131560"/>
              <a:ext cx="15768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5480" y="1907280"/>
              <a:ext cx="15768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22080" y="2004120"/>
              <a:ext cx="1580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11440" y="2243520"/>
              <a:ext cx="15624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18800" y="2215800"/>
              <a:ext cx="158040" cy="74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09960" y="2004120"/>
              <a:ext cx="1562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720" y="2116080"/>
              <a:ext cx="15624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2680" y="1807560"/>
              <a:ext cx="157680" cy="73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98600" y="21268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12480" y="2240280"/>
              <a:ext cx="1476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22080" y="2113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73280" y="2113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99560" y="191952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880" y="173916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09280" y="164232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04280" y="163476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8920" y="199368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17400" y="21042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04840" y="22222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4160" y="166500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32240" y="1649880"/>
              <a:ext cx="1494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4640" y="1669680"/>
              <a:ext cx="14796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19720" y="200412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9120" y="182124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58360" y="192096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57480" y="1743840"/>
              <a:ext cx="1580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50480" y="165168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1480" y="2249280"/>
              <a:ext cx="15624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0560" y="201924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9880" y="181512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02800" y="1727280"/>
              <a:ext cx="15804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28120" y="181944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08880" y="211320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4920" y="19119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120" y="172260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93440" y="201168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03280" y="2093400"/>
              <a:ext cx="15768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6400" y="181044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81960" y="191052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10400" y="1743840"/>
              <a:ext cx="1580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80280" y="18255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88680" y="1757520"/>
              <a:ext cx="1580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86160" y="1901160"/>
              <a:ext cx="15624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600" y="1831680"/>
              <a:ext cx="15768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25200" y="1925640"/>
              <a:ext cx="1562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58320" y="1725840"/>
              <a:ext cx="15768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120" y="2046600"/>
              <a:ext cx="156240" cy="64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575720"/>
              <a:ext cx="142200" cy="55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48920" y="1594080"/>
              <a:ext cx="142200" cy="57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5560" y="1586520"/>
              <a:ext cx="141840" cy="55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1960" y="1575720"/>
              <a:ext cx="140760" cy="57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2480" y="1485360"/>
              <a:ext cx="142200" cy="57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2440" y="1566720"/>
              <a:ext cx="142200" cy="57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12960" y="2210040"/>
              <a:ext cx="14940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9800" y="2355480"/>
              <a:ext cx="17352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1080" y="2008800"/>
              <a:ext cx="157680" cy="75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35520" y="1895400"/>
              <a:ext cx="156240" cy="75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77520" y="143496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9480" y="143496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3960" y="1375920"/>
              <a:ext cx="1108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88840" y="1308240"/>
              <a:ext cx="116640" cy="496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70080" y="1375920"/>
              <a:ext cx="1180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88560" y="1457640"/>
              <a:ext cx="116280" cy="50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63240" y="1509120"/>
              <a:ext cx="13356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33680" y="1516680"/>
              <a:ext cx="12492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72000" y="1503000"/>
              <a:ext cx="142200" cy="662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62600" y="6156360"/>
              <a:ext cx="276120" cy="1573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41560" y="5617440"/>
              <a:ext cx="277200" cy="1681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48920" y="478476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92800" y="4420080"/>
              <a:ext cx="22140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56440" y="517248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6760" y="4082760"/>
              <a:ext cx="213480" cy="125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61400" y="380700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98720" y="3563280"/>
              <a:ext cx="189000" cy="1072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46640" y="3121200"/>
              <a:ext cx="189000" cy="10908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91760" y="3333240"/>
              <a:ext cx="19620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61200" y="2967120"/>
              <a:ext cx="180720" cy="9036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68920" y="279576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85640" y="2636640"/>
              <a:ext cx="173520" cy="738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50520" y="2503800"/>
              <a:ext cx="174960" cy="756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22960" y="2363040"/>
              <a:ext cx="173520" cy="75600"/>
            </a:xfrm>
            <a:prstGeom prst="rect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73040" y="6222960"/>
              <a:ext cx="2772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36440" y="5650560"/>
              <a:ext cx="277200" cy="1663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33400" y="5668920"/>
              <a:ext cx="2844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32000" y="6189480"/>
              <a:ext cx="277200" cy="1573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7400" y="5200920"/>
              <a:ext cx="237600" cy="1436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7640" y="4815000"/>
              <a:ext cx="236160" cy="141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18960" y="5234400"/>
              <a:ext cx="236160" cy="142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20200" y="440928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73560" y="4777200"/>
              <a:ext cx="237240" cy="141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63720" y="4418640"/>
              <a:ext cx="220680" cy="13284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31960" y="41065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08080" y="3826440"/>
              <a:ext cx="220320" cy="12528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88480" y="3166920"/>
              <a:ext cx="189000" cy="108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85640" y="3563280"/>
              <a:ext cx="197640" cy="10908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08840" y="3354480"/>
              <a:ext cx="189000" cy="903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83240" y="298656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36960" y="2801880"/>
              <a:ext cx="180720" cy="9072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99880" y="4117320"/>
              <a:ext cx="220680" cy="12420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8040" y="4397400"/>
              <a:ext cx="21168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3440" y="3809880"/>
              <a:ext cx="220320" cy="132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7600" y="2234160"/>
              <a:ext cx="149400" cy="65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4440" y="6130440"/>
              <a:ext cx="284400" cy="158760"/>
            </a:xfrm>
            <a:prstGeom prst="rect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ftr" idx="7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B12-93EE-499E-8800-E46661392173}" type="slidenum">
              <a:rPr b="0" lang="ru-RU" sz="12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25FD-8C7A-4E2C-B522-7CAE0A65EA73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2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461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ftr" idx="13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Num" idx="14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003-885E-4155-9619-3699D8949FF3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5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51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600880" y="5897520"/>
              <a:ext cx="1253520" cy="825480"/>
              <a:chOff x="5600880" y="5897520"/>
              <a:chExt cx="1253520" cy="825480"/>
            </a:xfrm>
          </p:grpSpPr>
          <p:sp>
            <p:nvSpPr>
              <p:cNvPr id="514" name=""/>
              <p:cNvSpPr/>
              <p:nvPr/>
            </p:nvSpPr>
            <p:spPr>
              <a:xfrm>
                <a:off x="5852520" y="6048360"/>
                <a:ext cx="841320" cy="51768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15880" y="6095880"/>
                <a:ext cx="714960" cy="4352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4800" y="6146640"/>
                <a:ext cx="543600" cy="327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68160" y="6184800"/>
                <a:ext cx="412200" cy="25092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121800" y="6226200"/>
                <a:ext cx="302760" cy="16812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676480" y="5897520"/>
                <a:ext cx="60552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6560" y="6620040"/>
                <a:ext cx="70236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00880" y="6200640"/>
                <a:ext cx="13932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7120" y="5945040"/>
                <a:ext cx="118728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6408720" y="5907240"/>
                <a:ext cx="1490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7480" y="6267600"/>
                <a:ext cx="129960" cy="82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52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54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rect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6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sp>
        <p:nvSpPr>
          <p:cNvPr id="575" name="PlaceHolder 1"/>
          <p:cNvSpPr>
            <a:spLocks noGrp="1"/>
          </p:cNvSpPr>
          <p:nvPr>
            <p:ph type="ftr" idx="1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1B29-9A23-467B-B36A-6400D68F2CA7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52280" y="374760"/>
            <a:ext cx="1524240" cy="1225440"/>
            <a:chOff x="152280" y="374760"/>
            <a:chExt cx="1524240" cy="1225440"/>
          </a:xfrm>
        </p:grpSpPr>
        <p:sp>
          <p:nvSpPr>
            <p:cNvPr id="618" name=""/>
            <p:cNvSpPr/>
            <p:nvPr/>
          </p:nvSpPr>
          <p:spPr>
            <a:xfrm>
              <a:off x="1171440" y="785880"/>
              <a:ext cx="50508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2280" y="785880"/>
              <a:ext cx="50508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239760" y="374760"/>
              <a:ext cx="1304640" cy="1225440"/>
              <a:chOff x="239760" y="374760"/>
              <a:chExt cx="1304640" cy="1225440"/>
            </a:xfrm>
          </p:grpSpPr>
          <p:pic>
            <p:nvPicPr>
              <p:cNvPr id="621" name="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39760" y="374760"/>
                <a:ext cx="1301760" cy="12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240840" y="374760"/>
                <a:ext cx="651960" cy="1225440"/>
              </a:xfrm>
              <a:custGeom>
                <a:avLst/>
                <a:gdLst/>
                <a:ahLst/>
                <a:rect l="l" t="t" r="r" b="b"/>
                <a:pathLst>
                  <a:path w="411" h="772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0840" y="374760"/>
                <a:ext cx="1303560" cy="120600"/>
              </a:xfrm>
              <a:custGeom>
                <a:avLst/>
                <a:gdLst/>
                <a:ahLst/>
                <a:rect l="l" t="t" r="r" b="b"/>
                <a:pathLst>
                  <a:path w="822" h="76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92800" y="374760"/>
                <a:ext cx="651600" cy="1225440"/>
              </a:xfrm>
              <a:custGeom>
                <a:avLst/>
                <a:gdLst/>
                <a:ahLst/>
                <a:rect l="l" t="t" r="r" b="b"/>
                <a:pathLst>
                  <a:path w="411" h="772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152280" y="1117440"/>
              <a:ext cx="1521000" cy="171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ftr" idx="19"/>
          </p:nvPr>
        </p:nvSpPr>
        <p:spPr>
          <a:xfrm>
            <a:off x="312372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ldNum" idx="20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D6A9-EAC5-46B9-A434-7C5A0E8456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668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600880" y="5897520"/>
              <a:ext cx="1253520" cy="825480"/>
              <a:chOff x="5600880" y="5897520"/>
              <a:chExt cx="1253520" cy="8254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52520" y="6048360"/>
                <a:ext cx="841320" cy="51768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915880" y="6095880"/>
                <a:ext cx="714960" cy="4352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004800" y="6146640"/>
                <a:ext cx="543600" cy="327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8160" y="6184800"/>
                <a:ext cx="412200" cy="25092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21800" y="6226200"/>
                <a:ext cx="302760" cy="16812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76480" y="5897520"/>
                <a:ext cx="60552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6560" y="6620040"/>
                <a:ext cx="70236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00880" y="6200640"/>
                <a:ext cx="13932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7120" y="5945040"/>
                <a:ext cx="118728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6408720" y="5907240"/>
                <a:ext cx="1490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07480" y="6267600"/>
                <a:ext cx="129960" cy="82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rect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rect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701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rect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rect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rect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rect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719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</p:grpSp>
      </p:grpSp>
      <p:sp>
        <p:nvSpPr>
          <p:cNvPr id="731" name="PlaceHolder 1"/>
          <p:cNvSpPr>
            <a:spLocks noGrp="1"/>
          </p:cNvSpPr>
          <p:nvPr>
            <p:ph type="ftr" idx="2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DAA7-1C50-4FBE-B86C-E18CB9003AED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914400" y="31417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4000" spc="-1" strike="noStrike">
                <a:solidFill>
                  <a:srgbClr val="f2dffd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«</a:t>
            </a:r>
            <a:r>
              <a:rPr b="1" i="1" lang="ru-RU" sz="4800" spc="-1" strike="noStrike">
                <a:solidFill>
                  <a:srgbClr val="0000cc"/>
                </a:solidFill>
                <a:latin typeface="Verdana"/>
              </a:rPr>
              <a:t>Красноярский край»</a:t>
            </a: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747880" cy="2844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852480" y="4508640"/>
            <a:ext cx="41767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оплева Светлана Васильевн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МДОБУ «Детский сад №1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442800" y="189000"/>
            <a:ext cx="5569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нём спит,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очью летает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И прохожих пугает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4867200" y="114300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932360" y="189000"/>
            <a:ext cx="3979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линный хвостище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жий волосище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а хитрище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279252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Это нужно нам?</a:t>
            </a:r>
            <a:br>
              <a:rPr sz="4000"/>
            </a:b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          Нашим детям?</a:t>
            </a:r>
            <a:br>
              <a:rPr sz="4000"/>
            </a:b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                  Нашим внукам?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459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938320" cy="34290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3276720" cy="2163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"/>
          <a:stretch/>
        </p:blipFill>
        <p:spPr>
          <a:xfrm>
            <a:off x="5435640" y="3808440"/>
            <a:ext cx="3708360" cy="3049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5364000" y="2133720"/>
            <a:ext cx="3587760" cy="13906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"/>
          <a:stretch/>
        </p:blipFill>
        <p:spPr>
          <a:xfrm>
            <a:off x="2556000" y="1773360"/>
            <a:ext cx="343836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900000" y="981000"/>
            <a:ext cx="7344000" cy="45356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Животные, занесённые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в Красную книгу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solidFill>
                  <a:srgbClr val="0066cc"/>
                </a:solidFill>
                <a:latin typeface="DejaVu Sans"/>
              </a:rPr>
              <a:t>Красноярского края</a:t>
            </a:r>
            <a:endParaRPr b="0" lang="en-US" sz="4400" spc="-1" strike="noStrike">
              <a:ln w="0">
                <a:noFill/>
              </a:ln>
              <a:solidFill>
                <a:srgbClr val="0066cc"/>
              </a:solidFill>
              <a:latin typeface="DejaVu Sans"/>
              <a:ea typeface="DejaVu San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708360" y="549360"/>
            <a:ext cx="5291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Красный волк – хищное млекопитающее семейства псовых. Очень редкий вид, находящийся под угрозой исчезнов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Это довольно крупный зверь. В его облике сочетаются черты </a:t>
            </a: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c"/>
              </a:rPr>
              <a:t>волка, лисицы </a:t>
            </a: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и</a:t>
            </a:r>
            <a:r>
              <a:rPr b="0" i="1" lang="ru-RU" sz="2400" spc="-1" strike="noStrike" u="sng">
                <a:solidFill>
                  <a:srgbClr val="b7e7ff"/>
                </a:solidFill>
                <a:uFillTx/>
                <a:latin typeface="Ariac"/>
              </a:rPr>
              <a:t> шакала.</a:t>
            </a: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 От обычного волка красный волк отличается окраской, пушистой шерстью и более длинным хвостом. Уши большие, стоячие, с закруглёнными вершинами, высоко посажены на голове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c"/>
              </a:rPr>
              <a:t>Обитает на всей территории Красноярского кра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3800520" cy="48690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189000"/>
            <a:ext cx="47656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бр обыкновенный – крупных размеров грызун. Хвост веслообразный, тело приземистое, с короткими лапами (задние значительно сильнее передних). Между пальцами расположены плавательные перепонки. Когти сильны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очитают селиться на небольших, медленно текущих лесных речках или лесных озёрах. Хорошо плавают, ныряют. Под водой могут оставаться до 4-5 минут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исчезнувшее животное, ранее обитающее на территории края Был истреблён за ценный мех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5000"/>
              </a:lnSpc>
              <a:spcBef>
                <a:spcPts val="638"/>
              </a:spcBef>
              <a:spcAft>
                <a:spcPts val="1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итал в верховьях Енисея и Подкаменной Тунгуск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643280" y="3884760"/>
            <a:ext cx="4500720" cy="297324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973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476280"/>
            <a:ext cx="3348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cc"/>
                </a:solidFill>
                <a:latin typeface="Arial"/>
              </a:rPr>
              <a:t>Большая</a:t>
            </a:r>
            <a:br>
              <a:rPr sz="4000"/>
            </a:br>
            <a:r>
              <a:rPr b="0" lang="ru-RU" sz="4000" spc="-1" strike="noStrike">
                <a:solidFill>
                  <a:srgbClr val="ccffcc"/>
                </a:solidFill>
                <a:latin typeface="Arial"/>
              </a:rPr>
              <a:t>выпь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0" name=""/>
          <p:cNvSpPr/>
          <p:nvPr/>
        </p:nvSpPr>
        <p:spPr>
          <a:xfrm>
            <a:off x="250920" y="2276640"/>
            <a:ext cx="87231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Внешностью похожа на цаплю, но более коренастая. Очень тщательно скрывается в зарослях травы и тростника. Своё присутствие выдаёт звучными, похожими на глухое мычание криками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Широко распространена в средней и южной России, на юге Сибири, но редко попадается на глаза. Встречается на болотах и по окраинам озёр в зарослях рогоза, осок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Питается рыбой, земноводными и насекомыми. Кроме того мелкими птицами и млекопитающи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244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395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_SeriferExpTitul"/>
              </a:rPr>
              <a:t>Моховой шмел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0" y="2859120"/>
            <a:ext cx="4305240" cy="39988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6877080" y="3933720"/>
            <a:ext cx="22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5" name=""/>
          <p:cNvSpPr/>
          <p:nvPr/>
        </p:nvSpPr>
        <p:spPr>
          <a:xfrm>
            <a:off x="5364000" y="1197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6" name=""/>
          <p:cNvSpPr/>
          <p:nvPr/>
        </p:nvSpPr>
        <p:spPr>
          <a:xfrm>
            <a:off x="5580000" y="260280"/>
            <a:ext cx="3313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От других видов шмелей отличается одноцветной окраской спинки и брюшка: спинка покрыта рыжими или жёлтыми волосками, а брюшко жёлтым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Обитает на лугах, лесной опушке и по берегам рек. Гнёзда строит на поверхности почвы из мха и сухих трав. Питается нектаро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5000"/>
              </a:lnSpc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ahoma"/>
                <a:ea typeface="DejaVu Sans"/>
              </a:rPr>
              <a:t>Это редкое насекомое Красноярского кра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051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539640" y="1197000"/>
            <a:ext cx="3538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ый гус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8" name=""/>
          <p:cNvSpPr/>
          <p:nvPr/>
        </p:nvSpPr>
        <p:spPr>
          <a:xfrm>
            <a:off x="250920" y="3645000"/>
            <a:ext cx="86421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селяет водоёмы со стоячей водой, окружённые тростниками – болота, озёра. Это сильная и осторожная птица. Корм добывает себе на суше (питается травой, злаковыми, ягодами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речается редко на территории Красноярского края, относится к исчезающему виду по вине человека ( вёлся неконтролируемый отстрел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508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76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АХАОН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1268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ахаон – крупная бабочка – в размахе крыльев до 90 см. Названа в честь древнегреческого врача – Махаон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стречаются по лесным опушкам, степным склона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0" y="2755800"/>
            <a:ext cx="5759280" cy="41022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6012000" y="2781360"/>
            <a:ext cx="259236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DejaVu Sans"/>
              </a:rPr>
              <a:t>Питаются нектаром цветов, гусеницы – растениями.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DejaVu Sans"/>
              </a:rPr>
              <a:t>В последние годы численность их уменьшилась за счёт  нарушения естественных мест обитани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gradFill rotWithShape="0">
            <a:gsLst>
              <a:gs pos="0">
                <a:srgbClr val="006666">
                  <a:alpha val="58039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893080" cy="48974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Карта Росси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1506600" cy="38876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175200" y="587700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ff"/>
                </a:solidFill>
                <a:latin typeface="Verdana"/>
                <a:ea typeface="DejaVu Sans"/>
              </a:rPr>
              <a:t>Красноярский кра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92240" y="1881360"/>
            <a:ext cx="4216320" cy="13762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Зелёная аптек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Красноярского края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2411280" y="189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Малин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37" name=""/>
          <p:cNvSpPr/>
          <p:nvPr/>
        </p:nvSpPr>
        <p:spPr>
          <a:xfrm>
            <a:off x="4427640" y="1266480"/>
            <a:ext cx="446544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ноголетний колючий полу-кустарник 1,5—2 м высоты.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ской практике используют плоды, которые собирают в период созревания, очищают, завяливают на солнце и затем досушивают в печи при температуре 60—80 °С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4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Препараты: настой и отвар плодов применяют как  жаропонижающее средство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простудных заболевания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21040" cy="5400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1908000" y="189000"/>
            <a:ext cx="475308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Черёмух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42" name=""/>
          <p:cNvSpPr/>
          <p:nvPr/>
        </p:nvSpPr>
        <p:spPr>
          <a:xfrm>
            <a:off x="4716360" y="1169640"/>
            <a:ext cx="402444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Дерево или крупный кустарник до 10 м высоты.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е используют плоды черемухи в качестве вяжущего средства. Применяют в виде настоя и отвар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6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Сушат в сушилках или печах при температуре 40°—50°, на открытом воздухе или чердаках с хорошей вентиляци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92680" cy="539928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1908000" y="189000"/>
            <a:ext cx="525636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Подорожник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1851120"/>
            <a:ext cx="42498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цине используют листья подорожника при желудочно-кишечных заболеваниях и в качестве отхаркивающего сред-ства. Применяют в виде настоя и отва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Заготавливают листья практи-чески все лето до начала увядания. Сушат на чердаках, под навесами, на воздухе в тен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28960" cy="5327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5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2050920" y="189000"/>
            <a:ext cx="497052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Одуванчик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52" name=""/>
          <p:cNvSpPr/>
          <p:nvPr/>
        </p:nvSpPr>
        <p:spPr>
          <a:xfrm>
            <a:off x="4500720" y="1339920"/>
            <a:ext cx="424800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 меди-цине используют корни растения в качестве возбуждающего аппетит средства и как желче-гонное. Применяют в виде настоя и отва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Заготавливают корни осенью в стадии увядания листьев, затем промывают и провяливают на воздухе несколько дней, до тех пор, пока из корней перестанет выделяться млечный сок. Сушат, разложив в один слой, под навесами и на чердака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97560" cy="53467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2843280" y="189000"/>
            <a:ext cx="3673440" cy="7491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Рябина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0" y="1873440"/>
            <a:ext cx="42498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2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медицине используют плоды рябины в качестве поливита-минного средства. Применяют в виде настоя и отвара. Заготавли-вают плоды в период полного созревания до наступления заморозков. Сушат в печах и сушилках при температуре 60°—80°, хорошо проветриваемых помещениях или под навес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924000" cy="5616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solidFill>
            <a:srgbClr val="88a2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1692360" y="2781360"/>
            <a:ext cx="6192720" cy="12938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DejaVu Sans"/>
              </a:rPr>
              <a:t>Ядовитые растения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DejaVu Sans"/>
              <a:ea typeface="DejaVu Sans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5592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4360" y="260280"/>
            <a:ext cx="7329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Arial"/>
              </a:rPr>
              <a:t>Белена чёрная </a:t>
            </a:r>
            <a:r>
              <a:rPr b="0" lang="ru-RU" sz="2400" spc="-1" strike="noStrike">
                <a:solidFill>
                  <a:srgbClr val="080462"/>
                </a:solidFill>
                <a:latin typeface="Arial"/>
              </a:rPr>
              <a:t>(сем. Паслёнов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859280" y="1125360"/>
            <a:ext cx="3927600" cy="554544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539640" y="1844640"/>
            <a:ext cx="424836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От белены человек теряет покой. Буйствует, грезит или вдруг приходит в неистовство. Совершает безрассудные поступки. Отравиться можно любой её частью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А от большой дозы можно и умереть. Семена белены похожи на маковые и по виду,  и по вкусу и очень ядовиты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462"/>
                </a:solidFill>
                <a:latin typeface="Verdana"/>
                <a:ea typeface="DejaVu Sans"/>
              </a:rPr>
              <a:t>Но зло, таящееся в белене, врачи умеют обратить во благо: из неё делают болеутоляющие лекарства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76720" cy="30416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572000" y="476280"/>
            <a:ext cx="256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8" name=""/>
          <p:cNvSpPr/>
          <p:nvPr/>
        </p:nvSpPr>
        <p:spPr>
          <a:xfrm>
            <a:off x="4788000" y="0"/>
            <a:ext cx="43560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Garamond"/>
                <a:ea typeface="DejaVu Sans"/>
              </a:rPr>
              <a:t>Вороний глаз обыкновенный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462"/>
                </a:solidFill>
                <a:latin typeface="Garamond"/>
                <a:ea typeface="DejaVu Sans"/>
              </a:rPr>
              <a:t>(сем. Лилейн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9" name=""/>
          <p:cNvSpPr/>
          <p:nvPr/>
        </p:nvSpPr>
        <p:spPr>
          <a:xfrm>
            <a:off x="900000" y="3213000"/>
            <a:ext cx="259236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00000000000000000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" y="3429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1" name=""/>
          <p:cNvSpPr/>
          <p:nvPr/>
        </p:nvSpPr>
        <p:spPr>
          <a:xfrm>
            <a:off x="395280" y="350028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Вороний глаз очень ядовит. Весь . Особенно много яда в чёрных ягодах. Он словно угощает чёрной ягодой, которую подает на «блюдечке» из четырёх заостренных листочков. Но не вздумай принять сей лесной дар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41128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462"/>
                </a:solidFill>
                <a:latin typeface="Arial"/>
              </a:rPr>
              <a:t>Волчье лыко</a:t>
            </a:r>
            <a:br>
              <a:rPr sz="4000"/>
            </a:br>
            <a:r>
              <a:rPr b="0" lang="ru-RU" sz="2400" spc="-1" strike="noStrike">
                <a:solidFill>
                  <a:srgbClr val="080462"/>
                </a:solidFill>
                <a:latin typeface="Arial"/>
              </a:rPr>
              <a:t>(сем. Волчеягодниковые)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56360" y="3429000"/>
            <a:ext cx="2276280" cy="2286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605640" y="0"/>
            <a:ext cx="2538360" cy="31687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39640" y="1484280"/>
            <a:ext cx="3386160" cy="30513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592200" y="4595760"/>
            <a:ext cx="513216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Волчье лыко – ядовитый кустарник. Только коснёшься коры, как кожа воспалится и появятся волдыри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Если сок капнет на кожу, губы или глаза, появится сильнейшее раздражение. А попав в организм, яд вызывает судороги, рвоту. Повышение температуры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8" name=""/>
          <p:cNvSpPr/>
          <p:nvPr/>
        </p:nvSpPr>
        <p:spPr>
          <a:xfrm>
            <a:off x="6156360" y="59389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462"/>
                </a:solidFill>
                <a:latin typeface="Verdana"/>
                <a:ea typeface="DejaVu Sans"/>
              </a:rPr>
              <a:t>Восемь ягод – смертельная доза для человека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048360" cy="5616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24000" y="-1251000"/>
            <a:ext cx="837396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Флаг Красноярского кра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472000" cy="3457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68360" y="-2043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Река  Енисей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7885080" cy="4748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468360" y="141300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Животный мир лесов Красноярского края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50920" y="907920"/>
            <a:ext cx="8713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портной, а всю жизнь с иголками ходит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5327640" cy="37353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2484360" y="5516640"/>
            <a:ext cx="6300720" cy="4809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latin typeface="DejaVu Sans"/>
              </a:rPr>
              <a:t>На гору бегом, а сгоры кувырком.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latin typeface="DejaVu Sans"/>
              <a:ea typeface="DejaVu Sans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5157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39640" y="4869000"/>
            <a:ext cx="805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Наткёт, наплетёт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ядет и добычу ждёт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4768920" y="0"/>
            <a:ext cx="4375080" cy="5877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59:12Z</dcterms:created>
  <dc:creator>Jenya</dc:creator>
  <dc:description/>
  <dc:language>en-US</dc:language>
  <cp:lastModifiedBy>Пользователь Windows</cp:lastModifiedBy>
  <dcterms:modified xsi:type="dcterms:W3CDTF">2023-09-29T09:36:56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