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.jpeg" ContentType="image/jpeg"/>
  <Override PartName="/ppt/media/image13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11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9B9C-BE8C-4BB3-B36A-A7055137CCB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6A13-9ACA-43B2-9776-451FB0A54E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ий колючий полукустарник 1,5—2 м высоты  с двулетними, плодоносящими на второй год стеблями. Листья сверху темно-зеленые, снизу беловойлочные, пятерные, черешковые, очередные, с яйцевидными пильчатыми по краю листочками. Соцветие — небольшая пазушная кисть из нескольких белых цветков. Плоды — темно-красные, сочные многосемянки (ягоды) с мелкими желтоватыми семенами. Цветет в июне —- июле. Плоды созревают в июле — августе. Размножается вегетативно {корневыми   отростк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астет в лесной и лесостепной зонах европейской части СССР и Сибири. Встречается в горах Кавказа и Средней Аз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ской практике используют плоды, которые собирают в период созревания, очищают, завяливают на солнце и затем досушивают в печи при температуре 60—80 °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лоды содержат органические кислоты, сахара, вита­мины, дубильные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епараты: настой и отвар плодов применяют как пото­гонное, жаропонижающее средств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остудных заболев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FB4F-F244-43C7-A3EB-77223C5F79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Дерево или крупный кустарник до 10 м высоты. Листья очередные, эллиптические, на коротких черешках, по краю остропильчатые. Белые ароматные цветки собраны в густые поникающие кисти. Плоды — черные блестящие костянки со сладкой вяжущей мяко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в апреле — июне, плоды созревают в июле — сентябре. Размно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е используют плоды черемухи в качестве вяжущего средства. Применяют в виде настоя и отвара. Широко распространена в европейской части СССР, в горах Кавказа, в Средней Азии и Западной Сибири. Собирают зрелые ягоды. Сушат в сушилках или печах при температуре 40°—50°, на открытом воздухе или чердаках с хорошей вентиля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42C5-824F-4E5C-A8A8-CAE5FCE56F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ее травянистое растение до 50 см высоты с одной или несколькими цветочными стрелками. Листья широкояйцевидной формы, черешковые, составляют розетку. Мелкие невзрачные цветки собраны в цилиндрические колосья. Плод — коробо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с мая до сентября, плоды созревают с июня до осени. Размно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е используют листья подорожника при желудочно-кишечных заболеваниях и в качестве отхаркивающего средства. Применяют в виде настоя и от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орожник большой широко распространен по всей территории СССР. Заготавливают листья практически все лето до начала увядания. Сушат на чердаках, под навесами, на воздухе в т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A4C0-598D-46DC-A1BA-F73C181C3B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ее травянистое растение до 50 см высоты с относительно толстым, вертикальным, почти неветвистым корнем. Листья перистолопастные собраны в прикорневую розетку. Цветки все язычковые, золотисто-желтые, собраны в одиночные корзинки, расположенные на длинных, полых внутри, цветочных стрелках. Плод —семянка с хохолком. Цветет в мае — июле, плоды созревают примерно через месяц после начала цветения. Размножается семенами. В медицине используют корни растения в качестве возбужда­ющего аппетит средства и как желчегонное.Применяют в виде настоя и от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аспространен по всей территории СССР, кроме Арктики. Заготавливают корни осенью в стадии увядания листьев, затем промывают и провяливают на воздухе несколько дней, до тех пор, пока из корней перестанет выделяться млечный сок. Сушат, разложив в один слой, под навесами и на черда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6C7C-D2CE-42F4-BBFD-0DE4188C7A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Дерево до 15 м высоты с очередными черешковыми листьями. Дольки листа продолговатые, по краю остропильчатые. Белые душистые цветки собраны в рыхлые зонтики. Плоды — яблокообразные, ярко оранжево-крас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в мае — июне, плоды созревают в сентябре. Размно­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едицине используют плоды рябины в качестве поливитаминного средства. Применяют в виде настоя и отвара. Распространена по всей европейской части СССР, в горной части Крыма и Кавказа. Заготавливают плоды в период полного созревания до наступления заморозков. Сушат в печах и сушилках при" температуре 60°—80°, хорошо проветриваемых помещениях или под наве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772-879E-455B-AE3D-2E2D5F298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23C-5339-4561-8C6D-950EA4D85C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FD5-CAC7-44D6-8100-3E70A94C62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EA19-D55B-4CD3-9328-E8C622A59B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4692-8DAF-4183-9FEF-49B2020C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6612-1EC9-4765-8750-E197A691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FA07-BCC9-4D5E-B081-C2FF4BC8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1BBC-70EE-483D-9738-0C6DD778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4C617-7867-4B22-928C-C107B3BA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AEED-783C-4A3F-8016-8285C71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A04E5-2A18-4B25-B385-F06C7459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92AEB-385F-4B63-813B-03683AE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3911C-ECD9-44A9-B570-20FAC31E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4F855-FBBE-4601-A04A-5E620F3E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6F1EE-6754-4E56-80A5-91B5D77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B012-F81B-4597-996E-43ABD7E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AA080-FEDB-4801-88A4-E26E0C98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84DF6-9000-448F-8850-A57114A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7A5B9-42B1-4060-9044-E036CC23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0B12A-39C3-461F-BA01-4AA93BC3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4D34-799F-4A62-9A57-0F037A4E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A71B0-C811-4CE0-AD75-3FA3D3D6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3963C-229C-480B-A5AD-5F320E07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A21C8-7F57-491C-A23A-85DBB481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49BE8-9344-474E-B999-6D8F974A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3B001-48F6-43B8-8F7C-B7D57758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B44F-D297-46D4-BD8E-57D4F68F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F9B2A-B73E-48BF-859F-75921DD5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A7A9F-D23A-40A5-805C-F890C32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6F93C-D152-4D05-B34D-988E592E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44527-1369-417A-AEDE-4AF2E14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E80FE-F0F1-4E8C-A1A1-E654511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36247-B6ED-48B4-92EB-C5D8B825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746ED-B946-47D1-AEB8-97054B7E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015BD-609F-485F-9406-B207F606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1A6D3-A530-46D9-A973-74540403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92F51-3D8F-492E-A22C-CDEDE371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7681-D06F-43B8-8A2C-3A9C3269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E5361-5778-4D7C-A206-D83E645F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5FAEF-05BC-4D8E-8E52-05BFEDFD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7704C-C20E-4F99-90DD-5B27495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F18A2-93AA-4BE1-8A02-682FD39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9AC7D-0CBB-4418-92F8-8714585D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9D890-416A-45BD-ABF3-D864702F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3CA74-C13A-4AC2-B379-01DBCE8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D5DAF-D32D-4A25-BBA5-66135A6E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7EB8C-0CAF-4E5D-A92C-864504EA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087CC-E4AC-49AC-ACBB-394411F4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695F-95DA-437F-B909-B11162AD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21BC0-57CC-448A-8E76-B37C6680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28FF5-4E5D-4571-AE90-9DFC4782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13896-FBE0-4B56-A462-169498EF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F66E4-F201-4A04-B575-49DE649F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B8574-C9FD-42C4-8717-1DBA422F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BD183-381A-4CE8-B7EC-2BF326EA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F6405-8C05-446C-97B9-5BC6807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44F19-235E-4B00-B643-87AC09D2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FEC8A-5677-4622-A969-E78FC5D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E2063-D29A-4B39-BAD2-8F469E8F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D317-7615-42B7-B9F3-BB6FEE8C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C74BC-4EB4-4E84-B997-941FAA1D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7F6FB-FB8A-4BEB-AD72-A1DF530A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F53AB-0E96-4FF4-B0E8-7F3420F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56AF3-5A59-417C-AFD8-7292B3A6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EB22F-143E-4F36-8147-0C43563E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588A0-E3B9-46B3-9755-A87D6297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0B2F1-23C1-4E18-820C-8AFB9292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C5655-F6AC-49B4-BC5B-7AC88A0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ED038-120D-40D6-A50B-AB8EAA1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0D098-024B-4F7D-A942-2C91E9E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69F5-16D3-4CB6-B50E-0358549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1B213-1E2F-456B-9054-74E263B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0D29B-1132-455D-9BC9-7453EE0E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019E7-F799-4CC4-B337-34FD6C7D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033D0-6B0E-4D21-BC39-E02C1C70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0DD22-65C3-4F32-BB37-2791D960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9FE8B-D95F-4305-84B0-51B19795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7643B-E2B2-4494-A674-DB55AF4E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8416D-7FDF-4873-9C6A-F228F7DB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7DEFD-53D8-4B8C-A379-086A6C5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66E6B-9B18-4EC1-855C-5B698C7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3E7B-CD2F-4143-BC09-7551882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1CCB1-DEE0-47D3-9348-F95AE176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A23AA-07D4-4660-ADE1-5BFDE24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A877E-9015-426D-B791-F839397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44F6F-ECD1-4C87-9F10-EC6A3C60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9E08C-FB87-4E40-AC9F-A8E24020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704B6B-2305-4986-864E-EDFA5666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FD22B6-3947-4FC8-A43F-375B7E50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F86CF-0741-425A-BD3C-49A52217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D6F34A-D9EC-4F6D-A8EF-47CAE925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79ADF-20BF-4196-BE06-FCF7706B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6031-62F2-468C-95EB-4090114D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9A5E9-5E6F-4FC4-8255-34F16C43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A26F2-40F5-44AA-8980-0AC62DD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B8E2F2-DF0F-4C33-95BE-0ABFFC6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0ABC42-E3E9-4F0A-A542-B02F055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1DE21-B59B-4664-BEF7-3A8DFDF7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C6C71-C126-4BC0-A203-EF414C7B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54ADF-735C-462F-8667-C5453B76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89360" y="-191880"/>
            <a:ext cx="2925000" cy="7046280"/>
            <a:chOff x="-189360" y="-191880"/>
            <a:chExt cx="2925000" cy="7046280"/>
          </a:xfrm>
        </p:grpSpPr>
        <p:sp>
          <p:nvSpPr>
            <p:cNvPr id="1" name=""/>
            <p:cNvSpPr/>
            <p:nvPr/>
          </p:nvSpPr>
          <p:spPr>
            <a:xfrm>
              <a:off x="-87480" y="5155560"/>
              <a:ext cx="76896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46440" y="3836520"/>
              <a:ext cx="1024560" cy="803520"/>
              <a:chOff x="-46440" y="3836520"/>
              <a:chExt cx="1024560" cy="80352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3680" y="3856320"/>
                <a:ext cx="251640" cy="30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03400" y="4267800"/>
                <a:ext cx="43092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11640" y="4096440"/>
                <a:ext cx="4525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7680" y="2699640"/>
              <a:ext cx="115776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89360" y="2438280"/>
              <a:ext cx="2925000" cy="3267720"/>
              <a:chOff x="-189360" y="2438280"/>
              <a:chExt cx="2925000" cy="326772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219600" y="2541960"/>
                <a:ext cx="1042200" cy="10490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80280" y="2692440"/>
                <a:ext cx="872280" cy="1067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89000" y="2913120"/>
                <a:ext cx="307440" cy="537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752040" y="368604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671760" y="375048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662760" y="3669480"/>
                <a:ext cx="2072880" cy="2036520"/>
                <a:chOff x="662760" y="3669480"/>
                <a:chExt cx="2072880" cy="20365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104120" y="3577680"/>
                  <a:ext cx="588960" cy="1356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19840" y="4815360"/>
                  <a:ext cx="134640" cy="5558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13160" y="5530320"/>
                  <a:ext cx="245160" cy="921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57480" y="6133680"/>
              <a:ext cx="878400" cy="695160"/>
              <a:chOff x="357480" y="6133680"/>
              <a:chExt cx="878400" cy="69516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6240" y="6131520"/>
                <a:ext cx="214920" cy="280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87240" y="6505200"/>
                <a:ext cx="369000" cy="232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67480" y="63914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23560" y="1688400"/>
              <a:ext cx="839880" cy="734400"/>
              <a:chOff x="223560" y="1688400"/>
              <a:chExt cx="839880" cy="73440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4440" y="1656720"/>
                <a:ext cx="217080" cy="317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28200" y="2088720"/>
                <a:ext cx="374400" cy="263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117360" y="2144520"/>
                <a:ext cx="391320" cy="13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1720" y="-93600"/>
              <a:ext cx="559440" cy="586800"/>
              <a:chOff x="1251720" y="-93600"/>
              <a:chExt cx="559440" cy="5868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1720" y="-93600"/>
                <a:ext cx="17604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480" y="10800"/>
                <a:ext cx="3016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560" y="401400"/>
                <a:ext cx="31680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2640" y="57600"/>
              <a:ext cx="113976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160" y="5381640"/>
              <a:ext cx="21348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46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840" y="6519960"/>
              <a:ext cx="19044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118480"/>
              <a:ext cx="81000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6080" y="564120"/>
              <a:ext cx="56016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5360" y="1122840"/>
              <a:ext cx="271080" cy="1828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57520" y="366480"/>
              <a:ext cx="23832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44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732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332000"/>
              <a:ext cx="58608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1520" y="39600"/>
              <a:ext cx="131148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373F-A5CE-44CA-9F0C-D2E1A73D0E1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85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89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5FD1-F280-4E6E-9404-5DCA4D6659A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48040" y="1308240"/>
            <a:ext cx="8380800" cy="5370840"/>
            <a:chOff x="248040" y="1308240"/>
            <a:chExt cx="8380800" cy="5370840"/>
          </a:xfrm>
        </p:grpSpPr>
        <p:sp>
          <p:nvSpPr>
            <p:cNvPr id="163" name=""/>
            <p:cNvSpPr/>
            <p:nvPr/>
          </p:nvSpPr>
          <p:spPr>
            <a:xfrm flipV="1" rot="20820000">
              <a:off x="320400" y="1621800"/>
              <a:ext cx="2480400" cy="684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760000">
              <a:off x="308160" y="1765080"/>
              <a:ext cx="289152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760000">
              <a:off x="301680" y="1872360"/>
              <a:ext cx="3195000" cy="684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700000">
              <a:off x="280440" y="2000880"/>
              <a:ext cx="3522240" cy="75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640000">
              <a:off x="267840" y="2173680"/>
              <a:ext cx="394056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580000">
              <a:off x="248040" y="2364480"/>
              <a:ext cx="435060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460000">
              <a:off x="209520" y="2622240"/>
              <a:ext cx="484128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340000">
              <a:off x="201240" y="2879280"/>
              <a:ext cx="533376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20220000">
              <a:off x="106920" y="3165120"/>
              <a:ext cx="59886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20100000">
              <a:off x="35640" y="3523320"/>
              <a:ext cx="6562080" cy="61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920000">
              <a:off x="-102960" y="4020480"/>
              <a:ext cx="739872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9680000">
              <a:off x="353160" y="4419360"/>
              <a:ext cx="76845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9380000">
              <a:off x="2218680" y="4490280"/>
              <a:ext cx="6562080" cy="61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9020000">
              <a:off x="4157280" y="4705200"/>
              <a:ext cx="50875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8600000">
              <a:off x="6013440" y="5361840"/>
              <a:ext cx="314532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 rot="18360000">
              <a:off x="7956720" y="6367680"/>
              <a:ext cx="757080" cy="5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">
              <a:off x="132840" y="3631320"/>
              <a:ext cx="86029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560000">
              <a:off x="60120" y="5199480"/>
              <a:ext cx="58932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40000">
              <a:off x="106920" y="5544000"/>
              <a:ext cx="39888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80000">
              <a:off x="185400" y="5995800"/>
              <a:ext cx="19911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380000">
              <a:off x="34200" y="4936320"/>
              <a:ext cx="77932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960000">
              <a:off x="176760" y="3281400"/>
              <a:ext cx="85600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960000">
              <a:off x="454680" y="3006000"/>
              <a:ext cx="81900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840000">
              <a:off x="872640" y="2786760"/>
              <a:ext cx="77904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80000">
              <a:off x="1548360" y="2453400"/>
              <a:ext cx="70797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20000">
              <a:off x="1840680" y="2292840"/>
              <a:ext cx="67708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">
              <a:off x="2112480" y="2143440"/>
              <a:ext cx="64839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660000">
              <a:off x="2456280" y="2036160"/>
              <a:ext cx="6138000" cy="5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660000">
              <a:off x="2688840" y="1905840"/>
              <a:ext cx="5910480" cy="7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840000">
              <a:off x="1209960" y="2608560"/>
              <a:ext cx="7404480" cy="7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260000">
              <a:off x="51840" y="4564800"/>
              <a:ext cx="87505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200000">
              <a:off x="92520" y="4091040"/>
              <a:ext cx="86850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3560" y="5145120"/>
              <a:ext cx="237600" cy="143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440" y="4713480"/>
              <a:ext cx="237240" cy="142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6640" y="5588640"/>
              <a:ext cx="277200" cy="15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96520" y="4088520"/>
              <a:ext cx="220680" cy="12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81160" y="4716720"/>
              <a:ext cx="237600" cy="142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39960" y="4385520"/>
              <a:ext cx="220320" cy="134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7960" y="4357800"/>
              <a:ext cx="2134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2920" y="4080960"/>
              <a:ext cx="211680" cy="12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08440" y="40597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7680" y="3822120"/>
              <a:ext cx="220320" cy="124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58920" y="356328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48520" y="332136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2600" y="3549600"/>
              <a:ext cx="197640" cy="107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2320" y="2933640"/>
              <a:ext cx="18216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6160" y="277308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61480" y="293076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0880" y="2751840"/>
              <a:ext cx="180720" cy="92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4360" y="312408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8320" y="3330360"/>
              <a:ext cx="18756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73640" y="3773520"/>
              <a:ext cx="211680" cy="134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91960" y="3130560"/>
              <a:ext cx="1962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93720" y="3352680"/>
              <a:ext cx="1962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35440" y="355896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2880" y="315936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5960" y="279000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75360" y="295452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8080" y="278676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13160" y="294444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1600" y="276552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9440" y="3136680"/>
              <a:ext cx="189000" cy="10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7400" y="333900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76360" y="296100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87840" y="278064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1120" y="293832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5440" y="3576960"/>
              <a:ext cx="1962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9040" y="3357360"/>
              <a:ext cx="1890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63400" y="3802680"/>
              <a:ext cx="2206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1080" y="3110760"/>
              <a:ext cx="197640" cy="107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4160" y="263412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6720" y="248112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11560" y="2340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96120" y="247500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67720" y="2618640"/>
              <a:ext cx="17460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2560" y="2349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0560" y="262800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78120" y="248400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60520" y="261288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87520" y="2349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45080" y="247788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4920" y="23432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760" y="263088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9240" y="2475000"/>
              <a:ext cx="17460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2480" y="2347920"/>
              <a:ext cx="17460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94280" y="261576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54920" y="248112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36440" y="2340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90360" y="235080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92120" y="2635560"/>
              <a:ext cx="1807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55640" y="2494800"/>
              <a:ext cx="1807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5040" y="5590080"/>
              <a:ext cx="277200" cy="1663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46760" y="6136560"/>
              <a:ext cx="270360" cy="1677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12880" y="4737960"/>
              <a:ext cx="237600" cy="1422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440028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77680" y="4098960"/>
              <a:ext cx="220680" cy="125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62960" y="3774960"/>
              <a:ext cx="211680" cy="1346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03760" y="514656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8800" y="354492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04800" y="310896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81880" y="3327120"/>
              <a:ext cx="18900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83800" y="293364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4200" y="2780640"/>
              <a:ext cx="18216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51800" y="263412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73920" y="24872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75880" y="2349360"/>
              <a:ext cx="180720" cy="752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56600" y="2226600"/>
              <a:ext cx="15624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8160" y="22251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6960" y="22251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0200" y="2128320"/>
              <a:ext cx="15624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26160" y="20163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8240" y="183168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17440" y="2131560"/>
              <a:ext cx="15768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5480" y="1907280"/>
              <a:ext cx="15768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22080" y="2004120"/>
              <a:ext cx="1580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11440" y="2243520"/>
              <a:ext cx="1562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18800" y="2215800"/>
              <a:ext cx="158040" cy="74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09960" y="2004120"/>
              <a:ext cx="1562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720" y="2116080"/>
              <a:ext cx="1562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2680" y="1807560"/>
              <a:ext cx="15768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98600" y="21268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12480" y="2240280"/>
              <a:ext cx="1476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22080" y="2113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3280" y="2113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99560" y="191952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880" y="173916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09280" y="164232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04280" y="163476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8920" y="199368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17400" y="2104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04840" y="22222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4160" y="16650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32240" y="16498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34640" y="1669680"/>
              <a:ext cx="14796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19720" y="200412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9120" y="182124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58360" y="192096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57480" y="1743840"/>
              <a:ext cx="1580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50480" y="165168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1480" y="2249280"/>
              <a:ext cx="15624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0560" y="201924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9880" y="181512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02800" y="1727280"/>
              <a:ext cx="15804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28120" y="181944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08880" y="211320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4920" y="19119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120" y="172260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93440" y="201168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03280" y="209340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6400" y="181044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81960" y="191052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10400" y="1743840"/>
              <a:ext cx="1580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80280" y="18255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88680" y="175752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86160" y="19011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600" y="1831680"/>
              <a:ext cx="15768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25200" y="1925640"/>
              <a:ext cx="1562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58320" y="1725840"/>
              <a:ext cx="15768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120" y="2046600"/>
              <a:ext cx="1562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575720"/>
              <a:ext cx="142200" cy="55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48920" y="1594080"/>
              <a:ext cx="142200" cy="57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5560" y="1586520"/>
              <a:ext cx="141840" cy="55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1960" y="1575720"/>
              <a:ext cx="140760" cy="57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42480" y="1485360"/>
              <a:ext cx="142200" cy="57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2440" y="1566720"/>
              <a:ext cx="142200" cy="57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12960" y="2210040"/>
              <a:ext cx="1494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9800" y="2355480"/>
              <a:ext cx="17352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1080" y="2008800"/>
              <a:ext cx="15768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35520" y="1895400"/>
              <a:ext cx="15624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77520" y="143496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9480" y="143496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3960" y="137592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88840" y="1308240"/>
              <a:ext cx="116640" cy="496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70080" y="1375920"/>
              <a:ext cx="1180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88560" y="1457640"/>
              <a:ext cx="1162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63240" y="1509120"/>
              <a:ext cx="13356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33680" y="1516680"/>
              <a:ext cx="12492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72000" y="1503000"/>
              <a:ext cx="1422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62600" y="6156360"/>
              <a:ext cx="276120" cy="1573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41560" y="5617440"/>
              <a:ext cx="277200" cy="1681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48920" y="478476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92800" y="4420080"/>
              <a:ext cx="22140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56440" y="517248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6760" y="4082760"/>
              <a:ext cx="213480" cy="125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61400" y="380700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98720" y="356328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46640" y="312120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91760" y="3333240"/>
              <a:ext cx="19620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61200" y="296712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68920" y="279576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85640" y="26366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50520" y="2503800"/>
              <a:ext cx="174960" cy="756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22960" y="2363040"/>
              <a:ext cx="173520" cy="756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73040" y="6222960"/>
              <a:ext cx="2772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36440" y="5650560"/>
              <a:ext cx="277200" cy="1663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33400" y="5668920"/>
              <a:ext cx="2844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32000" y="6189480"/>
              <a:ext cx="277200" cy="1573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17400" y="5200920"/>
              <a:ext cx="237600" cy="1436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7640" y="4815000"/>
              <a:ext cx="236160" cy="141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18960" y="5234400"/>
              <a:ext cx="236160" cy="142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20200" y="440928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73560" y="477720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63720" y="4418640"/>
              <a:ext cx="220680" cy="132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31960" y="41065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08080" y="3826440"/>
              <a:ext cx="220320" cy="12528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88480" y="3166920"/>
              <a:ext cx="189000" cy="108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85640" y="3563280"/>
              <a:ext cx="197640" cy="10908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08840" y="335448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83240" y="298656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36960" y="280188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99880" y="41173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8040" y="4397400"/>
              <a:ext cx="2116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3440" y="380988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7600" y="223416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44440" y="6130440"/>
              <a:ext cx="2844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ftr" idx="7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1DA1-A86F-462C-AF11-DA5032C1D910}" type="slidenum">
              <a:rPr b="0" lang="ru-RU" sz="12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3C3A-D318-47E5-BC0D-4220D5322412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2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461" name="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ftr" idx="13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Num" idx="14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5DEA-69FF-4F8D-A3B4-5F57E4C9CD57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5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51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600880" y="5897520"/>
              <a:ext cx="1253520" cy="825480"/>
              <a:chOff x="5600880" y="5897520"/>
              <a:chExt cx="1253520" cy="825480"/>
            </a:xfrm>
          </p:grpSpPr>
          <p:sp>
            <p:nvSpPr>
              <p:cNvPr id="514" name=""/>
              <p:cNvSpPr/>
              <p:nvPr/>
            </p:nvSpPr>
            <p:spPr>
              <a:xfrm>
                <a:off x="5852520" y="6048360"/>
                <a:ext cx="841320" cy="51768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15880" y="6095880"/>
                <a:ext cx="714960" cy="4352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04800" y="6146640"/>
                <a:ext cx="543600" cy="327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68160" y="6184800"/>
                <a:ext cx="412200" cy="25092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121800" y="6226200"/>
                <a:ext cx="302760" cy="16812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676480" y="5897520"/>
                <a:ext cx="60552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6560" y="6620040"/>
                <a:ext cx="70236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00880" y="6200640"/>
                <a:ext cx="13932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7120" y="5945040"/>
                <a:ext cx="118728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6408720" y="5907240"/>
                <a:ext cx="1490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7480" y="6267600"/>
                <a:ext cx="129960" cy="82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52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54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rect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6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sp>
        <p:nvSpPr>
          <p:cNvPr id="575" name="PlaceHolder 1"/>
          <p:cNvSpPr>
            <a:spLocks noGrp="1"/>
          </p:cNvSpPr>
          <p:nvPr>
            <p:ph type="ftr" idx="1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F576-B142-4BE4-A3EF-A51F4F68D155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52280" y="374760"/>
            <a:ext cx="1524240" cy="1225440"/>
            <a:chOff x="152280" y="374760"/>
            <a:chExt cx="1524240" cy="1225440"/>
          </a:xfrm>
        </p:grpSpPr>
        <p:sp>
          <p:nvSpPr>
            <p:cNvPr id="618" name=""/>
            <p:cNvSpPr/>
            <p:nvPr/>
          </p:nvSpPr>
          <p:spPr>
            <a:xfrm>
              <a:off x="1171440" y="785880"/>
              <a:ext cx="50508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2280" y="785880"/>
              <a:ext cx="50508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239760" y="374760"/>
              <a:ext cx="1304640" cy="1225440"/>
              <a:chOff x="239760" y="374760"/>
              <a:chExt cx="1304640" cy="1225440"/>
            </a:xfrm>
          </p:grpSpPr>
          <p:pic>
            <p:nvPicPr>
              <p:cNvPr id="621" name="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39760" y="374760"/>
                <a:ext cx="1301760" cy="12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240840" y="374760"/>
                <a:ext cx="651960" cy="1225440"/>
              </a:xfrm>
              <a:custGeom>
                <a:avLst/>
                <a:gdLst/>
                <a:ahLst/>
                <a:rect l="l" t="t" r="r" b="b"/>
                <a:pathLst>
                  <a:path w="411" h="772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0840" y="374760"/>
                <a:ext cx="1303560" cy="120600"/>
              </a:xfrm>
              <a:custGeom>
                <a:avLst/>
                <a:gdLst/>
                <a:ahLst/>
                <a:rect l="l" t="t" r="r" b="b"/>
                <a:pathLst>
                  <a:path w="822" h="76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92800" y="374760"/>
                <a:ext cx="651600" cy="1225440"/>
              </a:xfrm>
              <a:custGeom>
                <a:avLst/>
                <a:gdLst/>
                <a:ahLst/>
                <a:rect l="l" t="t" r="r" b="b"/>
                <a:pathLst>
                  <a:path w="411" h="772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152280" y="1117440"/>
              <a:ext cx="1521000" cy="171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ftr" idx="19"/>
          </p:nvPr>
        </p:nvSpPr>
        <p:spPr>
          <a:xfrm>
            <a:off x="3123720" y="639900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ldNum" idx="20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484-3391-4B35-A369-6BEBB2D278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668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5600880" y="5897520"/>
              <a:ext cx="1253520" cy="825480"/>
              <a:chOff x="5600880" y="5897520"/>
              <a:chExt cx="1253520" cy="8254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52520" y="6048360"/>
                <a:ext cx="841320" cy="51768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15880" y="6095880"/>
                <a:ext cx="714960" cy="4352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004800" y="6146640"/>
                <a:ext cx="543600" cy="327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8160" y="6184800"/>
                <a:ext cx="412200" cy="25092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21800" y="6226200"/>
                <a:ext cx="302760" cy="16812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76480" y="5897520"/>
                <a:ext cx="60552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6560" y="6620040"/>
                <a:ext cx="70236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00880" y="6200640"/>
                <a:ext cx="13932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7120" y="5945040"/>
                <a:ext cx="118728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6408720" y="5907240"/>
                <a:ext cx="1490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07480" y="6267600"/>
                <a:ext cx="129960" cy="82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701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rect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719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sp>
        <p:nvSpPr>
          <p:cNvPr id="731" name="PlaceHolder 1"/>
          <p:cNvSpPr>
            <a:spLocks noGrp="1"/>
          </p:cNvSpPr>
          <p:nvPr>
            <p:ph type="ftr" idx="2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98EC-D256-4A0E-9341-C34BD2C4ACFD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2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914400" y="314172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4000" spc="-1" strike="noStrike">
                <a:solidFill>
                  <a:srgbClr val="f2dffd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«</a:t>
            </a:r>
            <a:r>
              <a:rPr b="1" i="1" lang="ru-RU" sz="4800" spc="-1" strike="noStrike">
                <a:solidFill>
                  <a:srgbClr val="0000cc"/>
                </a:solidFill>
                <a:latin typeface="Verdana"/>
              </a:rPr>
              <a:t>Красноярский край»</a:t>
            </a: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747880" cy="2844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852480" y="4508640"/>
            <a:ext cx="41767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оплева Светлана Васильевн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 МДОБУ «Детский сад №1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442800" y="189000"/>
            <a:ext cx="5569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нём спит,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Ночью летает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И прохожих пугает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4867200" y="1143000"/>
            <a:ext cx="4276800" cy="5715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932360" y="189000"/>
            <a:ext cx="3979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линный хвостище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жий волосище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ма хитрищ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279252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Это нужно нам?</a:t>
            </a:r>
            <a:br>
              <a:rPr sz="4000"/>
            </a:b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          Нашим детям?</a:t>
            </a:r>
            <a:br>
              <a:rPr sz="4000"/>
            </a:b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                  Нашим внукам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459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938320" cy="34290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3276720" cy="21636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4"/>
          <a:stretch/>
        </p:blipFill>
        <p:spPr>
          <a:xfrm>
            <a:off x="5435640" y="3808440"/>
            <a:ext cx="3708360" cy="30495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"/>
          <a:stretch/>
        </p:blipFill>
        <p:spPr>
          <a:xfrm>
            <a:off x="5364000" y="2133720"/>
            <a:ext cx="3587760" cy="13906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6"/>
          <a:stretch/>
        </p:blipFill>
        <p:spPr>
          <a:xfrm>
            <a:off x="2556000" y="1773360"/>
            <a:ext cx="3438360" cy="4103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900000" y="981000"/>
            <a:ext cx="7344000" cy="45356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Животные, занесённые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в Красную книгу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Красноярского края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708360" y="549360"/>
            <a:ext cx="52912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Красный волк – хищное млекопитающее семейства псовых. Очень редкий вид, находящийся под угрозой исчезнов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Это довольно крупный зверь. В его облике сочетаются черты </a:t>
            </a:r>
            <a:r>
              <a:rPr b="0" i="1" lang="ru-RU" sz="2400" spc="-1" strike="noStrike" u="sng">
                <a:solidFill>
                  <a:srgbClr val="b7e7ff"/>
                </a:solidFill>
                <a:uFillTx/>
                <a:latin typeface="Ariac"/>
              </a:rPr>
              <a:t>волка, лисицы </a:t>
            </a: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и</a:t>
            </a:r>
            <a:r>
              <a:rPr b="0" i="1" lang="ru-RU" sz="2400" spc="-1" strike="noStrike" u="sng">
                <a:solidFill>
                  <a:srgbClr val="b7e7ff"/>
                </a:solidFill>
                <a:uFillTx/>
                <a:latin typeface="Ariac"/>
              </a:rPr>
              <a:t> шакала.</a:t>
            </a: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 От обычного волка красный волк отличается окраской, пушистой шерстью и более длинным хвостом. Уши большие, стоячие, с закруглёнными вершинами, высоко посажены на голов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Обитает на всей территории Красноярского кра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3800520" cy="48690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189000"/>
            <a:ext cx="47656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бр обыкновенный – крупных размеров грызун. Хвост веслообразный, тело приземистое, с короткими лапами (задние значительно сильнее передних). Между пальцами расположены плавательные перепонки. Когти сильны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очитают селиться на небольших, медленно текущих лесных речках или лесных озёрах. Хорошо плавают, ныряют. Под водой могут оставаться до 4-5 минут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исчезнувшее животное, ранее обитающее на территории края Был истреблён за ценный мех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итал в верховьях Енисея и Подкаменной Тунгуск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643280" y="3884760"/>
            <a:ext cx="4500720" cy="297324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973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476280"/>
            <a:ext cx="3348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cc"/>
                </a:solidFill>
                <a:latin typeface="Arial"/>
              </a:rPr>
              <a:t>Большая</a:t>
            </a:r>
            <a:br>
              <a:rPr sz="4000"/>
            </a:br>
            <a:r>
              <a:rPr b="0" lang="ru-RU" sz="4000" spc="-1" strike="noStrike">
                <a:solidFill>
                  <a:srgbClr val="ccffcc"/>
                </a:solidFill>
                <a:latin typeface="Arial"/>
              </a:rPr>
              <a:t>выпь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0" name=""/>
          <p:cNvSpPr/>
          <p:nvPr/>
        </p:nvSpPr>
        <p:spPr>
          <a:xfrm>
            <a:off x="250920" y="2276640"/>
            <a:ext cx="87231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Внешностью похожа на цаплю, но более коренастая. Очень тщательно скрывается в зарослях травы и тростника. Своё присутствие выдаёт звучными, похожими на глухое мычание криками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Широко распространена в средней и южной России, на юге Сибири, но редко попадается на глаза. Встречается на болотах и по окраинам озёр в зарослях рогоза, осок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Питается рыбой, земноводными и насекомыми. Кроме того мелкими птицами и млекопитающи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244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39528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_SeriferExpTitul"/>
              </a:rPr>
              <a:t>Моховой шмел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0" y="2859120"/>
            <a:ext cx="4305240" cy="39988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6877080" y="3933720"/>
            <a:ext cx="22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5" name=""/>
          <p:cNvSpPr/>
          <p:nvPr/>
        </p:nvSpPr>
        <p:spPr>
          <a:xfrm>
            <a:off x="5364000" y="1197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6" name=""/>
          <p:cNvSpPr/>
          <p:nvPr/>
        </p:nvSpPr>
        <p:spPr>
          <a:xfrm>
            <a:off x="5580000" y="260280"/>
            <a:ext cx="33130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От других видов шмелей отличается одноцветной окраской спинки и брюшка: спинка покрыта рыжими или жёлтыми волосками, а брюшко жёлтым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Обитает на лугах, лесной опушке и по берегам рек. Гнёзда строит на поверхности почвы из мха и сухих трав. Питается нектаро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Это редкое насекомое Красноярского кра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051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539640" y="1197000"/>
            <a:ext cx="3538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ый гус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8" name=""/>
          <p:cNvSpPr/>
          <p:nvPr/>
        </p:nvSpPr>
        <p:spPr>
          <a:xfrm>
            <a:off x="250920" y="3645000"/>
            <a:ext cx="86421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селяет водоёмы со стоячей водой, окружённые тростниками – болота, озёра. Это сильная и осторожная птица. Корм добывает себе на суше (питается травой, злаковыми, ягодами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речается редко на территории Красноярского края, относится к исчезающему виду по вине человека ( вёлся неконтролируемый отстрел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3508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76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АХАОН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1268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ахаон – крупная бабочка – в размахе крыльев до 90 см. Названа в честь древнегреческого врача – Махаон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стречаются по лесным опушкам, степным склона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0" y="2755800"/>
            <a:ext cx="5759280" cy="41022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6012000" y="2781360"/>
            <a:ext cx="259236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DejaVu Sans"/>
              </a:rPr>
              <a:t>Питаются нектаром цветов, гусеницы – растениями.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DejaVu Sans"/>
              </a:rPr>
              <a:t>В последние годы численность их уменьшилась за счёт  нарушения естественных мест обитани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gradFill rotWithShape="0">
            <a:gsLst>
              <a:gs pos="0">
                <a:srgbClr val="006666">
                  <a:alpha val="58039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893080" cy="48974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Карта Росси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1506600" cy="38876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175200" y="587700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ff"/>
                </a:solidFill>
                <a:latin typeface="Verdana"/>
                <a:ea typeface="DejaVu Sans"/>
              </a:rPr>
              <a:t>Красноярский кра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092240" y="1881360"/>
            <a:ext cx="4216320" cy="13762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Зелёная аптек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Красноярского края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0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2411280" y="189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Малин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37" name=""/>
          <p:cNvSpPr/>
          <p:nvPr/>
        </p:nvSpPr>
        <p:spPr>
          <a:xfrm>
            <a:off x="4427640" y="1266480"/>
            <a:ext cx="446544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ноголетний колючий полу-кустарник 1,5—2 м высоты.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ской практике используют плоды, которые собирают в период созревания, очищают, завяливают на солнце и затем досушивают в печи при температуре 60—80 °С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Препараты: настой и отвар плодов применяют как  жаропонижающее средство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простудных заболеваниях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821040" cy="5400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1908000" y="189000"/>
            <a:ext cx="475308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Черёмух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42" name=""/>
          <p:cNvSpPr/>
          <p:nvPr/>
        </p:nvSpPr>
        <p:spPr>
          <a:xfrm>
            <a:off x="4716360" y="1169640"/>
            <a:ext cx="402444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Дерево или крупный кустарник до 10 м высоты.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е используют плоды черемухи в качестве вяжущего средства. Применяют в виде настоя и отвар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Сушат в сушилках или печах при температуре 40°—50°, на открытом воздухе или чердаках с хорошей вентиляци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92680" cy="539928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1908000" y="189000"/>
            <a:ext cx="525636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Подорожник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1851120"/>
            <a:ext cx="42498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е используют листья подорожника при желудочно-кишечных заболеваниях и в качестве отхаркивающего сред-ства. Применяют в виде настоя и отва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Заготавливают листья практи-чески все лето до начала увядания. Сушат на чердаках, под навесами, на воздухе в тен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28960" cy="5327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5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2050920" y="189000"/>
            <a:ext cx="497052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Одуванчик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52" name=""/>
          <p:cNvSpPr/>
          <p:nvPr/>
        </p:nvSpPr>
        <p:spPr>
          <a:xfrm>
            <a:off x="4500720" y="1339920"/>
            <a:ext cx="424800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-цине используют корни растения в качестве возбуждающего аппетит средства и как желче-гонное. Применяют в виде настоя и отва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Заготавливают корни осенью в стадии увядания листьев, затем промывают и провяливают на воздухе несколько дней, до тех пор, пока из корней перестанет выделяться млечный сок. Сушат, разложив в один слой, под навесами и на чердаках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97560" cy="53467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2843280" y="189000"/>
            <a:ext cx="367344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Рябин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0" y="1873440"/>
            <a:ext cx="42498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едицине используют плоды рябины в качестве поливита-минного средства. Применяют в виде настоя и отвара. Заготавли-вают плоды в период полного созревания до наступления заморозков. Сушат в печах и сушилках при температуре 60°—80°, хорошо проветриваемых помещениях или под навес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924000" cy="5616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1692360" y="2781360"/>
            <a:ext cx="6192720" cy="12938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Ядовитые растения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5592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4360" y="260280"/>
            <a:ext cx="7329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Arial"/>
              </a:rPr>
              <a:t>Белена чёрная </a:t>
            </a:r>
            <a:r>
              <a:rPr b="0" lang="ru-RU" sz="2400" spc="-1" strike="noStrike">
                <a:solidFill>
                  <a:srgbClr val="080462"/>
                </a:solidFill>
                <a:latin typeface="Arial"/>
              </a:rPr>
              <a:t>(сем. Паслёнов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859280" y="1125360"/>
            <a:ext cx="3927600" cy="554544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539640" y="1844640"/>
            <a:ext cx="424836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От белены человек теряет покой. Буйствует, грезит или вдруг приходит в неистовство. Совершает безрассудные поступки. Отравиться можно любой её частью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А от большой дозы можно и умереть. Семена белены похожи на маковые и по виду,  и по вкусу и очень ядовиты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462"/>
                </a:solidFill>
                <a:latin typeface="Verdana"/>
                <a:ea typeface="DejaVu Sans"/>
              </a:rPr>
              <a:t>Но зло, таящееся в белене, врачи умеют обратить во благо: из неё делают болеутоляющие лекарства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176720" cy="30416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572000" y="476280"/>
            <a:ext cx="2560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8" name=""/>
          <p:cNvSpPr/>
          <p:nvPr/>
        </p:nvSpPr>
        <p:spPr>
          <a:xfrm>
            <a:off x="4788000" y="0"/>
            <a:ext cx="43560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Garamond"/>
                <a:ea typeface="DejaVu Sans"/>
              </a:rPr>
              <a:t>Вороний глаз обыкновенный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462"/>
                </a:solidFill>
                <a:latin typeface="Garamond"/>
                <a:ea typeface="DejaVu Sans"/>
              </a:rPr>
              <a:t>(сем. Лилейн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9" name=""/>
          <p:cNvSpPr/>
          <p:nvPr/>
        </p:nvSpPr>
        <p:spPr>
          <a:xfrm>
            <a:off x="900000" y="3213000"/>
            <a:ext cx="259236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00000000000000000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" y="3429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1" name=""/>
          <p:cNvSpPr/>
          <p:nvPr/>
        </p:nvSpPr>
        <p:spPr>
          <a:xfrm>
            <a:off x="395280" y="350028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Вороний глаз очень ядовит. Весь . Особенно много яда в чёрных ягодах. Он словно угощает чёрной ягодой, которую подает на «блюдечке» из четырёх заостренных листочков. Но не вздумай принять сей лесной дар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41128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Arial"/>
              </a:rPr>
              <a:t>Волчье лыко</a:t>
            </a:r>
            <a:br>
              <a:rPr sz="4000"/>
            </a:br>
            <a:r>
              <a:rPr b="0" lang="ru-RU" sz="2400" spc="-1" strike="noStrike">
                <a:solidFill>
                  <a:srgbClr val="080462"/>
                </a:solidFill>
                <a:latin typeface="Arial"/>
              </a:rPr>
              <a:t>(сем. Волчеягодников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56360" y="3429000"/>
            <a:ext cx="2276280" cy="2286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605640" y="0"/>
            <a:ext cx="2538360" cy="31687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39640" y="1484280"/>
            <a:ext cx="3386160" cy="30513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592200" y="4595760"/>
            <a:ext cx="513216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Волчье лыко – ядовитый кустарник. Только коснёшься коры, как кожа воспалится и появятся волдыр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Если сок капнет на кожу, губы или глаза, появится сильнейшее раздражение. А попав в организм, яд вызывает судороги, рвоту. Повышение температур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8" name=""/>
          <p:cNvSpPr/>
          <p:nvPr/>
        </p:nvSpPr>
        <p:spPr>
          <a:xfrm>
            <a:off x="6156360" y="59389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462"/>
                </a:solidFill>
                <a:latin typeface="Verdana"/>
                <a:ea typeface="DejaVu Sans"/>
              </a:rPr>
              <a:t>Восемь ягод – смертельная доза для человек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048360" cy="5616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24000" y="-1251000"/>
            <a:ext cx="837396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Флаг Красноярского кра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472000" cy="3457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68360" y="-2043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Река  Енисей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7885080" cy="4748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468360" y="141300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Животный мир лесов Красноярского края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50920" y="907920"/>
            <a:ext cx="8713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портной, а всю жизнь с иголками ходит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5327640" cy="37353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2484360" y="5516640"/>
            <a:ext cx="6300720" cy="4809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latin typeface="DejaVu Sans"/>
              </a:rPr>
              <a:t>На гору бегом, а сгоры кувырком.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latin typeface="DejaVu Sans"/>
              <a:ea typeface="DejaVu Sans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5157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539640" y="4869000"/>
            <a:ext cx="805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Наткёт, наплетёт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ядет и добычу ждёт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4768920" y="0"/>
            <a:ext cx="4375080" cy="5877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59:12Z</dcterms:created>
  <dc:creator>Jenya</dc:creator>
  <dc:description/>
  <dc:language>en-US</dc:language>
  <cp:lastModifiedBy>Пользователь Windows</cp:lastModifiedBy>
  <dcterms:modified xsi:type="dcterms:W3CDTF">2023-09-29T09:36:56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