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.jpeg" ContentType="image/jpeg"/>
  <Override PartName="/ppt/media/image13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11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8023-46F1-433D-8943-3B77EED8D3C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8AC9-1226-4221-8F22-B26AB12425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Многолетний колючий полукустарник 1,5—2 м высоты  с двулетними, плодоносящими на второй год стеблями. Листья сверху темно-зеленые, снизу беловойлочные, пятерные, черешковые, очередные, с яйцевидными пильчатыми по краю листочками. Соцветие — небольшая пазушная кисть из нескольких белых цветков. Плоды — темно-красные, сочные многосемянки (ягоды) с мелкими желтоватыми семенами. Цветет в июне —- июле. Плоды созревают в июле — августе. Размножается вегетативно {корневыми   отростк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астет в лесной и лесостепной зонах европейской части СССР и Сибири. Встречается в горах Кавказа и Средней Аз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В медицинской практике используют плоды, которые собирают в период созревания, очищают, завяливают на солнце и затем досушивают в печи при температуре 60—80 °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лоды содержат органические кислоты, сахара, вита­мины, дубильные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епараты: настой и отвар плодов применяют как пото­гонное, жаропонижающее средств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остудных заболева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8E56-01F7-44E1-B47C-842DCCD5F7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Дерево или крупный кустарник до 10 м высоты. Листья очередные, эллиптические, на коротких черешках, по краю остропильчатые. Белые ароматные цветки собраны в густые поникающие кисти. Плоды — черные блестящие костянки со сладкой вяжущей мяко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Цветет в апреле — июне, плоды созревают в июле — сентябре. Размножается семен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В медицине используют плоды черемухи в качестве вяжущего средства. Применяют в виде настоя и отвара. Широко распространена в европейской части СССР, в горах Кавказа, в Средней Азии и Западной Сибири. Собирают зрелые ягоды. Сушат в сушилках или печах при температуре 40°—50°, на открытом воздухе или чердаках с хорошей вентиля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1E8C-A641-4EB2-B400-016FB080F4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Многолетнее травянистое растение до 50 см высоты с одной или несколькими цветочными стрелками. Листья широкояйцевидной формы, черешковые, составляют розетку. Мелкие невзрачные цветки собраны в цилиндрические колосья. Плод — коробоч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Цветет с мая до сентября, плоды созревают с июня до осени. Размножается семен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В медицине используют листья подорожника при желудочно-кишечных заболеваниях и в качестве отхаркивающего средства. Применяют в виде настоя и отв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орожник большой широко распространен по всей территории СССР. Заготавливают листья практически все лето до начала увядания. Сушат на чердаках, под навесами, на воздухе в те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7C2A-D520-487A-AFE2-97F5A5E339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Многолетнее травянистое растение до 50 см высоты с относительно толстым, вертикальным, почти неветвистым корнем. Листья перистолопастные собраны в прикорневую розетку. Цветки все язычковые, золотисто-желтые, собраны в одиночные корзинки, расположенные на длинных, полых внутри, цветочных стрелках. Плод —семянка с хохолком. Цветет в мае — июле, плоды созревают примерно через месяц после начала цветения. Размножается семенами. В медицине используют корни растения в качестве возбужда­ющего аппетит средства и как желчегонное.Применяют в виде настоя и отв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аспространен по всей территории СССР, кроме Арктики. Заготавливают корни осенью в стадии увядания листьев, затем промывают и провяливают на воздухе несколько дней, до тех пор, пока из корней перестанет выделяться млечный сок. Сушат, разложив в один слой, под навесами и на черда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DD63-CA9F-43AC-A47C-CEA78EFE2B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Дерево до 15 м высоты с очередными черешковыми листьями. Дольки листа продолговатые, по краю остропильчатые. Белые душистые цветки собраны в рыхлые зонтики. Плоды — яблокообразные, ярко оранжево-крас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Цветет в мае — июне, плоды созревают в сентябре. Размно­жается семен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медицине используют плоды рябины в качестве поливитаминного средства. Применяют в виде настоя и отвара. Распространена по всей европейской части СССР, в горной части Крыма и Кавказа. Заготавливают плоды в период полного созревания до наступления заморозков. Сушат в печах и сушилках при" температуре 60°—80°, хорошо проветриваемых помещениях или под навес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57C6-1065-4C9A-A538-0FAA7BC0E8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FAB1-E691-40B0-9EA1-405E327660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6A6F-77D0-41C7-B427-26936B1309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44F8-6FCD-45B3-9F87-1F8A7A380B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B34E-1863-4962-A959-7B487CA6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C136-4867-4AC5-841F-F67493D7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7253-2FAC-4888-B74A-CDF816E5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63A7D-A637-4B6A-884C-8F5EFE7C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B532C-D8C0-4662-85A5-2DECD785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A653E-A9DD-4D48-8788-AF8B56CC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A8BEB-59D6-4421-AC93-D053F816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67A89-7FD9-4D02-BC00-21585EB5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88371-17D5-4CEB-A04F-DC324E24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AC027-56F5-48FC-B77C-7AC7BF53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CE88C-23DA-43D4-8DD7-9F91E3F7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7B5B-8F9F-4E50-8973-03C7CE7A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7BBDD-FC5E-4AE9-8852-940EFE24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56E83-4CFD-467B-9EA9-EACA23C7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0AB3E-80AC-4878-92D1-AC406726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6528E-BA3E-49C9-BDD6-631DE567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3556B-DC88-4AC4-AA20-6EADD6C8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4D5E1-147C-484C-A4D6-133D2E2E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4E6E0-36D0-4134-81C6-DFF858DF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2A57B-2535-453B-BE52-8A6D60DF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230F0-B85A-402E-BF04-9C989190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880CF-919D-42C9-BE3B-48CC72AF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B3A4-30E9-46D8-B98A-05249D31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46473-C398-4B9A-A855-D5EDFD2C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721A3-DED1-4E76-B4E1-0F60CCDD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6EDC6-4DEB-4D3E-ADE5-03AD2B4E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6C067-0C1E-4240-B491-CA769B3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FF824-51F6-4E6A-ADEA-4A273726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F3D9E-60BA-4F6B-889D-92077E3C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50E31-413B-48A9-B346-C9B06884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44B3C-0D5F-4C52-BEC2-5AB7C8F6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2A23F-8937-4491-858C-4B2DB0C8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D212C-04D8-4B60-ACFC-BF46D64C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6922-55B0-4A31-AF49-FF488C6D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EAAB8-5235-4F08-BE9E-2581EE3C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C3F6C-146A-4CA2-ABEA-FF8EAD76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CE7CF-C428-424F-8DC2-0FCB3E3D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DA66CA-095D-4462-A3CE-39C8A5C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28817C-1EB8-454E-AFF5-1AFF78F4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4CA23-9CF2-4F8F-B7FB-FB2E82A4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74281-0474-45DF-A3B6-05A2EC9F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4F05E-B1A7-4BC7-84A4-BF501DA1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86D939-DC2C-411A-AB6F-A32863A3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A25C3-7B9D-4836-8835-E6AE3BE7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7DCE-F007-43BF-8AC0-ACE5F331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E03C7-89D4-42D4-B0FA-3E17D102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0DD65-ECF9-4D1F-BB07-3BE44DD1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1BD9D-A2E0-4ECF-A013-AD218EDC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E7FB7-1837-45F3-80C1-9FBE0ED6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6240A-0D28-4B6C-B6F5-92284D54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2DBBE-BECA-49BF-B42F-61121EB1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32F47-4046-4981-A78E-4E9E2CAD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9D6DF-8054-4D89-B562-2569ACA8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0AA48-C6D8-44D3-87AA-3CB6318F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BEA34-B8B2-44FC-86F0-B95ECAB0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9BB9-4E14-44D5-ABC2-73B1BA00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D9162-6E76-4A7E-8FA2-56E604BB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3AA34-C96F-4162-8A20-BD3FC679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67A44-3892-4001-8FC0-35FEC88A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097FA-349F-46A3-9A33-D7CD72C5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4AEC76-5CDE-45D6-962B-2832B1E9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7A91D-2613-4CCA-8B21-CE49D717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DE08D-ED96-461F-BFEC-B6C88D3E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DA66C-67A3-466C-B003-23A96F49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749F6-05AD-44C2-A9CB-F8EA4444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4B54E-DCFE-4201-AE69-47F62985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1C35-4DCC-4B71-A8FA-9F1A7F09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33515-587A-43D6-94D6-DDC7AFDA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32278-DCD0-48B6-A04C-41DA2E48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5D9A4-DDED-462A-99BB-0493B4F4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6A19DB-F5BB-45F2-A064-C3A3BF79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1AF0D-A1F8-43DB-864C-0EF91A13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57306-4013-4632-BF56-2A1BF34A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984BD4-F1BF-423B-A916-A99A7E39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9D4B6A-E012-43D6-881D-788BB79F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16037-A40F-47DF-B6E7-1D2F3634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BB57E-ACDE-4AD6-B910-CEE802B7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B318-215E-472B-97A5-7CBA5B7B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7F868-5C73-4098-9B89-5AD8B091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CD2E8-D67C-44ED-990C-5FB300B5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D1BA5-029E-434C-8CF6-361D9291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F5065-8732-48DF-8DBC-7C7EBEFA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B7F6F-1A85-4415-9EE4-82002514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9033B-B1F8-4893-88F5-B2D35D6A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DE15E8-686D-45E7-B70C-A7ACF525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D98095-923E-488F-8C87-A41F8F2E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41D4BF-4C6E-479D-A3A0-48DE011B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15F8F4-CF42-4BEB-977D-1E8CDB06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41F5-B2CD-4292-B8A1-4AB67621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0F9AF-A727-4039-9B13-C42737E0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666394-4D9C-437F-9A5F-D8D0EB7D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1E5677-C201-4A2B-B6CF-C4BA1A86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6AD4BC-D510-4596-BD36-25A40BC6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DAC8DC-E04B-4834-A96A-5D49FF72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AB14C1-AF7E-45B1-92B6-074851B5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1CBC61-F6AF-4210-90E3-5FC68A8D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89360" y="-191880"/>
            <a:ext cx="2925000" cy="7046280"/>
            <a:chOff x="-189360" y="-191880"/>
            <a:chExt cx="2925000" cy="7046280"/>
          </a:xfrm>
        </p:grpSpPr>
        <p:sp>
          <p:nvSpPr>
            <p:cNvPr id="1" name=""/>
            <p:cNvSpPr/>
            <p:nvPr/>
          </p:nvSpPr>
          <p:spPr>
            <a:xfrm>
              <a:off x="-87480" y="5155560"/>
              <a:ext cx="76896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46440" y="3836520"/>
              <a:ext cx="1024560" cy="803520"/>
              <a:chOff x="-46440" y="3836520"/>
              <a:chExt cx="1024560" cy="80352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13680" y="3856320"/>
                <a:ext cx="251640" cy="30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203400" y="4267800"/>
                <a:ext cx="43092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611640" y="4096440"/>
                <a:ext cx="45252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7680" y="2699640"/>
              <a:ext cx="115776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89360" y="2438280"/>
              <a:ext cx="2925000" cy="3267720"/>
              <a:chOff x="-189360" y="2438280"/>
              <a:chExt cx="2925000" cy="326772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219600" y="2541960"/>
                <a:ext cx="1042200" cy="104904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-80280" y="2692440"/>
                <a:ext cx="872280" cy="1067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189000" y="2913120"/>
                <a:ext cx="307440" cy="537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752040" y="368604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671760" y="375048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662760" y="3669480"/>
                <a:ext cx="2072880" cy="2036520"/>
                <a:chOff x="662760" y="3669480"/>
                <a:chExt cx="2072880" cy="20365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1104120" y="3577680"/>
                  <a:ext cx="588960" cy="1356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2319840" y="4815360"/>
                  <a:ext cx="134640" cy="5558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2513160" y="5530320"/>
                  <a:ext cx="245160" cy="9216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357480" y="6133680"/>
              <a:ext cx="878400" cy="695160"/>
              <a:chOff x="357480" y="6133680"/>
              <a:chExt cx="878400" cy="69516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966240" y="6131520"/>
                <a:ext cx="214920" cy="280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687240" y="6505200"/>
                <a:ext cx="369000" cy="232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267480" y="63914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223560" y="1688400"/>
              <a:ext cx="839880" cy="734400"/>
              <a:chOff x="223560" y="1688400"/>
              <a:chExt cx="839880" cy="73440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784440" y="1656720"/>
                <a:ext cx="217080" cy="317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628200" y="2088720"/>
                <a:ext cx="374400" cy="263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117360" y="2144520"/>
                <a:ext cx="391320" cy="132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51720" y="-93600"/>
              <a:ext cx="559440" cy="586800"/>
              <a:chOff x="1251720" y="-93600"/>
              <a:chExt cx="559440" cy="586800"/>
            </a:xfrm>
          </p:grpSpPr>
          <p:sp>
            <p:nvSpPr>
              <p:cNvPr id="26" name=""/>
              <p:cNvSpPr/>
              <p:nvPr/>
            </p:nvSpPr>
            <p:spPr>
              <a:xfrm>
                <a:off x="1251720" y="-93600"/>
                <a:ext cx="17604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09480" y="10800"/>
                <a:ext cx="3016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560" y="401400"/>
                <a:ext cx="31680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62640" y="57600"/>
              <a:ext cx="113976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317160" y="5381640"/>
              <a:ext cx="21348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3546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-60840" y="6519960"/>
              <a:ext cx="19044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79200" y="5118480"/>
              <a:ext cx="81000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-46080" y="564120"/>
              <a:ext cx="56016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315360" y="1122840"/>
              <a:ext cx="271080" cy="1828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857520" y="366480"/>
              <a:ext cx="23832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30744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87732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79200" y="1332000"/>
              <a:ext cx="58608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11520" y="39600"/>
              <a:ext cx="131148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12A7-26DF-4832-BEF4-CE5EEE391CC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85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89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114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1401-9648-41B8-B769-3AB06F0336A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48040" y="1308240"/>
            <a:ext cx="8380800" cy="5370840"/>
            <a:chOff x="248040" y="1308240"/>
            <a:chExt cx="8380800" cy="5370840"/>
          </a:xfrm>
        </p:grpSpPr>
        <p:sp>
          <p:nvSpPr>
            <p:cNvPr id="163" name=""/>
            <p:cNvSpPr/>
            <p:nvPr/>
          </p:nvSpPr>
          <p:spPr>
            <a:xfrm flipV="1" rot="20820000">
              <a:off x="320400" y="1621800"/>
              <a:ext cx="2480400" cy="684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760000">
              <a:off x="308160" y="1765080"/>
              <a:ext cx="2891520" cy="720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760000">
              <a:off x="301680" y="1872360"/>
              <a:ext cx="3195000" cy="684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700000">
              <a:off x="280440" y="2000880"/>
              <a:ext cx="3522240" cy="75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640000">
              <a:off x="267840" y="2173680"/>
              <a:ext cx="3940560" cy="720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580000">
              <a:off x="248040" y="2364480"/>
              <a:ext cx="4350600" cy="720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460000">
              <a:off x="209520" y="2622240"/>
              <a:ext cx="4841280" cy="720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340000">
              <a:off x="201240" y="2879280"/>
              <a:ext cx="5333760" cy="6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20220000">
              <a:off x="106920" y="3165120"/>
              <a:ext cx="59886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20100000">
              <a:off x="35640" y="3523320"/>
              <a:ext cx="6562080" cy="61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920000">
              <a:off x="-102960" y="4020480"/>
              <a:ext cx="7398720" cy="6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9680000">
              <a:off x="353160" y="4419360"/>
              <a:ext cx="768456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9380000">
              <a:off x="2218680" y="4490280"/>
              <a:ext cx="6562080" cy="61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19020000">
              <a:off x="4157280" y="4705200"/>
              <a:ext cx="508752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18600000">
              <a:off x="6013440" y="5361840"/>
              <a:ext cx="3145320" cy="6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 rot="18360000">
              <a:off x="7956720" y="6367680"/>
              <a:ext cx="757080" cy="5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">
              <a:off x="132840" y="3631320"/>
              <a:ext cx="860292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560000">
              <a:off x="60120" y="5199480"/>
              <a:ext cx="58932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740000">
              <a:off x="106920" y="5544000"/>
              <a:ext cx="39888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980000">
              <a:off x="185400" y="5995800"/>
              <a:ext cx="199116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380000">
              <a:off x="34200" y="4936320"/>
              <a:ext cx="779328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960000">
              <a:off x="176760" y="3281400"/>
              <a:ext cx="856008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960000">
              <a:off x="454680" y="3006000"/>
              <a:ext cx="81900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840000">
              <a:off x="872640" y="2786760"/>
              <a:ext cx="77904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780000">
              <a:off x="1548360" y="2453400"/>
              <a:ext cx="707976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20000">
              <a:off x="1840680" y="2292840"/>
              <a:ext cx="677088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">
              <a:off x="2112480" y="2143440"/>
              <a:ext cx="648396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660000">
              <a:off x="2456280" y="2036160"/>
              <a:ext cx="6138000" cy="5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660000">
              <a:off x="2688840" y="1905840"/>
              <a:ext cx="5910480" cy="7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840000">
              <a:off x="1209960" y="2608560"/>
              <a:ext cx="7404480" cy="7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1260000">
              <a:off x="51840" y="4564800"/>
              <a:ext cx="875052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 rot="1200000">
              <a:off x="92520" y="4091040"/>
              <a:ext cx="86850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3560" y="5145120"/>
              <a:ext cx="237600" cy="1436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6440" y="4713480"/>
              <a:ext cx="237240" cy="142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6640" y="5588640"/>
              <a:ext cx="277200" cy="15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96520" y="4088520"/>
              <a:ext cx="220680" cy="125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81160" y="4716720"/>
              <a:ext cx="237600" cy="142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39960" y="4385520"/>
              <a:ext cx="220320" cy="134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07960" y="4357800"/>
              <a:ext cx="213480" cy="132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2920" y="4080960"/>
              <a:ext cx="211680" cy="125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08440" y="4059720"/>
              <a:ext cx="220680" cy="124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57680" y="3822120"/>
              <a:ext cx="220320" cy="124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58920" y="356328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48520" y="3321360"/>
              <a:ext cx="18900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2600" y="3549600"/>
              <a:ext cx="197640" cy="1076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2320" y="2933640"/>
              <a:ext cx="18216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36160" y="277308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61480" y="293076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00880" y="2751840"/>
              <a:ext cx="180720" cy="92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4360" y="312408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48320" y="3330360"/>
              <a:ext cx="18756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73640" y="3773520"/>
              <a:ext cx="211680" cy="1346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91960" y="3130560"/>
              <a:ext cx="19620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93720" y="3352680"/>
              <a:ext cx="19620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35440" y="3558960"/>
              <a:ext cx="189000" cy="107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2880" y="3159360"/>
              <a:ext cx="18900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65960" y="279000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75360" y="295452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08080" y="278676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13160" y="294444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1600" y="276552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09440" y="3136680"/>
              <a:ext cx="189000" cy="108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7400" y="333900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76360" y="296100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87840" y="278064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1120" y="293832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55440" y="3576960"/>
              <a:ext cx="19620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99040" y="3357360"/>
              <a:ext cx="18900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63400" y="3802680"/>
              <a:ext cx="220680" cy="132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1080" y="3110760"/>
              <a:ext cx="197640" cy="107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14160" y="2634120"/>
              <a:ext cx="17352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26720" y="248112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11560" y="234036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96120" y="2475000"/>
              <a:ext cx="17352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67720" y="2618640"/>
              <a:ext cx="17460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02560" y="234936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10560" y="262800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78120" y="248400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60520" y="2612880"/>
              <a:ext cx="17352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87520" y="234936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45080" y="247788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4920" y="234324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760" y="263088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49240" y="2475000"/>
              <a:ext cx="17460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22480" y="2347920"/>
              <a:ext cx="17460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94280" y="2615760"/>
              <a:ext cx="17460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54920" y="248112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36440" y="234036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90360" y="2350800"/>
              <a:ext cx="17460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92120" y="2635560"/>
              <a:ext cx="1807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55640" y="2494800"/>
              <a:ext cx="1807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5040" y="5590080"/>
              <a:ext cx="277200" cy="1663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46760" y="6136560"/>
              <a:ext cx="270360" cy="16776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12880" y="4737960"/>
              <a:ext cx="237600" cy="1422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4400280"/>
              <a:ext cx="220320" cy="132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77680" y="4098960"/>
              <a:ext cx="220680" cy="1252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62960" y="3774960"/>
              <a:ext cx="211680" cy="1346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03760" y="5146560"/>
              <a:ext cx="237240" cy="141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8800" y="354492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04800" y="3108960"/>
              <a:ext cx="189000" cy="1072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81880" y="3327120"/>
              <a:ext cx="189000" cy="907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83800" y="293364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14200" y="2780640"/>
              <a:ext cx="182160" cy="907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51800" y="2634120"/>
              <a:ext cx="174600" cy="752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73920" y="248724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75880" y="2349360"/>
              <a:ext cx="180720" cy="752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56600" y="2226600"/>
              <a:ext cx="156240" cy="738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98160" y="2225160"/>
              <a:ext cx="1580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6960" y="2225160"/>
              <a:ext cx="1580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0200" y="2128320"/>
              <a:ext cx="15624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26160" y="2016360"/>
              <a:ext cx="1580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8240" y="1831680"/>
              <a:ext cx="1580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17440" y="2131560"/>
              <a:ext cx="15768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5480" y="1907280"/>
              <a:ext cx="15768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22080" y="2004120"/>
              <a:ext cx="15804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11440" y="2243520"/>
              <a:ext cx="1562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18800" y="2215800"/>
              <a:ext cx="158040" cy="74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09960" y="2004120"/>
              <a:ext cx="15624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4720" y="2116080"/>
              <a:ext cx="15624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2680" y="1807560"/>
              <a:ext cx="15768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98600" y="212688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12480" y="2240280"/>
              <a:ext cx="1476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22080" y="211320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73280" y="211320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99560" y="1919520"/>
              <a:ext cx="1494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1880" y="1739160"/>
              <a:ext cx="1494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09280" y="164232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04280" y="163476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88920" y="1993680"/>
              <a:ext cx="1494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17400" y="210420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04840" y="222228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44160" y="166500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32240" y="164988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34640" y="1669680"/>
              <a:ext cx="14796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19720" y="200412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89120" y="1821240"/>
              <a:ext cx="15768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58360" y="192096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57480" y="1743840"/>
              <a:ext cx="15804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50480" y="1651680"/>
              <a:ext cx="15768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81480" y="2249280"/>
              <a:ext cx="15624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20560" y="201924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99880" y="181512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02800" y="1727280"/>
              <a:ext cx="15804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28120" y="181944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08880" y="211320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14920" y="191196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4120" y="172260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93440" y="2011680"/>
              <a:ext cx="15768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03280" y="2093400"/>
              <a:ext cx="15768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6400" y="181044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81960" y="191052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10400" y="1743840"/>
              <a:ext cx="15804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80280" y="182556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88680" y="175752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86160" y="190116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08600" y="1831680"/>
              <a:ext cx="15768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25200" y="1925640"/>
              <a:ext cx="15624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58320" y="1725840"/>
              <a:ext cx="15768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120" y="2046600"/>
              <a:ext cx="15624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575720"/>
              <a:ext cx="142200" cy="55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48920" y="1594080"/>
              <a:ext cx="142200" cy="57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5560" y="1586520"/>
              <a:ext cx="141840" cy="55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1960" y="1575720"/>
              <a:ext cx="140760" cy="57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42480" y="1485360"/>
              <a:ext cx="142200" cy="57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42440" y="1566720"/>
              <a:ext cx="142200" cy="57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12960" y="2210040"/>
              <a:ext cx="14940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79800" y="2355480"/>
              <a:ext cx="17352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91080" y="2008800"/>
              <a:ext cx="15768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35520" y="1895400"/>
              <a:ext cx="15624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77520" y="1434960"/>
              <a:ext cx="1108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39480" y="1434960"/>
              <a:ext cx="1108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33960" y="1375920"/>
              <a:ext cx="1108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88840" y="1308240"/>
              <a:ext cx="116640" cy="496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70080" y="1375920"/>
              <a:ext cx="1180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88560" y="1457640"/>
              <a:ext cx="1162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63240" y="1509120"/>
              <a:ext cx="13356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33680" y="1516680"/>
              <a:ext cx="12492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72000" y="1503000"/>
              <a:ext cx="1422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62600" y="6156360"/>
              <a:ext cx="276120" cy="1573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41560" y="5617440"/>
              <a:ext cx="277200" cy="1681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48920" y="4784760"/>
              <a:ext cx="237240" cy="141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92800" y="4420080"/>
              <a:ext cx="221400" cy="132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56440" y="5172480"/>
              <a:ext cx="237240" cy="141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6760" y="4082760"/>
              <a:ext cx="213480" cy="1252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61400" y="3807000"/>
              <a:ext cx="220320" cy="132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98720" y="3563280"/>
              <a:ext cx="189000" cy="1072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46640" y="312120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91760" y="3333240"/>
              <a:ext cx="196200" cy="9036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61200" y="296712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68920" y="279576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85640" y="263664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50520" y="2503800"/>
              <a:ext cx="174960" cy="756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22960" y="2363040"/>
              <a:ext cx="173520" cy="756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73040" y="6222960"/>
              <a:ext cx="277200" cy="15876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36440" y="5650560"/>
              <a:ext cx="277200" cy="1663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33400" y="5668920"/>
              <a:ext cx="284400" cy="15876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32000" y="6189480"/>
              <a:ext cx="277200" cy="1573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17400" y="5200920"/>
              <a:ext cx="237600" cy="14364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7640" y="4815000"/>
              <a:ext cx="236160" cy="14184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18960" y="5234400"/>
              <a:ext cx="236160" cy="14220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20200" y="4409280"/>
              <a:ext cx="220680" cy="12420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73560" y="4777200"/>
              <a:ext cx="237240" cy="14184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63720" y="4418640"/>
              <a:ext cx="220680" cy="13284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31960" y="4106520"/>
              <a:ext cx="220680" cy="12420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08080" y="3826440"/>
              <a:ext cx="220320" cy="12528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88480" y="3166920"/>
              <a:ext cx="189000" cy="1087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85640" y="3563280"/>
              <a:ext cx="197640" cy="10908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08840" y="3354480"/>
              <a:ext cx="189000" cy="9036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83240" y="298656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36960" y="280188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99880" y="4117320"/>
              <a:ext cx="220680" cy="12420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8040" y="4397400"/>
              <a:ext cx="211680" cy="132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3440" y="3809880"/>
              <a:ext cx="220320" cy="132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7600" y="2234160"/>
              <a:ext cx="1494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44440" y="6130440"/>
              <a:ext cx="284400" cy="15876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ftr" idx="7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02CE-C44E-4FED-917E-4F74B840C54D}" type="slidenum">
              <a:rPr b="0" lang="ru-RU" sz="12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9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ftr" idx="1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30D2-5A1D-4708-9138-3A28459C4C6B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2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461" name="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ftr" idx="13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ldNum" idx="14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9C39-F137-4425-84E3-27B5F873E0EA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5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51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600880" y="5897520"/>
              <a:ext cx="1253520" cy="825480"/>
              <a:chOff x="5600880" y="5897520"/>
              <a:chExt cx="1253520" cy="825480"/>
            </a:xfrm>
          </p:grpSpPr>
          <p:sp>
            <p:nvSpPr>
              <p:cNvPr id="514" name=""/>
              <p:cNvSpPr/>
              <p:nvPr/>
            </p:nvSpPr>
            <p:spPr>
              <a:xfrm>
                <a:off x="5852520" y="6048360"/>
                <a:ext cx="841320" cy="51768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15880" y="6095880"/>
                <a:ext cx="714960" cy="435240"/>
              </a:xfrm>
              <a:prstGeom prst="rect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04800" y="6146640"/>
                <a:ext cx="543600" cy="327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68160" y="6184800"/>
                <a:ext cx="412200" cy="250920"/>
              </a:xfrm>
              <a:prstGeom prst="rect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121800" y="6226200"/>
                <a:ext cx="302760" cy="16812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676480" y="5897520"/>
                <a:ext cx="60552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66560" y="6620040"/>
                <a:ext cx="70236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600880" y="6200640"/>
                <a:ext cx="13932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pic>
            <p:nvPicPr>
              <p:cNvPr id="5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7120" y="5945040"/>
                <a:ext cx="1187280" cy="7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3" name=""/>
              <p:cNvSpPr/>
              <p:nvPr/>
            </p:nvSpPr>
            <p:spPr>
              <a:xfrm>
                <a:off x="6408720" y="5907240"/>
                <a:ext cx="1490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7480" y="6267600"/>
                <a:ext cx="129960" cy="8244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52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rect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54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rect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rect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6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57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</p:grpSp>
      <p:sp>
        <p:nvSpPr>
          <p:cNvPr id="575" name="PlaceHolder 1"/>
          <p:cNvSpPr>
            <a:spLocks noGrp="1"/>
          </p:cNvSpPr>
          <p:nvPr>
            <p:ph type="ftr" idx="16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1E57-E9E2-410D-A509-E1AAE27AE969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52280" y="374760"/>
            <a:ext cx="1524240" cy="1225440"/>
            <a:chOff x="152280" y="374760"/>
            <a:chExt cx="1524240" cy="1225440"/>
          </a:xfrm>
        </p:grpSpPr>
        <p:sp>
          <p:nvSpPr>
            <p:cNvPr id="618" name=""/>
            <p:cNvSpPr/>
            <p:nvPr/>
          </p:nvSpPr>
          <p:spPr>
            <a:xfrm>
              <a:off x="1171440" y="785880"/>
              <a:ext cx="50508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2280" y="785880"/>
              <a:ext cx="50508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239760" y="374760"/>
              <a:ext cx="1304640" cy="1225440"/>
              <a:chOff x="239760" y="374760"/>
              <a:chExt cx="1304640" cy="1225440"/>
            </a:xfrm>
          </p:grpSpPr>
          <p:pic>
            <p:nvPicPr>
              <p:cNvPr id="621" name="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39760" y="374760"/>
                <a:ext cx="1301760" cy="12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>
                <a:off x="240840" y="374760"/>
                <a:ext cx="651960" cy="1225440"/>
              </a:xfrm>
              <a:custGeom>
                <a:avLst/>
                <a:gdLst/>
                <a:ahLst/>
                <a:rect l="l" t="t" r="r" b="b"/>
                <a:pathLst>
                  <a:path w="411" h="772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0840" y="374760"/>
                <a:ext cx="1303560" cy="120600"/>
              </a:xfrm>
              <a:custGeom>
                <a:avLst/>
                <a:gdLst/>
                <a:ahLst/>
                <a:rect l="l" t="t" r="r" b="b"/>
                <a:pathLst>
                  <a:path w="822" h="76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92800" y="374760"/>
                <a:ext cx="651600" cy="1225440"/>
              </a:xfrm>
              <a:custGeom>
                <a:avLst/>
                <a:gdLst/>
                <a:ahLst/>
                <a:rect l="l" t="t" r="r" b="b"/>
                <a:pathLst>
                  <a:path w="411" h="772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152280" y="1117440"/>
              <a:ext cx="1521000" cy="171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ftr" idx="19"/>
          </p:nvPr>
        </p:nvSpPr>
        <p:spPr>
          <a:xfrm>
            <a:off x="3123720" y="639900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ldNum" idx="20"/>
          </p:nvPr>
        </p:nvSpPr>
        <p:spPr>
          <a:xfrm>
            <a:off x="65530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2954-EC90-498C-9E7B-5EDA39EEDF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1"/>
          </p:nvPr>
        </p:nvSpPr>
        <p:spPr>
          <a:xfrm>
            <a:off x="68544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668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5600880" y="5897520"/>
              <a:ext cx="1253520" cy="825480"/>
              <a:chOff x="5600880" y="5897520"/>
              <a:chExt cx="1253520" cy="8254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52520" y="6048360"/>
                <a:ext cx="841320" cy="51768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915880" y="6095880"/>
                <a:ext cx="714960" cy="435240"/>
              </a:xfrm>
              <a:prstGeom prst="rect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004800" y="6146640"/>
                <a:ext cx="543600" cy="327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8160" y="6184800"/>
                <a:ext cx="412200" cy="250920"/>
              </a:xfrm>
              <a:prstGeom prst="rect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21800" y="6226200"/>
                <a:ext cx="302760" cy="16812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76480" y="5897520"/>
                <a:ext cx="60552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66560" y="6620040"/>
                <a:ext cx="70236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00880" y="6200640"/>
                <a:ext cx="13932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pic>
            <p:nvPicPr>
              <p:cNvPr id="6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7120" y="5945040"/>
                <a:ext cx="1187280" cy="7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"/>
              <p:cNvSpPr/>
              <p:nvPr/>
            </p:nvSpPr>
            <p:spPr>
              <a:xfrm>
                <a:off x="6408720" y="5907240"/>
                <a:ext cx="1490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07480" y="6267600"/>
                <a:ext cx="129960" cy="8244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682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rect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701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rect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rect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719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726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</p:grpSp>
      <p:sp>
        <p:nvSpPr>
          <p:cNvPr id="731" name="PlaceHolder 1"/>
          <p:cNvSpPr>
            <a:spLocks noGrp="1"/>
          </p:cNvSpPr>
          <p:nvPr>
            <p:ph type="ftr" idx="2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A089-0587-4399-8605-DD4E9209711A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2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914400" y="3141720"/>
            <a:ext cx="82296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4000" spc="-1" strike="noStrike">
                <a:solidFill>
                  <a:srgbClr val="f2dffd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Verdana"/>
              </a:rPr>
              <a:t>«</a:t>
            </a:r>
            <a:r>
              <a:rPr b="1" i="1" lang="ru-RU" sz="4800" spc="-1" strike="noStrike">
                <a:solidFill>
                  <a:srgbClr val="0000cc"/>
                </a:solidFill>
                <a:latin typeface="Verdana"/>
              </a:rPr>
              <a:t>Красноярский край»</a:t>
            </a:r>
            <a:r>
              <a:rPr b="1" lang="ru-RU" sz="4000" spc="-1" strike="noStrike">
                <a:solidFill>
                  <a:srgbClr val="0000cc"/>
                </a:solidFill>
                <a:latin typeface="Verdan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174840" cy="23749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747880" cy="284472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852480" y="4508640"/>
            <a:ext cx="41767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оплева Светлана Васильевн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тель МДОБУ «Детский сад №1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442800" y="189000"/>
            <a:ext cx="55692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Днём спит,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Ночью летает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И прохожих пугает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4867200" y="1143000"/>
            <a:ext cx="4276800" cy="5715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4932360" y="189000"/>
            <a:ext cx="3979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линный хвостище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ыжий волосище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ама хитрище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279252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66"/>
                </a:solidFill>
                <a:latin typeface="Arial"/>
              </a:rPr>
              <a:t>Это нужно нам?</a:t>
            </a:r>
            <a:br>
              <a:rPr sz="4000"/>
            </a:br>
            <a:r>
              <a:rPr b="0" lang="ru-RU" sz="4000" spc="-1" strike="noStrike">
                <a:solidFill>
                  <a:srgbClr val="66ff66"/>
                </a:solidFill>
                <a:latin typeface="Arial"/>
              </a:rPr>
              <a:t>          Нашим детям?</a:t>
            </a:r>
            <a:br>
              <a:rPr sz="4000"/>
            </a:br>
            <a:r>
              <a:rPr b="0" lang="ru-RU" sz="4000" spc="-1" strike="noStrike">
                <a:solidFill>
                  <a:srgbClr val="66ff66"/>
                </a:solidFill>
                <a:latin typeface="Arial"/>
              </a:rPr>
              <a:t>                  Нашим внукам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4590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2938320" cy="34290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3276720" cy="216360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4"/>
          <a:stretch/>
        </p:blipFill>
        <p:spPr>
          <a:xfrm>
            <a:off x="5435640" y="3808440"/>
            <a:ext cx="3708360" cy="30495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5"/>
          <a:stretch/>
        </p:blipFill>
        <p:spPr>
          <a:xfrm>
            <a:off x="5364000" y="2133720"/>
            <a:ext cx="3587760" cy="13906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6"/>
          <a:stretch/>
        </p:blipFill>
        <p:spPr>
          <a:xfrm>
            <a:off x="2556000" y="1773360"/>
            <a:ext cx="3438360" cy="4103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900000" y="981000"/>
            <a:ext cx="7344000" cy="453564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solidFill>
                  <a:srgbClr val="0066cc"/>
                </a:solidFill>
                <a:latin typeface="DejaVu Sans"/>
              </a:rPr>
              <a:t>Животные, занесённые</a:t>
            </a:r>
            <a:endParaRPr b="0" lang="en-US" sz="4400" spc="-1" strike="noStrike">
              <a:ln w="0">
                <a:noFill/>
              </a:ln>
              <a:solidFill>
                <a:srgbClr val="0066cc"/>
              </a:solidFill>
              <a:latin typeface="DejaVu Sans"/>
              <a:ea typeface="DejaVu Sans"/>
            </a:endParaRPr>
          </a:p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solidFill>
                  <a:srgbClr val="0066cc"/>
                </a:solidFill>
                <a:latin typeface="DejaVu Sans"/>
              </a:rPr>
              <a:t>в Красную книгу</a:t>
            </a:r>
            <a:endParaRPr b="0" lang="en-US" sz="4400" spc="-1" strike="noStrike">
              <a:ln w="0">
                <a:noFill/>
              </a:ln>
              <a:solidFill>
                <a:srgbClr val="0066cc"/>
              </a:solidFill>
              <a:latin typeface="DejaVu Sans"/>
              <a:ea typeface="DejaVu Sans"/>
            </a:endParaRPr>
          </a:p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solidFill>
                  <a:srgbClr val="0066cc"/>
                </a:solidFill>
                <a:latin typeface="DejaVu Sans"/>
              </a:rPr>
              <a:t>Красноярского края</a:t>
            </a:r>
            <a:endParaRPr b="0" lang="en-US" sz="4400" spc="-1" strike="noStrike">
              <a:ln w="0">
                <a:noFill/>
              </a:ln>
              <a:solidFill>
                <a:srgbClr val="0066cc"/>
              </a:solidFill>
              <a:latin typeface="DejaVu Sans"/>
              <a:ea typeface="DejaVu Sans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3708360" y="549360"/>
            <a:ext cx="52912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Красный волк – хищное млекопитающее семейства псовых. Очень редкий вид, находящийся под угрозой исчезнове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Это довольно крупный зверь. В его облике сочетаются черты </a:t>
            </a:r>
            <a:r>
              <a:rPr b="0" i="1" lang="ru-RU" sz="2400" spc="-1" strike="noStrike" u="sng">
                <a:solidFill>
                  <a:srgbClr val="b7e7ff"/>
                </a:solidFill>
                <a:uFillTx/>
                <a:latin typeface="Ariac"/>
              </a:rPr>
              <a:t>волка, лисицы </a:t>
            </a: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и</a:t>
            </a:r>
            <a:r>
              <a:rPr b="0" i="1" lang="ru-RU" sz="2400" spc="-1" strike="noStrike" u="sng">
                <a:solidFill>
                  <a:srgbClr val="b7e7ff"/>
                </a:solidFill>
                <a:uFillTx/>
                <a:latin typeface="Ariac"/>
              </a:rPr>
              <a:t> шакала.</a:t>
            </a: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 От обычного волка красный волк отличается окраской, пушистой шерстью и более длинным хвостом. Уши большие, стоячие, с закруглёнными вершинами, высоко посажены на голове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Обитает на всей территории Красноярского кра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3800520" cy="48690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0" y="189000"/>
            <a:ext cx="47656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38"/>
              </a:spcBef>
              <a:spcAft>
                <a:spcPts val="1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бр обыкновенный – крупных размеров грызун. Хвост веслообразный, тело приземистое, с короткими лапами (задние значительно сильнее передних). Между пальцами расположены плавательные перепонки. Когти сильные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5000"/>
              </a:lnSpc>
              <a:spcBef>
                <a:spcPts val="638"/>
              </a:spcBef>
              <a:spcAft>
                <a:spcPts val="1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очитают селиться на небольших, медленно текущих лесных речках или лесных озёрах. Хорошо плавают, ныряют. Под водой могут оставаться до 4-5 минут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5000"/>
              </a:lnSpc>
              <a:spcBef>
                <a:spcPts val="638"/>
              </a:spcBef>
              <a:spcAft>
                <a:spcPts val="1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исчезнувшее животное, ранее обитающее на территории края Был истреблён за ценный мех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5000"/>
              </a:lnSpc>
              <a:spcBef>
                <a:spcPts val="638"/>
              </a:spcBef>
              <a:spcAft>
                <a:spcPts val="1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итал в верховьях Енисея и Подкаменной Тунгуск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4643280" y="3884760"/>
            <a:ext cx="4500720" cy="297324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973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476280"/>
            <a:ext cx="3348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cc"/>
                </a:solidFill>
                <a:latin typeface="Arial"/>
              </a:rPr>
              <a:t>Большая</a:t>
            </a:r>
            <a:br>
              <a:rPr sz="4000"/>
            </a:br>
            <a:r>
              <a:rPr b="0" lang="ru-RU" sz="4000" spc="-1" strike="noStrike">
                <a:solidFill>
                  <a:srgbClr val="ccffcc"/>
                </a:solidFill>
                <a:latin typeface="Arial"/>
              </a:rPr>
              <a:t>выпь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0" name=""/>
          <p:cNvSpPr/>
          <p:nvPr/>
        </p:nvSpPr>
        <p:spPr>
          <a:xfrm>
            <a:off x="250920" y="2276640"/>
            <a:ext cx="872316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Внешностью похожа на цаплю, но более коренастая. Очень тщательно скрывается в зарослях травы и тростника. Своё присутствие выдаёт звучными, похожими на глухое мычание криками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Широко распространена в средней и южной России, на юге Сибири, но редко попадается на глаза. Встречается на болотах и по окраинам озёр в зарослях рогоза, осок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Питается рыбой, земноводными и насекомыми. Кроме того мелкими птицами и млекопитающим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2441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39528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_SeriferExpTitul"/>
              </a:rPr>
              <a:t>Моховой шмел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0" y="2859120"/>
            <a:ext cx="4305240" cy="39988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6877080" y="3933720"/>
            <a:ext cx="22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5" name=""/>
          <p:cNvSpPr/>
          <p:nvPr/>
        </p:nvSpPr>
        <p:spPr>
          <a:xfrm>
            <a:off x="5364000" y="1197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6" name=""/>
          <p:cNvSpPr/>
          <p:nvPr/>
        </p:nvSpPr>
        <p:spPr>
          <a:xfrm>
            <a:off x="5580000" y="260280"/>
            <a:ext cx="331308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ahoma"/>
                <a:ea typeface="DejaVu Sans"/>
              </a:rPr>
              <a:t>От других видов шмелей отличается одноцветной окраской спинки и брюшка: спинка покрыта рыжими или жёлтыми волосками, а брюшко жёлтым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5000"/>
              </a:lnSpc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ahoma"/>
                <a:ea typeface="DejaVu Sans"/>
              </a:rPr>
              <a:t>Обитает на лугах, лесной опушке и по берегам рек. Гнёзда строит на поверхности почвы из мха и сухих трав. Питается нектаром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5000"/>
              </a:lnSpc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ahoma"/>
                <a:ea typeface="DejaVu Sans"/>
              </a:rPr>
              <a:t>Это редкое насекомое Красноярского кра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051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539640" y="1197000"/>
            <a:ext cx="3538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рый гус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8" name=""/>
          <p:cNvSpPr/>
          <p:nvPr/>
        </p:nvSpPr>
        <p:spPr>
          <a:xfrm>
            <a:off x="250920" y="3645000"/>
            <a:ext cx="864216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селяет водоёмы со стоячей водой, окружённые тростниками – болота, озёра. Это сильная и осторожная птица. Корм добывает себе на суше (питается травой, злаковыми, ягодами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тречается редко на территории Красноярского края, относится к исчезающему виду по вине человека ( вёлся неконтролируемый отстрел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35082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76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457200" y="277920"/>
            <a:ext cx="3827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АХАОН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" y="1268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ахаон – крупная бабочка – в размахе крыльев до 90 см. Названа в честь древнегреческого врача – Махаон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стречаются по лесным опушкам, степным склонам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0" y="2755800"/>
            <a:ext cx="5759280" cy="41022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6012000" y="2781360"/>
            <a:ext cx="259236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  <a:ea typeface="DejaVu Sans"/>
              </a:rPr>
              <a:t>Питаются нектаром цветов, гусеницы – растениями.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  <a:ea typeface="DejaVu Sans"/>
              </a:rPr>
              <a:t>В последние годы численность их уменьшилась за счёт  нарушения естественных мест обитания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gradFill rotWithShape="0">
            <a:gsLst>
              <a:gs pos="0">
                <a:srgbClr val="006666">
                  <a:alpha val="58039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893080" cy="48974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Карта России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1506600" cy="388764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3175200" y="587700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ff"/>
                </a:solidFill>
                <a:latin typeface="Verdana"/>
                <a:ea typeface="DejaVu Sans"/>
              </a:rPr>
              <a:t>Красноярский край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1092240" y="1881360"/>
            <a:ext cx="4216320" cy="137628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Зелёная аптека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Красноярского края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6084720" y="328464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dur="indefinite" nodeType="clickEffect" fill="hold">
                      <p:stCondLst>
                        <p:cond delay="0"/>
                      </p:stCondLst>
                      <p:childTnLst>
                        <p:par>
                          <p:cTn id="30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2411280" y="189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Малина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37" name=""/>
          <p:cNvSpPr/>
          <p:nvPr/>
        </p:nvSpPr>
        <p:spPr>
          <a:xfrm>
            <a:off x="4427640" y="1266480"/>
            <a:ext cx="4465440" cy="52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Многолетний колючий полу-кустарник 1,5—2 м высоты.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4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 медицинской практике используют плоды, которые собирают в период созревания, очищают, завяливают на солнце и затем досушивают в печи при температуре 60—80 °С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4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Препараты: настой и отвар плодов применяют как  жаропонижающее средство пр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простудных заболеваниях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821040" cy="54007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1908000" y="189000"/>
            <a:ext cx="4753080" cy="7491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Черёмуха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42" name=""/>
          <p:cNvSpPr/>
          <p:nvPr/>
        </p:nvSpPr>
        <p:spPr>
          <a:xfrm>
            <a:off x="4716360" y="1169640"/>
            <a:ext cx="402444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Дерево или крупный кустарник до 10 м высоты.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6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 медицине используют плоды черемухи в качестве вяжущего средства. Применяют в виде настоя и отвара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6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Сушат в сушилках или печах при температуре 40°—50°, на открытом воздухе или чердаках с хорошей вентиляцие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892680" cy="539928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45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1908000" y="189000"/>
            <a:ext cx="5256360" cy="7491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Подорожник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0" y="1851120"/>
            <a:ext cx="424980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 медицине используют листья подорожника при желудочно-кишечных заболеваниях и в качестве отхаркивающего сред-ства. Применяют в виде настоя и отвар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Заготавливают листья практи-чески все лето до начала увядания. Сушат на чердаках, под навесами, на воздухе в тен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828960" cy="532764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50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2050920" y="189000"/>
            <a:ext cx="4970520" cy="7491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Одуванчик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52" name=""/>
          <p:cNvSpPr/>
          <p:nvPr/>
        </p:nvSpPr>
        <p:spPr>
          <a:xfrm>
            <a:off x="4500720" y="1339920"/>
            <a:ext cx="424800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 меди-цине используют корни растения в качестве возбуждающего аппетит средства и как желче-гонное. Применяют в виде настоя и отвар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Заготавливают корни осенью в стадии увядания листьев, затем промывают и провяливают на воздухе несколько дней, до тех пор, пока из корней перестанет выделяться млечный сок. Сушат, разложив в один слой, под навесами и на чердаках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697560" cy="534672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55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2843280" y="189000"/>
            <a:ext cx="3673440" cy="7491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Рябина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57" name=""/>
          <p:cNvSpPr/>
          <p:nvPr/>
        </p:nvSpPr>
        <p:spPr>
          <a:xfrm>
            <a:off x="4572000" y="1873440"/>
            <a:ext cx="42498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медицине используют плоды рябины в качестве поливита-минного средства. Применяют в виде настоя и отвара. Заготавли-вают плоды в период полного созревания до наступления заморозков. Сушат в печах и сушилках при температуре 60°—80°, хорошо проветриваемых помещениях или под навес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924000" cy="56163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60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1692360" y="2781360"/>
            <a:ext cx="6192720" cy="129384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Ядовитые растения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55592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84360" y="260280"/>
            <a:ext cx="7329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462"/>
                </a:solidFill>
                <a:latin typeface="Arial"/>
              </a:rPr>
              <a:t>Белена чёрная </a:t>
            </a:r>
            <a:r>
              <a:rPr b="0" lang="ru-RU" sz="2400" spc="-1" strike="noStrike">
                <a:solidFill>
                  <a:srgbClr val="080462"/>
                </a:solidFill>
                <a:latin typeface="Arial"/>
              </a:rPr>
              <a:t>(сем. Паслёновые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859280" y="1125360"/>
            <a:ext cx="3927600" cy="554544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539640" y="1844640"/>
            <a:ext cx="424836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От белены человек теряет покой. Буйствует, грезит или вдруг приходит в неистовство. Совершает безрассудные поступки. Отравиться можно любой её частью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А от большой дозы можно и умереть. Семена белены похожи на маковые и по виду,  и по вкусу и очень ядовиты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462"/>
                </a:solidFill>
                <a:latin typeface="Verdana"/>
                <a:ea typeface="DejaVu Sans"/>
              </a:rPr>
              <a:t>Но зло, таящееся в белене, врачи умеют обратить во благо: из неё делают болеутоляющие лекарства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176720" cy="304164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572000" y="476280"/>
            <a:ext cx="2560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8" name=""/>
          <p:cNvSpPr/>
          <p:nvPr/>
        </p:nvSpPr>
        <p:spPr>
          <a:xfrm>
            <a:off x="4788000" y="0"/>
            <a:ext cx="43560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462"/>
                </a:solidFill>
                <a:latin typeface="Garamond"/>
                <a:ea typeface="DejaVu Sans"/>
              </a:rPr>
              <a:t>Вороний глаз обыкновенный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462"/>
                </a:solidFill>
                <a:latin typeface="Garamond"/>
                <a:ea typeface="DejaVu Sans"/>
              </a:rPr>
              <a:t>(сем. Лилейные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9" name=""/>
          <p:cNvSpPr/>
          <p:nvPr/>
        </p:nvSpPr>
        <p:spPr>
          <a:xfrm>
            <a:off x="900000" y="3213000"/>
            <a:ext cx="259236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00000000000000000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0" name=""/>
          <p:cNvSpPr/>
          <p:nvPr/>
        </p:nvSpPr>
        <p:spPr>
          <a:xfrm>
            <a:off x="755640" y="34290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1" name=""/>
          <p:cNvSpPr/>
          <p:nvPr/>
        </p:nvSpPr>
        <p:spPr>
          <a:xfrm>
            <a:off x="395280" y="350028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Вороний глаз очень ядовит. Весь . Особенно много яда в чёрных ягодах. Он словно угощает чёрной ягодой, которую подает на «блюдечке» из четырёх заостренных листочков. Но не вздумай принять сей лесной дар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2411280" cy="2971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462"/>
                </a:solidFill>
                <a:latin typeface="Arial"/>
              </a:rPr>
              <a:t>Волчье лыко</a:t>
            </a:r>
            <a:br>
              <a:rPr sz="4000"/>
            </a:br>
            <a:r>
              <a:rPr b="0" lang="ru-RU" sz="2400" spc="-1" strike="noStrike">
                <a:solidFill>
                  <a:srgbClr val="080462"/>
                </a:solidFill>
                <a:latin typeface="Arial"/>
              </a:rPr>
              <a:t>(сем. Волчеягодниковые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156360" y="3429000"/>
            <a:ext cx="2276280" cy="22860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6605640" y="0"/>
            <a:ext cx="2538360" cy="316872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539640" y="1484280"/>
            <a:ext cx="3386160" cy="305136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592200" y="4595760"/>
            <a:ext cx="5132160" cy="20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Волчье лыко – ядовитый кустарник. Только коснёшься коры, как кожа воспалится и появятся волдыри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Если сок капнет на кожу, губы или глаза, появится сильнейшее раздражение. А попав в организм, яд вызывает судороги, рвоту. Повышение температур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8" name=""/>
          <p:cNvSpPr/>
          <p:nvPr/>
        </p:nvSpPr>
        <p:spPr>
          <a:xfrm>
            <a:off x="6156360" y="593892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462"/>
                </a:solidFill>
                <a:latin typeface="Verdana"/>
                <a:ea typeface="DejaVu Sans"/>
              </a:rPr>
              <a:t>Восемь ягод – смертельная доза для человека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6048360" cy="5616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324000" y="-1251000"/>
            <a:ext cx="837396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Флаг Красноярского кра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472000" cy="34574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68360" y="-2043000"/>
            <a:ext cx="8229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Река  Енисей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7885080" cy="4748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468360" y="141300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Животный мир лесов Красноярского края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250920" y="907920"/>
            <a:ext cx="8713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е портной, а всю жизнь с иголками ходит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2987640" y="2781360"/>
            <a:ext cx="5327640" cy="37353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2484360" y="5516640"/>
            <a:ext cx="6300720" cy="4809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latin typeface="DejaVu Sans"/>
              </a:rPr>
              <a:t>На гору бегом, а сгоры кувырком.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latin typeface="DejaVu Sans"/>
              <a:ea typeface="DejaVu Sans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67360" cy="5157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539640" y="4869000"/>
            <a:ext cx="8050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Наткёт, наплетёт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Сядет и добычу ждёт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4768920" y="0"/>
            <a:ext cx="4375080" cy="5877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6:59:12Z</dcterms:created>
  <dc:creator>Jenya</dc:creator>
  <dc:description/>
  <dc:language>en-US</dc:language>
  <cp:lastModifiedBy>Пользователь Windows</cp:lastModifiedBy>
  <dcterms:modified xsi:type="dcterms:W3CDTF">2023-09-29T09:36:56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