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A21-3652-46BB-9DC7-DA826ED8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3E2-CAE1-4660-9B0E-6FE8A79F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A00-E8E9-448F-892E-A664EAEA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CF9-65E7-43F4-99BA-75BDC252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EA2A-3194-4A96-8FD5-731A688E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A621-1195-48F6-884C-82AC50A6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5032-92AD-4034-8715-B345AAC4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73D9-7014-4F7F-9561-F67E4E44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17A2-8B5B-4D5B-B2EE-7DE85028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41AE-CB93-4F2D-9A7D-01FDF16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7E52-C4CD-4BD9-9CDD-42DEB2B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BE1-CC62-404F-9DD6-5532C3A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663B-D1A0-415C-9576-AC973B45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E27C-8E34-4543-BB95-023CC340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4CB9-8377-4A87-81E0-27252724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0D02-2583-40FA-9019-DB60C6FF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3AA6-1D48-4BB3-A83A-5225EA17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1F8-A78C-4B91-AF42-0497D81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743-91F8-4C5E-ACF3-6E428EBF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2FD-866B-406E-BDAE-258ACD8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D12-8961-403B-8F28-B49761E1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50F-04D5-4DEA-A440-AC3D29EC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9D4-3150-4C7E-8E8B-193D970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C47-22FA-4AF4-AA92-DE868FB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5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32572b"/>
                </a:gs>
                <a:gs pos="100000">
                  <a:srgbClr val="5586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572b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B27C-A524-4E15-AE76-BF51A27F85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57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572b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257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9138-D222-4B5A-83C7-696350A18B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84240"/>
            <a:ext cx="7743600" cy="615312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2e4f27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5fbe7"/>
                </a:solidFill>
                <a:latin typeface="Times New Roman"/>
                <a:ea typeface="Times New Roman"/>
              </a:rPr>
              <a:t>МП. 03 Методическое обеспечение организации физкультурно-спортивной деятельности</a:t>
            </a:r>
            <a:br>
              <a:rPr sz="4400"/>
            </a:br>
            <a:r>
              <a:rPr b="1" lang="ru-RU" sz="3600" spc="-1" strike="noStrike">
                <a:solidFill>
                  <a:srgbClr val="d5fbe7"/>
                </a:solidFill>
                <a:latin typeface="Times New Roman"/>
                <a:ea typeface="Times New Roman"/>
              </a:rPr>
              <a:t>МДК 03.01 Теоретические и прикладные аспекты методической работы педагога по физической культуре и спорту</a:t>
            </a:r>
            <a:br>
              <a:rPr sz="36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хема 5" descr=""/>
          <p:cNvPicPr/>
          <p:nvPr/>
        </p:nvPicPr>
        <p:blipFill>
          <a:blip r:embed="rId1"/>
          <a:stretch/>
        </p:blipFill>
        <p:spPr>
          <a:xfrm>
            <a:off x="817560" y="401760"/>
            <a:ext cx="7869240" cy="6084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95440" y="425160"/>
            <a:ext cx="8224560" cy="59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ФК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относится к материальным видам культуры, так как ее объектом является человеческое тело (материальный субстракт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ФК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важное средство воспитания, поскольку ее средствами можно существенно расширить функциональные резервы организма, повысить уровень общей дееспособности и выработать устойчивую переносимость ко многим неблагоприятным воздействиям внешней среды (войны, лишения, катаклизмы и т.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хема 6" descr=""/>
          <p:cNvPicPr/>
          <p:nvPr/>
        </p:nvPicPr>
        <p:blipFill>
          <a:blip r:embed="rId1"/>
          <a:stretch/>
        </p:blipFill>
        <p:spPr>
          <a:xfrm>
            <a:off x="646200" y="1560600"/>
            <a:ext cx="7980120" cy="468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61800" y="318600"/>
            <a:ext cx="85060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ffa3"/>
                </a:solidFill>
                <a:latin typeface="Times New Roman"/>
              </a:rPr>
              <a:t>Ф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вивается в ходе созидательной деятельности общества и дополняется вид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5640" y="637920"/>
            <a:ext cx="734364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Базовая ФК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тержневая форма ФК, направленная на формирование основ фундамент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Базовая ФК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ключает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школьн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школьн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58560" y="595440"/>
            <a:ext cx="7561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Прикладная ФК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ма ФК, направленная на формирование той части  физического совершенства, которая обеспечивает выполнение той или иной человеческ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Бытовая ФК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арактеризует уровень развития личных потребностей человека и степень исполнения двигательных качеств, навыков и специальных знаний в повседневной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88520" y="339480"/>
            <a:ext cx="812340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ФК личност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достигнутый уровень физического совершенства человека и степень использования двигательных качеств, навыков и специальных знаний в повседневной жиз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Показателями ФК личности являю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нослив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ыстро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ибк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вк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ъем освоенных двигательных умений и навыков (прежде всего жизненно необходимых: плавание, бег, прыжки, метания, передвижение на лыжах и т.д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6880" y="304920"/>
            <a:ext cx="76532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Функции ФК: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1360" y="1658880"/>
            <a:ext cx="827244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Материально-преобразующа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повышение профессиональной работоспособности, реабилитация – восстановление физического потенциал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Социально-политическа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военно-прикладное и социально-профилактическое (отвлечение от пьянства, наркомании и т.д.) на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Духовная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(формирование «физкультурной» души) – ценностные мотивы, ценностные нормативы, эстетические идеалы, нравственные идеал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image"/>
          <p:cNvPicPr/>
          <p:nvPr/>
        </p:nvPicPr>
        <p:blipFill>
          <a:blip r:embed="rId1"/>
          <a:stretch/>
        </p:blipFill>
        <p:spPr>
          <a:xfrm>
            <a:off x="6568920" y="298440"/>
            <a:ext cx="196056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Социальная структура ФК включает подсистемы: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изкультурная деятель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чностная подсистема – активность отдельной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щественная подсистема – создание обществом необходимых условий для физического совершенств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96520" y="595080"/>
            <a:ext cx="8164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53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сходя из вышеизложенног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53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теорией ФК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нимают форму научного знания, дающего наиболее целостное представление о существенных закономерностях достижения физического совершенст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089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2. ФИЗИЧЕСКОЕ ВОСПИТА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2680" y="1722240"/>
            <a:ext cx="813420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образовательно-воспитательный процесс, характеризующийся всеми присущими педагогическому процессу общими призна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процесс обучения двигательным действиям и воспитания свойственных человеку физических качеств, гарантирующих направленное развитие базирующихся на них способностей  (Матвеев Л.П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392120"/>
            <a:ext cx="7543800" cy="18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РАЗДЕЛ № 1</a:t>
            </a:r>
            <a:br>
              <a:rPr sz="3600"/>
            </a:b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Методическое обеспечение и технология физкультурной деятельности</a:t>
            </a: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3026880"/>
            <a:ext cx="75438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кции №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еория и методика физического воспитания в системе образова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стема физического воспитания в Российской Федер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446040"/>
            <a:ext cx="7543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– есть педагогическая система физического совершенствования личности (ребенка, взрослого, спортсмена и т.д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шение тех или иных задач позволяет выделить три основных направления в ФВ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Общее Ф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направлено на укрепление здоровья и поддержание работоспособности и учебной или трудов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 algn="just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ФВ с проф. направленностью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– призвано обеспечить уровень физической подготовленности, необходимый человеку в той или ин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637920"/>
            <a:ext cx="76820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 со спортивной направленностью – </a:t>
            </a:r>
            <a:r>
              <a:rPr b="1" lang="ru-RU" sz="3200" spc="-1" strike="noStrike">
                <a:solidFill>
                  <a:srgbClr val="bce890"/>
                </a:solidFill>
                <a:latin typeface="Times New Roman"/>
              </a:rPr>
              <a:t>обеспечивает возможность специализироваться в избранной  виде физических упражнений и достигать в них максимальных результа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В</a:t>
            </a:r>
            <a:r>
              <a:rPr b="1" lang="ru-RU" sz="3600" spc="-1" strike="noStrike">
                <a:solidFill>
                  <a:srgbClr val="9ddd5d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bce89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bce890"/>
                </a:solidFill>
                <a:latin typeface="Times New Roman"/>
              </a:rPr>
              <a:t>направленное на подготовку к высоким достижениям в избранной виде спорта, называют спортивной трениро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5438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Общая характеристика теории и методики физического воспитания </a:t>
            </a:r>
            <a:br>
              <a:rPr sz="36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35120" y="2162160"/>
            <a:ext cx="82072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Физическое развит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Физическое образ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Физкультурное образование. Непрерывное образо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Физическое движ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Спор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Знания как компонент  физического образ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 Система физического воспит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0. Деятель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3. ФИЗИЧЕСКОЕ РАЗВИТ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595160"/>
            <a:ext cx="7543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процесс изменения природных морфофункциональных свойств организма в онтогенез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зависимости от совокупности факторов и условий </a:t>
            </a: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физического развити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В может иметь различный характер – может стать всесторонним и гармоничным, либо ограниченным и дисгармоничны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320" y="468360"/>
            <a:ext cx="75438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Р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еловека оказывают влияние ряд факторов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е (наследственные) – рост, вес, морфологические факто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иматогеографические – климат, метеорологические услов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ые – условия материальной жизни, трудовой и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7920" y="304920"/>
            <a:ext cx="797220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4. ФИЗИЧЕСКОЕ ОБРАЗОВА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52240" y="1446120"/>
            <a:ext cx="8057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процесс и результат овладения специальными систематизированными знаниями, физическими упражнениями, а также способами их самостоятельного изучения и использования в процессе жизнедеятельности (Матвеев Л.П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Специальные знани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те знания, которые отражают закономерности физического воспита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0760" y="531720"/>
            <a:ext cx="80802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Ф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ловек получает в результате обучения с опорой на соответствующие знания и в единстве с воспитанием физических способнос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П.Ф. Лесгафт создал учение о «физическом образовании»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еверно изолировать отдельные движения и сравнивать их между собой, сознательно управлять ими и приспосабливать к препятствиям, преодолевая их с возможно большей ловкостью и настойчивостью, иначе говоря, приучиться с наименьшим трудом и возможно меньший промежуток времени сознательно производить наибольшую физическую работ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5. Физкультурное образование. Непрерывное образова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5440" y="1488600"/>
            <a:ext cx="801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ffa3"/>
                </a:solidFill>
                <a:latin typeface="Times New Roman"/>
              </a:rPr>
              <a:t>Физкультурное образовани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яет меру профессиональной педагогической подготовки и может быть средним или высшим, что удостоверяется соответствующим дипломом (Сулейманов И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Цель Ф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формирование у занимающихся знаний, умений и навыков. Их физического совершенств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66320" y="468360"/>
            <a:ext cx="75438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ь ФО регулируется следующими </a:t>
            </a: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задачам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ные задач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развития координационных способностей и личностных качест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чи формирования знаний, умений и навыков физкультурной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и и содержание ФО способствуют более успешному осуществлению деятельности в различных сферах жизнедеятельности челове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255600"/>
            <a:ext cx="839952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выполнения задач ФО необходимо заниматься непрерывно  - отсюда необходимост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непрерывного образов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Цель Н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личности во все периоды ее жизненного пути (от младенчества до старост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Н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, совокупность взаимосвязанных элементов, включающая преемственность его звенье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кольно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ее средне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чальное профессионально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ее профессионально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шее образ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спирантура и докторанту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вышение квалификации и переподготовка кад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39840"/>
            <a:ext cx="754380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ТиПАМР как учебно-научная, профилирующая дисциплина</a:t>
            </a: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595160"/>
            <a:ext cx="75438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ТиПАМ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 средних и высших профильных заведениях является учебно-научной профильной дисципли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ТиПАМ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призвана сформировать у будущего учителя ФК  его пед. кредо, научить его видеть цель, определять ближайшие задачи и правильно подбирать средства, методы и формы их реал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6. ФИЗКУЛЬТУРНОЕ ДВИЖЕНИЕ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45680" y="1318680"/>
            <a:ext cx="816444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Д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ецифическая форма социального движения, задачей которого выступает содействие повышению уровня ФК населения и развитию спор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18г. – Всеобщее военное обучение (Всевобуч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тябрь 1919г. – Петроградский ин-т ФО им. П.Ф.Лесгаф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кабрь 1920г. – гос. Центральный. Ин-т ФК (ГЦФК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 1925г. – принят ряд постановле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15600" y="382680"/>
            <a:ext cx="799452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31-1934г.г. – введен Всесоюзный физк. Комплекс Г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35-37г.г. – разработана и введена Всесоюзная спортивная классифика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39г. Пересмотрены школьные программы по Ф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72г. – новый комплекс Г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1981г. – движение «Стартуют все!» по наст. Врем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014г. Повторное обращение к комплексу Г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7. СПОРТ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44480" y="1339560"/>
            <a:ext cx="7866000" cy="47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пор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ятельность, которая исторически выделилась и оформилась в виде состязаний, непосредственно направленных на демонстрацию достижений в н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пор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широком понятии охватывает собственно соревновательную деятельность, специальную подготовку к ней, а также специальные межчеловеческие отношения и поведенческие нормы, складывающиеся на основе эт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547040" cy="5499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Содержимое 3" descr=""/>
          <p:cNvPicPr/>
          <p:nvPr/>
        </p:nvPicPr>
        <p:blipFill>
          <a:blip r:embed="rId1"/>
          <a:stretch/>
        </p:blipFill>
        <p:spPr>
          <a:xfrm>
            <a:off x="1054080" y="609480"/>
            <a:ext cx="7572240" cy="55166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66320" y="318600"/>
            <a:ext cx="754380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Организующие факторы спорт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авила соревнов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лож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определяют цели и зада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лендари соревнований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упорядочивают состязания по целям, задачам и месту прове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лассификационные системы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яют уровни спортивной квалифик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Генеральный атрибут спорта - соревн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8880" y="304560"/>
            <a:ext cx="81216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8. Знания как компонент физического образования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8880" y="1616040"/>
            <a:ext cx="8121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Знания в общем смысл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совокупность накопленных в процессе общественно-исторической практики человечества сведений о природе, обществе, технике и самом челове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Знание в физическом воспитани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яют то значение и то содержание, без которых невозможен ни один акт сознательной деятельности человека по овладению физическими упражнениями, использованию их в  целях собственного физического развития и укрепления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одержимое 3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7913520" cy="6248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66320" y="509400"/>
            <a:ext cx="75438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Источником знан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процессе учебного познания является не только информация учителя, но и сама двигательная деятельность занимающих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Цель приобретения знани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применение их на практи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7ffa3"/>
                </a:solidFill>
                <a:latin typeface="Times New Roman"/>
              </a:rPr>
              <a:t>Главное предназначение ФК (цель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способствовать достижению физического совершенства подрастающим поколен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86600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9. Система физического воспитания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95440" y="1233000"/>
            <a:ext cx="8015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ффективность использования ФУ зависит от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и пед. проце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вня материального и научного обесп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ершенства органов руководства и контро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истема ФВ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 это целенаправленное взаимодействие всех перечисленных часте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509760"/>
            <a:ext cx="7543800" cy="601488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32572b"/>
              </a:gs>
            </a:gsLst>
            <a:lin ang="5400000"/>
          </a:gradFill>
          <a:ln w="9360">
            <a:solidFill>
              <a:srgbClr val="8eac66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Одна из главных задач ТМФВ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ооружить буд. учителя умением интегрировать междисциплинарные знания и знания, полученные при изучении частных методик, находить пути реализации этих знаний в практической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ТМФ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остоит из двух неразрывно связанных между собой часте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ории физического воспитания (ТФВ) и методики физического воспитания (МФ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71640" y="3357720"/>
            <a:ext cx="75438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4653000"/>
            <a:ext cx="7543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9760" y="318600"/>
            <a:ext cx="810072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Главная функция системы ФВ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способствовать физическому совершенствованию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Цель системы Ф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оветском обществе – формирование физически совершенных людей, обладающих духовным богатством, моральной чистотой и способных к творческому труду и защите Родин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енность системы обусловлена </a:t>
            </a:r>
            <a:r>
              <a:rPr b="1" lang="ru-RU" sz="2800" spc="-1" strike="noStrike">
                <a:solidFill>
                  <a:srgbClr val="47ffa3"/>
                </a:solidFill>
                <a:latin typeface="Times New Roman"/>
              </a:rPr>
              <a:t>основным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цип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сестороннего развития обще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здоровительной направленности Ф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вязи ФВ с трудовой и оборонной прак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066320" y="255240"/>
            <a:ext cx="7543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дополнительным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ринципам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Непрерывности 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Целостности развити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единство телесного, интеллектуального и социально-психологического компонентов в формировании Ф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Деятельностного подх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Вариативности и многообразия содержания форм Ф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7ffa3"/>
                </a:solidFill>
                <a:latin typeface="Times New Roman"/>
              </a:rPr>
              <a:t>Оптимиз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необходимость приведения средств, методов, нагрузок, организационных форм занятий в соответствие с целями и содержанием пед. процесса, индивид. способностями, мотивацией и уровнем притязаний занимающегося, внешними условиями деят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7ffa3"/>
                </a:solidFill>
                <a:latin typeface="Times New Roman"/>
              </a:rPr>
              <a:t>Социально-экономические основы</a:t>
            </a:r>
            <a:br>
              <a:rPr sz="3200"/>
            </a:br>
            <a:endParaRPr b="1" lang="en-US" sz="32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1066680" y="1011240"/>
            <a:ext cx="7547040" cy="509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8880" y="304920"/>
            <a:ext cx="81216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Система ФВ в системе социальной деятельности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72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30360"/>
            <a:ext cx="8211960" cy="4565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7ffa3"/>
                </a:solidFill>
                <a:latin typeface="Times New Roman"/>
              </a:rPr>
              <a:t>10. Деятельность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402920"/>
            <a:ext cx="7543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гласно словарным определениям    </a:t>
            </a:r>
            <a:r>
              <a:rPr b="1" lang="ru-RU" sz="4000" spc="-1" strike="noStrike">
                <a:solidFill>
                  <a:srgbClr val="47ffa3"/>
                </a:solidFill>
                <a:latin typeface="Times New Roman"/>
              </a:rPr>
              <a:t>деятельност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пецифическая форма активного отношения к окружающему миру, содержание которой  составляет его целесообразное изменение и преобраз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Характеристики деятельност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тив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лесообраз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Педагогическая деятельность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76" name="Содержимое 3" descr=""/>
          <p:cNvPicPr/>
          <p:nvPr/>
        </p:nvPicPr>
        <p:blipFill>
          <a:blip r:embed="rId1"/>
          <a:stretch/>
        </p:blipFill>
        <p:spPr>
          <a:xfrm>
            <a:off x="774720" y="1352520"/>
            <a:ext cx="7851600" cy="4799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Показатели ФД: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360440"/>
            <a:ext cx="75438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 здоров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занимающихся (обще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личество занимающихся (СМГ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чество – показатель отличных, хороших, удовлетворительных, неудовлетворительных оцен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авнение показателей в начале и в конце учебного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Физическое совершенство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это оптимальный уровень двигательной подготовленности и физического развития человека применительно к современным условиям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efb3"/>
                </a:solidFill>
                <a:latin typeface="Arial"/>
              </a:rPr>
              <a:t>Система физического воспитания, ее основы</a:t>
            </a: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 понятием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меют в виду нечто целое, представляющее собой единство закономерно расположенных и находящихся во взаимной связи частей, предназначенных для выполнения конкретных функций и решения тех или иных зада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efb3"/>
                </a:solidFill>
                <a:latin typeface="Arial"/>
              </a:rPr>
              <a:t>Система физического воспитания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то исторически обусловленный тип социальной практики физического воспитания, включающ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42560" y="574560"/>
            <a:ext cx="79218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7ffa3"/>
                </a:solidFill>
                <a:latin typeface="Times New Roman"/>
              </a:rPr>
              <a:t>Предмет изучения ТФВ: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щие закономерности ФВ как педагогического процесса, которые в равной мере свойственны физическому воспитанию разных слоев насел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4ef7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етей и взросл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4ef7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чинающих и квалифицированных спортсме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b4ef7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ория возникает, постоянно развивается, уточняется, дополняется, обновляется, жизнеутвержд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1efb3"/>
                </a:solidFill>
                <a:latin typeface="Arial"/>
              </a:rPr>
              <a:t>Мировоззренческие основы</a:t>
            </a:r>
            <a:endParaRPr b="1" lang="en-US" sz="40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ировоззр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едставляет собой совокупность взглядов и идей, определяющих направленность человеческой деяте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течественной системе физического воспитания мировоззренческие установки направлены на содействие всестороннему и гармоническому развитию личности занимающихся, реализацию возможностей достижения каждым физического совершенства, укрепление и многолетнее сохранение здоровья, подготовку на этой основе членов общества к профессиональным видам деятель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1efb3"/>
                </a:solidFill>
                <a:latin typeface="Arial"/>
              </a:rPr>
              <a:t>Теоретико-методические основы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а физического воспитания опирается на достижения многих наук. Ее теоретико-методической основой служат научные поло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ых наук (анатомия, физиология, биохимия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дагогических наук (педагогика, психология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ственных наук (философия, социологи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1efb3"/>
                </a:solidFill>
                <a:latin typeface="Arial"/>
              </a:rPr>
              <a:t>Программно-нормативные основы</a:t>
            </a:r>
            <a:endParaRPr b="1" lang="en-US" sz="40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ое воспитание осуществляется на основе обязательных государственных программ по физической культуре и спорту (программы для дошкольных учреждений, общеобразовательной школы, средних и высших учебных заведений, армии и т.д.). Эти программы содержат научно-обоснованные задачи и средства физического воспитания, комплексы двигательных умений и навыков, подлежащих усвоению, перечень конкретных норм и требован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efb3"/>
                </a:solidFill>
                <a:latin typeface="Arial"/>
              </a:rPr>
              <a:t>Программно-нормативные основы системы ФВ конкретизируются применительно:</a:t>
            </a:r>
            <a:endParaRPr b="1" lang="en-US" sz="32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особенностям контингента (возраст, пол, уровень подготовленности, состояние здоровья) 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ловиям основной деятельности участников физкультурного движения (учеба, работа на производстве, служба в арми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45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1efb3"/>
                </a:solidFill>
                <a:latin typeface="Arial"/>
              </a:rPr>
              <a:t>в двух основных направлениях:</a:t>
            </a:r>
            <a:endParaRPr b="1" lang="en-US" sz="36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194" name="Rectangle 3" descr=""/>
          <p:cNvPicPr/>
          <p:nvPr/>
        </p:nvPicPr>
        <p:blipFill>
          <a:blip r:embed="rId1"/>
          <a:stretch/>
        </p:blipFill>
        <p:spPr>
          <a:xfrm>
            <a:off x="969840" y="1384200"/>
            <a:ext cx="7820280" cy="4870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1efb3"/>
                </a:solidFill>
                <a:latin typeface="Arial"/>
              </a:rPr>
              <a:t>Организационные основы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онную структуру системы ФВ составляют государственные и общественно-самодеятельные формы организации, руководства и упра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По государственной линии предусматриваются: 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тические обязательные занятия физическими упражнениями в дошкольных учреждениях (ясли-сад), общеобразовательных школах, средних специальных и высших учебных заведениях, армии, лечебно-профилактических организациях, занятия проводятся по государственным программам, в отведенное для этого часы в соответствии с расписанием и официальным графиком под руководством штатных специалистов (физкультурных кадров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Arial"/>
              </a:rPr>
              <a:t>По государственной линии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за организацией, осуществлением и результатами ФВ по государственной линии обеспечивают Комитет РФ по физической культуре, спорту и туризму, Комитет Государственной Думы по туризму и спорту, городские отделы по физической культуре и спорту. а также соответствующие отделы министерства образования Р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efb3"/>
                </a:solidFill>
                <a:latin typeface="Arial"/>
              </a:rPr>
              <a:t>По общественно-самодеятельной линии</a:t>
            </a:r>
            <a:endParaRPr b="1" lang="en-US" sz="28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нятия физическими упражнениями организуются в зависимости от индивидуальных склонностей, способностей занимающихся и потребности в физическом воспитании. Принципиальной чертой общественно-самодеятельной формы организации является полная добровольность физкультурных занятий. Продолжительность занятий во многом зависит от индивидуальной установки, личных склонностей и реального наличия свободного времен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pic>
        <p:nvPicPr>
          <p:cNvPr id="204" name="Picture 4" descr="srednee_27"/>
          <p:cNvPicPr/>
          <p:nvPr/>
        </p:nvPicPr>
        <p:blipFill>
          <a:blip r:embed="rId1"/>
          <a:stretch/>
        </p:blipFill>
        <p:spPr>
          <a:xfrm>
            <a:off x="3409920" y="3067200"/>
            <a:ext cx="2857680" cy="1942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86920" y="574560"/>
            <a:ext cx="7201080" cy="56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</a:rPr>
              <a:t>ТФВ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имеет как научно-познавательное, так и практическое значение. Полученные в результате научных исследований данные обобщаются, теоретически осмысливаются, что позволяет отбирать, рекомендовать и использовать наиболее эффективные средства и методы ФВ для каждого конкретного случая (применительно к любой возрастной группе, для групп различного уровня подготовленности и т.д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920" y="574560"/>
            <a:ext cx="741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ffa3"/>
                </a:solidFill>
                <a:latin typeface="Times New Roman"/>
              </a:rPr>
              <a:t>Предмет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7ffa3"/>
                </a:solidFill>
                <a:latin typeface="Times New Roman"/>
              </a:rPr>
              <a:t>изучения МФ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- частные закономерности ФВ и реализация общих закономерностей в педагогическом процессе, имеющем конкретную направленность (профессионально-прикладная подготовка, спортивная подготов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ким образом, ТМФВ  изучает ФВ как явление общественной жизни, выясняя его цель и задачи, взаимосвязь с другими сторонами воспитания личности (нравственным, умственным, эстетическим, трудовым и т.д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efb3"/>
                </a:solidFill>
                <a:latin typeface="Times New Roman"/>
                <a:ea typeface="Times New Roman"/>
              </a:rPr>
              <a:t>Основные понятия, применяемые в ТМФВ</a:t>
            </a:r>
            <a:endParaRPr b="1" lang="en-US" sz="4400" spc="-1" strike="noStrike">
              <a:solidFill>
                <a:srgbClr val="d1efb3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07840" y="1981080"/>
            <a:ext cx="780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1. ФИЗИЧЕСКАЯ КУЛЬТУР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9ddd5d"/>
                </a:solidFill>
                <a:latin typeface="Times New Roman"/>
                <a:ea typeface="Times New Roman"/>
              </a:rPr>
              <a:t>«</a:t>
            </a:r>
            <a:r>
              <a:rPr b="1" i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Физическая культура </a:t>
            </a:r>
            <a:r>
              <a:rPr b="1" i="1" lang="ru-RU" sz="32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ид материальной культуры, характеризующая степень достижения физического совершенства как человеком в отдельности, так и общества в целом</a:t>
            </a:r>
            <a:r>
              <a:rPr b="1" i="1" lang="ru-RU" sz="32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» </a:t>
            </a:r>
            <a:r>
              <a:rPr b="1" i="1" lang="ru-RU" sz="28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(Сулейманов И.И., Михалев В.И., Шнайдер В.Х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7ffa3"/>
                </a:solidFill>
                <a:latin typeface="Times New Roman"/>
                <a:ea typeface="Times New Roman"/>
              </a:rPr>
              <a:t>ФК</a:t>
            </a:r>
            <a:r>
              <a:rPr b="1" i="1" lang="ru-RU" sz="32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bce890"/>
                </a:solidFill>
                <a:latin typeface="Times New Roman"/>
                <a:ea typeface="Times New Roman"/>
              </a:rPr>
              <a:t>самое емкое понятие по содержани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Содержимое 3" descr=""/>
          <p:cNvPicPr/>
          <p:nvPr/>
        </p:nvPicPr>
        <p:blipFill>
          <a:blip r:embed="rId1"/>
          <a:stretch/>
        </p:blipFill>
        <p:spPr>
          <a:xfrm>
            <a:off x="768240" y="371520"/>
            <a:ext cx="7845480" cy="5730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4:47Z</dcterms:created>
  <dc:creator>Наташа</dc:creator>
  <dc:description/>
  <dc:language>en-US</dc:language>
  <cp:lastModifiedBy>Пользователь</cp:lastModifiedBy>
  <dcterms:modified xsi:type="dcterms:W3CDTF">2023-01-13T06:10:31Z</dcterms:modified>
  <cp:revision>160</cp:revision>
  <dc:subject/>
  <dc:title>Слайд 1</dc:title>
</cp:coreProperties>
</file>