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113-2620-4C12-8711-2A1657D8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634-6576-448F-9D0D-3A6084B2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394-E92D-4180-8DD7-89C0B5DB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ED1-73D5-47A7-B3EA-841E8A1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693C-28AE-4CFC-A92F-1D86ADED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2840-AB1C-4982-98BD-70D1BBD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BC2-6334-43C0-87EF-C7AC6E6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ADCA-D27C-4C97-A72C-EF162E5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2F4E-2264-4987-A6AA-D5CACF62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303C-9DD6-49B5-9FEF-59D110C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AD6C-B624-4446-B6A4-F310BE2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3F7-C239-4924-8C6C-15A63D9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CE6-1D18-46B5-8030-486DA35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900-A100-4760-BC19-349F40A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78A-FE89-4E5B-9F77-40DF83F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8D6-3B32-455C-A056-98BEB35A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C8B-171F-4734-8CA0-1018C6A4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C14-F76C-4C2B-B439-5AD2221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F24-83CB-4D28-AADC-998F53D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9FE-2079-43D4-B703-A306906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C1B-AA77-48CA-B087-1EEDAA9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7F7-12A7-4186-8EE3-F734554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1DD-282A-4E08-B6CD-8FF9045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5DB-92C1-450B-BB1E-F608896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32572b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572b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97B-7EB9-4ACE-B82E-672CFAE424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DDD-B06B-42E1-815F-E0656998C1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84240"/>
            <a:ext cx="7743600" cy="61531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2e4f27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fbe7"/>
                </a:solidFill>
                <a:latin typeface="Times New Roman"/>
                <a:ea typeface="Times New Roman"/>
              </a:rPr>
              <a:t>МП. 03 Методическое обеспечение организации физкультурно-спортивной деятельности</a:t>
            </a:r>
            <a:br>
              <a:rPr sz="4400"/>
            </a:br>
            <a:r>
              <a:rPr b="1" lang="ru-RU" sz="3600" spc="-1" strike="noStrike">
                <a:solidFill>
                  <a:srgbClr val="d5fbe7"/>
                </a:solidFill>
                <a:latin typeface="Times New Roman"/>
                <a:ea typeface="Times New Roman"/>
              </a:rPr>
              <a:t>МДК 03.01 Теоретические и прикладные аспекты методической работы педагога по физической культуре и спорту</a:t>
            </a:r>
            <a:br>
              <a:rPr sz="36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хема 5" descr=""/>
          <p:cNvPicPr/>
          <p:nvPr/>
        </p:nvPicPr>
        <p:blipFill>
          <a:blip r:embed="rId1"/>
          <a:stretch/>
        </p:blipFill>
        <p:spPr>
          <a:xfrm>
            <a:off x="817560" y="401760"/>
            <a:ext cx="7869240" cy="608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95440" y="425160"/>
            <a:ext cx="822456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относится к материальным видам культуры, так как ее объектом является человеческое тело (материальный субстрак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важное средство воспитания, поскольку ее средствами можно существенно расширить функциональные резервы организма, повысить уровень общей дееспособности и выработать устойчивую переносимость ко многим неблагоприятным воздействиям внешней среды (войны, лишения, катаклизмы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6" descr=""/>
          <p:cNvPicPr/>
          <p:nvPr/>
        </p:nvPicPr>
        <p:blipFill>
          <a:blip r:embed="rId1"/>
          <a:stretch/>
        </p:blipFill>
        <p:spPr>
          <a:xfrm>
            <a:off x="646200" y="1560600"/>
            <a:ext cx="7980120" cy="468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61800" y="318600"/>
            <a:ext cx="85060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вается в ходе созидательной деятельности общества и дополняется вид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5640" y="637920"/>
            <a:ext cx="734364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азовая ФК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ержневая форма ФК, направленная на формирование основ фундамент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азов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ключает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школь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коль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595440"/>
            <a:ext cx="756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рикладн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ФК, направленная на формирование той части  физического совершенства, которая обеспечивает выполнение той или иной челове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ытов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арактеризует уровень развития личных потребностей человека и степень исполнения двигательных качеств, навыков и специальных знаний в повседневной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88520" y="339480"/>
            <a:ext cx="81234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К личнос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достигнутый уровень физического совершенства человека и степень использования двигательных качеств, навыков и специальных знаний в повседневной жиз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Показателями ФК личности явля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нослив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стр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б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в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м освоенных двигательных умений и навыков (прежде всего жизненно необходимых: плавание, бег, прыжки, метания, передвижение на лыжах и т.д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6880" y="304920"/>
            <a:ext cx="76532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ункции ФК: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1360" y="1658880"/>
            <a:ext cx="82724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Материально-преобразующа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повышение профессиональной работоспособности, реабилитация – восстановление физического потенциал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Социально-политическ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военно-прикладное и социально-профилактическое (отвлечение от пьянства, наркомании и т.д.) на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Духовн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формирование «физкультурной» души) – ценностные мотивы, ценностные нормативы, эстетические идеалы, нравственные идеал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image"/>
          <p:cNvPicPr/>
          <p:nvPr/>
        </p:nvPicPr>
        <p:blipFill>
          <a:blip r:embed="rId1"/>
          <a:stretch/>
        </p:blipFill>
        <p:spPr>
          <a:xfrm>
            <a:off x="6568920" y="298440"/>
            <a:ext cx="196056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Социальная структура ФК включает подсистемы: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зкультур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чностная подсистема – активность отдельной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ественная подсистема – создание обществом необходимых условий для физическ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96520" y="595080"/>
            <a:ext cx="8164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3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сходя из вышеизложенног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53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теорией ФК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нимают форму научного знания, дающего наиболее целостное представление о существенных закономерностях достижения физического совершенст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2. ФИЗИЧЕСКОЕ ВОСПИТ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722240"/>
            <a:ext cx="81342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образовательно-воспитательный процесс, характеризующийся всеми присущими педагогическому процессу общими призна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процесс обучения двигательным действиям и воспитания свойственных человеку физических качеств, гарантирующих направленное развитие базирующихся на них способностей  (Матвеев Л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392120"/>
            <a:ext cx="754380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РАЗДЕЛ № 1</a:t>
            </a:r>
            <a:br>
              <a:rPr sz="3600"/>
            </a:b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Методическое обеспечение и технология физкультурной деятельности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3026880"/>
            <a:ext cx="75438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ции №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еория и методика физического воспитания в системе образ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стема физического воспитания в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446040"/>
            <a:ext cx="7543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есть педагогическая система физического совершенствования личности (ребенка, взрослого, спортсмена и т.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ение тех или иных задач позволяет выделить три основных направления в Ф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Общее Ф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направлено на укрепление здоровья и поддержание работоспособности и учебной или трудов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ФВ с проф. направленность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призвано обеспечить уровень физической подготовленности, необходимый человеку в той или ин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637920"/>
            <a:ext cx="76820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 со спортивной направленностью – </a:t>
            </a:r>
            <a:r>
              <a:rPr b="1" lang="ru-RU" sz="3200" spc="-1" strike="noStrike">
                <a:solidFill>
                  <a:srgbClr val="bce890"/>
                </a:solidFill>
                <a:latin typeface="Times New Roman"/>
              </a:rPr>
              <a:t>обеспечивает возможность специализироваться в избранной  виде физических упражнений и достигать в них максимальных результа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3600" spc="-1" strike="noStrike">
                <a:solidFill>
                  <a:srgbClr val="9ddd5d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bce89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ce890"/>
                </a:solidFill>
                <a:latin typeface="Times New Roman"/>
              </a:rPr>
              <a:t>направленное на подготовку к высоким достижениям в избранной виде спорта, называют спортивной трениро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5438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Общая характеристика теории и методики физического воспитания </a:t>
            </a:r>
            <a:br>
              <a:rPr sz="36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5120" y="2162160"/>
            <a:ext cx="8207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Физическое развит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Физическое образ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Физкультурное образование. Непрерывное образ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Физическое дви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Спор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Знания как компонент  физического образ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Система физического воспит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 Дея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3. ФИЗИЧЕСКОЕ РАЗВИТ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595160"/>
            <a:ext cx="754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процесс изменения природных морфофункциональных свойств организма в онтогенез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висимости от совокупности факторов и условий </a:t>
            </a: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изического развит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В может иметь различный характер – может стать всесторонним и гармоничным, либо ограниченным и дисгармонич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320" y="468360"/>
            <a:ext cx="75438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ловека оказывают влияние ряд факторов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е (наследственные) – рост, вес, морфологические факт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матогеографические – климат, метеорологические усло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ые – условия материальной жизни, трудовой и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7920" y="304920"/>
            <a:ext cx="79722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4. ФИЗИЧЕСКОЕ ОБРАЗОВ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2240" y="1446120"/>
            <a:ext cx="805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роцесс и результат овладения специальными систематизированными знаниями, физическими упражнениями, а также способами их самостоятельного изучения и использования в процессе жизнедеятельности (Матвеев Л.П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Специальные знан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те знания, которые отражают закономерности физического воспит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0760" y="531720"/>
            <a:ext cx="80802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ловек получает в результате обучения с опорой на соответствующие знания и в единстве с воспитанием физических способнос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П.Ф. Лесгафт создал учение о «физическом образовании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верно изолировать отдельные движения и сравнивать их между собой, сознательно управлять ими и приспосабливать к препятствиям, преодолевая их с возможно большей ловкостью и настойчивостью, иначе говоря, приучиться с наименьшим трудом и возможно меньший промежуток времени сознательно производить наибольшую физическую работ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5. Физкультурное образование. Непрерывное образов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5440" y="1488600"/>
            <a:ext cx="801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Физкультурное образова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ет меру профессиональной педагогической подготовки и может быть средним или высшим, что удостоверяется соответствующим дипломом (Сулейманов И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Цель Ф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формирование у занимающихся знаний, умений и навыков. Их физическ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66320" y="468360"/>
            <a:ext cx="75438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ФО регулируется следующими 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задачам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ные зада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развития координационных способностей и личностных каче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формирования знаний, умений и навыков физкультур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 и содержание ФО способствуют более успешному осуществлению деятельности в различных сферах жизнедеятельности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255600"/>
            <a:ext cx="839952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выполнения задач ФО необходимо заниматься непрерывно  - отсюда необходимост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непрерывного образов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Цель Н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личности во все периоды ее жизненного пути (от младенчества до старост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, совокупность взаимосвязанных элементов, включающая преемственность его звенье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ко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е средне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ьное профессиона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е профессиона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ше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спирантура и докторан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квалификации и переподготовка кад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39840"/>
            <a:ext cx="754380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 как учебно-научная, профилирующая дисциплина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595160"/>
            <a:ext cx="754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редних и высших профильных заведениях является учебно-научной профильной дисципли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ризвана сформировать у будущего учителя ФК  его пед. кредо, научить его видеть цель, определять ближайшие задачи и правильно подбирать средства, методы и формы их реал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6. ФИЗКУЛЬТУРНОЕ ДВИЖЕ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5680" y="1318680"/>
            <a:ext cx="816444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Д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ецифическая форма социального движения, задачей которого выступает содействие повышению уровня ФК населения и развитию спор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18г. – Всеобщее военное обучение (Всевобу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тябрь 1919г. – Петроградский ин-т ФО им. П.Ф.Лесгаф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кабрь 1920г. – гос. Центральный. Ин-т ФК (ГЦФК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 1925г. – принят ряд постановл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15600" y="382680"/>
            <a:ext cx="799452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1-1934г.г. – введен Всесоюзный физк. Комплекс Г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5-37г.г. – разработана и введена Всесоюзная спортивная классифик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9г. Пересмотрены школьные программы по Ф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72г. – новый комплекс Г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1981г. – движение «Стартуют все!» по наст. Врем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4г. Повторное обращение к комплексу Г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7. СПОРТ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44480" y="1339560"/>
            <a:ext cx="78660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пор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ятельность, которая исторически выделилась и оформилась в виде состязаний, непосредственно направленных на демонстрацию достижений в 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пор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широком понятии охватывает собственно соревновательную деятельность, специальную подготовку к ней, а также специальные межчеловеческие отношения и поведенческие нормы, складывающиеся на основе эт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547040" cy="549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1054080" y="609480"/>
            <a:ext cx="7572240" cy="5516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318600"/>
            <a:ext cx="754380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Организующие факторы спор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авила соревнов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лож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определяют цели и зада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лендари соревнован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упорядочивают состязания по целям, задачам и месту про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лассификационные системы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уровни спортивной квалифик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Генеральный атрибут спорта - соревн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8880" y="304560"/>
            <a:ext cx="8121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8. Знания как компонент физического образования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8880" y="1616040"/>
            <a:ext cx="8121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Знания в общем смысл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совокупность накопленных в процессе общественно-исторической практики человечества сведений о природе, обществе, технике и самом челове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Знание в физическом воспитани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то значение и то содержание, без которых невозможен ни один акт сознательной деятельности человека по овладению физическими упражнениями, использованию их в  целях собственного физического развития и укрепления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одержимое 3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7913520" cy="624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509400"/>
            <a:ext cx="75438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Источником знан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роцессе учебного познания является не только информация учителя, но и сама двигательная деятельность занимающих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Цель приобретения знани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рименение их на практи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Главное предназначение ФК (цель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способствовать достижению физического совершенства подрастающим поколен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8660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9. Система физического воспитания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5440" y="1233000"/>
            <a:ext cx="8015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ффективность использования ФУ зависит от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и пед. проце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вня материального и научного обесп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ства органов руководства и контр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истема ФВ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целенаправленное взаимодействие всех перечисленных част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509760"/>
            <a:ext cx="7543800" cy="60148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32572b"/>
              </a:gs>
            </a:gsLst>
            <a:lin ang="5400000"/>
          </a:gradFill>
          <a:ln w="9360">
            <a:solidFill>
              <a:srgbClr val="8eac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Одна из главных задач ТМФ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оружить буд. учителя умением интегрировать междисциплинарные знания и знания, полученные при изучении частных методик, находить пути реализации этих знаний в практ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ТМФ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остоит из двух неразрывно связанных между собой час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ории физического воспитания (ТФВ) и методики физического воспитания (МФ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3357720"/>
            <a:ext cx="754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4653000"/>
            <a:ext cx="7543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9760" y="318600"/>
            <a:ext cx="810072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Главная функция системы ФВ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способствовать физическому совершенствованию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Цель системы Ф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ветском обществе – формирование физически совершенных людей, обладающих духовным богатством, моральной чистотой и способных к творческому труду и защите Род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енность системы обусловлена </a:t>
            </a: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основны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сестороннего развития общ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здоровительной направленности Ф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язи ФВ с трудовой и оборонной прак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66320" y="255240"/>
            <a:ext cx="7543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дополнительны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нципам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Непрерывности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Целостности развит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единство телесного, интеллектуального и социально-психологического компонентов в формировании Ф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Деятельностного подх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Вариативности и многообразия содержания форм Ф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Оптимиз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еобходимость приведения средств, методов, нагрузок, организационных форм занятий в соответствие с целями и содержанием пед. процесса, индивид. способностями, мотивацией и уровнем притязаний занимающегося, внешними условиями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Социально-экономические основы</a:t>
            </a:r>
            <a:br>
              <a:rPr sz="3200"/>
            </a:br>
            <a:endParaRPr b="1" lang="en-US" sz="32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066680" y="1011240"/>
            <a:ext cx="7547040" cy="509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8880" y="304920"/>
            <a:ext cx="8121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истема ФВ в системе социальной деятельности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30360"/>
            <a:ext cx="8211960" cy="456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10. Деятельность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402920"/>
            <a:ext cx="7543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гласно словарным определениям    </a:t>
            </a: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деятельност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пецифическая форма активного отношения к окружающему миру, содержание которой  составляет его целесообразное изменение и преобраз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Характеристики деятельност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ив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есообраз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едагогическая деятельность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774720" y="1352520"/>
            <a:ext cx="7851600" cy="479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оказатели ФД: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360440"/>
            <a:ext cx="75438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здоров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занимающихся (обще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занимающихся (СМГ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чество – показатель отличных, хороших, удовлетворительных, неудовлетворительных оцен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авнение показателей в начале и в конце учебного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изическое совершенство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оптимальный уровень двигательной подготовленности и физического развития человека применительно к современным условиям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Система физического воспитания, ее основы</a:t>
            </a: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 понятие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меют в виду нечто целое, представляющее собой единство закономерно расположенных и находящихся во взаимной связи частей, предназначенных для выполнения конкретных функций и решения тех или иных зада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Система физического воспитания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исторически обусловленный тип социальной практики физического воспитания, включающ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42560" y="574560"/>
            <a:ext cx="79218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</a:rPr>
              <a:t>Предмет изучения ТФВ: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щие закономерности ФВ как педагогического процесса, которые в равной мере свойственны физическому воспитанию разных слоев насел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тей и взросл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чинающих и квалифицированных спортсм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ория возникает, постоянно развивается, уточняется, дополняется, обновляется, жизнеутвержд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1efb3"/>
                </a:solidFill>
                <a:latin typeface="Arial"/>
              </a:rPr>
              <a:t>Мировоззренческие основы</a:t>
            </a:r>
            <a:endParaRPr b="1" lang="en-US" sz="40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дставляет собой совокупность взглядов и идей, определяющих направленность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течественной системе физического воспитания мировоззренческие установки направлены на содействие всестороннему и гармоническому развитию личности занимающихся, реализацию возможностей достижения каждым физического совершенства, укрепление и многолетнее сохранение здоровья, подготовку на этой основе членов общества к профессиональным видам деятель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1efb3"/>
                </a:solidFill>
                <a:latin typeface="Arial"/>
              </a:rPr>
              <a:t>Теоретико-методические основы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физического воспитания опирается на достижения многих наук. Ее теоретико-методической основой служат научные поло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ых наук (анатомия, физиология, биохимия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дагогических наук (педагогика, психология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ственных наук (философия, социолог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1efb3"/>
                </a:solidFill>
                <a:latin typeface="Arial"/>
              </a:rPr>
              <a:t>Программно-нормативные основы</a:t>
            </a:r>
            <a:endParaRPr b="1" lang="en-US" sz="40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ое воспитание осуществляется на основе обязательных государственных программ по физической культуре и спорту (программы для дошкольных учреждений, общеобразовательной школы, средних и высших учебных заведений, армии и т.д.). Эти программы содержат научно-обоснованные задачи и средства физического воспитания, комплексы двигательных умений и навыков, подлежащих усвоению, перечень конкретных норм и требован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efb3"/>
                </a:solidFill>
                <a:latin typeface="Arial"/>
              </a:rPr>
              <a:t>Программно-нормативные основы системы ФВ конкретизируются применительно:</a:t>
            </a:r>
            <a:endParaRPr b="1" lang="en-US" sz="32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особенностям контингента (возраст, пол, уровень подготовленности, состояние здоровья)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ям основной деятельности участников физкультурного движения (учеба, работа на производстве, служба в арми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5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в двух основных направлениях: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969840" y="1384200"/>
            <a:ext cx="7820280" cy="487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Организационные основы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онную структуру системы ФВ составляют государственные и общественно-самодеятельные формы организации, руководства и упра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По государственной линии предусматриваются: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тические обязательные занятия физическими упражнениями в дошкольных учреждениях (ясли-сад), общеобразовательных школах, средних специальных и высших учебных заведениях, армии, лечебно-профилактических организациях, занятия проводятся по государственным программам, в отведенное для этого часы в соответствии с расписанием и официальным графиком под руководством штатных специалистов (физкультурных кадро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По государственной линии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за организацией, осуществлением и результатами ФВ по государственной линии обеспечивают Комитет РФ по физической культуре, спорту и туризму, Комитет Государственной Думы по туризму и спорту, городские отделы по физической культуре и спорту. а также соответствующие отделы министерства образования Р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efb3"/>
                </a:solidFill>
                <a:latin typeface="Arial"/>
              </a:rPr>
              <a:t>По общественно-самодеятельной линии</a:t>
            </a:r>
            <a:endParaRPr b="1" lang="en-US" sz="28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ятия физическими упражнениями организуются в зависимости от индивидуальных склонностей, способностей занимающихся и потребности в физическом воспитании. Принципиальной чертой общественно-самодеятельной формы организации является полная добровольность физкультурных занятий. Продолжительность занятий во многом зависит от индивидуальной установки, личных склонностей и реального наличия свободного време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204" name="Picture 4" descr="srednee_27"/>
          <p:cNvPicPr/>
          <p:nvPr/>
        </p:nvPicPr>
        <p:blipFill>
          <a:blip r:embed="rId1"/>
          <a:stretch/>
        </p:blipFill>
        <p:spPr>
          <a:xfrm>
            <a:off x="3409920" y="306720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86920" y="574560"/>
            <a:ext cx="720108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Т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меет как научно-познавательное, так и практическое значение. Полученные в результате научных исследований данные обобщаются, теоретически осмысливаются, что позволяет отбирать, рекомендовать и использовать наиболее эффективные средства и методы ФВ для каждого конкретного случая (применительно к любой возрастной группе, для групп различного уровня подготовленности и т.д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920" y="574560"/>
            <a:ext cx="741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ffa3"/>
                </a:solidFill>
                <a:latin typeface="Times New Roman"/>
              </a:rPr>
              <a:t>Предме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</a:rPr>
              <a:t>изучения МФ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частные закономерности ФВ и реализация общих закономерностей в педагогическом процессе, имеющем конкретную направленность (профессионально-прикладная подготовка, спортивная подготов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ТМФВ  изучает ФВ как явление общественной жизни, выясняя его цель и задачи, взаимосвязь с другими сторонами воспитания личности (нравственным, умственным, эстетическим, трудовым и т.д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imes New Roman"/>
                <a:ea typeface="Times New Roman"/>
              </a:rPr>
              <a:t>Основные понятия, применяемые в ТМФВ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7840" y="1981080"/>
            <a:ext cx="780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1. ФИЗИЧЕСКАЯ КУЛЬТУ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ddd5d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изическая культура 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ид материальной культуры, характеризующая степень достижения физического совершенства как человеком в отдельности, так и общества в целом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» </a:t>
            </a:r>
            <a:r>
              <a:rPr b="1" i="1" lang="ru-RU" sz="28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(Сулейманов И.И., Михалев В.И., Шнайдер В.Х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К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самое емкое понятие по содержани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768240" y="371520"/>
            <a:ext cx="7845480" cy="5730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4:47Z</dcterms:created>
  <dc:creator>Наташа</dc:creator>
  <dc:description/>
  <dc:language>en-US</dc:language>
  <cp:lastModifiedBy>Пользователь</cp:lastModifiedBy>
  <dcterms:modified xsi:type="dcterms:W3CDTF">2023-01-13T06:10:31Z</dcterms:modified>
  <cp:revision>160</cp:revision>
  <dc:subject/>
  <dc:title>Слайд 1</dc:title>
</cp:coreProperties>
</file>