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AD476-31F1-4FF3-85CA-80A369C5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9F100-CCE8-4915-B00B-085038F8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117DC-E4C4-4345-8B4C-36229018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C8C2F-DB20-42A8-BE3B-92C78F99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720C-1D7A-4513-A4F8-B0E0D5AB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3FCC-AA0C-4397-AABC-3DE41465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40EA-F079-4705-8049-D10F2DEF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A2F1-FE7F-4E37-80C6-EED6C20E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453F-D1D7-4E46-A3A0-6F68C60F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3202-8528-4380-A021-E379BDD1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6F89-D177-4791-8C24-2BC429B3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26563-F413-4C9B-8869-6B0B0D92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8D86-B1B2-4769-BFA4-6D505802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68D1-325E-4976-BF46-A0F3FAB0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4609-B132-4B47-BD1C-21115B39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5E84-68C3-44D6-A1F5-99F0C617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E156-F22F-47AA-84DE-01525568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36117-EC86-4CBE-8A72-D1A8BD93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A3B8D-6D86-4B24-A914-42724B30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75DB4-04A9-4062-A1B4-099D71D5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69939-AD75-4E32-B460-DBA44E13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A5279-B6BD-4E37-9200-5DFFE554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F6319-4EBA-4996-AAF2-359F9EFE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7E47A-A600-464D-8AF5-D065C93B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6C26-DCE4-400B-A946-1DAC0D3200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7312-BB39-4FD0-B019-A2A0991140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Times New Roman"/>
              </a:rPr>
              <a:t>А. С. Пушкин – гордость русской литературы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94920" y="2708280"/>
            <a:ext cx="3887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н входит в нашу жизнь в самом начале ее и уже не покидает нас до конц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. Т. Твардовс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6084720" y="5661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799 – 1837 г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3280" y="2492280"/>
            <a:ext cx="410544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27280" y="3284640"/>
            <a:ext cx="2916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e5ff"/>
                </a:solidFill>
                <a:latin typeface="Garamond"/>
              </a:rPr>
              <a:t>Сергей Львович Пушкин – отец поэта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3141360"/>
            <a:ext cx="273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Надежда Осиповна Пушкина – мать поэт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2100240" cy="2519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516720" y="692280"/>
            <a:ext cx="2222640" cy="2520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348000" y="1484280"/>
            <a:ext cx="2232000" cy="2763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03640" y="981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Бабушка Пушкина, Мария Алексеевна Ганниба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Родословная А. С. Пушк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547640" y="3833640"/>
            <a:ext cx="2035440" cy="3024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5508720" y="3860640"/>
            <a:ext cx="2239920" cy="2997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5300640"/>
            <a:ext cx="17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Ма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Александровн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таршая сестра поэ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85080" y="5300640"/>
            <a:ext cx="1258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Брат поэта, Лев Сергеевич Пушки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6021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ушкин и Арина Родион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«Подруга дней моих суровых…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2119320"/>
            <a:ext cx="496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Россия еще не поставила памятника Арине Родионовне, Великой Няне поэта. Затерялась ее могила… А ведь часть ее души -  в поэте, в его «заветной лире», вся поэзия А. С. Пушкина освящена ею, крестьянской женщиной… Она – его Род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3706" r="3326" b="3216"/>
          <a:stretch/>
        </p:blipFill>
        <p:spPr>
          <a:xfrm>
            <a:off x="395280" y="1628640"/>
            <a:ext cx="315756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92720" y="5013000"/>
            <a:ext cx="2674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А.С. Пушкин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99640" y="5157360"/>
            <a:ext cx="2746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Наталья Николаевна Гончарова – жена поэ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2706840" cy="3671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rcRect l="0" t="0" r="-8410" b="-4819"/>
          <a:stretch/>
        </p:blipFill>
        <p:spPr>
          <a:xfrm>
            <a:off x="5003640" y="1413000"/>
            <a:ext cx="3384720" cy="3601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24000" y="1890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аталья Гончарова – «чистейшей прелести, чистейшей образец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093000"/>
            <a:ext cx="8532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ffff"/>
                </a:solidFill>
                <a:latin typeface="Garamond"/>
              </a:rPr>
              <a:t>«…А душу твою люблю я ещё более твоего лица!»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151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Дети А. С. Пушки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164360" y="1076400"/>
            <a:ext cx="1762200" cy="2857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093080" y="414972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ладший сын, Григорий Александрови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700360" y="1052640"/>
            <a:ext cx="1847880" cy="280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411280" y="407664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тарший сын, Александр Александрович Пушки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788000" y="1052640"/>
            <a:ext cx="2232000" cy="2847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88000" y="4149720"/>
            <a:ext cx="25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очь Наталья Александровна Пушки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79280" y="1125360"/>
            <a:ext cx="2227320" cy="2737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0920" y="4087800"/>
            <a:ext cx="201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таршая дочь Мария Александровна Пушки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5516640"/>
            <a:ext cx="8893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ffff"/>
                </a:solidFill>
                <a:latin typeface="Garamond"/>
              </a:rPr>
              <a:t>«Сашка, Машка, Гришка и Наташка – это вся моя жизнь…»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«На время улети в лицейский уголок…»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2360" y="1484280"/>
            <a:ext cx="5832360" cy="3600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5280" y="537372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А. С. Пушкин на экзамене читает стихотворение «Воспоминание в Царском сел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1844640"/>
            <a:ext cx="2592360" cy="36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сле экзамена министр просвещения сказал отцу Пушкина: «Я бы желал образовать вашего сына также и в прозе», но Державин живо воскликнул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«Нет! Оставьте его поэтом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«И чувства добрые я лирой пробуждал…»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08720" y="1268280"/>
            <a:ext cx="3106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«О Пушкин, Пушкин, кто тебя учил пленять в стихах чудесных?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Глинк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2349360"/>
            <a:ext cx="75610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Друзья! Прекрасен наш союз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Люблю я пышное природы увяданье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Я помню чудное мгновенье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Что в мой жестокий век восславил я свободу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Дар напрасный, дар случайны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Жизнь, зачем ты мне дана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) «И долго буду тем любезен я народу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243480" y="2565360"/>
            <a:ext cx="26956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«Онегин» есть самое задушевное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произведение Пушкина, 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самое любимое дитя его фантазии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                               </a:t>
            </a: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В.Г. Белинский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6021360"/>
            <a:ext cx="28908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Евгений Онегин и Татьяна Лари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989000"/>
            <a:ext cx="38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95640" y="2637000"/>
            <a:ext cx="482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Проходит долгое молчанье, и тихо наконец она: «Довольно; встаньте. Я должна вам объясниться откровенно. Онегин, помните ль тот час, когда в саду, в аллее нас судьба свела, и так смиренно урок ваш выслушала я? Сегодня очередь моя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3456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«Я памятник себе воздвиг нерукотворный…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5850000"/>
            <a:ext cx="3059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амятник А. С. Пушкину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осква. Пушкинская площадь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А. М. Опекушин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2887920" cy="4392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346560" y="1844640"/>
            <a:ext cx="58338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На постаменте памятника выбиты строки из стихотворения А. С. Пушкина «Памятник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И долго буду тем любезен я народ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Что чувства добрые я лирой пробужда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Что в мой жестокий век восславил я своб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И милость к падшим призывал.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6:02:57Z</dcterms:created>
  <dc:creator>Пользователь</dc:creator>
  <dc:description/>
  <dc:language>en-US</dc:language>
  <cp:lastModifiedBy>Пользователь</cp:lastModifiedBy>
  <dcterms:modified xsi:type="dcterms:W3CDTF">2009-04-16T06:36:57Z</dcterms:modified>
  <cp:revision>15</cp:revision>
  <dc:subject/>
  <dc:title>А. С. Пушкин – гордость русской литературы.</dc:title>
</cp:coreProperties>
</file>