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6AE-1FA4-4785-8088-3229A349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536-80F1-4E3D-B11A-9F2923F2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EA6-DFA4-4641-8D18-1FCB9324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453-09D4-4E95-BDAC-FE05DF14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D9C-2164-4612-9389-AA219BE4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7EA-8DCD-4036-A149-A521948B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E72-34DC-4420-808F-59715C84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D7D-6096-42E1-8925-CF6574B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7AC-C1E8-4AF0-91EC-D0461721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D6C-A58F-429B-833C-A92B5039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B92-D02A-4EBF-A26D-94DA36B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272-8806-4300-90BF-CE1A6AE8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868C-74BC-449F-BE47-183BEEA9F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1603440"/>
            <a:ext cx="7723440" cy="277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ловосоче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етом, выход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под щели, наход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я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орядком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станов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я маятником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 flipV="1">
            <a:off x="1214280" y="1571400"/>
            <a:ext cx="285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8"/>
          <p:cNvSpPr/>
          <p:nvPr/>
        </p:nvSpPr>
        <p:spPr>
          <a:xfrm>
            <a:off x="1214280" y="1571760"/>
            <a:ext cx="2145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 flipV="1">
            <a:off x="1641600" y="15714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4"/>
          <p:cNvSpPr/>
          <p:nvPr/>
        </p:nvSpPr>
        <p:spPr>
          <a:xfrm>
            <a:off x="1643040" y="1571760"/>
            <a:ext cx="1285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6"/>
          <p:cNvCxnSpPr/>
          <p:nvPr/>
        </p:nvCxnSpPr>
        <p:spPr>
          <a:xfrm flipH="1">
            <a:off x="2927160" y="1571400"/>
            <a:ext cx="216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Прямая соединительная линия 18"/>
          <p:cNvSpPr/>
          <p:nvPr/>
        </p:nvSpPr>
        <p:spPr>
          <a:xfrm>
            <a:off x="1428840" y="2786040"/>
            <a:ext cx="2142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0"/>
          <p:cNvSpPr/>
          <p:nvPr/>
        </p:nvSpPr>
        <p:spPr>
          <a:xfrm flipH="1">
            <a:off x="1428480" y="2785320"/>
            <a:ext cx="2142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2"/>
          <p:cNvSpPr/>
          <p:nvPr/>
        </p:nvSpPr>
        <p:spPr>
          <a:xfrm flipV="1">
            <a:off x="2141640" y="27144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4"/>
          <p:cNvSpPr/>
          <p:nvPr/>
        </p:nvSpPr>
        <p:spPr>
          <a:xfrm>
            <a:off x="2143080" y="2714760"/>
            <a:ext cx="1714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6"/>
          <p:cNvCxnSpPr/>
          <p:nvPr/>
        </p:nvCxnSpPr>
        <p:spPr>
          <a:xfrm flipH="1">
            <a:off x="3855240" y="2714400"/>
            <a:ext cx="25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рямая соединительная линия 28"/>
          <p:cNvSpPr/>
          <p:nvPr/>
        </p:nvSpPr>
        <p:spPr>
          <a:xfrm>
            <a:off x="4285440" y="4000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0"/>
          <p:cNvSpPr/>
          <p:nvPr/>
        </p:nvSpPr>
        <p:spPr>
          <a:xfrm flipH="1">
            <a:off x="4285800" y="4000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2"/>
          <p:cNvSpPr/>
          <p:nvPr/>
        </p:nvSpPr>
        <p:spPr>
          <a:xfrm flipV="1">
            <a:off x="3927600" y="385920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4"/>
          <p:cNvSpPr/>
          <p:nvPr/>
        </p:nvSpPr>
        <p:spPr>
          <a:xfrm flipH="1" flipV="1">
            <a:off x="2286000" y="385776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36"/>
          <p:cNvCxnSpPr/>
          <p:nvPr/>
        </p:nvCxnSpPr>
        <p:spPr>
          <a:xfrm flipH="1">
            <a:off x="2284200" y="38592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Прямая соединительная линия 38"/>
          <p:cNvSpPr/>
          <p:nvPr/>
        </p:nvSpPr>
        <p:spPr>
          <a:xfrm>
            <a:off x="4785480" y="5143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40"/>
          <p:cNvSpPr/>
          <p:nvPr/>
        </p:nvSpPr>
        <p:spPr>
          <a:xfrm flipH="1">
            <a:off x="4786200" y="5143680"/>
            <a:ext cx="21456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 flipH="1">
            <a:off x="4427640" y="514512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5"/>
          <p:cNvSpPr/>
          <p:nvPr/>
        </p:nvSpPr>
        <p:spPr>
          <a:xfrm flipH="1" flipV="1">
            <a:off x="2928600" y="5143680"/>
            <a:ext cx="1500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7"/>
          <p:cNvCxnSpPr/>
          <p:nvPr/>
        </p:nvCxnSpPr>
        <p:spPr>
          <a:xfrm flipH="1">
            <a:off x="2927160" y="5144760"/>
            <a:ext cx="21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з сеней он попал в комнату, тоже темную, чуть-чуть озаренную светом, выходившим из-под широкой щели, находившейся внизу двер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50"/>
                            </p:stCondLst>
                            <p:childTnLst>
                              <p:par>
                                <p:cTn id="2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450"/>
                            </p:stCondLst>
                            <p:childTnLst>
                              <p:par>
                                <p:cTn id="2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бюре, выложенном перламутною мозаикой, которая местами уже выпала и оставила после себя одни желтенькие желобки, наполненные клеем, лежало множество всякой всячины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8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80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Из сене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о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попал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в комнату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тоже темну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чуть-чуть озаренную свето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выходившим из-под широкой щел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находившейся внизу двер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 бюр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ложенном перламутною мозаик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тора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естами уж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пал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оставил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сле себ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одн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желтеньки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желобк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полненные клее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лежал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ножество всякой всячин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йдите средства выразительности в данном тек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56545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4000" spc="-1" strike="noStrike">
                <a:solidFill>
                  <a:srgbClr val="403152"/>
                </a:solidFill>
                <a:latin typeface="Calibri"/>
              </a:rPr>
              <a:t>Средства выразительности</a:t>
            </a:r>
            <a:r>
              <a:rPr b="1" lang="en-US" sz="3600" spc="-1" strike="noStrike">
                <a:solidFill>
                  <a:srgbClr val="403152"/>
                </a:solidFill>
                <a:latin typeface="Calibri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как из погреба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Эпите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темные сени; темная комната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нтаксический параллелиз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5, 7 предложения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яды однородных член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5, 6 предложения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ллитерац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-2, 7 предлож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001000" cy="150012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ворческо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320" y="2060280"/>
            <a:ext cx="8001000" cy="42260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Вариант 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Какой звуковой образ создает Н.В. Гоголь в этих предложен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Вариант 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Какой образ дома Плюшкина создает данная аллитерация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ль средств выразительности в данном тек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19526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ершенствование умений и навыков по лексике, морфемике, морфологии, словообразованию, фонетике, синтаксису; развитие творческих способ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2491920"/>
            <a:ext cx="8207280" cy="40323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alibri"/>
              </a:rPr>
              <a:t>Задачи: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крепление лексического и грамматического материала по пройденным тем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вершенствование орфографических и пунктуационных навы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тработка навыков работы с текстом с целью подготовки к итоговой аттестации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витие навыков написания сочинения-миниатю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витие читательского интереса к классической литературе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288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4240" y="1571400"/>
            <a:ext cx="7715520" cy="4857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н вступил в темные широкие сени, от которых подуло хол…дом, как из погреба. 2. Из сеней он попал в комнату, тоже темную, чуть-чуть оз…ренную светом, выходившим из(под) широкой щели, находившейся внизу двери. 3. Отворивши эту дверь он наконец очутился в свету и был пор…жен представшим бе…порядком. 4. Казалось, как будто в доме происходило мытье полов и сюда на время нагромоздили всю мебель. 5. На одном столе стоял даже слома…ый стул и рядом с ним часы с остановившимся маятником, к которому паук уже пр…ладил паутину. 6. Тут же стоял пр…слоненный боком к стене шкаф с старинным серебром графинчиками и китайским ф…рфором. 7. На бюре выложе…ом перламутною мозаикой которая местами уже выпала и оставила после себя одни желтенькие желобки наполненные клеем лежало множество всякой всячины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н вступил в темные широкие сени, от которых подуло холодом, как из погреба. 2. Из сеней он попал в комнату, тоже темную, чуть-чуть озаренную светом, выходившим из-под широкой щели, находившейся внизу двери. 3. Отворивши эту дверь, он наконец очутился в свету и был поражен представшим беспорядком. 4. Казалось, как будто в доме происходило мытье полов и сюда на время нагромоздили всю мебель. 5. На одном столе стоял даже сломанный стул и рядом с ним часы с остановившимся маятником, к которому паук уже приладил паутину. 6. Тут же стоял прислоненный боком к стене шкаф с старинным серебром, графинчиками и китайским фарфором. 7. На бюре, выложенном перламутною мозаикой, которая местами уже выпала и оставила после себя одни желтенькие желобки, наполненные клеем, лежало множество всякой всячины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старевши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) отворивш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отвори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очутился) в свету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(очутился) на свет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бюр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на бюр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выложенном) перламутною (мозаико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 – совр.: перламутровой (мозаик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е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помещение ниже уровня земли для хранения припа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ат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книжн., устар.) – = хорони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ени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устар.) – = похоро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альный обря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устар.) - = похоронный обря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Фонетический разбо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-во-рив-ш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– 4 слога, 3-й ударн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 – [а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 – [т] – согласный, глухо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– [в] – согласный, звонки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 – [а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 – [р’] – согласный, звонкий, мягки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– [и] – гласный, 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– [ф] – согласный, глухо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ш – [ш] – согласный, глухой, твердый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– [ы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9 букв, 9 зву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6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6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6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орфемный и словообразовательный разб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сломан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отворивш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орфемный и словообразовательны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-лом-а-нн-ый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ма-нн-ый ← сломать (суффиксаль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-твор-и-вш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ори-вши ← отворить (суффиксальны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4:39:26Z</dcterms:created>
  <dc:creator>Наталья</dc:creator>
  <dc:description/>
  <dc:language>en-US</dc:language>
  <cp:lastModifiedBy>Света</cp:lastModifiedBy>
  <dcterms:modified xsi:type="dcterms:W3CDTF">2010-02-02T16:08:07Z</dcterms:modified>
  <cp:revision>30</cp:revision>
  <dc:subject/>
  <dc:title>Слайд 1</dc:title>
</cp:coreProperties>
</file>