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BEB-156F-4827-9D7E-9A2C7926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006-F292-4878-9636-30B7D490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027-4F55-42CC-AA84-9AD34557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CBB-429B-40F1-84FE-75A36E48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E63-9BF1-42D6-B53C-4A475385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A7D-A224-4C14-AA46-4D79C6ED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D58-A5B2-484B-A37F-5C0228D9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DDF-2FE0-433E-B321-27EF4800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2D6-77E6-422C-9EA3-EFE5E0E6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CC6-DB0F-4471-B750-D08480B9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546-EB9A-4C34-A040-13A69F8E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488-631E-42A2-ADE6-FDEB366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C13D-6333-4B6D-9327-FAFE94B8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дцать  девятое январ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34136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321300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жат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 элементами соч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ыгра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к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132000" y="476280"/>
            <a:ext cx="3095640" cy="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6227640" y="475920"/>
            <a:ext cx="0" cy="64908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уффик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- 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 - 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3132000" y="260280"/>
            <a:ext cx="1440000" cy="36036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4572000" y="260280"/>
            <a:ext cx="1440000" cy="43200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556000" y="177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2411280" y="1773000"/>
            <a:ext cx="14472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484360" y="3357720"/>
            <a:ext cx="14472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2340000" y="3357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итное и раздельное напис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-3286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мети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924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ж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двоен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икл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гн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влеч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азделительные Ь и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ходящее солнце пробуждает спящую прир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ящая она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826920" y="407664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обласканная солнцем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кто каждый день добывает себе пропитание. Но подлинная лесная драма розыгралась с оленями. В мало снежные зимы олени легко находили прошлогоднюю траву, поедали молодые побеги кустов, легко пробе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ник Коля пошел на лыжах в лес подсыпать зерен в кормушки для птиц. Увлеченый прогулкой  мальчишка незаметил, как очутился в глухом квартале. Он повернул было назад, но задержался  увидив следы. «Что за соседство,— подумал Коля,— Почему это рядом с оленьим следом вьется ровной цепочкой лись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1357200" y="928800"/>
            <a:ext cx="6072480" cy="144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сканная солнцем земля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971640" y="522936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горячённые спором ребята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Разгорячённые спором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бят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116000" y="6021360"/>
            <a:ext cx="453564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численная стая лебедей, возвращающихся с далёкого юга на север кружа над заливом стала постепенно опускаться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уска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ившись на опушке мы слушали затаив дыхание весеннюю песню пробуждающегося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659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6659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564000" y="39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564000" y="400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292428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ди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Остановившись на опушке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ы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уш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таив дых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есеннюю песню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робуждающего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65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65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56400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11280" y="278136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76360" y="4365720"/>
          <a:ext cx="5567400" cy="517320"/>
        </p:xfrm>
        <a:graphic>
          <a:graphicData uri="http://schemas.openxmlformats.org/drawingml/2006/table">
            <a:tbl>
              <a:tblPr/>
              <a:tblGrid>
                <a:gridCol w="556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0000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 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влеченный прогул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Он повернул было назад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ержа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ев сл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«Что за соседство,— подумал Коля . 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558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трудом пробираясь сквозь подлесок и бурел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лениха. Бока ввалились. Еле передвигает ноги. Лисица почуяла близкую смерть оленихи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жид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  кто каждый день добывает себе пропитание. Но подлинная лесная драм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ыгра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оленями.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оснеж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ы олени легко находили прошлогоднюю траву, поедали молодые побеги кустов, легк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б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леч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гулкой   мальчишк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ме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очутился в глухом квартале. Он повернул было назад, но задержался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ы. «Что за соседство,— подумал Коля 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6516720" y="2421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6659640" y="4581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118728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орочив сзади вязанку с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олнив карманы овс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яв пакет с сол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н 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и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"/>
          <p:cNvSpPr/>
          <p:nvPr/>
        </p:nvSpPr>
        <p:spPr>
          <a:xfrm>
            <a:off x="7380360" y="249228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>
            <a:off x="3348000" y="5445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льчишка не заметил, как очутился в глухом квартале. Он повернул было назад, но задержался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Кол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Утопая в снег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сквозь подлесок и бурелом, понурив голову, брела олениха. Бока ввалились. Еле передвигает ноги. Лисица почуя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4"/>
          <p:cNvSpPr/>
          <p:nvPr/>
        </p:nvSpPr>
        <p:spPr>
          <a:xfrm>
            <a:off x="7380360" y="3429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334800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уров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училась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ме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опинки и переходы, все кормовые места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длинная лесная д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ыгралась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малоснежны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гко находили прошлогоднюю траву, поедали молодые побеги кустов, легко пробирались к кормушкам. Теперь им даже ходить стал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сник 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вернул было назад, но задержал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 — Почему это рядом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ь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с трудом пробирая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квозь подлесок и бурелом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брел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ока ввали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Еле передвигает ног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Лисица почуяла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лизкую смер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шла, поджидая, когд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укнул палкой по дереву, лисица оглянулась и огненным шаром метнулась в чащу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Медленно, очень медленно, чтобы не испуг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 подходить ближе. Через    полчаса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же подбирала шершавыми губами с ладоней ове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ала на том же месте и сразу подняла голову. С жадностью стала лизать соль, съела овес.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Се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остав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при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ст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робкими шагами вых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а Колю пройти по следам километра четыре. Так вот в чем тайна! Утопая в снегу  с трудом пробираясь сквось подлесок и бурелом, понурив голову, брела олениха. Бока ввалились. Еле передвигаит ноги. Лисица почуи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инулась и огне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с элементами опис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роисшествие в зимнем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ы в ответе за тех, кого приручи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игур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яды однород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Инверс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клицатель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Неполные 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дносоставные предложен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речная лекс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говорные синтаксическ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95280" y="549360"/>
            <a:ext cx="82803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мительны эти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ыкно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62728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окры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0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девя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75564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нд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2700360" y="1557360"/>
            <a:ext cx="1944720" cy="7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4643280" y="1484280"/>
            <a:ext cx="3530880" cy="144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556000" y="126828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2124000" y="2133720"/>
            <a:ext cx="0" cy="287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11564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11600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1476360" y="980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1476360" y="981000"/>
            <a:ext cx="1871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348000" y="98100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6373800" y="98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7016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826920" y="1125360"/>
            <a:ext cx="144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826920" y="1125360"/>
            <a:ext cx="0" cy="35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3111480" y="2811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549440" y="5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7575480" y="4168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52360" y="102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2824200" y="25844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223056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ая 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4"/>
          <p:cNvSpPr/>
          <p:nvPr/>
        </p:nvSpPr>
        <p:spPr>
          <a:xfrm>
            <a:off x="611280" y="2421000"/>
            <a:ext cx="1368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2125800" y="20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2771640" y="43657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д 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79280" y="436572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5651640" y="4508640"/>
            <a:ext cx="1944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65164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759636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6372360" y="4292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476360" y="4292640"/>
            <a:ext cx="489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509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2400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7886880" y="3357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270036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5580000" y="436572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7"/>
          <p:cNvSpPr/>
          <p:nvPr/>
        </p:nvSpPr>
        <p:spPr>
          <a:xfrm>
            <a:off x="39265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77336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ходим в тексте слово, которое отвечает на вопрос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редмета по действию. Подчеркиваем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08200" y="438480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3480" y="3376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4000" y="292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буем заменить его сочетанием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ТОРЫЙ + ГЛАГО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щем суффиксы, соответствующие причастию. Если все требования выполнены, причастие най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4581360"/>
            <a:ext cx="81565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щем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ЯЕ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о (слово, от которого зависит причастие – существительное или местоим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95280" y="5734080"/>
            <a:ext cx="556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бозначаем ег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34800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3348000" y="580536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85928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1628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ходим (если есть)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ВИСИ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ричастия слова (слова, к которым от причастия можно задать вопрос). Подчёркиваем их волнистой линией, обозначаем гра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РИЧАСТНОГО ОБ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43120" y="366552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3213000"/>
            <a:ext cx="86421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ым словом (существительным), то мы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м его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76560" y="4745160"/>
            <a:ext cx="62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92200" y="467352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50920" y="4149720"/>
            <a:ext cx="79405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определяемым словом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стоимени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), то м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деля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его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516640"/>
            <a:ext cx="772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ого слова,  выделяем оборот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4572000" y="2924280"/>
            <a:ext cx="2305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94836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95280" y="2060640"/>
            <a:ext cx="835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Если причастие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ДИНОЧ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тыми не выде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5280" y="3429000"/>
            <a:ext cx="8424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Если определяемым словом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ичное местоим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частие (даже одиночное) всегда обособляется, независимо от его местоположения (и после определяемого слова, и перед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936520" y="9684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5280" y="765000"/>
          <a:ext cx="8424720" cy="5942160"/>
        </p:xfrm>
        <a:graphic>
          <a:graphicData uri="http://schemas.openxmlformats.org/drawingml/2006/table">
            <a:tbl>
              <a:tblPr/>
              <a:tblGrid>
                <a:gridCol w="2576520"/>
                <a:gridCol w="2247840"/>
                <a:gridCol w="1771560"/>
                <a:gridCol w="182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Line 157"/>
          <p:cNvSpPr/>
          <p:nvPr/>
        </p:nvSpPr>
        <p:spPr>
          <a:xfrm>
            <a:off x="395280" y="76500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24000" y="620640"/>
          <a:ext cx="8569080" cy="5857920"/>
        </p:xfrm>
        <a:graphic>
          <a:graphicData uri="http://schemas.openxmlformats.org/drawingml/2006/table">
            <a:tbl>
              <a:tblPr/>
              <a:tblGrid>
                <a:gridCol w="1887480"/>
                <a:gridCol w="2324160"/>
                <a:gridCol w="2108160"/>
                <a:gridCol w="2249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Гро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я, его роль в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оеобраз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ого 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о-попу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r>
                        <a:rPr b="1" lang="en-US" sz="20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расс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150"/>
          <p:cNvSpPr/>
          <p:nvPr/>
        </p:nvSpPr>
        <p:spPr>
          <a:xfrm>
            <a:off x="2484360" y="18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оставитель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2"/>
          <p:cNvSpPr/>
          <p:nvPr/>
        </p:nvSpPr>
        <p:spPr>
          <a:xfrm>
            <a:off x="324000" y="62064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стави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ю пройти по следам километра четыре. Так вот в чем тайна! Утопая в сне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в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лесок и бурелом, понурив голову, брела олениха. Бока ввалились. Ел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ви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оги.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ула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не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, все кормовые места. Трудно стало в лесу всем, кто каждый день добывает себе пропитание. Но подлинная лесная драма разыгралась с оленям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Когда он решил вернуться назад, вдруг заметил странные  следы: рядом с оленьим следом вьется ли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йдя километра четыре, Коля увидел, как,  утопая в снегу, брела олениха. Её сопровождала лисица, которая почуяла близкую смерть оле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стукнул палкой по дереву -  лисица метнулась в чащу, а  олениха грузно осела в суг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мальчик, прихватив с собой гостинцы для новой знакомой, отправился в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ниха с радостью встретила К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выходила из чащи на призыв: «Ленка, Ленка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о, чтобы не испугать олениху, Коля стал подходить ближе. Через    пол-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арочив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ижала на том же месте и сразу подняла голову. С жадностью стала лизать соль, сь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евыкла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тобы не испугать олениху, Коля стал подходить ближе. Через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ча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ч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том же месте и сразу подняла голову. С жадностью стала лизать соль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571840" y="264312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двиг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ставил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.р, ед.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95640" y="404640"/>
            <a:ext cx="4032000" cy="914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кон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лас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л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чив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4"/>
          <p:cNvSpPr/>
          <p:nvPr/>
        </p:nvSpPr>
        <p:spPr>
          <a:xfrm rot="18579000">
            <a:off x="3836160" y="-127800"/>
            <a:ext cx="1424160" cy="1679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>
            <a:off x="608436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6:46Z</dcterms:created>
  <dc:creator>_</dc:creator>
  <dc:description/>
  <dc:language>en-US</dc:language>
  <cp:lastModifiedBy>_</cp:lastModifiedBy>
  <dcterms:modified xsi:type="dcterms:W3CDTF">2010-01-28T18:46:34Z</dcterms:modified>
  <cp:revision>29</cp:revision>
  <dc:subject/>
  <dc:title>Слайд 1</dc:title>
</cp:coreProperties>
</file>