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BAA-6416-4B44-9EBE-78AD13DA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7B1-627F-4F82-B87B-283E9D26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0B5-5D8A-4CC5-9E20-325750B4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1E3-E56B-4BAA-A028-5FE5ACB1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64A-66C8-42E1-A0A7-300A3B6B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89C-8A76-40BB-ACC9-FD0C69DD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829-5196-452C-BEA0-33C06A16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562-DD74-4D13-B414-BAB2D85E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1A7-AFB0-4898-BA60-5CC31918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8F2-9A06-42E1-9D0D-1394353B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D21-DA11-4976-B3ED-FE6DA79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D5D-938B-418B-987B-97904A57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1CC9-1910-429B-BB74-AC8B61CB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755640" y="1628640"/>
            <a:ext cx="7129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еятельностный подхо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дошкольном образован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908000" y="40464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БДОУ г. Иркутска детский сад №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735600" y="544500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В. Таска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2448000" y="4361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(к докладу на методсовете 21.05.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143520" y="618336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ркутск -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468360" y="404640"/>
            <a:ext cx="684036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ем была полезна сегодняшняя информац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Что Вы сейчас чувству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За что Вы могли бы похвалить себ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Я поняла, что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 меня возникло желани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ое внимание привлекла мысл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"/>
          <p:cNvPicPr/>
          <p:nvPr/>
        </p:nvPicPr>
        <p:blipFill>
          <a:blip r:embed="rId1"/>
          <a:stretch/>
        </p:blipFill>
        <p:spPr>
          <a:xfrm>
            <a:off x="5940360" y="3213000"/>
            <a:ext cx="2481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1042920" y="105264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50920" y="278712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1619280" y="33336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ущность деятельностн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50920" y="1052640"/>
            <a:ext cx="8785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де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 в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м образовании связана не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деятельностью как таковой, а с деятельностью как средством становления и развития субъектности ребенка. То есть в процессе и результате использования форм, приемов и методов образовательной работы рождается не объект, обученный и запрограммированный на четкое выполнение определенных видов действий, деятельност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еловек, способный выбирать, оценив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ть, конструировать те ви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, которые адекватны его приро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ют его потребности в саморазвит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819760" y="3535200"/>
            <a:ext cx="31719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93560" y="333360"/>
            <a:ext cx="86439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деятельностного подхода в дошкольной педагогике тесно связано с появлением и развитием идей этого же подхода в дет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и. Психологическое изучение деятельност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 предмета было начато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ом Семёновичем Выготск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деятельностного подхода в психологии залож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Николаевич Леонтье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рассматривал человече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   как процесс,  в результате которого в каче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го момента возникает психическое «вообщ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читал, что внутренняя деятельность, являясь втори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ю к внешней, формируется в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иор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ехода внешней деятельности 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юю. Обратный переход - от внутренней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. Леонтьев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3 – 1979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ко внешней - обозначается термин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стериориза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7236000" y="765000"/>
            <a:ext cx="1512720" cy="2049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1800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24000" y="4748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й общей форме деятельностный подход означает организацию и управление целенаправленной образовательной деятельностью ребенка в общем контексте его жизнедеятельности — направленности интересов, понимания смысла обучения и воспитания, личностного опыта в интересах становления субъектной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совместной деятельности ребенка и взрослого с точки зрения деятельностного подхода заключается в том, что в центре внимания стоит не просто деятельность, а совместная деятельность детей и взрослых по реализации вместе выработанных целей и задач. Педагог не передает готовые образцы нравственной и духовной культуры, а создает, вырабатывает их вместе с воспитанниками. Именно ведущая деятельность  отвечает за психическое развитие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42920" y="1268280"/>
          <a:ext cx="6096240" cy="351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51000">
                <a:tc>
                  <a:txBody>
                    <a:bodyPr lIns="9360" rIns="9360" tIns="79200" bIns="79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1"/>
          <p:cNvSpPr/>
          <p:nvPr/>
        </p:nvSpPr>
        <p:spPr>
          <a:xfrm>
            <a:off x="250920" y="5493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 периодизации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ила Борисовича Элькони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возрастной этап однозначно   характеризуется свойственной ему ведущей деятельностью. Переход от одной ведущей деятельности к другой - это и есть переход с одной ступени возрастного развития на 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 же время следует заметить, что деятельнос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 к проблемам психического развития 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шенными вопросы механизмов этого пере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ый подход означает организац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целенаправленной образо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ю ребенка в общем контексте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деятельности —  направленности интересов,  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Б. Эльконин  (1904 – 1984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я смысла обучения и воспитания, лично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а в интересах становления субъект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6012000" y="2276640"/>
            <a:ext cx="1904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68360" y="549360"/>
            <a:ext cx="835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цесс учения - это процесс деятельности ученика, направл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новление его сознания и его личности в целом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овые знания не даются в готовом ви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что такое “деятельностный подход” в образовании!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. Леон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ный подход в образован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это совсем не совокупность образовательных технологий или методических приемов. Это своего рода философия образования, методологический бази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деятельностным подходом понимаю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й способ организации учебно-познавательной деятельности обучаемых, при котором они являются не пассивными «приёмниками» информации, а сами активно участвуют в учеб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ю деятельностного подх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воспитание личности ребенка как субъекта жизнедеятельности. Быть субъектом – быть хозяином своей деятельности: ставить цели, решать задачи, отвечать за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50920" y="26028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совместной деятельности ребенка и взрослого с точки зрения деятельностного подхода заключается в том, что в центре внимания стоит не просто деятельность, а совместная деятельность детей и взрослых по реализации вместе выработанных целей и зада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2124000" y="2109960"/>
            <a:ext cx="4000680" cy="3159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50920" y="544500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не передает готовые образцы нравственной и духовной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оздает, вырабатывает их вместе с воспит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045440" y="2991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179280" y="390600"/>
            <a:ext cx="8640720" cy="56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нципы деятельностного подх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ятель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бы ребенок, получал знания не в готовом виде, а добывал их 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такую организацию обучения, когда результат деятельности на каждом предыдущем этапе обеспечивает начало следующего этап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лост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формирование у ребенка обобщенного, целостного и системного представления о мире (природе- обществе - самом себе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минимакса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 д/сад должен предложить ребенку возможность освоения содержания образования на максимальном для него уровне и обеспечить при этом его усвоение на уровне социально безопасного минимума (ФГОС Д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сихологической комфорт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снятие стрессообразующих факторов образовательного процесса, создание в ДОУ и на занятии доброжелательной атмосферы, развитие диалоговых форм общ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ариативност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 на развитие у детей вариативного мышления, то есть понимания возможности различных вариантов решения проблемы, формирование способности к систематическому перебору вариантов и выбору оптимального вариан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ворчества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значает максимальную ориентацию на творческое начало в образовательном процессе, приобретение детьми собственного опыта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250920" y="765000"/>
            <a:ext cx="86421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нципы организации совмес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язательной рефлексивности вся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равственного обогащения используемых в качестве средства видов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трудничества при организации и управления различными формам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37:36Z</dcterms:created>
  <dc:creator>игорь</dc:creator>
  <dc:description/>
  <dc:language>en-US</dc:language>
  <cp:lastModifiedBy>Игорь Таскаев</cp:lastModifiedBy>
  <dcterms:modified xsi:type="dcterms:W3CDTF">2023-10-22T09:11:32Z</dcterms:modified>
  <cp:revision>93</cp:revision>
  <dc:subject/>
  <dc:title>Слайд 1</dc:title>
</cp:coreProperties>
</file>