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59B-8E52-40C7-983D-FFFA04D0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A67-4192-4E51-BD5A-4319CE28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AF7-01DA-4DD4-87B5-EC4A94D3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BA9-7E60-440D-B2E0-CE259125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3EF-98F2-42CF-B0D5-B953D562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314-7995-4865-81D9-81D4983B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D9F-A8E5-4E0E-AB38-B1A05AD1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90F-F552-4C0B-8E2A-3968325B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597-5444-4354-AE3D-32412FBF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C68-B541-41AB-8E76-7E94D6E2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07B-305F-480D-BE18-94ECD93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6E2-C153-4653-83BC-0D89B0D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CF8-0092-4DFF-9243-02FA01C6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162864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ятельностный подхо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дошкольном образован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08000" y="40464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БДОУ г. Иркутска детский сад №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735600" y="54450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В. Таска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448000" y="4361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(к докладу на методсовете 21.05.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143520" y="61833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ркутск -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468360" y="404640"/>
            <a:ext cx="684036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ем была полезна сегодняшняя информац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Что Вы сейчас чувству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За что Вы могли бы похвалить себ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Я поняла, что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 меня возникло желани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ое внимание привлекла мысл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5940360" y="3213000"/>
            <a:ext cx="2481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1042920" y="105264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50920" y="278712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619280" y="33336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щность деятель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50920" y="1052640"/>
            <a:ext cx="8785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 в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м образовании связана не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еятельностью как таковой, а с деятельностью как средством становления и развития субъектности ребенка. То есть в процессе и результате использования форм, приемов и методов образовательной работы рождается не объект, обученный и запрограммированный на четкое выполнение определенных видов действий, деятельнос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ловек, способный выбирать, оцени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ть, конструировать те 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которые адекватны его приро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ют его потребности в саморазвит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819760" y="3535200"/>
            <a:ext cx="31719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93560" y="333360"/>
            <a:ext cx="86439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деятельностного подхода в дошкольной педагогике тесно связано с появлением и развитием идей этого же подхода в дет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и. Психологическое изучение деятельност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 предмета было начат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м Семёновичем Выготс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еятельностного подхода в психологии залож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Николаевич Леонть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рассматривал человече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   как процесс,  в результате которого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го момента возникает психическое «вообщ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читал, что внутренняя деятельность, являясь втор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внешней, формируется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ехода внешней деятельности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юю. Обратный переход - от внутренней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 – 1979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ко внешней - обозначается термин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стериориза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512720" cy="2049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1800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4748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й общей форме деятельностный подход означает организацию и управление целенаправленной образовательной деятельностью ребенка в общем контексте его жизнедеятельности — направленности интересов, понимания смысла обучения и воспитания, личностного опыта в интересах становления субъектной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вместной деятельности ребенка и взрослого с точки зрения деятельностного подхода заключается в том, что в центре внимания стоит не просто деятельность, а совместная деятельность детей и взрослых по реализации вместе выработанных целей и задач. Педагог не передает готовые образцы нравственной и духовной культуры, а создает, вырабатывает их вместе с воспитанниками. Именно ведущая деятельность  отвечает за психическое развитие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42920" y="1268280"/>
          <a:ext cx="6096240" cy="351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1000">
                <a:tc>
                  <a:txBody>
                    <a:bodyPr lIns="9360" rIns="9360" tIns="79200" bIns="79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1"/>
          <p:cNvSpPr/>
          <p:nvPr/>
        </p:nvSpPr>
        <p:spPr>
          <a:xfrm>
            <a:off x="250920" y="549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 периодизации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ила Борисовича Элькони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озрастной этап однозначно   характеризуется свойственной ему ведущей деятельностью. Переход от одной ведущей деятельности к другой - это и есть переход с одной ступени возрастного развития на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же время следует заметить, что деятельнос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к проблемам психического развития 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ыми вопросы механизмов этого пер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 означает организац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целенаправленной образо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ю ребенка в общем контексте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деятельности —  направленности интересов,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  (1904 – 1984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я смысла обучения и воспитания, лично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 в интересах становления субъект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6012000" y="2276640"/>
            <a:ext cx="190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8360" y="54936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цесс учения - это процесс деятельности ученика, направл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новление его сознания и его личности в целом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ые знания не даются в готовом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что такое “деятельностный подход” в образовании!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ный подход в образова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то совсем не совокупность образовательных технологий или методических приемов. Это своего рода философия образования, методологический баз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деятельностным подходом понимаю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й способ организации учебно-познавательной деятельности обучаемых, при котором они являются не пассивными «приёмниками» информации, а сами активно участвуют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ю деятельностного подх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воспитание личности ребенка как субъекта жизнедеятельности. Быть субъектом – быть хозяином своей деятельности: ставить цели, решать задачи, отвечать за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260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вместной деятельности ребенка и взрослого с точки зрения деятельностного подхода заключается в том, что в центре внимания стоит не просто деятельность, а совместная деятельность детей и взрослых по реализации вместе выработанных целей и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2124000" y="2109960"/>
            <a:ext cx="4000680" cy="3159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50920" y="544500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не передает готовые образцы нравственной и духовной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здает, вырабатывает их вместе с воспит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045440" y="2991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79280" y="390600"/>
            <a:ext cx="8640720" cy="56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нципы деятельностного подх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бы ребенок, получал знания не в готовом виде, а добывал их 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такую организацию обучения, когда результат деятельности на каждом предыдущем этапе обеспечивает начало следующего этап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формирование у ребенка обобщенного, целостного и системного представления о мире (природе- обществе - самом себе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инимакса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д/сад должен предложить ребенку возможность освоения содержания образования на максимальном для него уровне и обеспечить при этом его усвоение на уровне социально безопасного минимума (ФГОС Д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нятие стрессообразующих факторов образовательного процесса, создание в ДОУ и на занятии доброжелательной атмосферы, развитие диалоговых форм общ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 на развитие у детей вариативного мышления, то есть понимания возможности различных вариантов решения проблемы, формирование способности к систематическому перебору вариантов и выбору оптимального вариан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тв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значает максимальную ориентацию на творческое начало в образовательном процессе, приобретение детьми собственного опыта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50920" y="76500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нципы организации совмес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флексивности вся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равственного обогащения используемых в качестве средства видов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трудничества при организации и управления различными форм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37:36Z</dcterms:created>
  <dc:creator>игорь</dc:creator>
  <dc:description/>
  <dc:language>en-US</dc:language>
  <cp:lastModifiedBy>Игорь Таскаев</cp:lastModifiedBy>
  <dcterms:modified xsi:type="dcterms:W3CDTF">2023-10-22T09:11:32Z</dcterms:modified>
  <cp:revision>93</cp:revision>
  <dc:subject/>
  <dc:title>Слайд 1</dc:title>
</cp:coreProperties>
</file>