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69C00-AB5A-4619-B892-6F2573CD7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11E42-00A7-4BA2-A05F-3E01C0D44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C2D26-F6EA-4E03-BB9C-5CD7A5469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8B456-CD7A-4D9C-99AA-D7DD2188B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917B4-0B79-45A0-B00D-DFF4D9C74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9DA1C-3673-499F-A684-7D2C2DF81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679C8-930D-4F2E-A1AE-E186985CC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B1D3F-F775-4B15-A6E3-DD0629042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6FD7B-2B02-4C49-AF9A-4DE49A891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B815-9426-466D-82AA-090D3651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F6C40-5085-4CF6-BB5D-0B1D195D9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E2594-F290-4E47-83F7-64E2FC22C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D20A3-6E7E-4183-9DE0-9E30FCCDA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326C6-65C8-4BF4-8C57-4CB637DB4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B1DDB-1146-437C-809A-F44EB20EF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5C71F-9DFD-4DAE-A0DD-97F866567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6EDCB-1F8C-4290-9E17-09524E626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B55985-94FB-4606-B27F-DB216E97AB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39CBAF-4584-4C42-A37B-88FD40E77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E89A62-E604-4006-95EF-61725A6B3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930999-B35D-4F5A-9C4C-507A6EC4C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0668D64-51E2-4AFB-A4FA-7B7875C2A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F08F4-52A9-4F0E-9EDA-145CA9AA2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066560-7CE7-4E5C-91A6-83B57DCA5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98CF76-58DB-420E-BF55-D830B7C24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67C729-0902-4346-B651-C58DD6921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424B63-6468-4866-A558-4A21AA703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D48F7F-8612-4F49-A862-33EBEA287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5E9DF3E-83C8-483E-90C2-9C77EC0EC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6446C8B-9E02-4469-BD78-F57A77CB2F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7CDADB-3E50-4941-99F6-F8204330E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5FA7B-4B44-4B84-B003-D90D99DE3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04A2F-3854-4A46-85B8-52AA4DE2C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67918-F2E1-4DCA-A971-BE2765CE1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E87198-19A2-4FC3-9550-E9F6FC1BC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8D578-AE7C-4663-B0C4-260BDC504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B7F5E-CE7D-431D-91C4-14CA8BF93B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0D1A2-28A4-4943-B91E-CD8D43E28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6048C-CFB6-4BFA-8872-CFF392C27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C7FA9-F2E8-4D57-9F5D-B5016202D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ABC61-46EE-4D3D-9F25-31103542D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882179-F96A-493F-8FE6-CB7A7C6DF5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2014D0-D3CC-4BD2-B18C-BE50266B40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2586E9-9FD9-416D-822F-319A8A00A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B0DD0-EE2D-4BF4-BAE8-1DCA7F723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89F6CE-2426-4431-B204-A406D1B6B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442D6B-F28C-407A-8E0E-8C0A471C7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68E398-66EE-4006-B5B2-1AF807531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8C3A7B-DC82-4EDB-91E3-40E7930E3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2EE708-8CC5-46F9-8A67-C195BD3E30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EEE32A-BF1C-47B2-9523-80AE8B243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B0D16E-5731-448D-AD98-B1FCC7BE0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0559B3-E28C-4F33-8847-AC0E92AFB4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9EF2C2-DC27-4F4B-A6BC-9F0AE5226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EC80C80-8564-43AE-B6E0-82D8E86AE7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6F691-1DD4-4652-883D-8D1EA90C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A373AF-861D-4C20-A8A3-04615CC036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EF4C67D-73B6-4EE8-A5A7-C772A86BA9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1BD3D96-5E5B-42C4-A045-8B73BEEE33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A85DE25-7914-4B4A-BD1C-341D7763F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C6ECFC-D28B-4B71-8227-FD98291E43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F84100C-B7C4-43B0-B4AA-0697CE22B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16C231E-ACEA-4307-8FDC-791F96909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F65373-E766-4CC3-ACDA-ECAE45483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20A792-20EA-4C5C-B4DC-CC967CD8E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5691AA-D581-406C-BEFD-A2027AACB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8F51-3496-4104-8AED-5DC31C1B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21BD68-1692-4217-870F-A851248A3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0471FB7-4245-4B84-B7ED-275E11FB10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17D99BC-54F3-43C3-9068-C63F89FEE6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91407EB-D8A9-483D-BD3E-869BF13B1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3A705B-6E02-4C1F-B2F8-E4F2B9761D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F1BD1D2-5D08-42DB-8AAE-F5732AFC9D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02BC9E-FF9F-4972-960C-8D83ACF2A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82D83F6-A539-4857-AE8D-A2B2F39CB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676C19-A774-4F64-903F-AD623B596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B5F6EB-59D3-4530-AA4A-44DA604551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F67B-472A-40D2-9DBF-962BC908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10232C-F45A-4967-8634-ADA3A767B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A1A9F7-3145-431E-9F94-92BA5792F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6B33C4-EF34-499C-970B-133DFE56B7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A114DBA-1947-4180-B0EB-BC6619F560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ABEB261-CAE4-40BB-90FA-2BEC93F86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E458-D843-46FC-84FC-DFC049E0D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D21E-9C88-46EC-A2F6-94E4D6E9974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583E-D90D-4D97-8CC1-3D9D5B9811A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887C-DDF7-43F5-8B56-D3824F7E73E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AB0F-1DCE-49D4-ABE4-C584EAF3437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053D-8ADA-4405-A7F8-569C0A7A7FA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2138-A141-4460-A4A4-DBDDE670C95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37C5-FDC7-4B05-90ED-CEB4224D945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123640" y="2599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5f6d"/>
                </a:solidFill>
                <a:latin typeface="Century Schoolbook"/>
              </a:rPr>
              <a:t>САМООБРАЗОВАНИЕ НА ТЕМУ «ФОРМИРОВАНИЕ У ДЕТЕЙ МЛАДШЕГО ДОШКОЛЬНОГО ВОЗРАСТА НАВЫКОВ САМООБСЛУЖИВАНИЯ»</a:t>
            </a:r>
            <a:endParaRPr b="0" lang="en-US" sz="2700" spc="-1" strike="noStrike">
              <a:solidFill>
                <a:srgbClr val="575f6d"/>
              </a:solidFill>
              <a:latin typeface="Century Schoolbook"/>
            </a:endParaRPr>
          </a:p>
        </p:txBody>
      </p:sp>
      <p:sp>
        <p:nvSpPr>
          <p:cNvPr id="352" name="PlaceHolder 2"/>
          <p:cNvSpPr>
            <a:spLocks noGrp="1"/>
          </p:cNvSpPr>
          <p:nvPr>
            <p:ph type="subTitle"/>
          </p:nvPr>
        </p:nvSpPr>
        <p:spPr>
          <a:xfrm>
            <a:off x="2123640" y="2205000"/>
            <a:ext cx="6172200" cy="137160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Воспитатели младшей группы №9 «Зайчик»</a:t>
            </a:r>
            <a:endParaRPr b="0" lang="en-US" sz="18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Субботина Е.В., Лезина Т.А.</a:t>
            </a:r>
            <a:endParaRPr b="0" lang="en-US" sz="1800" spc="-1" strike="noStrike">
              <a:solidFill>
                <a:srgbClr val="000000"/>
              </a:solidFill>
              <a:latin typeface="Century Schoolbook"/>
            </a:endParaRPr>
          </a:p>
        </p:txBody>
      </p:sp>
      <p:pic>
        <p:nvPicPr>
          <p:cNvPr id="353" name="Picture 2" descr="C:\Users\Пользователь\Downloads\PHOTO-2023-04-07-18-26-48.jpg"/>
          <p:cNvPicPr/>
          <p:nvPr/>
        </p:nvPicPr>
        <p:blipFill>
          <a:blip r:embed="rId1"/>
          <a:stretch/>
        </p:blipFill>
        <p:spPr>
          <a:xfrm>
            <a:off x="3059280" y="306864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68000" y="62064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III – этап Заключительны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Игра ситуация </a:t>
            </a:r>
            <a:r>
              <a:rPr b="0" i="1" lang="ru-RU" sz="2400" spc="-1" strike="noStrike">
                <a:solidFill>
                  <a:srgbClr val="000000"/>
                </a:solidFill>
                <a:latin typeface="Century Schoolbook"/>
              </a:rPr>
              <a:t>«Оденем куклу на прогулку» </a:t>
            </a:r>
            <a:r>
              <a:rPr b="0" lang="ru-RU" sz="2400" spc="-1" strike="noStrike">
                <a:solidFill>
                  <a:srgbClr val="000000"/>
                </a:solidFill>
                <a:latin typeface="Century Schoolbook"/>
              </a:rPr>
              <a:t>Закрепить название одежды, выполнение алгоритма одевания одежд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зработка консультаций для родителе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5" name="Picture 2" descr="Консультация для родителей : &quot;Как научить ребенка одеваться  самостоятельно?&quot; » МБДОУ &quot;Детский сад общеразвивающего вида № 16&quot;"/>
          <p:cNvPicPr/>
          <p:nvPr/>
        </p:nvPicPr>
        <p:blipFill>
          <a:blip r:embed="rId1"/>
          <a:stretch/>
        </p:blipFill>
        <p:spPr>
          <a:xfrm>
            <a:off x="1258920" y="2852640"/>
            <a:ext cx="2592360" cy="3668760"/>
          </a:xfrm>
          <a:prstGeom prst="rect">
            <a:avLst/>
          </a:prstGeom>
          <a:ln w="0">
            <a:noFill/>
          </a:ln>
        </p:spPr>
      </p:pic>
      <p:pic>
        <p:nvPicPr>
          <p:cNvPr id="376" name="Picture 4" descr="Консультация для родителей: &quot;Как научить ребенка самостоятельно одеваться&quot;"/>
          <p:cNvPicPr/>
          <p:nvPr/>
        </p:nvPicPr>
        <p:blipFill>
          <a:blip r:embed="rId2"/>
          <a:stretch/>
        </p:blipFill>
        <p:spPr>
          <a:xfrm>
            <a:off x="4427640" y="2852640"/>
            <a:ext cx="2608200" cy="368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ГРЫ И СИТУАЦИИ</a:t>
            </a:r>
            <a:endParaRPr b="0" lang="en-US" sz="3000" spc="-1" strike="noStrike">
              <a:solidFill>
                <a:srgbClr val="575f6d"/>
              </a:solidFill>
              <a:latin typeface="Century Schoolbook"/>
            </a:endParaRPr>
          </a:p>
        </p:txBody>
      </p:sp>
      <p:sp>
        <p:nvSpPr>
          <p:cNvPr id="378" name=""/>
          <p:cNvSpPr txBox="1"/>
          <p:nvPr/>
        </p:nvSpPr>
        <p:spPr>
          <a:xfrm>
            <a:off x="367200" y="1384200"/>
            <a:ext cx="3704400" cy="801000"/>
          </a:xfrm>
          <a:prstGeom prst="rect">
            <a:avLst/>
          </a:prstGeom>
          <a:solidFill>
            <a:srgbClr val="fe8637"/>
          </a:solidFill>
          <a:ln w="0">
            <a:noFill/>
          </a:ln>
        </p:spPr>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entury Schoolbook"/>
              </a:rPr>
              <a:t>«Каждая ножка в свой домик» </a:t>
            </a:r>
            <a:endParaRPr b="0" lang="en-US" sz="2000" spc="-1" strike="noStrike">
              <a:solidFill>
                <a:srgbClr val="000000"/>
              </a:solidFill>
              <a:latin typeface="Century Schoolbook"/>
            </a:endParaRPr>
          </a:p>
        </p:txBody>
      </p:sp>
      <p:sp>
        <p:nvSpPr>
          <p:cNvPr id="379" name=""/>
          <p:cNvSpPr txBox="1"/>
          <p:nvPr/>
        </p:nvSpPr>
        <p:spPr>
          <a:xfrm>
            <a:off x="4375440" y="1602000"/>
            <a:ext cx="3593520" cy="594720"/>
          </a:xfrm>
          <a:prstGeom prst="rect">
            <a:avLst/>
          </a:prstGeom>
          <a:solidFill>
            <a:srgbClr val="fe8637"/>
          </a:solidFill>
          <a:ln w="0">
            <a:noFill/>
          </a:ln>
        </p:spPr>
        <p:txBody>
          <a:bodyPr lIns="90000" rIns="90000" tIns="46800" bIns="46800"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entury Schoolbook"/>
              </a:rPr>
              <a:t>«Подбери куклам одежду»</a:t>
            </a:r>
            <a:endParaRPr b="0" lang="en-US" sz="2000" spc="-1" strike="noStrike">
              <a:solidFill>
                <a:srgbClr val="000000"/>
              </a:solidFill>
              <a:latin typeface="Century Schoolbook"/>
            </a:endParaRPr>
          </a:p>
        </p:txBody>
      </p:sp>
      <p:pic>
        <p:nvPicPr>
          <p:cNvPr id="380" name="Picture 2" descr="C:\Users\73B5~1\AppData\Local\Temp\Rar$DR00.642\image-18-04-23-09-52-1.jpeg"/>
          <p:cNvPicPr/>
          <p:nvPr/>
        </p:nvPicPr>
        <p:blipFill>
          <a:blip r:embed="rId1"/>
          <a:stretch/>
        </p:blipFill>
        <p:spPr>
          <a:xfrm>
            <a:off x="824040" y="2362320"/>
            <a:ext cx="2923920" cy="3886200"/>
          </a:xfrm>
          <a:prstGeom prst="rect">
            <a:avLst/>
          </a:prstGeom>
          <a:ln w="0">
            <a:noFill/>
          </a:ln>
        </p:spPr>
      </p:pic>
      <p:pic>
        <p:nvPicPr>
          <p:cNvPr id="381" name="Picture 4" descr="C:\Users\73B5~1\AppData\Local\Temp\Rar$DR01.650\PHOTO-2023-04-18-09-54-14.jpg"/>
          <p:cNvPicPr/>
          <p:nvPr/>
        </p:nvPicPr>
        <p:blipFill>
          <a:blip r:embed="rId2"/>
          <a:stretch/>
        </p:blipFill>
        <p:spPr>
          <a:xfrm>
            <a:off x="5106960" y="2362320"/>
            <a:ext cx="21877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АМОСТОЯТЕЛЬНЫЕ ИГРЫ С ПРИМЕНЕНИЕМ НАВЫКОВ САМООБСЛУЖИВАНИЯ</a:t>
            </a:r>
            <a:endParaRPr b="0" lang="en-US" sz="3000" spc="-1" strike="noStrike">
              <a:solidFill>
                <a:srgbClr val="575f6d"/>
              </a:solidFill>
              <a:latin typeface="Century Schoolbook"/>
            </a:endParaRPr>
          </a:p>
        </p:txBody>
      </p:sp>
      <p:pic>
        <p:nvPicPr>
          <p:cNvPr id="383" name="Picture 2" descr="C:\Users\Пользователь\Downloads\PHOTO-2022-11-11-15-55-24 (1).jpg"/>
          <p:cNvPicPr/>
          <p:nvPr/>
        </p:nvPicPr>
        <p:blipFill>
          <a:blip r:embed="rId1"/>
          <a:stretch/>
        </p:blipFill>
        <p:spPr>
          <a:xfrm>
            <a:off x="457200" y="2517840"/>
            <a:ext cx="3657600" cy="2736720"/>
          </a:xfrm>
          <a:prstGeom prst="rect">
            <a:avLst/>
          </a:prstGeom>
          <a:ln w="0">
            <a:noFill/>
          </a:ln>
        </p:spPr>
      </p:pic>
      <p:pic>
        <p:nvPicPr>
          <p:cNvPr id="384" name="Picture 3" descr="C:\Users\Пользователь\Downloads\PHOTO-2022-12-30-14-37-22 (1).jpg"/>
          <p:cNvPicPr/>
          <p:nvPr/>
        </p:nvPicPr>
        <p:blipFill>
          <a:blip r:embed="rId2"/>
          <a:stretch/>
        </p:blipFill>
        <p:spPr>
          <a:xfrm>
            <a:off x="4384800" y="160020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ВЫВОДЫ</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Дети повысили уровень освоения навыков самообслужива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С небольшой помощью взрослого умеют одеваться и раздеваться в определенной последовательн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Дети научились аккуратно вешать и складывать свою одежду.</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ти стали обращать внимание на свой внешний вид.</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Усилилась инициативность у детей во взаимоотношении со взрослым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ЛИТЕРАТУРА</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олчкова В. Н. Развитие и воспитание детей младшего дошкольного возраста. М.:Учитель, 2012</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Голицина Н. С Перспективное планирование воспитательно-образовательного процесса в дошкольном учреждении. М.: Скрипторий, 2014.</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Куцакова Л. В. Нравственно-трудовое воспитание ребенка-дошкольника. М.:ВЛАДОС, 2011.</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ржина Е. В. Формирование навыков самообслуживания на занятиях и дома. М.:Теревинф, 2014.</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ономаренко А. Н. Развитие ребенка третьего-четвертого года жизни // Педагогика.2012.</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АКТУАЛЬНОСТЬ</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амообслуживание – это труд ребенка, направленный на обслуживание им самим самого себя </a:t>
            </a:r>
            <a:r>
              <a:rPr b="0" i="1" lang="ru-RU" sz="2400" spc="-1" strike="noStrike">
                <a:solidFill>
                  <a:srgbClr val="000000"/>
                </a:solidFill>
                <a:latin typeface="Century Schoolbook"/>
              </a:rPr>
              <a:t>(одевание – раздевание, аккуратное складывание своих вещей в</a:t>
            </a:r>
            <a:r>
              <a:rPr b="0" lang="ru-RU" sz="2400" spc="-1" strike="noStrike">
                <a:solidFill>
                  <a:srgbClr val="000000"/>
                </a:solidFill>
                <a:latin typeface="Century Schoolbook"/>
              </a:rPr>
              <a:t> </a:t>
            </a:r>
            <a:r>
              <a:rPr b="0" i="1" lang="ru-RU" sz="2400" spc="-1" strike="noStrike">
                <a:solidFill>
                  <a:srgbClr val="000000"/>
                </a:solidFill>
                <a:latin typeface="Century Schoolbook"/>
              </a:rPr>
              <a:t>шкафчик)</a:t>
            </a:r>
            <a:r>
              <a:rPr b="0" lang="ru-RU" sz="2400" spc="-1" strike="noStrike">
                <a:solidFill>
                  <a:srgbClr val="000000"/>
                </a:solidFill>
                <a:latin typeface="Century Schoolbook"/>
              </a:rPr>
              <a:t>. С помощью труда по самообслуживанию у детей воспитываются навыки и умения быть самостоятельными, опрятными, приводить в порядок личные вещи, игрушки. К труду по самообслуживанию дети приучаются с раннего детства.</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0" lang="ru-RU" sz="2400" spc="-1" strike="noStrike">
                <a:solidFill>
                  <a:srgbClr val="000000"/>
                </a:solidFill>
                <a:latin typeface="Century Schoolbook"/>
              </a:rPr>
              <a:t>Значение самообслуживания состоит в жизненной необходимости.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10920" y="907560"/>
            <a:ext cx="7467480" cy="4875480"/>
          </a:xfrm>
          <a:prstGeom prst="rect">
            <a:avLst/>
          </a:prstGeom>
          <a:noFill/>
          <a:ln w="0">
            <a:noFill/>
          </a:ln>
        </p:spPr>
        <p:txBody>
          <a:bodyPr lIns="90000" rIns="90000" tIns="46800" bIns="46800"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Навыки ежедневной повторяемости очень прочны.</a:t>
            </a:r>
            <a:endParaRPr b="0" lang="en-US" sz="22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С самообслуживания начинается трудовое воспитание детей. Воспитание навыков самообслуживания являются одним из важнейших направлений. Интерес, внимание ребенка к бытовым действиям, впечатлительность нервной системы дают возможность взрослым быстро научить ребенка определенной последовательности операций, из которых складывается каждое действие, приемам, которые помогают выполнять задание быстро, экономно. Если же это время упустить, неправильныедействия автоматизируются, ребенок привыкает к неряшливости, небрежности.</a:t>
            </a:r>
            <a:endParaRPr b="0" lang="en-US" sz="22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ПРОБЛЕМА</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 наступлением холодного периода года у детей прибавилось количество одежды. В силу своих возрастных особенностей дети не могут одеваться самостоятельно, не знают последовательности одева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9" name="Picture 2" descr="C:\Users\73B5~1\AppData\Local\Temp\Rar$DR01.227\PHOTO-2022-10-14-17-53-58.jpg"/>
          <p:cNvPicPr/>
          <p:nvPr/>
        </p:nvPicPr>
        <p:blipFill>
          <a:blip r:embed="rId1"/>
          <a:stretch/>
        </p:blipFill>
        <p:spPr>
          <a:xfrm>
            <a:off x="1332000" y="3573360"/>
            <a:ext cx="3824280" cy="2862360"/>
          </a:xfrm>
          <a:prstGeom prst="rect">
            <a:avLst/>
          </a:prstGeom>
          <a:ln w="0">
            <a:noFill/>
          </a:ln>
        </p:spPr>
      </p:pic>
      <p:pic>
        <p:nvPicPr>
          <p:cNvPr id="360" name="Picture 3" descr="C:\Users\73B5~1\AppData\Local\Temp\Rar$DR00.375\PHOTO-2022-12-30-14-40-22.jpg"/>
          <p:cNvPicPr/>
          <p:nvPr/>
        </p:nvPicPr>
        <p:blipFill>
          <a:blip r:embed="rId2"/>
          <a:stretch/>
        </p:blipFill>
        <p:spPr>
          <a:xfrm>
            <a:off x="5364000" y="3141720"/>
            <a:ext cx="2517840" cy="33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ЦЕЛЬ</a:t>
            </a:r>
            <a:r>
              <a:rPr b="0" lang="ru-RU"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ормировать умение одевать </a:t>
            </a:r>
            <a:r>
              <a:rPr b="0" i="1" lang="ru-RU" sz="2400" spc="-1" strike="noStrike">
                <a:solidFill>
                  <a:srgbClr val="000000"/>
                </a:solidFill>
                <a:latin typeface="Century Schoolbook"/>
              </a:rPr>
              <a:t>(снимать) </a:t>
            </a:r>
            <a:r>
              <a:rPr b="0" lang="ru-RU" sz="2400" spc="-1" strike="noStrike">
                <a:solidFill>
                  <a:srgbClr val="000000"/>
                </a:solidFill>
                <a:latin typeface="Century Schoolbook"/>
              </a:rPr>
              <a:t>различные предметы одежды в определённой последовательности при небольшой помощи взрослых; объединить усилия педагогов и родителей по формированию навыков самообслуживания.</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pic>
        <p:nvPicPr>
          <p:cNvPr id="366" name="Picture 7" descr="C:\Users\Пользователь\Desktop\Петр 1\одеваться.jpg"/>
          <p:cNvPicPr/>
          <p:nvPr/>
        </p:nvPicPr>
        <p:blipFill>
          <a:blip r:embed="rId1"/>
          <a:stretch/>
        </p:blipFill>
        <p:spPr>
          <a:xfrm>
            <a:off x="2627280" y="3860640"/>
            <a:ext cx="4017960" cy="26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575f6d"/>
                </a:solidFill>
                <a:uFillTx/>
                <a:latin typeface="Century Schoolbook"/>
              </a:rPr>
              <a:t>ЗАДАЧИ</a:t>
            </a:r>
            <a:r>
              <a:rPr b="0" lang="ru-RU" sz="3000" spc="-1" strike="noStrike">
                <a:solidFill>
                  <a:srgbClr val="575f6d"/>
                </a:solidFill>
                <a:latin typeface="Century Schoolbook"/>
              </a:rPr>
              <a:t>:</a:t>
            </a:r>
            <a:br>
              <a:rPr sz="3000"/>
            </a:b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Учить детей одеваться и раздеваться в определенном порядке.</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Развивать навыки самообслуживания: мелкую моторику в процессе одевания.</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Закреплять умение детей самостоятельно одеваться на прогулку, используя предметно-схематичную модель последовательности одевания.</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оспитывать культуру общения с взрослыми и детьми, </a:t>
            </a:r>
            <a:r>
              <a:rPr b="0" lang="ru-RU" sz="2200" spc="-1" strike="noStrike" u="sng">
                <a:solidFill>
                  <a:srgbClr val="000000"/>
                </a:solidFill>
                <a:uFillTx/>
                <a:latin typeface="Century Schoolbook"/>
              </a:rPr>
              <a:t>обращаясь к ним за помощью</a:t>
            </a:r>
            <a:r>
              <a:rPr b="0" lang="ru-RU" sz="2200" spc="-1" strike="noStrike">
                <a:solidFill>
                  <a:srgbClr val="000000"/>
                </a:solidFill>
                <a:latin typeface="Century Schoolbook"/>
              </a:rPr>
              <a:t>: говорить </a:t>
            </a:r>
            <a:r>
              <a:rPr b="0" i="1" lang="ru-RU" sz="2200" spc="-1" strike="noStrike">
                <a:solidFill>
                  <a:srgbClr val="000000"/>
                </a:solidFill>
                <a:latin typeface="Century Schoolbook"/>
              </a:rPr>
              <a:t>«волшебное слово» </a:t>
            </a:r>
            <a:r>
              <a:rPr b="0" lang="ru-RU" sz="2200" spc="-1" strike="noStrike">
                <a:solidFill>
                  <a:srgbClr val="000000"/>
                </a:solidFill>
                <a:latin typeface="Century Schoolbook"/>
              </a:rPr>
              <a:t>приятным тоном, способствовать преодолению застенчивости и скованности (умение предложить помощь,поблагодарить, воспитывать аккуратность.)</a:t>
            </a:r>
            <a:endParaRPr b="0" lang="en-US" sz="2200" spc="-1" strike="noStrike">
              <a:solidFill>
                <a:srgbClr val="000000"/>
              </a:solidFill>
              <a:latin typeface="Century Schoolbook"/>
            </a:endParaRPr>
          </a:p>
          <a:p>
            <a:pPr marL="457200" indent="-457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ЭТАПЫ РЕАЛИЗАЦИИ</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I этап Подготовительный</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вышение собственной профессиональной компетентности через изучение литературы.</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оисковая работа по подбору иллюстративного материала, художественных произведений, дидактических и театрализованных игр.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зработка консультаций для родителей </a:t>
            </a:r>
            <a:r>
              <a:rPr b="0" i="1" lang="ru-RU" sz="2400" spc="-1" strike="noStrike">
                <a:solidFill>
                  <a:srgbClr val="000000"/>
                </a:solidFill>
                <a:latin typeface="Century Schoolbook"/>
              </a:rPr>
              <a:t>«Как приучить ребенка к аккуратности и</a:t>
            </a:r>
            <a:r>
              <a:rPr b="0" lang="ru-RU" sz="2400" spc="-1" strike="noStrike">
                <a:solidFill>
                  <a:srgbClr val="000000"/>
                </a:solidFill>
                <a:latin typeface="Century Schoolbook"/>
              </a:rPr>
              <a:t> </a:t>
            </a:r>
            <a:r>
              <a:rPr b="0" i="1" lang="ru-RU" sz="2400" spc="-1" strike="noStrike">
                <a:solidFill>
                  <a:srgbClr val="000000"/>
                </a:solidFill>
                <a:latin typeface="Century Schoolbook"/>
              </a:rPr>
              <a:t>опрятности»</a:t>
            </a:r>
            <a:r>
              <a:rPr b="0" lang="ru-RU" sz="2400" spc="-1" strike="noStrike">
                <a:solidFill>
                  <a:srgbClr val="000000"/>
                </a:solidFill>
                <a:latin typeface="Century Schoolbook"/>
              </a:rPr>
              <a:t>, </a:t>
            </a:r>
            <a:r>
              <a:rPr b="0" i="1" lang="ru-RU" sz="2400" spc="-1" strike="noStrike">
                <a:solidFill>
                  <a:srgbClr val="000000"/>
                </a:solidFill>
                <a:latin typeface="Century Schoolbook"/>
              </a:rPr>
              <a:t>«Как научить ребенка одеваться самостоятельно» </a:t>
            </a:r>
            <a:r>
              <a:rPr b="0" lang="ru-RU" sz="2400" spc="-1" strike="noStrike">
                <a:solidFill>
                  <a:srgbClr val="000000"/>
                </a:solidFill>
                <a:latin typeface="Century Schoolbook"/>
              </a:rPr>
              <a:t>Просвещать родителей по данной теме. Заинтересовать в совместной деятельности: воспитатель-родитель-ребенок.</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000" y="691920"/>
            <a:ext cx="7467480" cy="4873320"/>
          </a:xfrm>
          <a:prstGeom prst="rect">
            <a:avLst/>
          </a:prstGeom>
          <a:noFill/>
          <a:ln w="0">
            <a:noFill/>
          </a:ln>
        </p:spPr>
        <p:txBody>
          <a:bodyPr lIns="90000" rIns="90000" tIns="46800" bIns="46800"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II этап Основной</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Наблюдение за погодой, одеждой людей. Формировать у детей представление о временах года. Познакомить с сезонными явлениями разных времен года. Формировать представление о сезонной одежде.</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0" lang="ru-RU" sz="2200" spc="-1" strike="noStrike">
                <a:solidFill>
                  <a:srgbClr val="000000"/>
                </a:solidFill>
                <a:latin typeface="Century Schoolbook"/>
              </a:rPr>
              <a:t>Рассмотрение иллюстраций на сезонную тематику. Учить рассматривать картину, отвечать на вопросы по изображению. Развивать речевую активность. Воспитывать интерес к неживой природе.</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0" lang="ru-RU" sz="2200" spc="-1" strike="noStrike">
                <a:solidFill>
                  <a:srgbClr val="000000"/>
                </a:solidFill>
                <a:latin typeface="Century Schoolbook"/>
              </a:rPr>
              <a:t>Чтение стихотворений об одежде и одевании. Беседа по содержанию. Уточнить функциональную значимость одежды в жизни людей.</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ИГРЫ И СИТУАЦИИ</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Игровая образовательная ситуация </a:t>
            </a:r>
            <a:r>
              <a:rPr b="0" i="1" lang="ru-RU" sz="2200" spc="-1" strike="noStrike">
                <a:solidFill>
                  <a:srgbClr val="000000"/>
                </a:solidFill>
                <a:latin typeface="Century Schoolbook"/>
              </a:rPr>
              <a:t>«Путешествие с куклой Катей» (Знакомство с раздевалкой)</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ое упражнение </a:t>
            </a:r>
            <a:r>
              <a:rPr b="0" i="1" lang="ru-RU" sz="2200" spc="-1" strike="noStrike">
                <a:solidFill>
                  <a:srgbClr val="000000"/>
                </a:solidFill>
                <a:latin typeface="Century Schoolbook"/>
              </a:rPr>
              <a:t>«Найди свой шкафчик»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ая игра </a:t>
            </a:r>
            <a:r>
              <a:rPr b="0" i="1" lang="ru-RU" sz="2200" spc="-1" strike="noStrike">
                <a:solidFill>
                  <a:srgbClr val="000000"/>
                </a:solidFill>
                <a:latin typeface="Century Schoolbook"/>
              </a:rPr>
              <a:t>«Подбери куклам одежду»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бразовательная ситуация </a:t>
            </a:r>
            <a:r>
              <a:rPr b="0" i="1" lang="ru-RU" sz="2200" spc="-1" strike="noStrike">
                <a:solidFill>
                  <a:srgbClr val="000000"/>
                </a:solidFill>
                <a:latin typeface="Century Schoolbook"/>
              </a:rPr>
              <a:t>«Каждая ножка в свой домик»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Дидактическая игра </a:t>
            </a:r>
            <a:r>
              <a:rPr b="0" i="1" lang="ru-RU" sz="2200" spc="-1" strike="noStrike">
                <a:solidFill>
                  <a:srgbClr val="000000"/>
                </a:solidFill>
                <a:latin typeface="Century Schoolbook"/>
              </a:rPr>
              <a:t>«Научим куклу Катю раздеваться» </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бразовательная ситуация </a:t>
            </a:r>
            <a:r>
              <a:rPr b="0" i="1" lang="ru-RU" sz="2200" spc="-1" strike="noStrike">
                <a:solidFill>
                  <a:srgbClr val="000000"/>
                </a:solidFill>
                <a:latin typeface="Century Schoolbook"/>
              </a:rPr>
              <a:t>«Мы теперь умеем сами на прогулку одеваться»</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Рисование </a:t>
            </a:r>
            <a:r>
              <a:rPr b="0" i="1" lang="ru-RU" sz="2200" spc="-1" strike="noStrike">
                <a:solidFill>
                  <a:srgbClr val="000000"/>
                </a:solidFill>
                <a:latin typeface="Century Schoolbook"/>
              </a:rPr>
              <a:t>«Украсим рукавичку», аппликация «Платье для мамы»</a:t>
            </a: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4-18T06:35:20Z</dcterms:created>
  <dc:creator>Пользователь</dc:creator>
  <dc:description/>
  <dc:language>en-US</dc:language>
  <cp:lastModifiedBy>Пользователь</cp:lastModifiedBy>
  <dcterms:modified xsi:type="dcterms:W3CDTF">2023-04-18T08:24:37Z</dcterms:modified>
  <cp:revision>7</cp:revision>
  <dc:subject/>
  <dc:title>Самообразование на тему «Формирование у детей младшего дошкольного возраста навыков самообслуживания»</dc:title>
</cp:coreProperties>
</file>