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952280"/>
            <a:ext cx="8424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a452a"/>
                </a:solidFill>
                <a:latin typeface="Times New Roman"/>
                <a:ea typeface="Arial Unicode MS"/>
              </a:rPr>
              <a:t>ФОРМИРОВАНИЕ ЧИТАТЕЛЬСКОЙ ГРАМОТНОСТИ КАК ТРЕБОВАНИЕ ФГОС ДЛЯ СОЗДАНИЯ КАЧЕСТВА ОБУЧЕНИЯ 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Работа с текстом во время  чтени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риём «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Синквейн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»</a:t>
            </a: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» (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о плану)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риём 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«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Тайм-аут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»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» (работа в парах-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задают друг другу вопросы уточняющего характера)</a:t>
            </a: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	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2987640" y="3465360"/>
            <a:ext cx="5991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4920" y="44136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СЛАЙД-ДИКТАНТ</a:t>
            </a:r>
            <a:br>
              <a:rPr sz="3600"/>
            </a:b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1280" y="1413000"/>
            <a:ext cx="792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5003640" y="800280"/>
            <a:ext cx="1944720" cy="2327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6227640" y="2637000"/>
            <a:ext cx="2791080" cy="20048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3"/>
          <a:stretch/>
        </p:blipFill>
        <p:spPr>
          <a:xfrm>
            <a:off x="5443560" y="4184640"/>
            <a:ext cx="2141640" cy="2857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"/>
          <p:cNvPicPr/>
          <p:nvPr/>
        </p:nvPicPr>
        <p:blipFill>
          <a:blip r:embed="rId4"/>
          <a:srcRect l="30605" t="27767" r="25290" b="33577"/>
          <a:stretch/>
        </p:blipFill>
        <p:spPr>
          <a:xfrm>
            <a:off x="0" y="1125360"/>
            <a:ext cx="6119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Ассоциативные образы- 5,6 класс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4920" y="159336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rcRect l="21224" t="21961" r="13397" b="22323"/>
          <a:stretch/>
        </p:blipFill>
        <p:spPr>
          <a:xfrm>
            <a:off x="934920" y="1015920"/>
            <a:ext cx="79581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ssandra"/>
              </a:rPr>
              <a:t>РЕДАКТИРОВАНИЕ  ТЕКСТА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34920" y="1201680"/>
            <a:ext cx="79200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4a452a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Как только я выдержала экзамены, то сейчас же поехала с маменькой, мебелью  и  братом… на дачу.    / 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тсутствие логики/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4a452a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Родители хотели устроить праздник более пышнее.(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неправильное образование форм прилагательных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4a452a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Впереди лидирует команда наших спортсменов.(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употребление лишнего слова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49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a452a"/>
                </a:solidFill>
                <a:uFillTx/>
                <a:latin typeface="Cassandra"/>
              </a:rPr>
              <a:t>В.Шефнер «Устная речь»</a:t>
            </a: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 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34920" y="799920"/>
            <a:ext cx="7920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Это так, а не иначе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Ты мне, друг мой, не перечь: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Люди стали жить богаче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Но беднее стала речь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Гаснет устная словесность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Разговорная краса;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Отступают в неизвестность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Речи русской чудеса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Сотни слов родных и метких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Сникнув, голос потеряв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Взаперти, как птицы в клетках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Дремлют в толстых словарях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Ты их выпусти оттуда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В быт обыденный верни,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Чтобы речь - людское чудо -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52a"/>
                </a:solidFill>
                <a:latin typeface="Calibri"/>
              </a:rPr>
              <a:t>Не скудела в наши дни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Комплексный анализ текста</a:t>
            </a:r>
            <a:endParaRPr b="0" lang="en-US" sz="36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9200" y="98064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рупповая работ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«литературоведы»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объясняют тему и идею текста)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«языковеды»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исследуют языковые средства, изобразительно-выразительные средства)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«лингвисты»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исследуют синтаксические конструкции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интеллект-карта</a:t>
            </a:r>
            <a:br>
              <a:rPr sz="6000"/>
            </a:b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23640" y="1700280"/>
            <a:ext cx="7669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09" name="Рисунок 3" descr="https://urok.1sept.ru/articles/682130/img2.jpg"/>
          <p:cNvPicPr/>
          <p:nvPr/>
        </p:nvPicPr>
        <p:blipFill>
          <a:blip r:embed="rId1"/>
          <a:stretch/>
        </p:blipFill>
        <p:spPr>
          <a:xfrm>
            <a:off x="719280" y="1268280"/>
            <a:ext cx="8029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/>
          <p:cNvSpPr/>
          <p:nvPr/>
        </p:nvSpPr>
        <p:spPr>
          <a:xfrm>
            <a:off x="1000080" y="6000840"/>
            <a:ext cx="142920" cy="14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714240" y="1000080"/>
            <a:ext cx="8001000" cy="464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00040" y="358704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3"/>
          <p:cNvGrpSpPr/>
          <p:nvPr/>
        </p:nvGrpSpPr>
        <p:grpSpPr>
          <a:xfrm>
            <a:off x="1104840" y="311040"/>
            <a:ext cx="7752960" cy="459000"/>
            <a:chOff x="1104840" y="311040"/>
            <a:chExt cx="7752960" cy="459000"/>
          </a:xfrm>
        </p:grpSpPr>
        <p:sp>
          <p:nvSpPr>
            <p:cNvPr id="114" name="Text Box 86"/>
            <p:cNvSpPr/>
            <p:nvPr/>
          </p:nvSpPr>
          <p:spPr>
            <a:xfrm>
              <a:off x="1671480" y="311040"/>
              <a:ext cx="71863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7"/>
            <p:cNvSpPr/>
            <p:nvPr/>
          </p:nvSpPr>
          <p:spPr>
            <a:xfrm>
              <a:off x="1104840" y="3128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Прямоугольник 18"/>
          <p:cNvSpPr/>
          <p:nvPr/>
        </p:nvSpPr>
        <p:spPr>
          <a:xfrm>
            <a:off x="857160" y="1071720"/>
            <a:ext cx="77155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опите лёд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тч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1285920" y="1428840"/>
            <a:ext cx="678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 зимой Учитель и ученик прогуливались по берегу р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! Люди не понимают друг друга. Люди стараются общаться, читают книги, которые повествуют о взаимопонимании — и натыкаются на невидимую стену. Почему так? Неужели нельзя этому науч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йдем со мной! –сказал учитель  и пошел по льду на середину ре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вниз. Ты видишь здесь что-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. Как я могу увидеть что-то сквозь ле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, подо льдом — целый мир, неведомый тебе. Растопи лед — и он станет водой, дающей жизнь целому миру. Но пролей сюда готовую воду — она замерзнет и лишь укрепит царство ль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3"/>
          <p:cNvSpPr/>
          <p:nvPr/>
        </p:nvSpPr>
        <p:spPr>
          <a:xfrm>
            <a:off x="1000080" y="1285920"/>
            <a:ext cx="7786800" cy="485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714240" y="1000080"/>
            <a:ext cx="214560" cy="357120"/>
          </a:xfrm>
          <a:custGeom>
            <a:avLst/>
            <a:gdLst>
              <a:gd name="textAreaLeft" fmla="*/ 10440 w 214560"/>
              <a:gd name="textAreaRight" fmla="*/ 204120 w 214560"/>
              <a:gd name="textAreaTop" fmla="*/ 10440 h 357120"/>
              <a:gd name="textAreaBottom" fmla="*/ 346680 h 357120"/>
            </a:gdLst>
            <a:ahLst/>
            <a:rect l="textAreaLeft" t="textAreaTop" r="textAreaRight" b="textAreaBottom"/>
            <a:pathLst>
              <a:path w="21600" h="35928">
                <a:moveTo>
                  <a:pt x="3600" y="0"/>
                </a:moveTo>
                <a:arcTo wR="3600" hR="3600" stAng="16200000" swAng="-5400000"/>
                <a:lnTo>
                  <a:pt x="0" y="32328"/>
                </a:lnTo>
                <a:arcTo wR="3600" hR="3600" stAng="10800000" swAng="-5400000"/>
                <a:lnTo>
                  <a:pt x="18000" y="3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00040" y="358704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>
            <a:off x="4565520" y="285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8"/>
          <p:cNvSpPr/>
          <p:nvPr/>
        </p:nvSpPr>
        <p:spPr>
          <a:xfrm>
            <a:off x="857160" y="10717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9"/>
          <p:cNvSpPr/>
          <p:nvPr/>
        </p:nvSpPr>
        <p:spPr>
          <a:xfrm>
            <a:off x="1357200" y="1571760"/>
            <a:ext cx="70725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Arial"/>
              </a:rPr>
              <a:t>Все в наших ру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а главная задача – увидеть в  ученике целый мир, растопить лед недопонимания и  включить каждого ученика  в деятельность, обеспечивающую формирование и развитие его познавательных способностей, ключевых компетенций, необходимых 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шности в учебе 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читель! Смотри сквозь - растопи лед своим доверием и пониманием — и он станет водой, дающей жизнь целому миру подрост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эта будет выполнима в случае, если  усилия всех педагогов будут направлены в единое русло и из успехов каждого сложится общий успе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65736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4a452a"/>
                </a:solidFill>
                <a:latin typeface="Cassandra"/>
              </a:rPr>
              <a:t>Читательская грамотность </a:t>
            </a: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– это не перелистывание книги, рассматривание картинок, это умение размышлять над прочитанным текстом,  отбирать необходимую информацию в огромном потоке информации и найти ей применение в своей жизненной ситуации.</a:t>
            </a: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 </a:t>
            </a:r>
            <a:r>
              <a:rPr b="1" lang="ru-RU" sz="3200" spc="-1" strike="noStrike">
                <a:solidFill>
                  <a:srgbClr val="4a452a"/>
                </a:solidFill>
                <a:latin typeface="Cassandra"/>
              </a:rPr>
              <a:t>Это первая ступень в функциональной грамотности</a:t>
            </a: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793440"/>
            <a:ext cx="7920000" cy="43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Б. ШОУ говорил: « Жизнь для меня не тающая свеча. Это что-то вроде чудесного факела, который на мгновение попал мне в руки, и я хочу его заставить пылать как можно ярче, прежде чем передать грядущим поколениям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44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 u="sng">
                <a:solidFill>
                  <a:srgbClr val="4a452a"/>
                </a:solidFill>
                <a:uFillTx/>
                <a:latin typeface="Cassandra"/>
              </a:rPr>
              <a:t>Условия успешности (качественного образования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4920" y="159336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ЗНАНИЯ -нет тревожности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Внимание учителя (похвала) -МОТИВАЦИЯ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оддержка семьи – ПЛОДОТВОРНАЯ ПОЧВА ДЛЯ РАЗВИТИЯ  ЛИЧНОСТЬ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9200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a452a"/>
                </a:solidFill>
                <a:latin typeface="Cassandra"/>
              </a:rPr>
              <a:t>Цель смыслового чтения</a:t>
            </a: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 — максимально точно и полно понять содержание текста, уловить все детали и практически осмыслить информацию, это внимательное «вчитывание» и проникновение в смысл текста с помощью его анализа. Владение навыками смыслового чтения способствует развитию устной речи и, как следствие, — письменной речи и продуктивному обучению.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9200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a452a"/>
                </a:solidFill>
                <a:latin typeface="Cassandra"/>
              </a:rPr>
              <a:t>Читательская грамотность определяется по уровню сформированности трех групп читательских умений:</a:t>
            </a:r>
            <a:br>
              <a:rPr sz="3200"/>
            </a:br>
            <a:r>
              <a:rPr b="1" lang="ru-RU" sz="3200" spc="-1" strike="noStrike">
                <a:solidFill>
                  <a:srgbClr val="4a452a"/>
                </a:solidFill>
                <a:latin typeface="Cassandra"/>
              </a:rPr>
              <a:t>1.</a:t>
            </a: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Ориентация в содержании текста и понимании его целостного смысла, нахождение информации.</a:t>
            </a: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2.Интерпретация текста.</a:t>
            </a: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Cassandra"/>
              </a:rPr>
              <a:t>3. Рефлексия на содержание текста и его оценка.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4920" y="296640"/>
            <a:ext cx="79200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34920" y="1593360"/>
            <a:ext cx="792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rcRect l="24363" t="29945" r="17645" b="28314"/>
          <a:stretch/>
        </p:blipFill>
        <p:spPr>
          <a:xfrm>
            <a:off x="863640" y="225360"/>
            <a:ext cx="7993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Работа с текстом до чтени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риём «Мозговой штурм» (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Какие ассоциации возникают у вас по поводу заявленной темы? )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риём 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«Прогноз по ключевым словам» </a:t>
            </a: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	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2987640" y="3465360"/>
            <a:ext cx="5991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Работа с текстом во время  чтени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риём «Чтение вслух» (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роверка понимания читаемого вслух текста)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ssandra"/>
              </a:rPr>
              <a:t>Приём </a:t>
            </a: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«Маркировка» (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читаем текст по абзацам, выделяя главное )</a:t>
            </a:r>
            <a:r>
              <a:rPr b="0" lang="ru-RU" sz="3600" spc="-1" strike="noStrike">
                <a:solidFill>
                  <a:srgbClr val="4a452a"/>
                </a:solidFill>
                <a:latin typeface="Cassandra"/>
              </a:rPr>
              <a:t>	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2987640" y="3465360"/>
            <a:ext cx="59911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Учитель</cp:lastModifiedBy>
  <dcterms:modified xsi:type="dcterms:W3CDTF">2022-01-17T10:23:11Z</dcterms:modified>
  <cp:revision>69</cp:revision>
  <dc:subject/>
  <dc:title>Слайд 1</dc:title>
</cp:coreProperties>
</file>