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ACB-0F9B-4053-A2BE-E03034F2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0D1-7B24-4DDA-8017-D3E38CDA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82B-37B8-4F77-81C6-8B56B5A7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880-84EA-4CD4-8DDC-D15EF25C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ED9-883F-4B11-9C84-BEFD42F3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151-0FDB-4823-9BA9-F130A917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F47-CEA6-4564-919E-68310399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638-F354-4FC0-815E-47D781F8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892-971C-4AFF-AB58-C47DB306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192-318B-4195-8ED5-12D5588D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448-5F86-4CF0-A041-589588F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5AB-C784-4189-8B5B-0CBF5C5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0B3-F899-48AE-A8E8-66BDB3A2C9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BDEC-F8F5-47F4-B56C-7A567214C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текстуры и фоны, клипарты\новеньки картинки\3d075.gif"/>
          <p:cNvPicPr/>
          <p:nvPr/>
        </p:nvPicPr>
        <p:blipFill>
          <a:blip r:embed="rId2"/>
          <a:stretch/>
        </p:blipFill>
        <p:spPr>
          <a:xfrm>
            <a:off x="714240" y="3786120"/>
            <a:ext cx="1106640" cy="102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:\Documents and Settings\Aida\Рабочий стол\текстуры и фоны, клипарты\новеньки картинки\office hilighter roll a hc.gif"/>
          <p:cNvPicPr/>
          <p:nvPr/>
        </p:nvPicPr>
        <p:blipFill>
          <a:blip r:embed="rId3"/>
          <a:stretch/>
        </p:blipFill>
        <p:spPr>
          <a:xfrm>
            <a:off x="1428840" y="4214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3640" y="4508640"/>
            <a:ext cx="633276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творческих способностей учащихся на уроках английского языка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развития творческих способностей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этап (2-4 классы) – мотивацио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этап (5-8 классы) – творческая деятельность и формирование основ исследов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этап (9-11 классы) – вовлечение в исследовательскую деятельность, совершенствование навыков творческ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9E5F-BF6E-4A6B-8B83-09379C68AF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F3E9-13EE-4CBC-9C11-999772853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творческих рабо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начальная школ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с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и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EFAF-09FC-40CC-9E43-21AE97221E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F24D-8027-42FD-9805-8EAEF9E75A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творческих рабо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среднее звен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конкурса чтец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викто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влечение учеников в творческую деятельность через знакомство с адаптированными образцами художественной литературы изучаем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0BBA-FAA6-404C-9264-EF416775C0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4CED-4128-4C0E-BFAB-1D5C5223C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творческих рабо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старшее звен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влечение учеников в творческую деятельность через знакомство с адаптированными образцами художественной литературы изучаем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ение творческ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F1D0-73F3-45C3-AA75-D714E559D7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077A-A59B-4AC8-8EC8-6E66456A1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04:46:12Z</dcterms:created>
  <dc:creator>кабинет № 9</dc:creator>
  <dc:description>http//aida.ucoz.ru</dc:description>
  <dc:language>en-US</dc:language>
  <cp:lastModifiedBy>кабинет № 9</cp:lastModifiedBy>
  <dcterms:modified xsi:type="dcterms:W3CDTF">2014-01-23T07:59:51Z</dcterms:modified>
  <cp:revision>20</cp:revision>
  <dc:subject/>
  <dc:title>Развитие творческих способностей учащихся на уроках английского языка</dc:title>
</cp:coreProperties>
</file>