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02C-56A7-4B22-93C4-21F60B9B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87D-B776-4BFA-829C-3F667785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205D-925E-4B58-AF19-F32A2190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507-8E38-4FCF-B08B-4BB29CDA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A07-5080-45C3-ACBB-B0E6B44F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1A3-185F-4BE6-AF8E-306FC27F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3F2-0A0A-4567-8E46-54C16CE5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B99-E3B9-499E-BD3A-5B2D8566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1728-E261-46E3-892C-627433E4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58C-3E57-46FE-B2F7-27CF1ACC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D08-14CA-4251-9172-0D75D46B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FBF-D08B-4C3B-96FF-2BE74468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7391-720D-4DBF-B420-F61896A1471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CF85-6905-4CF6-A5E1-D191C2523E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Documents and Settings\Aida\Рабочий стол\текстуры и фоны, клипарты\новеньки картинки\3d075.gif"/>
          <p:cNvPicPr/>
          <p:nvPr/>
        </p:nvPicPr>
        <p:blipFill>
          <a:blip r:embed="rId2"/>
          <a:stretch/>
        </p:blipFill>
        <p:spPr>
          <a:xfrm>
            <a:off x="714240" y="3786120"/>
            <a:ext cx="1106640" cy="1028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H:\Documents and Settings\Aida\Рабочий стол\текстуры и фоны, клипарты\новеньки картинки\office hilighter roll a hc.gif"/>
          <p:cNvPicPr/>
          <p:nvPr/>
        </p:nvPicPr>
        <p:blipFill>
          <a:blip r:embed="rId3"/>
          <a:stretch/>
        </p:blipFill>
        <p:spPr>
          <a:xfrm>
            <a:off x="1428840" y="421488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3640" y="4508640"/>
            <a:ext cx="6332760" cy="18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творческих способностей учащихся на уроках английского языка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апы развития творческих способностей уча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этап (2-4 классы) – мотивацион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этап (5-8 классы) – творческая деятельность и формирование основ исследов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этап (9-11 классы) – вовлечение в исследовательскую деятельность, совершенствование навыков творческ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5F4A-C90B-4DC7-AA7B-75C41A19E93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DB6E-11C4-4F5B-9631-D81E276E8B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творческих рабо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начальная школ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х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с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ие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0090-E4BE-4459-BCE0-1015F44C3AD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0CCE-A304-4B77-AB95-FA2F856082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творческих рабо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среднее звено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конкурса чтец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викто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ная деяте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влечение учеников в творческую деятельность через знакомство с адаптированными образцами художественной литературы изучаемого язы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B8B4-5C3B-465E-92BE-243B7FB1AA0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2A0E-0E10-4A78-9688-A1FCC2FAB1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творческих рабо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старшее звено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ная деяте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влечение учеников в творческую деятельность через знакомство с адаптированными образцами художественной литературы изучаемого язы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ение творческ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E077-8B73-41AD-8809-3C13F5108CD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1236-846B-4424-91A0-2E973BD254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04:46:12Z</dcterms:created>
  <dc:creator>кабинет № 9</dc:creator>
  <dc:description>http//aida.ucoz.ru</dc:description>
  <dc:language>en-US</dc:language>
  <cp:lastModifiedBy>кабинет № 9</cp:lastModifiedBy>
  <dcterms:modified xsi:type="dcterms:W3CDTF">2014-01-23T07:59:51Z</dcterms:modified>
  <cp:revision>20</cp:revision>
  <dc:subject/>
  <dc:title>Развитие творческих способностей учащихся на уроках английского языка</dc:title>
</cp:coreProperties>
</file>