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58299C-69B6-4D82-B148-F35F4E7C66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532EB4-6D47-40D7-A5C5-13D72A26E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11EC75-1CD3-46D6-881A-F33FE02A4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7B2661-A146-41C5-BF1C-062575EAC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6AF59-C00D-4D46-ACE0-2E7E91BD1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0F2F55-E10D-4987-84EC-9472CF1C1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FA8370-B89B-43CE-8FAD-A956067D0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BD439-8026-431C-B281-6D24881A2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4EF0DC-0853-4ECA-8B08-817566568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1E119A-E8A7-41AD-9F25-D0D606C52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41B29-186A-40C9-889E-17053963B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326B4-5FBC-43A6-8C14-E3E344478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FCCBC3-CD4E-442D-B3B3-557302508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C8BEEE-6484-4FBC-B92E-EECA67231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87147-049E-42FA-8658-B690F5A1E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95CE-B30E-411F-AA74-EBEB22FA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1AAA-5BAE-4BA7-AB3C-14E0CA042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E8ED-5DCF-47E1-AF83-5EFE6EAE0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E2DA-A8F8-4F35-98BF-BE2AC3B28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207B-1A4E-4AF6-A9CA-6D33CFB96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435E-06D8-496B-9C37-93768395DA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EFCB-FD08-4A5D-A757-BA8F5AD18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29B5-0958-4331-9A09-A74149431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6B05-47A0-41AE-BC56-80FFBA7B0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6D01-2E50-42BB-B7DC-9C5C8E245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FC5B-00FE-4EEB-AABC-4E4D58E2D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A85E-ABF7-44EB-A445-8D6EBD12E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5A3F-79A1-480D-AE58-2BB6C502A4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9C0C-99B5-4DAF-9638-B835B9B9FE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7FFC-9115-43E5-94D8-14C722542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9BBD-DD8A-4894-B0A8-B99EF50683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F521-4A70-4822-B694-1280EF884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EB71-0557-43EC-ACA4-3113DCAC6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6E28-EE7C-4EEE-AB9D-0031B3125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A7E1-1452-418E-AB8C-D56A9A3E8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09B5-2524-4B41-90B5-E5D81FEE3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0360-FAEE-4E71-958B-F3FE568FE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1587-8F46-46B0-B83E-ED4EBC49A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FC2C-9415-442D-B825-5C9074D93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25AAA0-0D82-4F32-9279-7ED7E9DFB90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DD167-340E-4BF0-BC52-E86EA10004C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81000"/>
            <a:ext cx="8785440" cy="33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технологи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вития критического мышления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хими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484360" y="4724280"/>
            <a:ext cx="41767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шк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ЛГ г.Ки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рефлек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17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обмен мнениями о новой информа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риобретение нового зн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обуждение к дальнейшему расширению информационного пол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оч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оотнесение новой информации и имеющихся знаний, выработка собственной позиции,  оценка процесс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Роль учителя в ТРК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380880"/>
            <a:ext cx="8459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Формы и средства развития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бор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 тек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поставление альтернативных точек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е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ые виды парной и группов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иск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убликации письменных работ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АДИЯ: ВЫ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копаемся в памя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Инструк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копаемся в памя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предлагает ответить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Какая тема? (назовите 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Что вы уже знаете об э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Чего вы ожидали или испытывали потребность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очему вам это нужно 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: «Ассоци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мся предлагается прочитать тему урока и ответит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 чем может пойти речь на уроке? - Какая ассоциация у вас возникает, когда вы слышите словосочетание: “----”? Учащиеся перечисляют все возникшие а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380880"/>
            <a:ext cx="822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ерепутанные логические цеп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ам предложены верные и неверные утверждения, они должны прочитать и поставить знак «+», если высказывание верное и знак «-», если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ём «Инструкц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700280"/>
            <a:ext cx="7769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делятся на группы, им дается инструкция: страницы учебника, выбор экспе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а работы в экспертных групп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Изучить вопрос так, чтобы суметь объяснить партн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Найти эффективные способы преподнес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  Разъяснить то, что другим осталось непоня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  Составить «Экспертный лис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 СТАДИЯ: ОСМЫС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метки на пол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Маркировоч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Двухчастный днев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Лист решения пробл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Таблица аргум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Ромашка Блу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766880"/>
            <a:ext cx="77882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получают текст и делают в нем соответствующие по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ставьте на полях, если то, что вы читаете, соответствует тому что вы зна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противоречит тому что вы знали или думали что это зна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V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является нов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?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является непонятным или вы хотели бы получить более подробные сведения по данн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в процессе чтения текста учащиеся делают четыре типа пометок на полях, в соответствии со своими знаниями и пониманием. Время на работу отводится в зависимости от объема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765000"/>
            <a:ext cx="8101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ритика была бы, конечно, ужасным орудием для всякого, если бы, к счастью, она сама не подлежала критике же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В. Г. Бел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Маркировочная табл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0" y="1766880"/>
          <a:ext cx="3809520" cy="4114440"/>
        </p:xfrm>
        <a:graphic>
          <a:graphicData uri="http://schemas.openxmlformats.org/drawingml/2006/table">
            <a:tbl>
              <a:tblPr/>
              <a:tblGrid>
                <a:gridCol w="952920"/>
                <a:gridCol w="952920"/>
                <a:gridCol w="950760"/>
                <a:gridCol w="95292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?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02272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 обсуждается в парах, ученик от пары сообщает информацию, которая фиксируется учителем на до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Двухчастный днев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272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объяснения материала ведутся дневники, состоящие из двух частей, в первой части ведется конспект излагаемого материала, очень важно вовремя объяснения не перебивать докладчика, поэтому возникающие вопросы или не ясные моменты фиксируются во второй части и затем к ним возвращ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2000" y="1766880"/>
          <a:ext cx="3809520" cy="2782440"/>
        </p:xfrm>
        <a:graphic>
          <a:graphicData uri="http://schemas.openxmlformats.org/drawingml/2006/table">
            <a:tbl>
              <a:tblPr/>
              <a:tblGrid>
                <a:gridCol w="1905840"/>
                <a:gridCol w="19036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е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Лист решения пробл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766880"/>
            <a:ext cx="35290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этом виде деятельности идет детальная поэтапная разборка материала. Ученики самостоятельно ставят перед собой проблему и самостоятельно ищут пути ее решения для достижения конеч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56000" y="1766880"/>
          <a:ext cx="4609800" cy="2927160"/>
        </p:xfrm>
        <a:graphic>
          <a:graphicData uri="http://schemas.openxmlformats.org/drawingml/2006/table">
            <a:tbl>
              <a:tblPr/>
              <a:tblGrid>
                <a:gridCol w="1153080"/>
                <a:gridCol w="1154520"/>
                <a:gridCol w="1149120"/>
                <a:gridCol w="1153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есть для реш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го не хват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Таблица аргумент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20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ает аргументы, а учащиеся должны их опровергнуть или подтвердить фактами из лекции учителя или при работе с учебни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2720" y="1766880"/>
          <a:ext cx="3809880" cy="2782440"/>
        </p:xfrm>
        <a:graphic>
          <a:graphicData uri="http://schemas.openxmlformats.org/drawingml/2006/table">
            <a:tbl>
              <a:tblPr/>
              <a:tblGrid>
                <a:gridCol w="1270440"/>
                <a:gridCol w="1269360"/>
                <a:gridCol w="12700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г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: «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: «Н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38088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7940000">
            <a:off x="4080240" y="2664360"/>
            <a:ext cx="2467080" cy="880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540000">
            <a:off x="4729320" y="3751200"/>
            <a:ext cx="2530440" cy="858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540000">
            <a:off x="4116240" y="4852440"/>
            <a:ext cx="2530440" cy="86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40000">
            <a:off x="2862720" y="4850280"/>
            <a:ext cx="2467080" cy="880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40000">
            <a:off x="2084400" y="3786120"/>
            <a:ext cx="2530440" cy="860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540000">
            <a:off x="2775960" y="2662560"/>
            <a:ext cx="2530440" cy="858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1420000">
            <a:off x="4328640" y="3814560"/>
            <a:ext cx="765360" cy="745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1159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2000" y="1341360"/>
            <a:ext cx="7769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Arial"/>
              </a:rPr>
              <a:t>Прост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фактические вопросы) – требуют знания фактического материала и ориентированы на работу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Уточня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«насколько я понял….», «правильно ли я Вас поняла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Интерпретиру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объясняющие) – побуждая учеников к интерпре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Оценочн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равнение) –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Твор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гноз) – «Как вы думаете, что произойдет дальше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«Как мы можем…?» «Как поступили бы вы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СТАДИЯ: 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2000" y="1766880"/>
            <a:ext cx="77691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ас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иквэй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Эс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амоанал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«6 шляп критического мыш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ючевые сл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Взаимообуч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аст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как на стадии вызова, так и на стадии рефлек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ередине пишется ключевое слово или пред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сываются слова или предложения, связанные с данной 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. Устанавливаются связи между предложенными иде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Количество высказанных предложений не ограни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200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ервой строч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ема называется одним словом (обыч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ествите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тор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описание темы в двух слова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умя прилагате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ть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описание действия в рамках этой тем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мя сло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тверт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фраза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тыре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синоним из одного слова, который повторя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ть 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Эсс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предлагается ответить 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Что они узнали по пройденной те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Что хотели бы узнать? (или задать вопрос на который они не получили отве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380880"/>
            <a:ext cx="838836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использования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905120"/>
            <a:ext cx="712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общество изменило свои приоритеты, оно заинтересовано в том, чтобы его граждане были способны самостоятельно, активно действовать, принимать решения, гибко адаптироваться к изменяющимся условиям жизни. В современных условиях целью обучения становится раскрытие индивидуальных способностей ребёнка, развитие его умственной активности. Ставится задача не научить человека на всю жизнь, а научить его учиться всю жизнь. Решению этой задачи может успешно способствовать применение такой новой современной технологии, ка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вития крит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амоанали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2000" y="1766880"/>
            <a:ext cx="36543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ловосочетаниях «знаю уверенно» и «надо повторить» подразумевается, что ученик уже работал, знания уже есть, но их надо закрепить, учителем демонстрируется доверие к ученику, если сравнить с классической формулировкой “знаю”, “не знаю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32360" y="1766880"/>
          <a:ext cx="3900240" cy="2782440"/>
        </p:xfrm>
        <a:graphic>
          <a:graphicData uri="http://schemas.openxmlformats.org/drawingml/2006/table">
            <a:tbl>
              <a:tblPr/>
              <a:tblGrid>
                <a:gridCol w="1440360"/>
                <a:gridCol w="1159560"/>
                <a:gridCol w="13003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ю увере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о повто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«6 шляп критического мыш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0" y="1766880"/>
            <a:ext cx="776916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 делится на шесть групп, каждая группа “примеряет свою шляпу”, высказывается шесть точек зрения на одну и ту же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ел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АТИСТИЧЕСКАЯ (констатируются факты по проблеме, без их обсужд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Желт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ПОЛОЖИТЕЛЬНАЯ (высказываются положительные момен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НЕГАТИВНАЯ (группа констатирует отрицательные моменты по изучаемой пробл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Синя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АНАЛИТИЧЕСКАЯ (проводится анализ, группа отвечает на вопросы: почему? зачем? связи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  <a:ea typeface="Arial"/>
              </a:rPr>
              <a:t>Зеле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ТВОРЧЕСКАЯ (можно высказывать самые “бредовые идеи и предположения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рас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ЭМОЦИОНАЛЬНАЯ (группа формулирует свои эмоции, которые они испытывали при работе с материа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ючевы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предложенных слов составить рассказ-предположение или рассказ-подведение итогов какого-либо события. Главное - использовать в тексте все ключе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Взаимообуч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2000" y="1766880"/>
            <a:ext cx="77691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 делится на группы из четырёх-семи человек. Всем им раздаются экземпляры одного и того же текста. Учащиеся по очереди играют роль учителя-роль, которая требует от них выполнения четырех определён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“учитель” суммирует содержание абза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он придумывает вопрос к тексту и просит других учащихся на него ответ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“учитель” растолковывает то, что для других осталось неяс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он даёт задание на чтение следующего абзаца, а затем передаёт бразды правления в руки следующего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198900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Урок с использованием приемов ТР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2060640"/>
            <a:ext cx="7772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ма: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«Железо - главный металл нашего времени»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993080" cy="5986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93840" y="2349360"/>
            <a:ext cx="12970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4510080"/>
            <a:ext cx="15130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500000">
            <a:off x="2339640" y="3358800"/>
            <a:ext cx="154620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ЖЕЛЕЗО - ЭЛЕМЕНТ И ПРОСТОЕ ВЕЩЕ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4200" y="4797360"/>
            <a:ext cx="936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КУДА БЕРЕТСЯ ЖЕЛЕ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0200" y="4510080"/>
            <a:ext cx="360360" cy="287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5280" y="3789360"/>
            <a:ext cx="1512720" cy="480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ЕРИМЕ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2920" y="1773360"/>
            <a:ext cx="151308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6680" y="380880"/>
            <a:ext cx="7772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тив успеш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1766880"/>
            <a:ext cx="80042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риз –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АВТОМОБИЛЬ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380880"/>
            <a:ext cx="7772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Путеводитель» дл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2133720"/>
            <a:ext cx="8004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3040" algn="just">
              <a:lnSpc>
                <a:spcPct val="8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абочий л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порный конспе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8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Ассоци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граем в ассоциации: «Что для вас означает понятие «железо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ы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ся в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зный гвоз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ягивается магни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ся в ябло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 машиностр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контуры ТР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700280"/>
            <a:ext cx="77691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724760"/>
            <a:ext cx="74898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Цели данной техн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ритического стиля мышления в процессе обучения химии,  развитие умений понимать скрытый смысл того или иного сооб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выков самостоятельной работы  с учебным материалом и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мений ориентироваться в источниках информации, находить, перерабатывать, передавать и принимать требуемую информацию, отделять главное от несущественного в тексте или реч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ачества и эффективности процесса обучения за счет реализации возможностей  образовательных  техн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Взаимо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963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ТОРИЧЕСК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елезо известно людям примерно 5 тысяч лет. Первое железо, попавшее еще в глубокой древности в руки человека, было не земного, 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я: оно входило в соста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теори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попавших на нашу планету. Не случайно на некоторых древних языках оно имену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небесный камень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то было самородное железо, оно всегда содержит примеси Ni, поэтому оно не поддается ковке в обычных условиях. Его следует обрабатывать, как это не странно, только в холодном виде, а не разогретым, как обычное железо. Согласно легенде, оружейники, которые не знали этого секрета и не сумели отковать из «небесного камня» меч для бухарского эмира, были безжалостно казнены.Только много столетий спустя загадка металла с неба была разгадана. В XVII веке оружие из никелистого железа появилось у индийского раджи. Были сабли из уникального металла у латиноамериканского героя – легендарного Боливара и у российского царя Александра I. Период с IX–VII века до нашей эры, когда у многих племен  Европы и Азии развилась металлургия железа, получил название железного века, пришедшего на смену бронзовому веку. У древних египтян железо ценилось так же высоко, как золото, и даже дороже. Недаром железные лезвия, кинжалы, бусы находили в гробницах фараонов вместе с золотыми украшениями. Один восточный деспот даже издал закон, под страхом смертной казни запрещающий, кроме него, носить сделанные из этого металла украшения. Древнегреческий географ и историк Страбон писал, что в глубине Африки жили племена, которые за слиток этого металла давали 10 слитков зол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Взаимо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!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читать текст, составить три вопроса по содержанию, задать их клас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404640"/>
            <a:ext cx="77724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Класт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2000" y="1628640"/>
            <a:ext cx="77691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альн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14760" y="1809720"/>
            <a:ext cx="2743200" cy="933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43280" y="2421000"/>
            <a:ext cx="54612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11480" y="2882880"/>
            <a:ext cx="1981440" cy="101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2400000">
            <a:off x="2746440" y="3638160"/>
            <a:ext cx="388800" cy="5032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3860640"/>
            <a:ext cx="466920" cy="505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440000">
            <a:off x="6554880" y="3642840"/>
            <a:ext cx="395280" cy="5032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292640"/>
            <a:ext cx="166716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4221000"/>
            <a:ext cx="162252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445000"/>
            <a:ext cx="2735280" cy="96156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, HCl, H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,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ы солей.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5877000"/>
            <a:ext cx="2449440" cy="72108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91040" y="4387680"/>
            <a:ext cx="162252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+2, 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5300640"/>
            <a:ext cx="466920" cy="50472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400000">
            <a:off x="1881000" y="4933440"/>
            <a:ext cx="390240" cy="5032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5445000"/>
            <a:ext cx="2987640" cy="96156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, HNO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разб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9440000">
            <a:off x="7273440" y="4865400"/>
            <a:ext cx="397080" cy="50328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4653000"/>
            <a:ext cx="2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00560" y="518652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1640" y="46530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«БИОЛОГИЧЕСКА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лезо в виде ионов присутствует в организмах всех животных и, конечно же, человека. Основная биологическая функция железа – участие в транспорте кислорода ко всем органам и окислительных процессах. В организме  человека с массой тела  прниблизительно70 кг содержится 4,2 г железа, а в 1 л крови – 450 мг. При недостатке железа в организме развивается железистая анемия. Перенос железа в организме осуществляет важнейший белок–гемоглобин, в котором находится больше половины всего железа организма. Почти 60% поступающего в организм железа расходуется на синтез гемоглобина. Некоторое количество (примерно 20%) - откладывается в мышцах, костном мозге, печени и селезенке. Еще 20% его используется для синтеза различных ферментов. Основная роль железа в организме – участие в «рождении» красных (эритроцитов) и белых (лимфоцитов) кровяных клеток. Эритроциты содержат гемоглобин - переносчик кислорода, а лимфоциты ответственны за иммунит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к своему здоровью: наличие достаточного количества гемоглобина – это наша жизнь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анемии (недостатке гемоглобина) увеличьте в своем рационе количество нежирного говяжьего мяса и печени, красной икры, а также яичных жел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!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тавить по тексту следующие симв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же изве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+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абсолютно н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-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 меня друг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ценн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Синквей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уровень («3»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Составить синквейн по изученной те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удности в работе по ТР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Реализация полностью урока  по данной технологии в рамках классно-уро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Не все дети могут работать с большим объемом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Неправильное понимание учащимися стратегий и мет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Неприятие некоторых приемов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В технологии огромное количество приемов – затруднение в выб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Сложность в подборе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Большие моральные,  временные и материальные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Затруднения в выставлении оценок при работе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380880"/>
            <a:ext cx="77724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58920" y="2060640"/>
            <a:ext cx="72738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мышляйте над этим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835280" y="3573360"/>
            <a:ext cx="604836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олько критичес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1197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ое мышление име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характеристик (Дэвид Клу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-перв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амостоя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-в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обобщ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-треть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проблемное и оцен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четвер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аргумент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пя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критическое мышление есть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31880" y="488880"/>
            <a:ext cx="720432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е РК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критического мышл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6 компон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ий мысл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 собственное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ершает обдуманный выбор между различными мн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гументировано сп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ит совместную работу, в которой возникает обще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ет ценить чужую точку зрения и сознает, что восприятие человека и его отношение к любому вопросу формируется под влиянием многи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снова ТРКМ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хфазная структура урока (модель Сергея Ивановича Заир-Б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2997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93372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пробуждение интереса к предмет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     (побуждение к работе с новой информацией, пробуждение интереса к тем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вызов «на поверхность» имеющихся знании по тем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онн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бесконфликтный обмен мнения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380880"/>
            <a:ext cx="808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реализации смыс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смысление материала во времени работы над н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2000" y="1989000"/>
            <a:ext cx="776916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олучение новой информации по тем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з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классификация полученной информации по категориям зн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наталья</dc:creator>
  <dc:description/>
  <dc:language>en-US</dc:language>
  <cp:lastModifiedBy/>
  <dcterms:modified xsi:type="dcterms:W3CDTF">2023-10-30T14:55:23Z</dcterms:modified>
  <cp:revision>116</cp:revision>
  <dc:subject/>
  <dc:title>ТЕХНОЛОГИЯ РАЗВИТИЯ КРИТИЧЕСКОГО МЫШЛЕНИЯ</dc:title>
</cp:coreProperties>
</file>