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7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89537F-85CA-4ACA-BEBD-7404B61C7F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69E9420-BD0F-4A26-B4C1-5C5C20A95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DD23B9-EABE-41F7-8081-0D7EAC746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EADFCF-8C60-4299-B14D-C7A18FF24E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8C35F5-F1F9-4B15-BA39-E421AB7CB6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7C4C94-3A6A-4F09-8C31-4E6B2BDDB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0778DE-FA59-4BA0-8E8B-E277F8E9F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3BCD11-D0B3-47BB-A362-42EB4ECFDE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5A60DB-A7BD-4D1D-B085-29705FE16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A63D6F-45CB-4472-A1A0-45F00CF96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A04D99-62ED-4760-937A-7FA351729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28968D-319F-4557-BDEB-A0D9BEF15B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829C81-4055-4600-A700-E182F6506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56CBC3-D697-41F7-ABA2-0FD8E48FF3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A8C244-EE90-4735-A321-67F20DA053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29A2-1DF0-4E35-996B-E64F51B93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5388-4CF7-4EE4-A8B7-BC89CAC98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97EC-98D4-4A90-9B7C-D2F83F3E8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441F-DBF9-46CD-846D-71C363B5A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D314-6333-422F-B578-0487189C14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79AB-9A85-4042-98D8-B75ECF7602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D78E-EA3E-4EA9-AC39-EEAAD0629A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5ED0-6026-4924-9599-2BCF26BE03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DAB9-E2C1-432D-835F-D54F12BD27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AC5F-1447-4717-9D11-8F3DAA9157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1E3D-D819-48F7-A96C-767127A78F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0174-343E-4147-BF26-6CD86B4F6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2A87-C593-4B63-B0A9-2E3CDEA5B9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78C94-DE01-4F6B-B0B5-E8A09A0989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EAE7-F84A-465C-8726-FA246495CA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E05D-B48E-4EE6-8434-D2BCE6A751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400" y="176652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400" y="3914280"/>
            <a:ext cx="25009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69DE-172E-4C0B-BB51-1C499C6703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D1F0-A581-47D5-BEE1-E945AAA33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64B9-7FE2-42D1-ACD3-0D8472813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F018-15C4-4A1B-BE55-F8BA1822F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98B3-050F-4CCF-A8A9-8B391D1BC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6018-B2DA-4365-ADB3-3EE70BC9C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428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C8C6-3C6D-4A71-8314-69544475C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520"/>
            <a:ext cx="379044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4280"/>
            <a:ext cx="77677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1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5F3C-5669-4352-9194-71A545C80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9905E0-B320-474B-AE64-09C0F9393D2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6361200" cy="6856560"/>
            <a:chOff x="0" y="0"/>
            <a:chExt cx="6361200" cy="6856560"/>
          </a:xfrm>
        </p:grpSpPr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4360" cy="68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588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520"/>
            <a:ext cx="776772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1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1AD098-5622-47FB-BE82-16B35587E55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9280" y="981000"/>
            <a:ext cx="8785440" cy="331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ование технологии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вития критического мышления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уроках химии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2484360" y="4724280"/>
            <a:ext cx="417672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ушкин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ОУ ЛГ г.Ки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Arial"/>
              </a:rPr>
              <a:t>Задачи фазы рефлекс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обобщение материала, подведение итог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SzPct val="117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цио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обмен мнениями о новой информа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приобретение нового зна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о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побуждение к дальнейшему расширению информационного пол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ценоч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соотнесение новой информации и имеющихся знаний, выработка собственной позиции,  оценка процесс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Arial"/>
              </a:rPr>
              <a:t>Роль учителя в ТРК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правляет усилия учеников в определенное ру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алкивает различные 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здает условия, побуждающие к принятию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ает учащимся возможность самостоятельно делать 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дготавливает новые познавательные ситуации внутри уже существу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380880"/>
            <a:ext cx="8459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Arial"/>
              </a:rPr>
              <a:t>Формы и средства развития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бор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ализ тек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поставление альтернативных точек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ллективное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ные виды парной и группов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б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иску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убликации письменных работ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ТАДИЯ: ВЫ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Покопаемся в памя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Ассоциа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Перепутанные логические цеп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Инструк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ём «Покопаемся в памя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предлагает ответить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Какая тема? (назовите 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Что вы уже знаете об э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Чего вы ожидали или испытывали потребность у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очему вам это нужно 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: «Ассоциац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ащимся предлагается прочитать тему урока и ответит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О чем может пойти речь на уроке? - Какая ассоциация у вас возникает, когда вы слышите словосочетание: “----”? Учащиеся перечисляют все возникшие ассоци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380880"/>
            <a:ext cx="822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ём «Перепутанные логические цепоч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никам предложены верные и неверные утверждения, они должны прочитать и поставить знак «+», если высказывание верное и знак «-», если нев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иём «Инструкц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700280"/>
            <a:ext cx="77691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делятся на группы, им дается инструкция: страницы учебника, выбор экспер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ла работы в экспертных групп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Изучить вопрос так, чтобы суметь объяснить партн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Найти эффективные способы преподнес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  Разъяснить то, что другим осталось непоня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  Составить «Экспертный лис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6680" y="380880"/>
            <a:ext cx="77724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 СТАДИЯ: ОСМЫС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Пометки на поля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Маркировочная табл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Двухчастный днев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Лист решения пробле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Таблица аргум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ём «Ромашка Блу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ием «Пометки на поля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1766880"/>
            <a:ext cx="77882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щиеся получают текст и делают в нем соответствующие пом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+”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поставьте на полях, если то, что вы читаете, соответствует тому что вы знае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поставьте на полях, если то, что вы читаете, противоречит тому что вы знали или думали что это знае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V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поставьте на полях, если то, что вы читаете, является нов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?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поставьте на полях, если то, что вы читаете, является непонятным или вы хотели бы получить более подробные сведения по данному вопр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в процессе чтения текста учащиеся делают четыре типа пометок на полях, в соответствии со своими знаниями и пониманием. Время на работу отводится в зависимости от объема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765000"/>
            <a:ext cx="8101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Критика была бы, конечно, ужасным орудием для всякого, если бы, к счастью, она сама не подлежала критике же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     В. Г. Бел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Маркировочная таблиц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0" y="1766880"/>
          <a:ext cx="3809520" cy="4114440"/>
        </p:xfrm>
        <a:graphic>
          <a:graphicData uri="http://schemas.openxmlformats.org/drawingml/2006/table">
            <a:tbl>
              <a:tblPr/>
              <a:tblGrid>
                <a:gridCol w="952920"/>
                <a:gridCol w="952920"/>
                <a:gridCol w="950760"/>
                <a:gridCol w="95292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+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-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?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02272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 обсуждается в парах, ученик от пары сообщает информацию, которая фиксируется учителем на дос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Двухчастный дневн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272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 время объяснения материала ведутся дневники, состоящие из двух частей, в первой части ведется конспект излагаемого материала, очень важно вовремя объяснения не перебивать докладчика, поэтому возникающие вопросы или не ясные моменты фиксируются во второй части и затем к ним возвращ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2000" y="1766880"/>
          <a:ext cx="3809520" cy="2782440"/>
        </p:xfrm>
        <a:graphic>
          <a:graphicData uri="http://schemas.openxmlformats.org/drawingml/2006/table">
            <a:tbl>
              <a:tblPr/>
              <a:tblGrid>
                <a:gridCol w="1905840"/>
                <a:gridCol w="190368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ет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Лист решения пробле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1766880"/>
            <a:ext cx="352908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этом виде деятельности идет детальная поэтапная разборка материала. Ученики самостоятельно ставят перед собой проблему и самостоятельно ищут пути ее решения для достижения конечн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356000" y="1766880"/>
          <a:ext cx="4609800" cy="2927160"/>
        </p:xfrm>
        <a:graphic>
          <a:graphicData uri="http://schemas.openxmlformats.org/drawingml/2006/table">
            <a:tbl>
              <a:tblPr/>
              <a:tblGrid>
                <a:gridCol w="1153080"/>
                <a:gridCol w="1154520"/>
                <a:gridCol w="1149120"/>
                <a:gridCol w="115308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есть для решени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го не хватае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Таблица аргумент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20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дает аргументы, а учащиеся должны их опровергнуть или подтвердить фактами из лекции учителя или при работе с учебни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22720" y="1766880"/>
          <a:ext cx="3809880" cy="2782440"/>
        </p:xfrm>
        <a:graphic>
          <a:graphicData uri="http://schemas.openxmlformats.org/drawingml/2006/table">
            <a:tbl>
              <a:tblPr/>
              <a:tblGrid>
                <a:gridCol w="1270440"/>
                <a:gridCol w="1269360"/>
                <a:gridCol w="127008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ргу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чему: «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чему: «Н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380880"/>
            <a:ext cx="77724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омашка Бл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7940000">
            <a:off x="4080240" y="2664360"/>
            <a:ext cx="2467080" cy="8809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1540000">
            <a:off x="4729320" y="3751200"/>
            <a:ext cx="2530440" cy="858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яющ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3540000">
            <a:off x="4116240" y="4852440"/>
            <a:ext cx="2530440" cy="86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7940000">
            <a:off x="2862720" y="4850280"/>
            <a:ext cx="2467080" cy="88092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540000">
            <a:off x="2084400" y="3786120"/>
            <a:ext cx="2530440" cy="86040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3540000">
            <a:off x="2775960" y="2662560"/>
            <a:ext cx="2530440" cy="858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1420000">
            <a:off x="4328640" y="3814560"/>
            <a:ext cx="765360" cy="745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11592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омашка Бл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2000" y="1341360"/>
            <a:ext cx="77691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  <a:ea typeface="Arial"/>
              </a:rPr>
              <a:t>Просты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фактические вопросы) – требуют знания фактического материала и ориентированы на работу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Уточняющ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«насколько я понял….», «правильно ли я Вас поняла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Arial"/>
              </a:rPr>
              <a:t>Интерпретирующ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объясняющие) – побуждая учеников к интерпрет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  <a:ea typeface="Arial"/>
              </a:rPr>
              <a:t>Оценочны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сравнение) – необходимо использовать, когда вы слышите, что кто-либо из учеников выражает соседу по парте свое недовольство или удовольствие от произошедшего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Творческ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прогноз) – «Как вы думаете, что произойдет дальше…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актические 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«Как мы можем…?» «Как поступили бы вы…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 СТАДИЯ: 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2000" y="1766880"/>
            <a:ext cx="776916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Класт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Сиквэй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Эсс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Самоанали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«6 шляп критического мыш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Ключевые сло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ём «Взаимообуч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Класт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2000" y="1766880"/>
            <a:ext cx="776916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тся как на стадии вызова, так и на стадии рефлек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ередине пишется ключевое слово или предл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Записываются слова или предложения, связанные с данной 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. Устанавливаются связи между предложенными иде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Количество высказанных предложений не огранич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2000" y="1766880"/>
            <a:ext cx="776916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первой строч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тема называется одним словом (обыч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ществитель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торая стр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описание темы в двух словах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вумя прилагатель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етья стр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описание действия в рамках этой тем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емя сло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твертая стр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фраза из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етыре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14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дняя ст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синоним из одного слова, который повторяе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ть 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Эсс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ащихся предлагается ответить н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Что они узнали по пройденной те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- Что хотели бы узнать? (или задать вопрос на который они не получили отве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55640" y="380880"/>
            <a:ext cx="838836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ктуальность использования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1905120"/>
            <a:ext cx="712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общество изменило свои приоритеты, оно заинтересовано в том, чтобы его граждане были способны самостоятельно, активно действовать, принимать решения, гибко адаптироваться к изменяющимся условиям жизни. В современных условиях целью обучения становится раскрытие индивидуальных способностей ребёнка, развитие его умственной активности. Ставится задача не научить человека на всю жизнь, а научить его учиться всю жизнь. Решению этой задачи может успешно способствовать применение такой новой современной технологии, ка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развития критического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Самоанализ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2000" y="1766880"/>
            <a:ext cx="365436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ловосочетаниях «знаю уверенно» и «надо повторить» подразумевается, что ученик уже работал, знания уже есть, но их надо закрепить, учителем демонстрируется доверие к ученику, если сравнить с классической формулировкой “знаю”, “не знаю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932360" y="1766880"/>
          <a:ext cx="3900240" cy="2782440"/>
        </p:xfrm>
        <a:graphic>
          <a:graphicData uri="http://schemas.openxmlformats.org/drawingml/2006/table">
            <a:tbl>
              <a:tblPr/>
              <a:tblGrid>
                <a:gridCol w="1440360"/>
                <a:gridCol w="1159560"/>
                <a:gridCol w="130032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ю уверен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14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до повтор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ём«6 шляп критического мышл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0" y="1766880"/>
            <a:ext cx="776916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с делится на шесть групп, каждая группа “примеряет свою шляпу”, высказывается шесть точек зрения на одну и ту же пробл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ела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АТИСТИЧЕСКАЯ (констатируются факты по проблеме, без их обсужд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Желта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ПОЛОЖИТЕЛЬНАЯ (высказываются положительные момен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на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НЕГАТИВНАЯ (группа констатирует отрицательные моменты по изучаемой проблем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Синя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АНАЛИТИЧЕСКАЯ (проводится анализ, группа отвечает на вопросы: почему? зачем? связи?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00cc00"/>
                </a:solidFill>
                <a:latin typeface="Arial"/>
                <a:ea typeface="Arial"/>
              </a:rPr>
              <a:t>Зелена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ТВОРЧЕСКАЯ (можно высказывать самые “бредовые идеи и предположения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Красная шляпа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—&gt; ЭМОЦИОНАЛЬНАЯ (группа формулирует свои эмоции, которые они испытывали при работе с материа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Ключевые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предложенных слов составить рассказ-предположение или рассказ-подведение итогов какого-либо события. Главное - использовать в тексте все ключев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ём «Взаимообуч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2000" y="1766880"/>
            <a:ext cx="776916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с делится на группы из четырёх-семи человек. Всем им раздаются экземпляры одного и того же текста. Учащиеся по очереди играют роль учителя-роль, которая требует от них выполнения четырех определённых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“учитель” суммирует содержание абза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) он придумывает вопрос к тексту и просит других учащихся на него ответ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“учитель” растолковывает то, что для других осталось неяс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) он даёт задание на чтение следующего абзаца, а затем передаёт бразды правления в руки следующего уче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00000" y="1989000"/>
            <a:ext cx="77724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Урок с использованием приемов ТРК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71640" y="2060640"/>
            <a:ext cx="77724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Тема: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«Железо - главный металл нашего времени»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993080" cy="5986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93840" y="2349360"/>
            <a:ext cx="12970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4510080"/>
            <a:ext cx="1513080" cy="27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О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9500000">
            <a:off x="2339640" y="3358800"/>
            <a:ext cx="154620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ЖЕЛЕЗО - ЭЛЕМЕНТ И ПРОСТОЕ ВЕЩЕ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4200" y="4797360"/>
            <a:ext cx="936720" cy="550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ТКУДА БЕРЕТСЯ ЖЕЛЕЗ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0200" y="4510080"/>
            <a:ext cx="360360" cy="2872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5280" y="3789360"/>
            <a:ext cx="1512720" cy="480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СПЕРИМЕ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АЛЬ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2920" y="1773360"/>
            <a:ext cx="1513080" cy="246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ИОЛОГИЧЕСК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66680" y="380880"/>
            <a:ext cx="77724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отив успешн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1766880"/>
            <a:ext cx="80042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6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Главный приз –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АВТОМОБИЛЬ!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380880"/>
            <a:ext cx="777240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Путеводитель» дл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2133720"/>
            <a:ext cx="80042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43040" indent="-743040" algn="just">
              <a:lnSpc>
                <a:spcPct val="80000"/>
              </a:lnSpc>
              <a:spcBef>
                <a:spcPts val="1111"/>
              </a:spcBef>
              <a:spcAft>
                <a:spcPts val="1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абочий ли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lnSpc>
                <a:spcPct val="80000"/>
              </a:lnSpc>
              <a:spcBef>
                <a:spcPts val="1111"/>
              </a:spcBef>
              <a:spcAft>
                <a:spcPts val="1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Опорный конспек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80000"/>
              </a:lnSpc>
              <a:spcBef>
                <a:spcPts val="12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Ассоциац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играем в ассоциации: «Что для вас означает понятие «железо»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ы учащих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держится в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елезный гвозд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ягивается магни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держится в ябло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8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а машиностро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контуры ТР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1700280"/>
            <a:ext cx="77691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724760"/>
            <a:ext cx="748980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Цели данной технолог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критического стиля мышления в процессе обучения химии,  развитие умений понимать скрытый смысл того или иного сообщ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выков самостоятельной работы  с учебным материалом и информ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умений ориентироваться в источниках информации, находить, перерабатывать, передавать и принимать требуемую информацию, отделять главное от несущественного в тексте или речи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е качества и эффективности процесса обучения за счет реализации возможностей  образовательных  технолог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Взаимоопр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700280"/>
            <a:ext cx="849636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СТОРИЧЕСКА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елезо известно людям примерно 5 тысяч лет. Первое железо, попавшее еще в глубокой древности в руки человека, было не земного, 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смическог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исхождения: оно входило в соста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теори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попавших на нашу планету. Не случайно на некоторых древних языках оно именуе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небесный камень»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Это было самородное железо, оно всегда содержит примеси Ni, поэтому оно не поддается ковке в обычных условиях. Его следует обрабатывать, как это не странно, только в холодном виде, а не разогретым, как обычное железо. Согласно легенде, оружейники, которые не знали этого секрета и не сумели отковать из «небесного камня» меч для бухарского эмира, были безжалостно казнены.Только много столетий спустя загадка металла с неба была разгадана. В XVII веке оружие из никелистого железа появилось у индийского раджи. Были сабли из уникального металла у латиноамериканского героя – легендарного Боливара и у российского царя Александра I. Период с IX–VII века до нашей эры, когда у многих племен  Европы и Азии развилась металлургия железа, получил название железного века, пришедшего на смену бронзовому веку. У древних египтян железо ценилось так же высоко, как золото, и даже дороже. Недаром железные лезвия, кинжалы, бусы находили в гробницах фараонов вместе с золотыми украшениями. Один восточный деспот даже издал закон, под страхом смертной казни запрещающий, кроме него, носить сделанные из этого металла украшения. Древнегреческий географ и историк Страбон писал, что в глубине Африки жили племена, которые за слиток этого металла давали 10 слитков зол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Взаимоопр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!Зад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очитать текст, составить три вопроса по содержанию, задать их клас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42920" y="404640"/>
            <a:ext cx="777240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Класте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2000" y="1628640"/>
            <a:ext cx="776916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СТА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Экспериментальна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614760" y="1809720"/>
            <a:ext cx="2743200" cy="933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643280" y="2421000"/>
            <a:ext cx="54612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011480" y="2882880"/>
            <a:ext cx="1981440" cy="1012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rot="2400000">
            <a:off x="2746440" y="3638160"/>
            <a:ext cx="388800" cy="50328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3860640"/>
            <a:ext cx="466920" cy="505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9440000">
            <a:off x="6554880" y="3642840"/>
            <a:ext cx="395280" cy="50328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4292640"/>
            <a:ext cx="1667160" cy="64980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0720" y="4221000"/>
            <a:ext cx="1622520" cy="64980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Times New Roman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445000"/>
            <a:ext cx="2735280" cy="96156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, HCl, H</a:t>
            </a:r>
            <a:r>
              <a:rPr b="1" i="1" lang="en-US" sz="18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O</a:t>
            </a:r>
            <a:r>
              <a:rPr b="1" i="1" lang="en-US" sz="18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4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, 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ы солей.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5280" y="5877000"/>
            <a:ext cx="2449440" cy="72108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</a:t>
            </a:r>
            <a:r>
              <a:rPr b="1" i="1" lang="en-US" sz="24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91040" y="4387680"/>
            <a:ext cx="1622520" cy="64980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Times New Roman"/>
              </a:rPr>
              <a:t>+2, 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5300640"/>
            <a:ext cx="466920" cy="50472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400000">
            <a:off x="1881000" y="4933440"/>
            <a:ext cx="390240" cy="50328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5445000"/>
            <a:ext cx="2987640" cy="961560"/>
          </a:xfrm>
          <a:prstGeom prst="ellipse">
            <a:avLst/>
          </a:prstGeom>
          <a:solidFill>
            <a:srgbClr val="e6e6e6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l</a:t>
            </a:r>
            <a:r>
              <a:rPr b="1" i="1" lang="en-US" sz="18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, HNO</a:t>
            </a:r>
            <a:r>
              <a:rPr b="1" i="1" lang="en-US" sz="18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3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разб</a:t>
            </a:r>
            <a:r>
              <a:rPr b="1" i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9440000">
            <a:off x="7273440" y="4865400"/>
            <a:ext cx="397080" cy="50328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e6e6e6"/>
          </a:solidFill>
          <a:ln w="25560">
            <a:solidFill>
              <a:srgbClr val="acac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4653000"/>
            <a:ext cx="2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00560" y="5186520"/>
            <a:ext cx="3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51640" y="4653000"/>
            <a:ext cx="3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Пометки на поля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360" y="1766880"/>
            <a:ext cx="81356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СТАНОВ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«БИОЛОГИЧЕСКА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Железо в виде ионов присутствует в организмах всех животных и, конечно же, человека. Основная биологическая функция железа – участие в транспорте кислорода ко всем органам и окислительных процессах. В организме  человека с массой тела  прниблизительно70 кг содержится 4,2 г железа, а в 1 л крови – 450 мг. При недостатке железа в организме развивается железистая анемия. Перенос железа в организме осуществляет важнейший белок–гемоглобин, в котором находится больше половины всего железа организма. Почти 60% поступающего в организм железа расходуется на синтез гемоглобина. Некоторое количество (примерно 20%) - откладывается в мышцах, костном мозге, печени и селезенке. Еще 20% его используется для синтеза различных ферментов. Основная роль железа в организме – участие в «рождении» красных (эритроцитов) и белых (лимфоцитов) кровяных клеток. Эритроциты содержат гемоглобин - переносчик кислорода, а лимфоциты ответственны за иммунит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удьте внимательны к своему здоровью: наличие достаточного количества гемоглобина – это наша жизнь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анемии (недостатке гемоглобина) увеличьте в своем рационе количество нежирного говяжьего мяса и печени, красной икры, а также яичных желт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6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Пометки на поля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766880"/>
            <a:ext cx="81356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!Зад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сставить по тексту следующие симво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уже изве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+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абсолютно н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-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у меня другое 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ценная информ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ием «Синквей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1766880"/>
            <a:ext cx="813564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 уровень («3»)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Составить синквейн по изученной те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66680" y="380880"/>
            <a:ext cx="77724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рудности в работе по ТР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Реализация полностью урока  по данной технологии в рамках классно-уроч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Не все дети могут работать с большим объемом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Неправильное понимание учащимися стратегий и мет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Неприятие некоторых приемов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В технологии огромное количество приемов – затруднение в выб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Сложность в подборе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7.Большие моральные,  временные и материальные затр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8.Затруднения в выставлении оценок при работе в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66680" y="380880"/>
            <a:ext cx="77724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ритическое 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58920" y="2060640"/>
            <a:ext cx="727380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азмышляйте над этим..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835280" y="3573360"/>
            <a:ext cx="6048360" cy="93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Только критическ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dur="indefinite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119700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ритическое мышление имеет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 характеристик (Дэвид Клусте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-перв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мышление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самостоя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о-втор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это мышление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обобщ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-треть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это мышление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проблемное и оцено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четверт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это мышление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аргументирова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 пяты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– критическое мышление есть мышление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Arial"/>
              </a:rPr>
              <a:t>соци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31880" y="488880"/>
            <a:ext cx="720432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программе РК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критического мышл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стоит из 6 компон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итический мысл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 собственное м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вершает обдуманный выбор между различными мн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шает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гументировано спо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ит совместную работу, в которой возникает общее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buSzPct val="102884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ет ценить чужую точку зрения и сознает, что восприятие человека и его отношение к любому вопросу формируется под влиянием многи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снова ТРКМ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рехфазная структура урока (модель Сергея Ивановича Заир-Бе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299736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ы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3933720"/>
            <a:ext cx="2592360" cy="72072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мыс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5013360"/>
            <a:ext cx="2592360" cy="792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Arial"/>
              </a:rPr>
              <a:t>Задачи фазы вызов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 пробуждение интереса к предмет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200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тивацио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     (побуждение к работе с новой информацией, пробуждение интереса к тем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вызов «на поверхность» имеющихся знании по тем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ционна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бесконфликтный обмен мнениям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55640" y="380880"/>
            <a:ext cx="808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  <a:ea typeface="Arial"/>
              </a:rPr>
              <a:t>Задачи фазы реализации смыс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осмысление материала во времени работы над ни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2000" y="1989000"/>
            <a:ext cx="7769160" cy="38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получение новой информации по тем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истематизационна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классификация полученной информации по категориям зн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9:33:14Z</dcterms:created>
  <dc:creator>наталья</dc:creator>
  <dc:description/>
  <dc:language>en-US</dc:language>
  <cp:lastModifiedBy/>
  <dcterms:modified xsi:type="dcterms:W3CDTF">2023-10-30T14:55:23Z</dcterms:modified>
  <cp:revision>116</cp:revision>
  <dc:subject/>
  <dc:title>ТЕХНОЛОГИЯ РАЗВИТИЯ КРИТИЧЕСКОГО МЫШЛЕНИЯ</dc:title>
</cp:coreProperties>
</file>