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7120" y="397836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3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136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560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712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136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560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0286-2C73-462C-9102-D7010DA5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57120" y="748080"/>
            <a:ext cx="850104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50920"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1FBA-416B-46C8-A338-6B4744EF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AD48-B61C-4F98-933E-FD85098B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F184-6102-42DD-9E4D-359118F2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772B-7895-4542-A746-8CD274AD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85480" y="-1095480"/>
            <a:ext cx="86439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50920" algn="ctr"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923D-0F20-49D9-877A-B75E7F74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899D-929C-4268-94A4-77809767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57120" y="748080"/>
            <a:ext cx="850104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50920"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13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291F-E4A0-4BD6-8B3D-31417C59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554E-E9DC-49D6-8013-0A004832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7120" y="397836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E01E-C83B-475E-B89D-E3B03DC6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13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3AA5-029A-40EE-AF7C-56D824DA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136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0560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5712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136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0560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3564-5615-4B58-A417-6A8A09A90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57120" y="748080"/>
            <a:ext cx="850104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50920"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85480" y="-1095480"/>
            <a:ext cx="86439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50920" algn="ctr"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13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7120" y="397836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13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136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0560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5712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136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0560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57120" y="748080"/>
            <a:ext cx="850104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50920"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285480" y="-1095480"/>
            <a:ext cx="86439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50920" algn="ctr"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713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7120" y="397836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713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136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0560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35712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136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10560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849B-B825-4337-A978-8D3F7A05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57120" y="748080"/>
            <a:ext cx="850104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50920"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5335-5716-484A-A096-BA5F7E83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8AFB-BA39-4C7A-92FC-2D831C3E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8FDF-2579-4EEC-80A2-744E2660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2715-7822-4563-B7DD-853FAA4D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285480" y="-1095480"/>
            <a:ext cx="86439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50920" algn="ctr"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8685-679A-497B-82E0-36D266FF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07F1-62FB-4F9A-9D37-D7BF22DC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13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4E9C-C2F0-4C1E-8D42-974F7E48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97A6-C359-4DE0-ADE9-6A97580A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7120" y="397836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363E-8FBB-430E-BBAF-88DF2285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13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66DA-405A-4C0C-A36D-B7CB7374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85480" y="-1095480"/>
            <a:ext cx="86439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50920" algn="ctr"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136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0560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5712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136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0560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50F0-3D93-4352-9475-C2ED157E4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252AA-0514-4932-8A45-3F6C8CFC2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57120" y="748080"/>
            <a:ext cx="850104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50920"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F9881-3273-4A53-8316-434AF039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D65DD-601C-4A8C-9323-E3D43C9C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1FFFE-AB9C-4D12-A40F-33ED6E61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93B60-C737-402F-B0C0-DC84014D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285480" y="-1095480"/>
            <a:ext cx="86439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50920" algn="ctr"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20844-338C-4A8F-844B-B9F37242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508F7-4DC7-46E9-AA6C-28AE3CBD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713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7BFBE-924C-4504-8D4B-769B3130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CB546-85D4-4766-86C6-D69A68C7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57120" y="397836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25C5B-4A47-4EBF-B039-A22302FE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713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AB585-F8AD-413C-9A23-624383473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136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10560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35712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136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10560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7F6E8-226B-4E0F-A4E1-B1DACFCD3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A017E-D8DC-4C53-91D9-FBD1A20EA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357120" y="748080"/>
            <a:ext cx="850104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50920"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3B66A-17F4-4D76-9C05-18612D44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7ADBC-B974-44DA-B5A5-60531B08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4EB0F-FF88-484E-AE56-6405F59B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67B54-D7AA-4D1A-B360-9ED93C76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285480" y="-1095480"/>
            <a:ext cx="86439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50920" algn="ctr"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805B3-9674-4C45-8C52-582B49B1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BD2D0-43AF-4DD3-8F0C-4BB4A8D2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3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13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C8F9E-1770-4384-BEF9-B6739584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A65EC-E96D-44DC-8B2B-FDF80FBA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57120" y="397836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71EAD-769D-4B47-B842-C3CCB6A4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13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AA5C9-3ED7-4C40-B2E8-BBC230AE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136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0560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35712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136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0560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40720-8DE4-4387-8E65-7DE5A46FE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b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8"/>
          <p:cNvSpPr/>
          <p:nvPr/>
        </p:nvSpPr>
        <p:spPr>
          <a:xfrm>
            <a:off x="357120" y="357120"/>
            <a:ext cx="8532720" cy="61977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5d7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10340784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buClr>
                <a:srgbClr val="ff78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buClr>
                <a:srgbClr val="ff781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buClr>
                <a:srgbClr val="c9d58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b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Скругленный прямоугольник 8"/>
          <p:cNvSpPr/>
          <p:nvPr/>
        </p:nvSpPr>
        <p:spPr>
          <a:xfrm>
            <a:off x="357120" y="357120"/>
            <a:ext cx="8532720" cy="61977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5d7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10340784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buClr>
                <a:srgbClr val="ff78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buClr>
                <a:srgbClr val="ff781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buClr>
                <a:srgbClr val="c9d58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@Долгорукова С.В.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A221-C8E8-4E25-B58D-C50E8D686F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b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Скругленный прямоугольник 8"/>
          <p:cNvSpPr/>
          <p:nvPr/>
        </p:nvSpPr>
        <p:spPr>
          <a:xfrm>
            <a:off x="357120" y="357120"/>
            <a:ext cx="8532720" cy="61977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5d7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10340784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buClr>
                <a:srgbClr val="ff78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buClr>
                <a:srgbClr val="ff781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buClr>
                <a:srgbClr val="c9d58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b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Скругленный прямоугольник 8"/>
          <p:cNvSpPr/>
          <p:nvPr/>
        </p:nvSpPr>
        <p:spPr>
          <a:xfrm>
            <a:off x="357120" y="357120"/>
            <a:ext cx="8532720" cy="61977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5d7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10340784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buClr>
                <a:srgbClr val="ff78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buClr>
                <a:srgbClr val="ff781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buClr>
                <a:srgbClr val="c9d58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b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Скругленный прямоугольник 8"/>
          <p:cNvSpPr/>
          <p:nvPr/>
        </p:nvSpPr>
        <p:spPr>
          <a:xfrm>
            <a:off x="357120" y="357120"/>
            <a:ext cx="8532720" cy="61977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кругленный прямоугольник 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5d7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10340784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buClr>
                <a:srgbClr val="ff78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buClr>
                <a:srgbClr val="ff781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buClr>
                <a:srgbClr val="c9d58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5FFE-22D8-409A-90AF-DE9300CEAD8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b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Скругленный прямоугольник 8"/>
          <p:cNvSpPr/>
          <p:nvPr/>
        </p:nvSpPr>
        <p:spPr>
          <a:xfrm>
            <a:off x="357120" y="357120"/>
            <a:ext cx="8532720" cy="61977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с одним скругленным углом 5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5d7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10340784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buClr>
                <a:srgbClr val="ff78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buClr>
                <a:srgbClr val="ff781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buClr>
                <a:srgbClr val="c9d58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DE73-CB6C-475F-8688-0B814254E82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b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Скругленный прямоугольник 8"/>
          <p:cNvSpPr/>
          <p:nvPr/>
        </p:nvSpPr>
        <p:spPr>
          <a:xfrm>
            <a:off x="357120" y="357120"/>
            <a:ext cx="8532720" cy="61977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5d7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10340784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buClr>
                <a:srgbClr val="ff78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buClr>
                <a:srgbClr val="ff781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buClr>
                <a:srgbClr val="c9d58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@Долгорукова С.В.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6554-73C9-4CED-9BCD-9D7BF0DDBB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hyperlink" Target="http://www.binbow.ru/photo/photo_bin/8x56br1.jpg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ПОМНИМ!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91" name="Прямоугольник 5"/>
          <p:cNvSpPr/>
          <p:nvPr/>
        </p:nvSpPr>
        <p:spPr>
          <a:xfrm>
            <a:off x="468360" y="1197000"/>
            <a:ext cx="8207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 Что понимается под научным метод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  Перечислите основные научные методы, которые изучил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 Закончите предлож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Наблюдение – эт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1981080" cy="13986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"/>
          <p:cNvPicPr/>
          <p:nvPr/>
        </p:nvPicPr>
        <p:blipFill>
          <a:blip r:embed="rId2"/>
          <a:stretch/>
        </p:blipFill>
        <p:spPr>
          <a:xfrm>
            <a:off x="2286000" y="762120"/>
            <a:ext cx="1981080" cy="13716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7"/>
          <p:cNvSpPr/>
          <p:nvPr/>
        </p:nvSpPr>
        <p:spPr>
          <a:xfrm>
            <a:off x="2666880" y="0"/>
            <a:ext cx="647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8" descr=""/>
          <p:cNvPicPr/>
          <p:nvPr/>
        </p:nvPicPr>
        <p:blipFill>
          <a:blip r:embed="rId3"/>
          <a:stretch/>
        </p:blipFill>
        <p:spPr>
          <a:xfrm>
            <a:off x="309600" y="3989520"/>
            <a:ext cx="1633680" cy="17096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"/>
          <p:cNvPicPr/>
          <p:nvPr/>
        </p:nvPicPr>
        <p:blipFill>
          <a:blip r:embed="rId4"/>
          <a:stretch/>
        </p:blipFill>
        <p:spPr>
          <a:xfrm>
            <a:off x="5105520" y="762120"/>
            <a:ext cx="495360" cy="358128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600" y="112320"/>
            <a:ext cx="91440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55d7e"/>
                </a:solidFill>
                <a:latin typeface="Arial"/>
              </a:rPr>
              <a:t>Измерительные приборы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457200" y="2279520"/>
            <a:ext cx="4419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70a05"/>
                </a:solidFill>
                <a:latin typeface="Arial"/>
              </a:rPr>
              <a:t>Линейка и рулетка</a:t>
            </a: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ужат для измерения размеров предмета или расстоя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715000" y="990720"/>
            <a:ext cx="3276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70a05"/>
                </a:solidFill>
                <a:latin typeface="Arial"/>
              </a:rPr>
              <a:t>Термометр </a:t>
            </a: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ужит для измерения температуры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3"/>
          <p:cNvSpPr/>
          <p:nvPr/>
        </p:nvSpPr>
        <p:spPr>
          <a:xfrm>
            <a:off x="1943280" y="4138560"/>
            <a:ext cx="26668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70a05"/>
                </a:solidFill>
                <a:latin typeface="Arial"/>
              </a:rPr>
              <a:t>Секундомер и часы</a:t>
            </a: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ужат для измерения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4" descr="Картинка 2 из 29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0" y="4419720"/>
            <a:ext cx="1911240" cy="198108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15"/>
          <p:cNvSpPr/>
          <p:nvPr/>
        </p:nvSpPr>
        <p:spPr>
          <a:xfrm>
            <a:off x="6399360" y="3203640"/>
            <a:ext cx="25146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70a05"/>
                </a:solidFill>
                <a:latin typeface="Arial"/>
              </a:rPr>
              <a:t>Бинокль </a:t>
            </a: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ужит для наблюдения за предметами, расположен-ными дале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6360" y="205920"/>
            <a:ext cx="91440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55d7e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355d7e"/>
                </a:solidFill>
                <a:latin typeface="Arial"/>
              </a:rPr>
              <a:t>Измерительные приборы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pic>
        <p:nvPicPr>
          <p:cNvPr id="326" name="Picture 4" descr=""/>
          <p:cNvPicPr/>
          <p:nvPr/>
        </p:nvPicPr>
        <p:blipFill>
          <a:blip r:embed="rId1"/>
          <a:stretch/>
        </p:blipFill>
        <p:spPr>
          <a:xfrm>
            <a:off x="0" y="685800"/>
            <a:ext cx="1685880" cy="2266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"/>
          <p:cNvPicPr/>
          <p:nvPr/>
        </p:nvPicPr>
        <p:blipFill>
          <a:blip r:embed="rId2"/>
          <a:stretch/>
        </p:blipFill>
        <p:spPr>
          <a:xfrm>
            <a:off x="0" y="2971800"/>
            <a:ext cx="1697040" cy="2057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8" descr=""/>
          <p:cNvPicPr/>
          <p:nvPr/>
        </p:nvPicPr>
        <p:blipFill>
          <a:blip r:embed="rId3"/>
          <a:stretch/>
        </p:blipFill>
        <p:spPr>
          <a:xfrm>
            <a:off x="0" y="5095800"/>
            <a:ext cx="1676520" cy="176220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11"/>
          <p:cNvSpPr/>
          <p:nvPr/>
        </p:nvSpPr>
        <p:spPr>
          <a:xfrm>
            <a:off x="1752480" y="8380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70a05"/>
                </a:solidFill>
                <a:latin typeface="Arial"/>
              </a:rPr>
              <a:t>Микроскоп</a:t>
            </a: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служит для изучения мельчайших деталей, которых нельзя увидеть с помощью невооруженного гл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1752480" y="2971800"/>
            <a:ext cx="70866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70a05"/>
                </a:solidFill>
                <a:latin typeface="Arial"/>
              </a:rPr>
              <a:t>Весы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служат для измерения массы тел. Ими пользуются в магазинах и на базарах продавцы. С помощью весов можно узнать вес своего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1828800" y="518148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70a05"/>
                </a:solidFill>
                <a:latin typeface="Arial"/>
              </a:rPr>
              <a:t>Измерительные мензурки и цилиндры</a:t>
            </a: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служат для определения объема жидк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5d7e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55d7e"/>
                </a:solidFill>
                <a:latin typeface="Arial"/>
              </a:rPr>
              <a:t>«ТБ в кабинете биологии»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333" name="Прямоугольник 5"/>
          <p:cNvSpPr/>
          <p:nvPr/>
        </p:nvSpPr>
        <p:spPr>
          <a:xfrm>
            <a:off x="468360" y="1197000"/>
            <a:ext cx="842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 Самостоятельно начинайте работу. Точно  выполняйте все указания учителя при проведении лабораторной и практическ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При нагревании жидкости в пробирке или колбе используйте прихват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Возьмите защищенными руками нагретую посу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 Осторожно обращайтесь с острыми инструментами и лабораторной посу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5. Если разбилась лабораторная посуда, собрать осколки руками нельз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6. При получении травмы сообщите об этом учител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7. По окончанию работы  приводите рабочее место в порядок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актическая работа «Измерение показателей здоровья человека с помощью оборудования «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Zarnitza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»</a:t>
            </a:r>
            <a:endParaRPr b="1" lang="en-US" sz="2000" spc="-1" strike="noStrike">
              <a:solidFill>
                <a:srgbClr val="355d7e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258920" y="1268280"/>
          <a:ext cx="6078600" cy="841680"/>
        </p:xfrm>
        <a:graphic>
          <a:graphicData uri="http://schemas.openxmlformats.org/drawingml/2006/table">
            <a:tbl>
              <a:tblPr/>
              <a:tblGrid>
                <a:gridCol w="2025720"/>
                <a:gridCol w="2025720"/>
                <a:gridCol w="2027160"/>
              </a:tblGrid>
              <a:tr h="21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тивы, не боле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ера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21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ж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- 500 л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1258920" y="2708280"/>
          <a:ext cx="6078600" cy="1052640"/>
        </p:xfrm>
        <a:graphic>
          <a:graphicData uri="http://schemas.openxmlformats.org/drawingml/2006/table">
            <a:tbl>
              <a:tblPr/>
              <a:tblGrid>
                <a:gridCol w="2025720"/>
                <a:gridCol w="2025720"/>
                <a:gridCol w="202716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, артериальное дав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ица измерения, пуль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тивы, не боле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21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— 10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— 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— 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1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pic>
        <p:nvPicPr>
          <p:cNvPr id="337" name="Рисунок 5" descr="C:\Users\User\Desktop\Эксперименты Точка Роста\IMG_1352.JPG"/>
          <p:cNvPicPr/>
          <p:nvPr/>
        </p:nvPicPr>
        <p:blipFill>
          <a:blip r:embed="rId1"/>
          <a:stretch/>
        </p:blipFill>
        <p:spPr>
          <a:xfrm>
            <a:off x="171360" y="3860640"/>
            <a:ext cx="3137040" cy="235296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6" descr="C:\Users\User\Desktop\Эксперименты Точка Роста\IMG_1348.JPG"/>
          <p:cNvPicPr/>
          <p:nvPr/>
        </p:nvPicPr>
        <p:blipFill>
          <a:blip r:embed="rId2"/>
          <a:stretch/>
        </p:blipFill>
        <p:spPr>
          <a:xfrm>
            <a:off x="3387600" y="3860640"/>
            <a:ext cx="3022560" cy="237816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7" descr="C:\Users\User\Desktop\Эксперименты Точка Роста\IMG_0321.JPG"/>
          <p:cNvPicPr/>
          <p:nvPr/>
        </p:nvPicPr>
        <p:blipFill>
          <a:blip r:embed="rId3"/>
          <a:stretch/>
        </p:blipFill>
        <p:spPr>
          <a:xfrm>
            <a:off x="6659640" y="3743280"/>
            <a:ext cx="1962000" cy="26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55d7e"/>
                </a:solidFill>
                <a:latin typeface="Arial"/>
              </a:rPr>
              <a:t>Лабораторная работа «Измерение объектов»</a:t>
            </a:r>
            <a:endParaRPr b="1" lang="en-US" sz="29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341" name="Прямоугольник 5"/>
          <p:cNvSpPr/>
          <p:nvPr/>
        </p:nvSpPr>
        <p:spPr>
          <a:xfrm>
            <a:off x="250920" y="141300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Цель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учиться применять метод измерения на практ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5"/>
          <p:cNvSpPr/>
          <p:nvPr/>
        </p:nvSpPr>
        <p:spPr>
          <a:xfrm>
            <a:off x="468360" y="1844640"/>
            <a:ext cx="8675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Оборудова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Объект исслед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Ход исслед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нструктаж по Т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в кабинете биоло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Пользуяс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амятко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измерь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ширину листьев нескольких растений в кабинете биологии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Зарисуй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х указав разм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 Занесите данные в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таблиц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(таблицу начертить в тетр.). Рассчитайте среднее значение измерительных велич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 Сформулируйт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во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проделанной раб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5d7e"/>
                </a:solidFill>
                <a:latin typeface="Arial"/>
              </a:rPr>
              <a:t>Закрепление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344" name="Прямоугольник 5"/>
          <p:cNvSpPr/>
          <p:nvPr/>
        </p:nvSpPr>
        <p:spPr>
          <a:xfrm>
            <a:off x="468360" y="1197000"/>
            <a:ext cx="8675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Задание: Определить метод исследования в биоло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) Определение температуры кипения подсолнечного масла (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) Улитка медленно ползет по листу (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3) Разведение аквариумных рыбок при температуре +25 и +23. Определение наиболее благоприятной температуры (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4) Воробьи купаются в луже (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5) Измерение частоты сердечных сокращений (…) (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6) Создание благоприятных условий для прорастания семян (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10920" y="620280"/>
            <a:ext cx="4008600" cy="7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Arial"/>
              </a:rPr>
              <a:t>Рефлексия</a:t>
            </a:r>
            <a:endParaRPr b="1" lang="en-US" sz="36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7201080" cy="18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33000"/>
          </a:bodyPr>
          <a:p>
            <a:pPr marL="113040" indent="3412440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годня я узнал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3412440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уроке я научился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3412440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е было трудно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3412440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е было непонятно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3412440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перь я знаю, что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3412440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ня удивило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3412440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бы хотел узнать, почему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779640" y="1142640"/>
            <a:ext cx="4895640" cy="3941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457200" indent="-457200">
              <a:buClr>
                <a:srgbClr val="00206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граф 5 – прочитать. Подготовить устный ответ по тем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делать письменную работу в тетради -выполнить 3 измер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 свой рост, вес, окружность головы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http://cp12.nevsepic.com.ua/57/1354219984-7.png"/>
          <p:cNvPicPr/>
          <p:nvPr/>
        </p:nvPicPr>
        <p:blipFill>
          <a:blip r:embed="rId1"/>
          <a:stretch/>
        </p:blipFill>
        <p:spPr>
          <a:xfrm>
            <a:off x="539640" y="1341360"/>
            <a:ext cx="3167280" cy="3168720"/>
          </a:xfrm>
          <a:prstGeom prst="rect">
            <a:avLst/>
          </a:prstGeom>
          <a:ln w="0">
            <a:noFill/>
          </a:ln>
        </p:spPr>
      </p:pic>
      <p:sp>
        <p:nvSpPr>
          <p:cNvPr id="349" name="TextBox 3"/>
          <p:cNvSpPr/>
          <p:nvPr/>
        </p:nvSpPr>
        <p:spPr>
          <a:xfrm>
            <a:off x="1185480" y="404640"/>
            <a:ext cx="594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Segoe Script"/>
                <a:ea typeface="SimHe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то за приборы лежат у меня на столе?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pic>
        <p:nvPicPr>
          <p:cNvPr id="293" name="Объект 3" descr="https://theslide.ru/img/thumbs/e6e711996cfd5d476df786500db4ad02-800x.jpg"/>
          <p:cNvPicPr/>
          <p:nvPr/>
        </p:nvPicPr>
        <p:blipFill>
          <a:blip r:embed="rId1"/>
          <a:stretch/>
        </p:blipFill>
        <p:spPr>
          <a:xfrm>
            <a:off x="988920" y="1143000"/>
            <a:ext cx="7239240" cy="531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1" lang="ru-RU" sz="2900" spc="-1" strike="noStrike">
                <a:solidFill>
                  <a:srgbClr val="ff0000"/>
                </a:solidFill>
                <a:latin typeface="Arial"/>
              </a:rPr>
              <a:t>А как вы думаете, какая тема  сегодняшнего урока?</a:t>
            </a:r>
            <a:endParaRPr b="1" lang="en-US" sz="29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5000"/>
          </a:bodyPr>
          <a:p>
            <a:pPr marL="325800" indent="98237160">
              <a:buClr>
                <a:srgbClr val="355d7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Мы с вами проходили тему «Методы изучения живой природы- наблюдение», а сегодня – методы измерения. Так какую цель и задачи мы должны поставить на этом уроке? -А какие задачи ставим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98237160">
              <a:buClr>
                <a:srgbClr val="355d7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читель: -Наши бабушки и деды наблюдали за небесными телами, атмосферой, растениями, животными и делали соответствующие выводы, которые дошли к нам через века в виде примет, предсказаний, устанавливались сроки сельскохозяйственных работ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98237160">
              <a:buClr>
                <a:srgbClr val="355d7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вторение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Как использует человек наблюдения в своей повседневной практической деятельности? Давайте проверим домашнее задани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98237160">
              <a:buClr>
                <a:srgbClr val="355d7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5d7e"/>
                </a:solidFill>
                <a:latin typeface="Arial"/>
              </a:rPr>
              <a:t>Методы наблюдения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3251160" cy="57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b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ме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6840" y="1773000"/>
            <a:ext cx="4040280" cy="4352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2000"/>
          </a:bodyPr>
          <a:p>
            <a:pPr marL="281160" indent="8479440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Если в лесу много ягод рябины, то осень будет дождливая, а зима-долгая и суровая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8479440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много звезд на небе-к хорошей ясной погоде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8479440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кошка мордочку прячет- на холод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8479440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куры начинают линять рано осенью- к теплой зиме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8479440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за сутки до ненастья лоси начинают много ходит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b">
            <a:normAutofit fontScale="2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словицы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343080" indent="10340784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сенний день год кормит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0340784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том дома сидеть − зимой хлеба не иметь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0340784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летом уродится, зимой пригодится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0340784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имой снег глубокий- летом хлеб высоки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0340784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564000" y="2491920"/>
            <a:ext cx="5400720" cy="121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4000" spc="-1" strike="noStrike">
                <a:solidFill>
                  <a:srgbClr val="355d7e"/>
                </a:solidFill>
                <a:latin typeface="Arial"/>
              </a:rPr>
              <a:t>Методы изучения живой природы: измерение</a:t>
            </a:r>
            <a:endParaRPr b="1" lang="en-US" sz="4000" spc="-1" strike="noStrike">
              <a:solidFill>
                <a:srgbClr val="355d7e"/>
              </a:solidFill>
              <a:latin typeface="Arial"/>
            </a:endParaRPr>
          </a:p>
        </p:txBody>
      </p:sp>
      <p:pic>
        <p:nvPicPr>
          <p:cNvPr id="302" name="Picture 2" descr="http://img-fotki.yandex.ru/get/6506/47407354.708/0_eae1c_f6563915_orig.png"/>
          <p:cNvPicPr/>
          <p:nvPr/>
        </p:nvPicPr>
        <p:blipFill>
          <a:blip r:embed="rId1"/>
          <a:stretch/>
        </p:blipFill>
        <p:spPr>
          <a:xfrm>
            <a:off x="468360" y="0"/>
            <a:ext cx="3962520" cy="62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5d7e"/>
                </a:solidFill>
                <a:latin typeface="Arial"/>
              </a:rPr>
              <a:t>ПЛАН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304" name="Прямоугольник 5"/>
          <p:cNvSpPr/>
          <p:nvPr/>
        </p:nvSpPr>
        <p:spPr>
          <a:xfrm>
            <a:off x="804960" y="1125360"/>
            <a:ext cx="7943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. Метод измер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. Практическая работа «Измерение показателей здоровья человека» по Точке Ро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Лабораторная работа «Измерение объект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5840" y="476280"/>
            <a:ext cx="3062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Arial"/>
              </a:rPr>
              <a:t>Часто наблюдения  дополняются измерениями.</a:t>
            </a:r>
            <a:br>
              <a:rPr sz="2900"/>
            </a:br>
            <a:r>
              <a:rPr b="0" i="1" lang="ru-RU" sz="2900" spc="-1" strike="noStrike">
                <a:solidFill>
                  <a:srgbClr val="000000"/>
                </a:solidFill>
                <a:latin typeface="Arial"/>
              </a:rPr>
              <a:t>Какими измерениями пользовались в Древней Руси?. </a:t>
            </a:r>
            <a:br>
              <a:rPr sz="2900"/>
            </a:br>
            <a:endParaRPr b="1" lang="en-US" sz="2900" spc="-1" strike="noStrike">
              <a:solidFill>
                <a:srgbClr val="355d7e"/>
              </a:solidFill>
              <a:latin typeface="Arial"/>
            </a:endParaRPr>
          </a:p>
        </p:txBody>
      </p:sp>
      <p:pic>
        <p:nvPicPr>
          <p:cNvPr id="306" name="Объект 3" descr="https://i.mycdn.me/i?r=AzEPZsRbOZEKgBhR0XGMT1Rk6c0tsKygvBi1phkxFFZz9aaKTM5SRkZCeTgDn6uOyic"/>
          <p:cNvPicPr/>
          <p:nvPr/>
        </p:nvPicPr>
        <p:blipFill>
          <a:blip r:embed="rId1"/>
          <a:stretch/>
        </p:blipFill>
        <p:spPr>
          <a:xfrm>
            <a:off x="3492360" y="620640"/>
            <a:ext cx="4954680" cy="568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5"/>
          <p:cNvSpPr/>
          <p:nvPr/>
        </p:nvSpPr>
        <p:spPr>
          <a:xfrm>
            <a:off x="539640" y="907920"/>
            <a:ext cx="7944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проведени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аучных исследова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определяют не тольк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качественные измен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например, появление корешка, ростка и т.д.)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но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количествен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снованные на точном измерен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(длина корешков, ширина листьев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5"/>
          <p:cNvSpPr/>
          <p:nvPr/>
        </p:nvSpPr>
        <p:spPr>
          <a:xfrm>
            <a:off x="826920" y="4869000"/>
            <a:ext cx="794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  <a:ea typeface="Times New Roman"/>
              </a:rPr>
              <a:t>Что же такое измер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5d7e"/>
                </a:solidFill>
                <a:latin typeface="Arial"/>
              </a:rPr>
              <a:t>1. Метод измерения.</a:t>
            </a:r>
            <a:endParaRPr b="1" lang="en-US" sz="36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310" name="Прямоугольник 5"/>
          <p:cNvSpPr/>
          <p:nvPr/>
        </p:nvSpPr>
        <p:spPr>
          <a:xfrm>
            <a:off x="1547640" y="1125360"/>
            <a:ext cx="6480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Изучите рис.22-23,  стр. 36-38 учебника и начертим на тетради таблицу и заполним ее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5"/>
          <p:cNvSpPr/>
          <p:nvPr/>
        </p:nvSpPr>
        <p:spPr>
          <a:xfrm>
            <a:off x="684360" y="198900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Какие измерительные приборы вам известн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5"/>
          <p:cNvSpPr/>
          <p:nvPr/>
        </p:nvSpPr>
        <p:spPr>
          <a:xfrm>
            <a:off x="3492360" y="494172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ись в тетр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216080" y="2637000"/>
          <a:ext cx="6783480" cy="1995480"/>
        </p:xfrm>
        <a:graphic>
          <a:graphicData uri="http://schemas.openxmlformats.org/drawingml/2006/table">
            <a:tbl>
              <a:tblPr/>
              <a:tblGrid>
                <a:gridCol w="2049480"/>
                <a:gridCol w="4734000"/>
              </a:tblGrid>
              <a:tr h="583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рительные прибо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каких измерений применяется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моме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зур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ней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сочные ча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4:37:53Z</dcterms:created>
  <dc:creator>Vladimir</dc:creator>
  <dc:description/>
  <dc:language>en-US</dc:language>
  <cp:lastModifiedBy>User</cp:lastModifiedBy>
  <dcterms:modified xsi:type="dcterms:W3CDTF">2023-10-31T08:47:55Z</dcterms:modified>
  <cp:revision>54</cp:revision>
  <dc:subject/>
  <dc:title>Курение</dc:title>
</cp:coreProperties>
</file>