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C63-721C-48D0-BBED-B5753C12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308-FF18-40F7-9E95-C12BD8C6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758-D6BB-4EED-832B-76AFAA2A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539-46EC-4636-8789-6D55DB03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9B0-1F45-4153-93D0-1210FDE5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3E1-4F2A-4F26-820C-67EF2579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525-F3C8-4F11-AC7F-D63C95CF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55F-F163-439B-B416-59CA6815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5F6-5DA7-4D07-A032-4E193606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91F-9761-4CF3-827C-87F4DB5D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BAC-F0D3-4FE1-B77D-B34BFA42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DD7-EC20-4B09-A0F5-1E683D5C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EE02-62EE-434E-9BC9-52F8B4DC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D0B5-159B-474F-B34F-B4B82DD9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C9AC-A922-41F3-97B6-411E6D7D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D80D-73E5-4108-ABF5-B109FF29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CE11-9634-491F-9768-8E3F65A2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125D-417E-4EEE-81B5-A1A7CD16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B095-DAAB-4E9C-BF45-10C9D7D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3ED6-E546-4B1B-AEAA-2F14DA93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8127-97A1-497C-A08D-2A973426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BCD2-1548-44B5-8A17-5390C28C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3CA8-C428-4D4B-87F1-B8BF6FE3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4A65-82C6-4E95-92CA-E2D2F827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3E2B-9EA0-4C6E-A894-211207F6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6C36-3A79-4418-8F66-F90873F1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7A1D-21A0-4E69-997F-08F7BD40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1672-4DDD-4DC3-BF51-2BEB1BD8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3D51-1287-4750-A2BC-9618D16A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C967-4492-4D58-934A-E7D4D340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5D55-54E0-4024-A99E-5CBCECC6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5C7F-AA9B-45E8-B22D-5B7BF49E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4C5C-C6CF-4F2A-BA3A-4479E3E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ABD2-E7ED-4EB9-8B41-CA32F515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FC3F-4BF9-49F2-A431-AEAC591E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CCB4-22D1-4636-86D0-3CB1F2B5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59BA3-F3C5-44A9-8FFA-E95CB526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57120" y="748080"/>
            <a:ext cx="850104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6093-351F-4D2D-85C8-A9A756B1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824C-D0DE-4B0B-BE07-5629E13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752EA-01DF-4F7E-AE7B-BD521010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42DDA-4C27-4C7A-9A7D-16810D7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85480" y="-1095480"/>
            <a:ext cx="86439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50920" algn="ctr"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5976-769C-4FAA-A02D-4F14077B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2BC5-3126-4759-A753-39FA34D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456A3-0280-4DD6-8938-54B8320C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7CC4-9E1F-44BB-8700-D394A2BF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6057A-171E-4310-BCA2-7D62900E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3120" y="397836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F3C5-46BD-4D71-A423-18F187F9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136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05600" y="114264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5712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136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05600" y="3978360"/>
            <a:ext cx="27370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BAC9-9935-4606-B261-5A4EB7CF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120" y="1142640"/>
            <a:ext cx="414828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7120" y="3978360"/>
            <a:ext cx="8501040" cy="25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@Долгорукова С.В.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56FA-A11B-4E4B-B3F0-C72459D720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2F74-B947-499E-BAB9-F5347AC632C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с одним скругленным углом 5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A766-4EDB-4471-8506-57083FA83E5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Скругленный прямоугольник 8"/>
          <p:cNvSpPr/>
          <p:nvPr/>
        </p:nvSpPr>
        <p:spPr>
          <a:xfrm>
            <a:off x="357120" y="35712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d7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buClr>
                <a:srgbClr val="ff781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buClr>
                <a:srgbClr val="ff781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buClr>
                <a:srgbClr val="c9d58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@Долгорукова С.В.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2C6C-0D77-4ED4-9F84-7BB737F29B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hyperlink" Target="http://www.binbow.ru/photo/photo_bin/8x56br1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ПОМНИМ!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68360" y="119700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Что понимается под научным мето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 Перечислите основные научные методы, которые изуч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кончите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Наблюдение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1981080" cy="1398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7"/>
          <p:cNvSpPr/>
          <p:nvPr/>
        </p:nvSpPr>
        <p:spPr>
          <a:xfrm>
            <a:off x="2666880" y="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3"/>
          <a:stretch/>
        </p:blipFill>
        <p:spPr>
          <a:xfrm>
            <a:off x="309600" y="3989520"/>
            <a:ext cx="1633680" cy="1709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"/>
          <p:cNvPicPr/>
          <p:nvPr/>
        </p:nvPicPr>
        <p:blipFill>
          <a:blip r:embed="rId4"/>
          <a:stretch/>
        </p:blipFill>
        <p:spPr>
          <a:xfrm>
            <a:off x="5105520" y="762120"/>
            <a:ext cx="495360" cy="35812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11232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5d7e"/>
                </a:solidFill>
                <a:latin typeface="Arial"/>
              </a:rPr>
              <a:t>Измерительные приборы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457200" y="2279520"/>
            <a:ext cx="4419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Линейка и рулетка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для измерения размеров предмета или рас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715000" y="990720"/>
            <a:ext cx="3276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Термометр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ит для измерения температуры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1943280" y="4138560"/>
            <a:ext cx="2666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Секундомер и часы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для измерения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Картинка 2 из 2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4419720"/>
            <a:ext cx="1911240" cy="19810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5"/>
          <p:cNvSpPr/>
          <p:nvPr/>
        </p:nvSpPr>
        <p:spPr>
          <a:xfrm>
            <a:off x="6399360" y="3203640"/>
            <a:ext cx="2514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Бинокль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ит для наблюдения за предметами, расположен-ными дале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360" y="20592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5d7e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55d7e"/>
                </a:solidFill>
                <a:latin typeface="Arial"/>
              </a:rPr>
              <a:t>Измерительные приборы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1685880" cy="2266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0" y="2971800"/>
            <a:ext cx="169704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3"/>
          <a:stretch/>
        </p:blipFill>
        <p:spPr>
          <a:xfrm>
            <a:off x="0" y="5095800"/>
            <a:ext cx="1676520" cy="1762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1"/>
          <p:cNvSpPr/>
          <p:nvPr/>
        </p:nvSpPr>
        <p:spPr>
          <a:xfrm>
            <a:off x="1752480" y="838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Микроскоп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лужит для изучения мельчайших деталей, которых нельзя увидеть с помощью невооруженного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752480" y="2971800"/>
            <a:ext cx="7086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Вес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лужат для измерения массы тел. Ими пользуются в магазинах и на базарах продавцы. С помощью весов можно узнать вес свое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51814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70a05"/>
                </a:solidFill>
                <a:latin typeface="Arial"/>
              </a:rPr>
              <a:t>Измерительные мензурки и цилиндры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лужат для определения объема жид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«ТБ в кабинете биологии»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46836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Самостоятельно начинайте работу. Точно  выполняйте все указания учителя при проведении лабораторной и практическ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При нагревании жидкости в пробирке или колбе используйте прихва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Возьмите защищенными руками нагретую пос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сторожно обращайтесь с острыми инструментами и лабораторной посу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Если разбилась лабораторная посуда, собрать осколки руками нельз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При получении травмы сообщите об этом учит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 По окончанию работы  приводите рабочее место в поряд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ктическая работа «Измерение показателей здоровья человека с помощью оборудования «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arnitz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1" lang="en-US" sz="2000" spc="-1" strike="noStrike">
              <a:solidFill>
                <a:srgbClr val="355d7e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258920" y="1268280"/>
          <a:ext cx="6078600" cy="84168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7160"/>
              </a:tblGrid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тивы, не бол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1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- 500 л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258920" y="2708280"/>
          <a:ext cx="6078600" cy="105264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716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, артериальное д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, пу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тивы, не бол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—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—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— 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1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337" name="Рисунок 5" descr="C:\Users\User\Desktop\Эксперименты Точка Роста\IMG_1352.JPG"/>
          <p:cNvPicPr/>
          <p:nvPr/>
        </p:nvPicPr>
        <p:blipFill>
          <a:blip r:embed="rId1"/>
          <a:stretch/>
        </p:blipFill>
        <p:spPr>
          <a:xfrm>
            <a:off x="171360" y="3860640"/>
            <a:ext cx="3137040" cy="23529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6" descr="C:\Users\User\Desktop\Эксперименты Точка Роста\IMG_1348.JPG"/>
          <p:cNvPicPr/>
          <p:nvPr/>
        </p:nvPicPr>
        <p:blipFill>
          <a:blip r:embed="rId2"/>
          <a:stretch/>
        </p:blipFill>
        <p:spPr>
          <a:xfrm>
            <a:off x="3387600" y="3860640"/>
            <a:ext cx="3022560" cy="2378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C:\Users\User\Desktop\Эксперименты Точка Роста\IMG_0321.JPG"/>
          <p:cNvPicPr/>
          <p:nvPr/>
        </p:nvPicPr>
        <p:blipFill>
          <a:blip r:embed="rId3"/>
          <a:stretch/>
        </p:blipFill>
        <p:spPr>
          <a:xfrm>
            <a:off x="6659640" y="3743280"/>
            <a:ext cx="19620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55d7e"/>
                </a:solidFill>
                <a:latin typeface="Arial"/>
              </a:rPr>
              <a:t>Лабораторная работа «Измерение объектов»</a:t>
            </a:r>
            <a:endParaRPr b="1" lang="en-US" sz="29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250920" y="1413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иться применять метод измере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468360" y="1844640"/>
            <a:ext cx="867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Оборудо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Ход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ктаж по Т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абинете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льзуя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мятк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змерь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ширину листьев нескольких растений в кабинете биологии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рису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х указав раз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Занесите данные 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(таблицу начертить в тетр.). Рассчитайте среднее значение измерительных вел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Сформулируй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проделанной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Закрепление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468360" y="1197000"/>
            <a:ext cx="867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Задание: Определить метод исследования в би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) Определение температуры кипения подсолнечного масла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) Улитка медленно ползет по листу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) Разведение аквариумных рыбок при температуре +25 и +23. Определение наиболее благоприятной температуры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) Воробьи купаются в луже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) Измерение частоты сердечных сокращений (…)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) Создание благоприятных условий для прорастания семян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10920" y="620280"/>
            <a:ext cx="40086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Рефлексия</a:t>
            </a:r>
            <a:endParaRPr b="1" lang="en-US" sz="36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33000"/>
          </a:bodyPr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роке я научился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было непонятн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я знаю, чт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3412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бы хотел узнать, почему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779640" y="1142640"/>
            <a:ext cx="4895640" cy="394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buClr>
                <a:srgbClr val="00206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граф 5 – прочитать. Подготовить устный ответ по тем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ть письменную работу в тетради -выполнить 3 измер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свой рост, вес, окружность головы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http://cp12.nevsepic.com.ua/57/1354219984-7.png"/>
          <p:cNvPicPr/>
          <p:nvPr/>
        </p:nvPicPr>
        <p:blipFill>
          <a:blip r:embed="rId1"/>
          <a:stretch/>
        </p:blipFill>
        <p:spPr>
          <a:xfrm>
            <a:off x="539640" y="1341360"/>
            <a:ext cx="3167280" cy="31687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3"/>
          <p:cNvSpPr/>
          <p:nvPr/>
        </p:nvSpPr>
        <p:spPr>
          <a:xfrm>
            <a:off x="1185480" y="40464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Segoe Script"/>
                <a:ea typeface="SimHe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за приборы лежат у меня на столе?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293" name="Объект 3" descr="https://theslide.ru/img/thumbs/e6e711996cfd5d476df786500db4ad02-800x.jpg"/>
          <p:cNvPicPr/>
          <p:nvPr/>
        </p:nvPicPr>
        <p:blipFill>
          <a:blip r:embed="rId1"/>
          <a:stretch/>
        </p:blipFill>
        <p:spPr>
          <a:xfrm>
            <a:off x="988920" y="1143000"/>
            <a:ext cx="7239240" cy="531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А как вы думаете, какая тема  сегодняшнего урока?</a:t>
            </a:r>
            <a:endParaRPr b="1" lang="en-US" sz="29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Мы с вами проходили тему «Методы изучения живой природы- наблюдение», а сегодня – методы измерения. Так какую цель и задачи мы должны поставить на этом уроке? -А какие задачи стави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: -Наши бабушки и деды наблюдали за небесными телами, атмосферой, растениями, животными и делали соответствующие выводы, которые дошли к нам через века в виде примет, предсказаний, устанавливались сроки сельскохозяйственных рабо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торение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Как использует человек наблюдения в своей повседневной практической деятельности? Давайте проверим домашнее зада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98237160">
              <a:buClr>
                <a:srgbClr val="355d7e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Методы наблюдения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251160" cy="57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ме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773000"/>
            <a:ext cx="4040280" cy="435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Если в лесу много ягод рябины, то осень будет дождливая, а зима-долгая и суровая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много звезд на небе-к хорошей ясной погод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ошка мордочку прячет- на холод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уры начинают линять рано осенью- к теплой зим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8479440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 сутки до ненастья лоси начинают много ходи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b">
            <a:normAutofit fontScale="2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овиц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нний день год кормит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дома сидеть − зимой хлеба не иметь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летом уродится, зимой пригодитс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имой снег глубокий- летом хлеб высок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03407840">
              <a:buClr>
                <a:srgbClr val="00206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64000" y="2491920"/>
            <a:ext cx="5400720" cy="121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355d7e"/>
                </a:solidFill>
                <a:latin typeface="Arial"/>
              </a:rPr>
              <a:t>Методы изучения живой природы: измерение</a:t>
            </a:r>
            <a:endParaRPr b="1" lang="en-US" sz="40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302" name="Picture 2" descr="http://img-fotki.yandex.ru/get/6506/47407354.708/0_eae1c_f6563915_orig.png"/>
          <p:cNvPicPr/>
          <p:nvPr/>
        </p:nvPicPr>
        <p:blipFill>
          <a:blip r:embed="rId1"/>
          <a:stretch/>
        </p:blipFill>
        <p:spPr>
          <a:xfrm>
            <a:off x="468360" y="0"/>
            <a:ext cx="396252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5d7e"/>
                </a:solidFill>
                <a:latin typeface="Arial"/>
              </a:rPr>
              <a:t>ПЛАН</a:t>
            </a:r>
            <a:endParaRPr b="1" lang="en-US" sz="32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04" name="Прямоугольник 5"/>
          <p:cNvSpPr/>
          <p:nvPr/>
        </p:nvSpPr>
        <p:spPr>
          <a:xfrm>
            <a:off x="804960" y="1125360"/>
            <a:ext cx="79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Метод изме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актическая работа «Измерение показателей здоровья человека» по Точке Ро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абораторная работа «Измерение объект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5840" y="476280"/>
            <a:ext cx="306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Часто наблюдения  дополняются измерениями.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Какими измерениями пользовались в Древней Руси?. </a:t>
            </a:r>
            <a:br>
              <a:rPr sz="2900"/>
            </a:br>
            <a:endParaRPr b="1" lang="en-US" sz="2900" spc="-1" strike="noStrike">
              <a:solidFill>
                <a:srgbClr val="355d7e"/>
              </a:solidFill>
              <a:latin typeface="Arial"/>
            </a:endParaRPr>
          </a:p>
        </p:txBody>
      </p:sp>
      <p:pic>
        <p:nvPicPr>
          <p:cNvPr id="306" name="Объект 3" descr="https://i.mycdn.me/i?r=AzEPZsRbOZEKgBhR0XGMT1Rk6c0tsKygvBi1phkxFFZz9aaKTM5SRkZCeTgDn6uOyic"/>
          <p:cNvPicPr/>
          <p:nvPr/>
        </p:nvPicPr>
        <p:blipFill>
          <a:blip r:embed="rId1"/>
          <a:stretch/>
        </p:blipFill>
        <p:spPr>
          <a:xfrm>
            <a:off x="3492360" y="620640"/>
            <a:ext cx="4954680" cy="56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5"/>
          <p:cNvSpPr/>
          <p:nvPr/>
        </p:nvSpPr>
        <p:spPr>
          <a:xfrm>
            <a:off x="539640" y="907920"/>
            <a:ext cx="7944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ден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ных исследо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яют не тольк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ачественные измен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например, появление корешка, ростка и т.д.)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о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оличеств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снованные на точном измере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длина корешков, ширина листье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5"/>
          <p:cNvSpPr/>
          <p:nvPr/>
        </p:nvSpPr>
        <p:spPr>
          <a:xfrm>
            <a:off x="826920" y="4869000"/>
            <a:ext cx="79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Что же такое измер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5d7e"/>
                </a:solidFill>
                <a:latin typeface="Arial"/>
              </a:rPr>
              <a:t>1. Метод измерения.</a:t>
            </a:r>
            <a:endParaRPr b="1" lang="en-US" sz="3600" spc="-1" strike="noStrike">
              <a:solidFill>
                <a:srgbClr val="355d7e"/>
              </a:solidFill>
              <a:latin typeface="Arial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1547640" y="1125360"/>
            <a:ext cx="648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Изучите рис.22-23,  стр. 36-38 учебника и начертим на тетради таблицу и заполним е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684360" y="1989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акие измерительные приборы вам известн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5"/>
          <p:cNvSpPr/>
          <p:nvPr/>
        </p:nvSpPr>
        <p:spPr>
          <a:xfrm>
            <a:off x="3492360" y="494172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ь в 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6080" y="2637000"/>
          <a:ext cx="6783480" cy="1995480"/>
        </p:xfrm>
        <a:graphic>
          <a:graphicData uri="http://schemas.openxmlformats.org/drawingml/2006/table">
            <a:tbl>
              <a:tblPr/>
              <a:tblGrid>
                <a:gridCol w="2049480"/>
                <a:gridCol w="4734000"/>
              </a:tblGrid>
              <a:tr h="58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ительные при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каких измерений применя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зу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очные ч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6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4:37:53Z</dcterms:created>
  <dc:creator>Vladimir</dc:creator>
  <dc:description/>
  <dc:language>en-US</dc:language>
  <cp:lastModifiedBy>User</cp:lastModifiedBy>
  <dcterms:modified xsi:type="dcterms:W3CDTF">2023-10-31T08:47:55Z</dcterms:modified>
  <cp:revision>54</cp:revision>
  <dc:subject/>
  <dc:title>Курение</dc:title>
</cp:coreProperties>
</file>