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FC6-79DC-44FD-8EAD-DF8CFD9B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FEF-5593-4570-8850-8159B414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22F-D87B-457F-B23B-4C3AFB41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FCA-A142-4F81-A1C5-92F4F0BE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D30-DFC8-4D2D-A521-DE20E79E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1F7-177C-4E5A-8D32-4E89893E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FE6-1824-4E2B-96B7-F5764AC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63F-BD03-4192-91ED-F2FDC51A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4D1-140B-4859-BC8B-A02C19AD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FF4-B977-431E-B855-7D84D688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9BF-8F26-49E4-B4D1-20F8DC27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80B-ADDD-486B-85FC-822FE3EE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813D-ED54-4228-9908-5218EBAC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35D-C915-4D55-AA0E-C3AEC0BE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68E4-CE7C-4534-8815-B076635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8DC1-F218-4637-A1EF-841076E5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3BFD-4690-48D2-BDBD-29C63214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1681-E792-4393-A610-69846FEC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9D81-2616-41CC-BC87-01B94816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55EC-537F-4548-A26C-7ED9D83E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36ED-6F8C-4CC7-B50E-CC7FC34C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9F41-3DD9-4CC1-A50D-0BB285CA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D357-7775-4B55-AB3B-0ACD7A64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C9D9-8CD7-4DE6-831B-0C91B0DD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0120-CAD8-4119-8D44-F96EC7DB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AB45-32A9-4E7D-AC77-960D8541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7AA2-5061-41E3-9E1D-3454663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F75F-72EA-4D8F-A45C-8FA3E49F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24761-41C9-467D-9035-A8DB470B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1F2F-F299-40EF-A0DE-68CE73C2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E591-366B-4181-B2F1-7F966D29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BB07-6D80-4A67-B0DE-8EEC848C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00A7-5F3F-4429-B971-2FF33BD9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6C43-64ED-423C-B547-31C9B3EE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C5B3-F1B2-4DD3-8BB6-4F1FE303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1472-20CD-42A2-BD91-3C33C4D4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B89E-14FB-4AA7-9ECC-EEC9555F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F87E-B803-4B97-B00F-156C53F8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298E-DFC1-4C59-80BD-B5B5B326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B9DD7-18C8-4C2E-8D94-487FFE05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469E-13B2-45A0-BC80-19B5F2E2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85158-7927-47A8-A812-FC75A683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8251-4201-461B-9322-3B047F4A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55F5-1063-4DAE-ABF6-0202A47C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266A-D4DD-4CDB-BE5F-8B6F5BB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B2B3-B4DF-4403-A08F-0F798F8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BBB6-13EC-4064-9576-25256930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9A39-9E1A-4E95-9A7F-A7AD1808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@Долгорукова С.В.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204-9AC5-4EDA-BCF6-6CC530598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D627-D2DF-4A2E-93A8-1AE69E5AC08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с одним скругленным углом 5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D08B-59AE-4367-99A9-1E536BE812E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@Долгорукова С.В.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3A2-10B8-475B-8B94-24467F88BE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hyperlink" Target="http://www.binbow.ru/photo/photo_bin/8x56br1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М!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68360" y="119700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Что понимается под научным мето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 Перечислите основные научные методы, которые изуч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кончите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аблюдение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1981080" cy="1398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7"/>
          <p:cNvSpPr/>
          <p:nvPr/>
        </p:nvSpPr>
        <p:spPr>
          <a:xfrm>
            <a:off x="2666880" y="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3"/>
          <a:stretch/>
        </p:blipFill>
        <p:spPr>
          <a:xfrm>
            <a:off x="309600" y="3989520"/>
            <a:ext cx="1633680" cy="1709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"/>
          <p:cNvPicPr/>
          <p:nvPr/>
        </p:nvPicPr>
        <p:blipFill>
          <a:blip r:embed="rId4"/>
          <a:stretch/>
        </p:blipFill>
        <p:spPr>
          <a:xfrm>
            <a:off x="5105520" y="762120"/>
            <a:ext cx="495360" cy="35812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11232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5d7e"/>
                </a:solidFill>
                <a:latin typeface="Arial"/>
              </a:rPr>
              <a:t>Измерительные приборы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457200" y="2279520"/>
            <a:ext cx="4419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Линейка и рулетка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для измерения размеров предмета или рас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715000" y="990720"/>
            <a:ext cx="3276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Термометр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ит для измерения температуры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1943280" y="4138560"/>
            <a:ext cx="2666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Секундомер и часы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для измерения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Картинка 2 из 2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4419720"/>
            <a:ext cx="1911240" cy="19810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5"/>
          <p:cNvSpPr/>
          <p:nvPr/>
        </p:nvSpPr>
        <p:spPr>
          <a:xfrm>
            <a:off x="6399360" y="3203640"/>
            <a:ext cx="2514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Бинокль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ит для наблюдения за предметами, расположен-ными дале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360" y="20592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5d7e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55d7e"/>
                </a:solidFill>
                <a:latin typeface="Arial"/>
              </a:rPr>
              <a:t>Измерительные приборы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1685880" cy="2266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0" y="2971800"/>
            <a:ext cx="169704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3"/>
          <a:stretch/>
        </p:blipFill>
        <p:spPr>
          <a:xfrm>
            <a:off x="0" y="5095800"/>
            <a:ext cx="1676520" cy="1762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1"/>
          <p:cNvSpPr/>
          <p:nvPr/>
        </p:nvSpPr>
        <p:spPr>
          <a:xfrm>
            <a:off x="1752480" y="838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Микроскоп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лужит для изучения мельчайших деталей, которых нельзя увидеть с помощью невооруженного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752480" y="2971800"/>
            <a:ext cx="7086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Вес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лужат для измерения массы тел. Ими пользуются в магазинах и на базарах продавцы. С помощью весов можно узнать вес свое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51814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Измерительные мензурки и цилиндры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лужат для определения объема жид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«ТБ в кабинете биологии»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46836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Самостоятельно начинайте работу. Точно  выполняйте все указания учителя при проведении лабораторной и практическ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При нагревании жидкости в пробирке или колбе используйте прихва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Возьмите защищенными руками нагретую пос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сторожно обращайтесь с острыми инструментами и лабораторной посу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Если разбилась лабораторная посуда, собрать осколки руками нельз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При получении травмы сообщите об этом учит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 По окончанию работы  приводите рабочее место в поряд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ктическая работа «Измерение показателей здоровья человека с помощью оборудования «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arnitz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1" lang="en-US" sz="2000" spc="-1" strike="noStrike">
              <a:solidFill>
                <a:srgbClr val="355d7e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258920" y="1268280"/>
          <a:ext cx="6078600" cy="84168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7160"/>
              </a:tblGrid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тивы, не бол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1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- 500 л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258920" y="2708280"/>
          <a:ext cx="6078600" cy="105264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716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, артериальное д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, пу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тивы, не бол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—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—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— 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1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337" name="Рисунок 5" descr="C:\Users\User\Desktop\Эксперименты Точка Роста\IMG_1352.JPG"/>
          <p:cNvPicPr/>
          <p:nvPr/>
        </p:nvPicPr>
        <p:blipFill>
          <a:blip r:embed="rId1"/>
          <a:stretch/>
        </p:blipFill>
        <p:spPr>
          <a:xfrm>
            <a:off x="171360" y="3860640"/>
            <a:ext cx="3137040" cy="23529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6" descr="C:\Users\User\Desktop\Эксперименты Точка Роста\IMG_1348.JPG"/>
          <p:cNvPicPr/>
          <p:nvPr/>
        </p:nvPicPr>
        <p:blipFill>
          <a:blip r:embed="rId2"/>
          <a:stretch/>
        </p:blipFill>
        <p:spPr>
          <a:xfrm>
            <a:off x="3387600" y="3860640"/>
            <a:ext cx="3022560" cy="2378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C:\Users\User\Desktop\Эксперименты Точка Роста\IMG_0321.JPG"/>
          <p:cNvPicPr/>
          <p:nvPr/>
        </p:nvPicPr>
        <p:blipFill>
          <a:blip r:embed="rId3"/>
          <a:stretch/>
        </p:blipFill>
        <p:spPr>
          <a:xfrm>
            <a:off x="6659640" y="3743280"/>
            <a:ext cx="19620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55d7e"/>
                </a:solidFill>
                <a:latin typeface="Arial"/>
              </a:rPr>
              <a:t>Лабораторная работа «Измерение объектов»</a:t>
            </a:r>
            <a:endParaRPr b="1" lang="en-US" sz="29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250920" y="1413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иться применять метод измере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468360" y="1844640"/>
            <a:ext cx="867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Оборудо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Ход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ктаж по Т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абинете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льзуя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мятк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змерь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ширину листьев нескольких растений в кабинете биологии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рису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х указав раз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Занесите данные 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(таблицу начертить в тетр.). Рассчитайте среднее значение измерительных вел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Сформулируй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проделанной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Закрепление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468360" y="1197000"/>
            <a:ext cx="867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адание: Определить метод исследования в би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) Определение температуры кипения подсолнечного масла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) Улитка медленно ползет по листу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) Разведение аквариумных рыбок при температуре +25 и +23. Определение наиболее благоприятной температуры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) Воробьи купаются в луже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) Измерение частоты сердечных сокращений (…)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) Создание благоприятных условий для прорастания семян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10920" y="620280"/>
            <a:ext cx="40086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Рефлексия</a:t>
            </a:r>
            <a:endParaRPr b="1" lang="en-US" sz="36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33000"/>
          </a:bodyPr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роке я научился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было непонятн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я знаю, чт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бы хотел узнать, почему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779640" y="1142640"/>
            <a:ext cx="4895640" cy="394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buClr>
                <a:srgbClr val="00206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граф 5 – прочитать. Подготовить устный ответ по тем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письменную работу в тетради -выполнить 3 измер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свой рост, вес, окружность головы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http://cp12.nevsepic.com.ua/57/1354219984-7.png"/>
          <p:cNvPicPr/>
          <p:nvPr/>
        </p:nvPicPr>
        <p:blipFill>
          <a:blip r:embed="rId1"/>
          <a:stretch/>
        </p:blipFill>
        <p:spPr>
          <a:xfrm>
            <a:off x="539640" y="1341360"/>
            <a:ext cx="3167280" cy="31687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3"/>
          <p:cNvSpPr/>
          <p:nvPr/>
        </p:nvSpPr>
        <p:spPr>
          <a:xfrm>
            <a:off x="1185480" y="40464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Segoe Script"/>
                <a:ea typeface="SimHe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за приборы лежат у меня на столе?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293" name="Объект 3" descr="https://theslide.ru/img/thumbs/e6e711996cfd5d476df786500db4ad02-800x.jpg"/>
          <p:cNvPicPr/>
          <p:nvPr/>
        </p:nvPicPr>
        <p:blipFill>
          <a:blip r:embed="rId1"/>
          <a:stretch/>
        </p:blipFill>
        <p:spPr>
          <a:xfrm>
            <a:off x="988920" y="1143000"/>
            <a:ext cx="7239240" cy="531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А как вы думаете, какая тема  сегодняшнего урока?</a:t>
            </a:r>
            <a:endParaRPr b="1" lang="en-US" sz="29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Мы с вами проходили тему «Методы изучения живой природы- наблюдение», а сегодня – методы измерения. Так какую цель и задачи мы должны поставить на этом уроке? -А какие задачи стави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: -Наши бабушки и деды наблюдали за небесными телами, атмосферой, растениями, животными и делали соответствующие выводы, которые дошли к нам через века в виде примет, предсказаний, устанавливались сроки сельскохозяйственных рабо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Как использует человек наблюдения в своей повседневной практической деятельности? Давайте проверим домашнее зада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Методы наблюдения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251160" cy="57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773000"/>
            <a:ext cx="4040280" cy="435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Если в лесу много ягод рябины, то осень будет дождливая, а зима-долгая и суровая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много звезд на небе-к хорошей ясной погод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ошка мордочку прячет- на холод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уры начинают линять рано осенью- к теплой зим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 сутки до ненастья лоси начинают много ходи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b">
            <a:normAutofit fontScale="2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овиц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нний день год кормит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дома сидеть − зимой хлеба не иметь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летом уродится, зимой пригодитс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имой снег глубокий- летом хлеб высок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64000" y="2491920"/>
            <a:ext cx="54007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355d7e"/>
                </a:solidFill>
                <a:latin typeface="Arial"/>
              </a:rPr>
              <a:t>Методы изучения живой природы: измерение</a:t>
            </a:r>
            <a:endParaRPr b="1" lang="en-US" sz="40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302" name="Picture 2" descr="http://img-fotki.yandex.ru/get/6506/47407354.708/0_eae1c_f6563915_orig.png"/>
          <p:cNvPicPr/>
          <p:nvPr/>
        </p:nvPicPr>
        <p:blipFill>
          <a:blip r:embed="rId1"/>
          <a:stretch/>
        </p:blipFill>
        <p:spPr>
          <a:xfrm>
            <a:off x="468360" y="0"/>
            <a:ext cx="396252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ПЛАН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04" name="Прямоугольник 5"/>
          <p:cNvSpPr/>
          <p:nvPr/>
        </p:nvSpPr>
        <p:spPr>
          <a:xfrm>
            <a:off x="804960" y="1125360"/>
            <a:ext cx="79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Метод изме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актическая работа «Измерение показателей здоровья человека» по Точке Ро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абораторная работа «Измерение объект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5840" y="476280"/>
            <a:ext cx="306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Часто наблюдения  дополняются измерениями.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Какими измерениями пользовались в Древней Руси?. </a:t>
            </a:r>
            <a:br>
              <a:rPr sz="2900"/>
            </a:br>
            <a:endParaRPr b="1" lang="en-US" sz="29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306" name="Объект 3" descr="https://i.mycdn.me/i?r=AzEPZsRbOZEKgBhR0XGMT1Rk6c0tsKygvBi1phkxFFZz9aaKTM5SRkZCeTgDn6uOyic"/>
          <p:cNvPicPr/>
          <p:nvPr/>
        </p:nvPicPr>
        <p:blipFill>
          <a:blip r:embed="rId1"/>
          <a:stretch/>
        </p:blipFill>
        <p:spPr>
          <a:xfrm>
            <a:off x="3492360" y="620640"/>
            <a:ext cx="4954680" cy="56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5"/>
          <p:cNvSpPr/>
          <p:nvPr/>
        </p:nvSpPr>
        <p:spPr>
          <a:xfrm>
            <a:off x="539640" y="907920"/>
            <a:ext cx="7944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ден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ных исследо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яют не тольк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ачественные измен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например, появление корешка, ростка и т.д.)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о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оличеств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снованные на точном измере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длина корешков, ширина листье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5"/>
          <p:cNvSpPr/>
          <p:nvPr/>
        </p:nvSpPr>
        <p:spPr>
          <a:xfrm>
            <a:off x="826920" y="4869000"/>
            <a:ext cx="79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Что же такое измер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5d7e"/>
                </a:solidFill>
                <a:latin typeface="Arial"/>
              </a:rPr>
              <a:t>1. Метод измерения.</a:t>
            </a:r>
            <a:endParaRPr b="1" lang="en-US" sz="36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1547640" y="1125360"/>
            <a:ext cx="648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Изучите рис.22-23,  стр. 36-38 учебника и начертим на тетради таблицу и заполним е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684360" y="1989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акие измерительные приборы вам известн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5"/>
          <p:cNvSpPr/>
          <p:nvPr/>
        </p:nvSpPr>
        <p:spPr>
          <a:xfrm>
            <a:off x="3492360" y="49417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ь в 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6080" y="2637000"/>
          <a:ext cx="6783480" cy="1995480"/>
        </p:xfrm>
        <a:graphic>
          <a:graphicData uri="http://schemas.openxmlformats.org/drawingml/2006/table">
            <a:tbl>
              <a:tblPr/>
              <a:tblGrid>
                <a:gridCol w="2049480"/>
                <a:gridCol w="4734000"/>
              </a:tblGrid>
              <a:tr h="58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ительные при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каких измерений применя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зу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очные ч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4:37:53Z</dcterms:created>
  <dc:creator>Vladimir</dc:creator>
  <dc:description/>
  <dc:language>en-US</dc:language>
  <cp:lastModifiedBy>User</cp:lastModifiedBy>
  <dcterms:modified xsi:type="dcterms:W3CDTF">2023-10-31T08:47:55Z</dcterms:modified>
  <cp:revision>54</cp:revision>
  <dc:subject/>
  <dc:title>Курение</dc:title>
</cp:coreProperties>
</file>