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8B0-B570-4951-A975-63585762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EFB-3220-4B8B-A929-05DA989B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730-4DD0-4DF0-9291-83B326F0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736-6D1B-4DAF-BB59-74F935D4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A896-94DC-4C93-B36E-DC51CADF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0B19-BF21-4EEB-B175-4C48098B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764D-2106-4349-B29D-AAD0A57D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E26D-9E8C-4CC7-98B1-03A32FC3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0675-B3C0-48F9-8E26-D4D8679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67B-2787-4DF7-B7F2-D75707D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C522-02A5-4F54-9222-8180392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008-22F7-41C9-9141-326AF95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320-AC52-4C81-8AE2-BD8CE19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15B-2C21-41B6-8F3F-B22FA21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2D4-6FD1-43BD-834B-09AAA6F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33A2-A052-48DC-B192-E6E7FBDE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CADC-BB90-4CD2-ACC8-7FB7193C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108-75E2-4335-A572-B5CE24D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F14-9D7A-4426-89B6-C901D2A2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A87-2F98-4E04-A6AF-564547D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468-72D8-4D0C-B3C7-A4AB124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6DB-FC25-4C27-A54F-35F5A703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4DD-D6A5-40D6-9620-90B6F10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39C-9675-4291-8BD7-D698093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4b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E23D-6012-43EF-B8AE-38D0C631E8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b4b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48DD-114F-4837-899F-6CC0A1FB5B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11640" y="5805000"/>
            <a:ext cx="287964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Конуркина О.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ОУ Ильинская СОШ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611280" y="2637000"/>
            <a:ext cx="792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089080" cy="162576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52360" y="2637000"/>
            <a:ext cx="839304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Использование приемов эйдетики для развития орфографической грамотности младших школьник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 слове спряталось другое   слов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а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ки – в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ен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ен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и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т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ор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зон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 – на 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л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ета – в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т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й -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ол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й поет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сол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ж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 –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Графические ассоциации 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    /по схожести изображения/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4760" y="1817280"/>
            <a:ext cx="3644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– увидеть сходство формы буквы и предмета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Объект 2" descr=""/>
          <p:cNvPicPr/>
          <p:nvPr/>
        </p:nvPicPr>
        <p:blipFill>
          <a:blip r:embed="rId1"/>
          <a:stretch/>
        </p:blipFill>
        <p:spPr>
          <a:xfrm>
            <a:off x="5292720" y="1817640"/>
            <a:ext cx="2489040" cy="638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4865760" y="2701800"/>
            <a:ext cx="3346200" cy="8416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"/>
          <p:cNvPicPr/>
          <p:nvPr/>
        </p:nvPicPr>
        <p:blipFill>
          <a:blip r:embed="rId3"/>
          <a:stretch/>
        </p:blipFill>
        <p:spPr>
          <a:xfrm>
            <a:off x="4786200" y="3746520"/>
            <a:ext cx="398304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0" descr=""/>
          <p:cNvPicPr/>
          <p:nvPr/>
        </p:nvPicPr>
        <p:blipFill>
          <a:blip r:embed="rId4"/>
          <a:stretch/>
        </p:blipFill>
        <p:spPr>
          <a:xfrm>
            <a:off x="4537080" y="4869000"/>
            <a:ext cx="4294080" cy="71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96428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мысловые ассоци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этого приема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ъяснение лексического смысла слова, углубление в этимологию сло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1640" y="1752480"/>
            <a:ext cx="3995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да – п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го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аблюда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о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о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к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иб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дня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его дн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при Петре 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Как звучат слова в других язык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044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буз – 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буз /башкир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ковь –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ква /укр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 – вч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 /укр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алл –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/англ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ва – 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/немец.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ая соединительная линия 2"/>
          <p:cNvSpPr/>
          <p:nvPr/>
        </p:nvSpPr>
        <p:spPr>
          <a:xfrm flipH="1">
            <a:off x="3347640" y="2637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7"/>
          <p:cNvSpPr/>
          <p:nvPr/>
        </p:nvSpPr>
        <p:spPr>
          <a:xfrm flipH="1">
            <a:off x="3207960" y="4313160"/>
            <a:ext cx="14436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Рисунок 8" descr=""/>
          <p:cNvPicPr/>
          <p:nvPr/>
        </p:nvPicPr>
        <p:blipFill>
          <a:blip r:embed="rId1"/>
          <a:stretch/>
        </p:blipFill>
        <p:spPr>
          <a:xfrm>
            <a:off x="3208320" y="5145120"/>
            <a:ext cx="17640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9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176400" cy="24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оставление ребусо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лиц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л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о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т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я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11440" t="7056" r="8633" b="6313"/>
          <a:stretch/>
        </p:blipFill>
        <p:spPr>
          <a:xfrm>
            <a:off x="5724360" y="1752480"/>
            <a:ext cx="3159360" cy="24210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133" name="Рисунок 9" descr=""/>
          <p:cNvPicPr/>
          <p:nvPr/>
        </p:nvPicPr>
        <p:blipFill>
          <a:blip r:embed="rId2"/>
          <a:stretch/>
        </p:blipFill>
        <p:spPr>
          <a:xfrm>
            <a:off x="3270240" y="3886200"/>
            <a:ext cx="1855800" cy="1414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"/>
          <p:cNvPicPr/>
          <p:nvPr/>
        </p:nvPicPr>
        <p:blipFill>
          <a:blip r:embed="rId3"/>
          <a:stretch/>
        </p:blipFill>
        <p:spPr>
          <a:xfrm>
            <a:off x="5627520" y="4413240"/>
            <a:ext cx="3133800" cy="14162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135" name="Рисунок 1" descr=""/>
          <p:cNvPicPr/>
          <p:nvPr/>
        </p:nvPicPr>
        <p:blipFill>
          <a:blip r:embed="rId4"/>
          <a:stretch/>
        </p:blipFill>
        <p:spPr>
          <a:xfrm>
            <a:off x="2359080" y="2251080"/>
            <a:ext cx="3190680" cy="93348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4879800" y="1808280"/>
            <a:ext cx="3900600" cy="20383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Составление мини-сказо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Жил-был 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ц хваста. Он очень любил хвастаться и всегда говори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амый храбрый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самый быстрый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самый умный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…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Объект 17" descr=""/>
          <p:cNvPicPr/>
          <p:nvPr/>
        </p:nvPicPr>
        <p:blipFill>
          <a:blip r:embed="rId2"/>
          <a:stretch/>
        </p:blipFill>
        <p:spPr>
          <a:xfrm>
            <a:off x="4879800" y="3957480"/>
            <a:ext cx="3924360" cy="209880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Этапы работы над новым слово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28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этап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ъявление слов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загад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ания на исключение лишнего, нахождение общег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ребус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изограф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 этап.  Работа над слуховым образом сло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Транскрипция слов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1000" cy="11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I этап.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над зрительным                          образом слов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560" y="1699920"/>
            <a:ext cx="8569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сследовательская работа в групп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с этимологическим словарё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с толковым словарё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по разделу «Морфология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Работа по разделу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  <a:ea typeface="Arial"/>
              </a:rPr>
              <a:t>«Словообразование»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5000"/>
              </a:lnSpc>
              <a:spcBef>
                <a:spcPts val="700"/>
              </a:spcBef>
              <a:spcAft>
                <a:spcPts val="7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Использование приемов эйдетики для формирования орфографического навы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Овал 3"/>
          <p:cNvSpPr/>
          <p:nvPr/>
        </p:nvSpPr>
        <p:spPr>
          <a:xfrm rot="5400000">
            <a:off x="7477560" y="2178720"/>
            <a:ext cx="289080" cy="62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Овал 11"/>
          <p:cNvSpPr/>
          <p:nvPr/>
        </p:nvSpPr>
        <p:spPr>
          <a:xfrm rot="5400000">
            <a:off x="6265080" y="2672280"/>
            <a:ext cx="287280" cy="6480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Овал 12"/>
          <p:cNvSpPr/>
          <p:nvPr/>
        </p:nvSpPr>
        <p:spPr>
          <a:xfrm rot="5400000">
            <a:off x="6984360" y="3177360"/>
            <a:ext cx="288720" cy="649440"/>
          </a:xfrm>
          <a:prstGeom prst="ellipse">
            <a:avLst/>
          </a:prstGeom>
          <a:solidFill>
            <a:srgbClr val="6cda6c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Овал 13"/>
          <p:cNvSpPr/>
          <p:nvPr/>
        </p:nvSpPr>
        <p:spPr>
          <a:xfrm rot="5400000">
            <a:off x="7790760" y="3702600"/>
            <a:ext cx="287280" cy="62568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Рисунок 4" descr=""/>
          <p:cNvPicPr/>
          <p:nvPr/>
        </p:nvPicPr>
        <p:blipFill>
          <a:blip r:embed="rId1"/>
          <a:stretch/>
        </p:blipFill>
        <p:spPr>
          <a:xfrm>
            <a:off x="7023240" y="2543040"/>
            <a:ext cx="2120760" cy="119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V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этап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огащение словаря учащихся, работа над предложени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2840" y="1595160"/>
            <a:ext cx="8434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Ассоциативный ря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289320" y="34401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гр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о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5"/>
          <p:cNvSpPr/>
          <p:nvPr/>
        </p:nvSpPr>
        <p:spPr>
          <a:xfrm flipH="1">
            <a:off x="5148000" y="342900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3" name="Прямая со стрелкой 7"/>
          <p:cNvCxnSpPr/>
          <p:nvPr/>
        </p:nvCxnSpPr>
        <p:spPr>
          <a:xfrm>
            <a:off x="5748480" y="3823920"/>
            <a:ext cx="746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4" name="Рисунок 8" descr=""/>
          <p:cNvPicPr/>
          <p:nvPr/>
        </p:nvPicPr>
        <p:blipFill>
          <a:blip r:embed="rId1"/>
          <a:stretch/>
        </p:blipFill>
        <p:spPr>
          <a:xfrm rot="21110400">
            <a:off x="4854600" y="2842920"/>
            <a:ext cx="665280" cy="6634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"/>
          <p:cNvPicPr/>
          <p:nvPr/>
        </p:nvPicPr>
        <p:blipFill>
          <a:blip r:embed="rId2"/>
          <a:stretch/>
        </p:blipFill>
        <p:spPr>
          <a:xfrm rot="17115600">
            <a:off x="3387600" y="2931840"/>
            <a:ext cx="612720" cy="613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"/>
          <p:cNvPicPr/>
          <p:nvPr/>
        </p:nvPicPr>
        <p:blipFill>
          <a:blip r:embed="rId3"/>
          <a:stretch/>
        </p:blipFill>
        <p:spPr>
          <a:xfrm rot="13599000">
            <a:off x="2308680" y="3432240"/>
            <a:ext cx="779400" cy="780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"/>
          <p:cNvPicPr/>
          <p:nvPr/>
        </p:nvPicPr>
        <p:blipFill>
          <a:blip r:embed="rId4"/>
          <a:stretch/>
        </p:blipFill>
        <p:spPr>
          <a:xfrm>
            <a:off x="5032440" y="4181400"/>
            <a:ext cx="644400" cy="644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"/>
          <p:cNvPicPr/>
          <p:nvPr/>
        </p:nvPicPr>
        <p:blipFill>
          <a:blip r:embed="rId5"/>
          <a:stretch/>
        </p:blipFill>
        <p:spPr>
          <a:xfrm rot="10990200">
            <a:off x="3376080" y="4173120"/>
            <a:ext cx="654120" cy="6526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4" descr=""/>
          <p:cNvPicPr/>
          <p:nvPr/>
        </p:nvPicPr>
        <p:blipFill>
          <a:blip r:embed="rId6"/>
          <a:stretch/>
        </p:blipFill>
        <p:spPr>
          <a:xfrm rot="18793200">
            <a:off x="4078080" y="284148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"/>
          <p:cNvPicPr/>
          <p:nvPr/>
        </p:nvPicPr>
        <p:blipFill>
          <a:blip r:embed="rId7"/>
          <a:stretch/>
        </p:blipFill>
        <p:spPr>
          <a:xfrm rot="8155800">
            <a:off x="4208040" y="4289400"/>
            <a:ext cx="623880" cy="6256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7"/>
          <p:cNvSpPr/>
          <p:nvPr/>
        </p:nvSpPr>
        <p:spPr>
          <a:xfrm>
            <a:off x="6494400" y="350532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фесс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18"/>
          <p:cNvSpPr/>
          <p:nvPr/>
        </p:nvSpPr>
        <p:spPr>
          <a:xfrm>
            <a:off x="1163520" y="35719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2556000" y="256536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л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5435640" y="262584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ер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2"/>
          <p:cNvSpPr/>
          <p:nvPr/>
        </p:nvSpPr>
        <p:spPr>
          <a:xfrm>
            <a:off x="5676840" y="4849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вощ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23"/>
          <p:cNvSpPr/>
          <p:nvPr/>
        </p:nvSpPr>
        <p:spPr>
          <a:xfrm>
            <a:off x="2293920" y="48150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рожа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4087800" y="2309760"/>
            <a:ext cx="13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25"/>
          <p:cNvSpPr/>
          <p:nvPr/>
        </p:nvSpPr>
        <p:spPr>
          <a:xfrm>
            <a:off x="3930480" y="4924440"/>
            <a:ext cx="15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рук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Box 26"/>
          <p:cNvSpPr/>
          <p:nvPr/>
        </p:nvSpPr>
        <p:spPr>
          <a:xfrm>
            <a:off x="900000" y="5732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оставление предло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V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этап.   Включение нового слова в ход урока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79040" y="15933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упражнен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минут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Рефлексия. Анаграмм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"/>
          <p:cNvSpPr/>
          <p:nvPr/>
        </p:nvSpPr>
        <p:spPr>
          <a:xfrm rot="17980200">
            <a:off x="1260360" y="3860640"/>
            <a:ext cx="574560" cy="936360"/>
          </a:xfrm>
          <a:prstGeom prst="rect">
            <a:avLst/>
          </a:prstGeom>
          <a:solidFill>
            <a:srgbClr val="ffff00"/>
          </a:solidFill>
          <a:ln w="1260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Рисунок 4" descr=""/>
          <p:cNvPicPr/>
          <p:nvPr/>
        </p:nvPicPr>
        <p:blipFill>
          <a:blip r:embed="rId1"/>
          <a:stretch/>
        </p:blipFill>
        <p:spPr>
          <a:xfrm rot="19363200">
            <a:off x="2230560" y="5071680"/>
            <a:ext cx="583920" cy="9507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2"/>
          <a:stretch/>
        </p:blipFill>
        <p:spPr>
          <a:xfrm>
            <a:off x="2968560" y="3825720"/>
            <a:ext cx="585720" cy="9511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"/>
          <p:cNvPicPr/>
          <p:nvPr/>
        </p:nvPicPr>
        <p:blipFill>
          <a:blip r:embed="rId3"/>
          <a:stretch/>
        </p:blipFill>
        <p:spPr>
          <a:xfrm>
            <a:off x="4203720" y="4681440"/>
            <a:ext cx="585720" cy="9511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"/>
          <p:cNvPicPr/>
          <p:nvPr/>
        </p:nvPicPr>
        <p:blipFill>
          <a:blip r:embed="rId4"/>
          <a:stretch/>
        </p:blipFill>
        <p:spPr>
          <a:xfrm>
            <a:off x="5722920" y="3679920"/>
            <a:ext cx="585720" cy="9507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"/>
          <p:cNvPicPr/>
          <p:nvPr/>
        </p:nvPicPr>
        <p:blipFill>
          <a:blip r:embed="rId5"/>
          <a:stretch/>
        </p:blipFill>
        <p:spPr>
          <a:xfrm rot="21448800">
            <a:off x="7564320" y="3978000"/>
            <a:ext cx="586080" cy="9507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"/>
          <p:cNvPicPr/>
          <p:nvPr/>
        </p:nvPicPr>
        <p:blipFill>
          <a:blip r:embed="rId6"/>
          <a:stretch/>
        </p:blipFill>
        <p:spPr>
          <a:xfrm rot="1605000">
            <a:off x="6946560" y="2179440"/>
            <a:ext cx="584280" cy="9507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10"/>
          <p:cNvSpPr/>
          <p:nvPr/>
        </p:nvSpPr>
        <p:spPr>
          <a:xfrm>
            <a:off x="2968560" y="364500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1"/>
          <p:cNvSpPr/>
          <p:nvPr/>
        </p:nvSpPr>
        <p:spPr>
          <a:xfrm flipH="1" rot="1570800">
            <a:off x="6962400" y="1854360"/>
            <a:ext cx="2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7489800" y="3727440"/>
            <a:ext cx="6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5680080" y="3486240"/>
            <a:ext cx="9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н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4149720" y="4437000"/>
            <a:ext cx="6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Рисунок 1" descr=""/>
          <p:cNvPicPr/>
          <p:nvPr/>
        </p:nvPicPr>
        <p:blipFill>
          <a:blip r:embed="rId7"/>
          <a:stretch/>
        </p:blipFill>
        <p:spPr>
          <a:xfrm>
            <a:off x="4541760" y="3541680"/>
            <a:ext cx="584280" cy="9511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" descr=""/>
          <p:cNvPicPr/>
          <p:nvPr/>
        </p:nvPicPr>
        <p:blipFill>
          <a:blip r:embed="rId8"/>
          <a:stretch/>
        </p:blipFill>
        <p:spPr>
          <a:xfrm rot="1115400">
            <a:off x="6506640" y="4776480"/>
            <a:ext cx="586080" cy="9507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4398840" y="3357720"/>
            <a:ext cx="12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Box 6"/>
          <p:cNvSpPr/>
          <p:nvPr/>
        </p:nvSpPr>
        <p:spPr>
          <a:xfrm flipV="1" rot="19414800">
            <a:off x="2419920" y="5003640"/>
            <a:ext cx="5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Box 7"/>
          <p:cNvSpPr/>
          <p:nvPr/>
        </p:nvSpPr>
        <p:spPr>
          <a:xfrm rot="1189800">
            <a:off x="6484680" y="455760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Анализ образовательной ситуаци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120"/>
            <a:ext cx="810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ановка на уроке  «просто запомнить» перестает себя оправдывать. Механическое запоминание таких слов  малоэффектив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е дети все реже обращаются к книге. Следовательно, исчезает полезный навык, столь необходимый для формирования грамот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очное развитие памяти и мыш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оложительной мотив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зкий уровень развития волевых каче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002060"/>
                </a:solidFill>
                <a:latin typeface="Arial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Цель педагогической                     деятельност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, содействующих повышению орфографической грамотности младших школьников на основе использования в учебном процессе приемов моделирования, необходимых для хранения получаемой информ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ть орфографический навык учащихся с помощью различных приемов моделирования, направленных на эффективное запоминание изучаемого материа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самостоятельного творческого поиска  графических и фонетических ассоциаций для запоминания словарных и трудно проверяемых с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582480" y="304920"/>
            <a:ext cx="8026560" cy="636408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4600" y="2276640"/>
            <a:ext cx="803268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Эйде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это методика для развития памяти, мышления и воображения посредством образ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2482920" y="1836720"/>
            <a:ext cx="4424400" cy="1031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2424240" y="2868480"/>
            <a:ext cx="757080" cy="1212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3"/>
          <a:stretch/>
        </p:blipFill>
        <p:spPr>
          <a:xfrm>
            <a:off x="6372360" y="2868480"/>
            <a:ext cx="749160" cy="12128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4"/>
          <a:stretch/>
        </p:blipFill>
        <p:spPr>
          <a:xfrm>
            <a:off x="299880" y="4265640"/>
            <a:ext cx="3895920" cy="159876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pic>
        <p:nvPicPr>
          <p:cNvPr id="103" name="Рисунок 7" descr=""/>
          <p:cNvPicPr/>
          <p:nvPr/>
        </p:nvPicPr>
        <p:blipFill>
          <a:blip r:embed="rId5"/>
          <a:stretch/>
        </p:blipFill>
        <p:spPr>
          <a:xfrm>
            <a:off x="4941720" y="4224240"/>
            <a:ext cx="3610080" cy="16099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риемы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 запомина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4200" y="1844640"/>
            <a:ext cx="7993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онетические ассоциации (по схожести звучан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   Занимательные четверостиш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ряталось другое сло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е ассоциации (по схожести изображен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мысловые ассоци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вучание слова в других язык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ление ребус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Фонетические ассоциации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        (по схожести звучания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удачном подборе созвучных ассоциаций к запоминаемому слов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т сопровождаться ярким рисунком, подкрепляющим обра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ь – м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ёз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а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ё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т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бус сигнал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Би-б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упи билет!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й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вня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 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вн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анимательные четверостиш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уть – в подборе слов-помощников, но для облегчения запоминания, подсказки оформлены в виде занимательных четверостиш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0180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ла-был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к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а любила спать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е прозва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лю я с ней    играть. (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ка –с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к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х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ук и морков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ма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ховый суп нам готовь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0:56:47Z</dcterms:created>
  <dc:creator>Syper</dc:creator>
  <dc:description/>
  <dc:language>en-US</dc:language>
  <cp:lastModifiedBy>Ru Eldo</cp:lastModifiedBy>
  <dcterms:modified xsi:type="dcterms:W3CDTF">2023-10-30T10:23:12Z</dcterms:modified>
  <cp:revision>104</cp:revision>
  <dc:subject/>
  <dc:title>Использование приемов эйдетики в системе Л.В.Занкова для формирования и совершенствования                     орфографического навыка</dc:title>
</cp:coreProperties>
</file>