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F3B-64A1-41EA-A898-FA28B27F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719-43D7-48CA-9071-AB2571A4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0AA-B4A5-45E1-94FF-1D4CBAB9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F6D-6025-468B-B515-61B16822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0A02-D0BA-4CEF-B559-69640382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D7D1-B7E8-4383-9565-D5671463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C4CD-EB78-4B47-8F6E-0C2E885B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D265-F9A3-48BB-877E-81061EF1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87E1-A09B-4149-AB0B-32E56A8A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1B67-6D46-4959-85B2-627F2659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E4E9-1092-47EF-8AAE-80760871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912-91F0-40EF-ACEA-C891FE39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14A2-AB7E-4FA7-A782-490B5A56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3E16-DAF7-4066-9735-1E91BC43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6414-39BB-4725-8631-5CD92825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A546-98C1-49C7-8493-9CEAC1BE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CFE3-8067-4A6D-8B6D-D31107BF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D46-16DF-48B8-A1A1-3CBB6153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141A-1752-456D-9277-1F3BD66A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A73-62CF-4F5E-9EE5-AF8533C8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345-C057-4148-AA78-2282DC65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333C-2B55-445A-997A-A511AD98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AE8-D54E-42D8-9F56-C6B182E3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67C-1F86-4DB3-84E3-B535FF4D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b4b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5B0E-4203-457F-800A-7544068B5E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b4b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16C1-D131-4913-8790-40FEF5159E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11640" y="5805000"/>
            <a:ext cx="287964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Конуркина О.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ОУ Ильинская СОШ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611280" y="2637000"/>
            <a:ext cx="7921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6372360" y="404640"/>
            <a:ext cx="2089080" cy="162576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52360" y="2637000"/>
            <a:ext cx="839304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  <a:ea typeface="Times New Roman"/>
              </a:rPr>
              <a:t>Использование приемов эйдетики для развития орфографической грамотности младших школьник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В слове спряталось другое   слов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а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ки – в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ленк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у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Лен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из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т –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Гор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зон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 – на о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ла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ла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ета – в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а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ет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а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ей 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сол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ей поет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сол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Уж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 –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уж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на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уж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Графические ассоциации 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    /по схожести изображения/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4760" y="1817280"/>
            <a:ext cx="3644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уть – увидеть сходство формы буквы и предмета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Объект 2" descr=""/>
          <p:cNvPicPr/>
          <p:nvPr/>
        </p:nvPicPr>
        <p:blipFill>
          <a:blip r:embed="rId1"/>
          <a:stretch/>
        </p:blipFill>
        <p:spPr>
          <a:xfrm>
            <a:off x="5292720" y="1817640"/>
            <a:ext cx="2489040" cy="6382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2"/>
          <a:stretch/>
        </p:blipFill>
        <p:spPr>
          <a:xfrm>
            <a:off x="4865760" y="2701800"/>
            <a:ext cx="3346200" cy="8416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"/>
          <p:cNvPicPr/>
          <p:nvPr/>
        </p:nvPicPr>
        <p:blipFill>
          <a:blip r:embed="rId3"/>
          <a:stretch/>
        </p:blipFill>
        <p:spPr>
          <a:xfrm>
            <a:off x="4786200" y="3746520"/>
            <a:ext cx="3983040" cy="8431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0" descr=""/>
          <p:cNvPicPr/>
          <p:nvPr/>
        </p:nvPicPr>
        <p:blipFill>
          <a:blip r:embed="rId4"/>
          <a:stretch/>
        </p:blipFill>
        <p:spPr>
          <a:xfrm>
            <a:off x="4537080" y="4869000"/>
            <a:ext cx="4294080" cy="71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304560"/>
            <a:ext cx="796428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Смысловые ассоциаци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уть этого приема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ъяснение лексического смысла слова, углубление в этимологию сло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1640" y="1752480"/>
            <a:ext cx="3995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да – п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го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наблюдают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о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го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и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ка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биб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ег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ня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его дн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при Петре 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Как звучат слова в других языка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5044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буз – 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буз /башкир.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ковь –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ква /укр.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 – в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 /укр.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алл –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/англ.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ква –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/немец.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ая соединительная линия 2"/>
          <p:cNvSpPr/>
          <p:nvPr/>
        </p:nvSpPr>
        <p:spPr>
          <a:xfrm flipH="1">
            <a:off x="3347640" y="2637000"/>
            <a:ext cx="14436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7"/>
          <p:cNvSpPr/>
          <p:nvPr/>
        </p:nvSpPr>
        <p:spPr>
          <a:xfrm flipH="1">
            <a:off x="3207960" y="431316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Рисунок 8" descr=""/>
          <p:cNvPicPr/>
          <p:nvPr/>
        </p:nvPicPr>
        <p:blipFill>
          <a:blip r:embed="rId1"/>
          <a:stretch/>
        </p:blipFill>
        <p:spPr>
          <a:xfrm>
            <a:off x="3208320" y="5145120"/>
            <a:ext cx="176400" cy="2444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9" descr=""/>
          <p:cNvPicPr/>
          <p:nvPr/>
        </p:nvPicPr>
        <p:blipFill>
          <a:blip r:embed="rId2"/>
          <a:stretch/>
        </p:blipFill>
        <p:spPr>
          <a:xfrm>
            <a:off x="2771640" y="1773360"/>
            <a:ext cx="176400" cy="242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Составление ребусов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т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лиц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Ул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ц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зо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т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я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11440" t="7056" r="8633" b="6313"/>
          <a:stretch/>
        </p:blipFill>
        <p:spPr>
          <a:xfrm>
            <a:off x="5724360" y="1752480"/>
            <a:ext cx="3159360" cy="242100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133" name="Рисунок 9" descr=""/>
          <p:cNvPicPr/>
          <p:nvPr/>
        </p:nvPicPr>
        <p:blipFill>
          <a:blip r:embed="rId2"/>
          <a:stretch/>
        </p:blipFill>
        <p:spPr>
          <a:xfrm>
            <a:off x="3270240" y="3886200"/>
            <a:ext cx="1855800" cy="14144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0" descr=""/>
          <p:cNvPicPr/>
          <p:nvPr/>
        </p:nvPicPr>
        <p:blipFill>
          <a:blip r:embed="rId3"/>
          <a:stretch/>
        </p:blipFill>
        <p:spPr>
          <a:xfrm>
            <a:off x="5627520" y="4413240"/>
            <a:ext cx="3133800" cy="141624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135" name="Рисунок 1" descr=""/>
          <p:cNvPicPr/>
          <p:nvPr/>
        </p:nvPicPr>
        <p:blipFill>
          <a:blip r:embed="rId4"/>
          <a:stretch/>
        </p:blipFill>
        <p:spPr>
          <a:xfrm>
            <a:off x="2359080" y="2251080"/>
            <a:ext cx="3190680" cy="93348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4879800" y="1808280"/>
            <a:ext cx="3900600" cy="20383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Составление мини-сказок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Жил-был з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ц хваста. Он очень любил хвастаться и всегда говори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самый храбрый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самый быстрый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самый умный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…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Объект 17" descr=""/>
          <p:cNvPicPr/>
          <p:nvPr/>
        </p:nvPicPr>
        <p:blipFill>
          <a:blip r:embed="rId2"/>
          <a:stretch/>
        </p:blipFill>
        <p:spPr>
          <a:xfrm>
            <a:off x="4879800" y="3957480"/>
            <a:ext cx="3924360" cy="20988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Этапы работы над новым словом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000" y="1628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 этап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ъявление слов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загад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задания на исключение лишнего, нахождение общег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ребус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изограф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I этап.  Работа над слуховым образом сло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Транскрипция слов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01000" cy="11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II этап.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над зрительным                          образом слов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560" y="1699920"/>
            <a:ext cx="8569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Исследовательская работа в групп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абота с этимологическим словарё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абота с толковым словарё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абота по разделу «Морфология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абота по разделу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«Словообразование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5000"/>
              </a:lnSpc>
              <a:spcBef>
                <a:spcPts val="700"/>
              </a:spcBef>
              <a:spcAft>
                <a:spcPts val="7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Использование приемов эйдетики для формирования орфографического навы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Овал 3"/>
          <p:cNvSpPr/>
          <p:nvPr/>
        </p:nvSpPr>
        <p:spPr>
          <a:xfrm rot="5400000">
            <a:off x="7477560" y="2178720"/>
            <a:ext cx="289080" cy="62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Овал 11"/>
          <p:cNvSpPr/>
          <p:nvPr/>
        </p:nvSpPr>
        <p:spPr>
          <a:xfrm rot="5400000">
            <a:off x="6265080" y="2672280"/>
            <a:ext cx="287280" cy="6480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Овал 12"/>
          <p:cNvSpPr/>
          <p:nvPr/>
        </p:nvSpPr>
        <p:spPr>
          <a:xfrm rot="5400000">
            <a:off x="6984360" y="3177360"/>
            <a:ext cx="288720" cy="649440"/>
          </a:xfrm>
          <a:prstGeom prst="ellipse">
            <a:avLst/>
          </a:prstGeom>
          <a:solidFill>
            <a:srgbClr val="6cda6c"/>
          </a:solidFill>
          <a:ln w="1260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Овал 13"/>
          <p:cNvSpPr/>
          <p:nvPr/>
        </p:nvSpPr>
        <p:spPr>
          <a:xfrm rot="5400000">
            <a:off x="7790760" y="3702600"/>
            <a:ext cx="287280" cy="62568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Рисунок 4" descr=""/>
          <p:cNvPicPr/>
          <p:nvPr/>
        </p:nvPicPr>
        <p:blipFill>
          <a:blip r:embed="rId1"/>
          <a:stretch/>
        </p:blipFill>
        <p:spPr>
          <a:xfrm>
            <a:off x="7023240" y="2543040"/>
            <a:ext cx="2120760" cy="1193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V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тап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Обогащение словаря учащихся, работа над предложение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2840" y="1595160"/>
            <a:ext cx="84344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Ассоциативный ря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3289320" y="34401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гр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ом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ая соединительная линия 5"/>
          <p:cNvSpPr/>
          <p:nvPr/>
        </p:nvSpPr>
        <p:spPr>
          <a:xfrm flipH="1">
            <a:off x="5148000" y="342900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53" name="Прямая со стрелкой 7"/>
          <p:cNvCxnSpPr/>
          <p:nvPr/>
        </p:nvCxnSpPr>
        <p:spPr>
          <a:xfrm>
            <a:off x="5748480" y="3823920"/>
            <a:ext cx="7466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54" name="Рисунок 8" descr=""/>
          <p:cNvPicPr/>
          <p:nvPr/>
        </p:nvPicPr>
        <p:blipFill>
          <a:blip r:embed="rId1"/>
          <a:stretch/>
        </p:blipFill>
        <p:spPr>
          <a:xfrm rot="21110400">
            <a:off x="4854600" y="2842920"/>
            <a:ext cx="665280" cy="6634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"/>
          <p:cNvPicPr/>
          <p:nvPr/>
        </p:nvPicPr>
        <p:blipFill>
          <a:blip r:embed="rId2"/>
          <a:stretch/>
        </p:blipFill>
        <p:spPr>
          <a:xfrm rot="17115600">
            <a:off x="3387600" y="2931840"/>
            <a:ext cx="612720" cy="6130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"/>
          <p:cNvPicPr/>
          <p:nvPr/>
        </p:nvPicPr>
        <p:blipFill>
          <a:blip r:embed="rId3"/>
          <a:stretch/>
        </p:blipFill>
        <p:spPr>
          <a:xfrm rot="13599000">
            <a:off x="2308680" y="3432240"/>
            <a:ext cx="779400" cy="780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"/>
          <p:cNvPicPr/>
          <p:nvPr/>
        </p:nvPicPr>
        <p:blipFill>
          <a:blip r:embed="rId4"/>
          <a:stretch/>
        </p:blipFill>
        <p:spPr>
          <a:xfrm>
            <a:off x="5032440" y="4181400"/>
            <a:ext cx="644400" cy="6447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"/>
          <p:cNvPicPr/>
          <p:nvPr/>
        </p:nvPicPr>
        <p:blipFill>
          <a:blip r:embed="rId5"/>
          <a:stretch/>
        </p:blipFill>
        <p:spPr>
          <a:xfrm rot="10990200">
            <a:off x="3376080" y="4173120"/>
            <a:ext cx="654120" cy="6526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4" descr=""/>
          <p:cNvPicPr/>
          <p:nvPr/>
        </p:nvPicPr>
        <p:blipFill>
          <a:blip r:embed="rId6"/>
          <a:stretch/>
        </p:blipFill>
        <p:spPr>
          <a:xfrm rot="18793200">
            <a:off x="4078080" y="28414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5" descr=""/>
          <p:cNvPicPr/>
          <p:nvPr/>
        </p:nvPicPr>
        <p:blipFill>
          <a:blip r:embed="rId7"/>
          <a:stretch/>
        </p:blipFill>
        <p:spPr>
          <a:xfrm rot="8155800">
            <a:off x="4208040" y="4289400"/>
            <a:ext cx="623880" cy="6256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7"/>
          <p:cNvSpPr/>
          <p:nvPr/>
        </p:nvSpPr>
        <p:spPr>
          <a:xfrm>
            <a:off x="6494400" y="350532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1163520" y="35719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20"/>
          <p:cNvSpPr/>
          <p:nvPr/>
        </p:nvSpPr>
        <p:spPr>
          <a:xfrm>
            <a:off x="2556000" y="256536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л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21"/>
          <p:cNvSpPr/>
          <p:nvPr/>
        </p:nvSpPr>
        <p:spPr>
          <a:xfrm>
            <a:off x="5435640" y="262584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ер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22"/>
          <p:cNvSpPr/>
          <p:nvPr/>
        </p:nvSpPr>
        <p:spPr>
          <a:xfrm>
            <a:off x="5676840" y="4849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вощ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Box 23"/>
          <p:cNvSpPr/>
          <p:nvPr/>
        </p:nvSpPr>
        <p:spPr>
          <a:xfrm>
            <a:off x="2293920" y="481500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рожа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Box 24"/>
          <p:cNvSpPr/>
          <p:nvPr/>
        </p:nvSpPr>
        <p:spPr>
          <a:xfrm>
            <a:off x="4087800" y="2309760"/>
            <a:ext cx="13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Box 25"/>
          <p:cNvSpPr/>
          <p:nvPr/>
        </p:nvSpPr>
        <p:spPr>
          <a:xfrm>
            <a:off x="3930480" y="4924440"/>
            <a:ext cx="15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рук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Box 26"/>
          <p:cNvSpPr/>
          <p:nvPr/>
        </p:nvSpPr>
        <p:spPr>
          <a:xfrm>
            <a:off x="900000" y="5732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Составление предлож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V 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этап.   Включение нового слова в ход урок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79040" y="15933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Выполнение упражнен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Физкультминут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Рефлексия. Анаграмм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3"/>
          <p:cNvSpPr/>
          <p:nvPr/>
        </p:nvSpPr>
        <p:spPr>
          <a:xfrm rot="17980200">
            <a:off x="1260360" y="3860640"/>
            <a:ext cx="574560" cy="936360"/>
          </a:xfrm>
          <a:prstGeom prst="rect">
            <a:avLst/>
          </a:prstGeom>
          <a:solidFill>
            <a:srgbClr val="ffff00"/>
          </a:solidFill>
          <a:ln w="1260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Рисунок 4" descr=""/>
          <p:cNvPicPr/>
          <p:nvPr/>
        </p:nvPicPr>
        <p:blipFill>
          <a:blip r:embed="rId1"/>
          <a:stretch/>
        </p:blipFill>
        <p:spPr>
          <a:xfrm rot="19363200">
            <a:off x="2230560" y="5071680"/>
            <a:ext cx="583920" cy="9507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"/>
          <p:cNvPicPr/>
          <p:nvPr/>
        </p:nvPicPr>
        <p:blipFill>
          <a:blip r:embed="rId2"/>
          <a:stretch/>
        </p:blipFill>
        <p:spPr>
          <a:xfrm>
            <a:off x="2968560" y="3825720"/>
            <a:ext cx="585720" cy="9511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6" descr=""/>
          <p:cNvPicPr/>
          <p:nvPr/>
        </p:nvPicPr>
        <p:blipFill>
          <a:blip r:embed="rId3"/>
          <a:stretch/>
        </p:blipFill>
        <p:spPr>
          <a:xfrm>
            <a:off x="4203720" y="4681440"/>
            <a:ext cx="585720" cy="9511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7" descr=""/>
          <p:cNvPicPr/>
          <p:nvPr/>
        </p:nvPicPr>
        <p:blipFill>
          <a:blip r:embed="rId4"/>
          <a:stretch/>
        </p:blipFill>
        <p:spPr>
          <a:xfrm>
            <a:off x="5722920" y="3679920"/>
            <a:ext cx="585720" cy="9507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8" descr=""/>
          <p:cNvPicPr/>
          <p:nvPr/>
        </p:nvPicPr>
        <p:blipFill>
          <a:blip r:embed="rId5"/>
          <a:stretch/>
        </p:blipFill>
        <p:spPr>
          <a:xfrm rot="21448800">
            <a:off x="7564320" y="3978000"/>
            <a:ext cx="586080" cy="9507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9" descr=""/>
          <p:cNvPicPr/>
          <p:nvPr/>
        </p:nvPicPr>
        <p:blipFill>
          <a:blip r:embed="rId6"/>
          <a:stretch/>
        </p:blipFill>
        <p:spPr>
          <a:xfrm rot="1605000">
            <a:off x="6946560" y="2179440"/>
            <a:ext cx="584280" cy="9507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10"/>
          <p:cNvSpPr/>
          <p:nvPr/>
        </p:nvSpPr>
        <p:spPr>
          <a:xfrm>
            <a:off x="2968560" y="3645000"/>
            <a:ext cx="9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  <a:ea typeface="Arial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11"/>
          <p:cNvSpPr/>
          <p:nvPr/>
        </p:nvSpPr>
        <p:spPr>
          <a:xfrm flipH="1" rot="1570800">
            <a:off x="6962400" y="1854360"/>
            <a:ext cx="26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  <a:ea typeface="Arial"/>
              </a:rPr>
              <a:t>р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Box 12"/>
          <p:cNvSpPr/>
          <p:nvPr/>
        </p:nvSpPr>
        <p:spPr>
          <a:xfrm>
            <a:off x="7489800" y="3727440"/>
            <a:ext cx="6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Box 13"/>
          <p:cNvSpPr/>
          <p:nvPr/>
        </p:nvSpPr>
        <p:spPr>
          <a:xfrm>
            <a:off x="5680080" y="3486240"/>
            <a:ext cx="9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  <a:ea typeface="Arial"/>
              </a:rPr>
              <a:t>н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Box 14"/>
          <p:cNvSpPr/>
          <p:nvPr/>
        </p:nvSpPr>
        <p:spPr>
          <a:xfrm>
            <a:off x="4149720" y="4437000"/>
            <a:ext cx="63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Рисунок 1" descr=""/>
          <p:cNvPicPr/>
          <p:nvPr/>
        </p:nvPicPr>
        <p:blipFill>
          <a:blip r:embed="rId7"/>
          <a:stretch/>
        </p:blipFill>
        <p:spPr>
          <a:xfrm>
            <a:off x="4541760" y="3541680"/>
            <a:ext cx="584280" cy="9511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" descr=""/>
          <p:cNvPicPr/>
          <p:nvPr/>
        </p:nvPicPr>
        <p:blipFill>
          <a:blip r:embed="rId8"/>
          <a:stretch/>
        </p:blipFill>
        <p:spPr>
          <a:xfrm rot="1115400">
            <a:off x="6506640" y="4776480"/>
            <a:ext cx="586080" cy="9507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4398840" y="3357720"/>
            <a:ext cx="12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  <a:ea typeface="Arial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Box 6"/>
          <p:cNvSpPr/>
          <p:nvPr/>
        </p:nvSpPr>
        <p:spPr>
          <a:xfrm flipV="1" rot="19414800">
            <a:off x="2419920" y="5003640"/>
            <a:ext cx="55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Box 7"/>
          <p:cNvSpPr/>
          <p:nvPr/>
        </p:nvSpPr>
        <p:spPr>
          <a:xfrm rot="1189800">
            <a:off x="6484680" y="4557600"/>
            <a:ext cx="8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Анализ образовательной ситуаци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120"/>
            <a:ext cx="810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тановка на уроке  «просто запомнить» перестает себя оправдывать. Механическое запоминание таких слов  малоэффектив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е дети все реже обращаются к книге. Следовательно, исчезает полезный навык, столь необходимый для формирования грамот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очное развитие памяти и мыш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положительной мотив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изкий уровень развития волевых качест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i="1" lang="ru-RU" sz="4800" spc="-1" strike="noStrike">
                <a:solidFill>
                  <a:srgbClr val="002060"/>
                </a:solidFill>
                <a:latin typeface="Arial"/>
                <a:ea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Цель педагогической                     деятельност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, содействующих повышению орфографической грамотности младших школьников на основе использования в учебном процессе приемов моделирования, необходимых для хранения получаемой информ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овершенствовать орфографический навык учащихся с помощью различных приемов моделирования, направленных на эффективное запоминание изучаемого материа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оздавать условия для самостоятельного творческого поиска  графических и фонетических ассоциаций для запоминания словарных и трудно проверяемых сл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96" name="Рисунок 4" descr=""/>
          <p:cNvPicPr/>
          <p:nvPr/>
        </p:nvPicPr>
        <p:blipFill>
          <a:blip r:embed="rId1"/>
          <a:stretch/>
        </p:blipFill>
        <p:spPr>
          <a:xfrm>
            <a:off x="582480" y="304920"/>
            <a:ext cx="8026560" cy="636408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4600" y="2276640"/>
            <a:ext cx="8032680" cy="37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Эйде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— это методика для развития памяти, мышления и воображения посредством образ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Объект 3" descr=""/>
          <p:cNvPicPr/>
          <p:nvPr/>
        </p:nvPicPr>
        <p:blipFill>
          <a:blip r:embed="rId1"/>
          <a:stretch/>
        </p:blipFill>
        <p:spPr>
          <a:xfrm>
            <a:off x="2482920" y="1836720"/>
            <a:ext cx="4424400" cy="10317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"/>
          <p:cNvPicPr/>
          <p:nvPr/>
        </p:nvPicPr>
        <p:blipFill>
          <a:blip r:embed="rId2"/>
          <a:stretch/>
        </p:blipFill>
        <p:spPr>
          <a:xfrm>
            <a:off x="2424240" y="2868480"/>
            <a:ext cx="757080" cy="12128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"/>
          <p:cNvPicPr/>
          <p:nvPr/>
        </p:nvPicPr>
        <p:blipFill>
          <a:blip r:embed="rId3"/>
          <a:stretch/>
        </p:blipFill>
        <p:spPr>
          <a:xfrm>
            <a:off x="6372360" y="2868480"/>
            <a:ext cx="749160" cy="12128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"/>
          <p:cNvPicPr/>
          <p:nvPr/>
        </p:nvPicPr>
        <p:blipFill>
          <a:blip r:embed="rId4"/>
          <a:stretch/>
        </p:blipFill>
        <p:spPr>
          <a:xfrm>
            <a:off x="299880" y="4265640"/>
            <a:ext cx="3895920" cy="159876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03" name="Рисунок 7" descr=""/>
          <p:cNvPicPr/>
          <p:nvPr/>
        </p:nvPicPr>
        <p:blipFill>
          <a:blip r:embed="rId5"/>
          <a:stretch/>
        </p:blipFill>
        <p:spPr>
          <a:xfrm>
            <a:off x="4941720" y="4224240"/>
            <a:ext cx="3610080" cy="16099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Приемы</a:t>
            </a: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 запоминан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74200" y="1844640"/>
            <a:ext cx="7993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онетические ассоциации (по схожести звучания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    Занимательные четверостиш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лов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пряталось другое слов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афические ассоциации (по схожести изображения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мысловые ассоци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вучание слова в других язык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ление ребус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Фонетические ассоциации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        (по схожести звучания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уть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удачном подборе созвучных ассоциаций к запоминаемому слов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жет сопровождаться ярким рисунком, подкрепляющим обра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б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ь – м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б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ь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б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ёза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б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а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б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ё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ет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тобус сигнали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Би-б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купи билет!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й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Г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г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вня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 в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в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четверостиш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уть – в подборе слов-помощников, но для облегчения запоминания, подсказки оформлены в виде занимательных четверостиш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0180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ила-был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ак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а любила спат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е прозвал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я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юблю я с ней    играть. (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ака –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к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х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ук и морков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ама!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ховый суп нам готовь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0:56:47Z</dcterms:created>
  <dc:creator>Syper</dc:creator>
  <dc:description/>
  <dc:language>en-US</dc:language>
  <cp:lastModifiedBy>Ru Eldo</cp:lastModifiedBy>
  <dcterms:modified xsi:type="dcterms:W3CDTF">2023-10-30T10:23:12Z</dcterms:modified>
  <cp:revision>104</cp:revision>
  <dc:subject/>
  <dc:title>Использование приемов эйдетики в системе Л.В.Занкова для формирования и совершенствования                     орфографического навыка</dc:title>
</cp:coreProperties>
</file>