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9.png" ContentType="image/pn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13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35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F163-3DCC-49A3-9E04-9E9DE1C814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2E1E-D2A1-47FB-9324-27775D9889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FF86-57DF-4819-A632-0895ABF8D6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oltext.ru/assets/images/Catalog/Furnitura/Kleevye-materialy/flizelin/flizelin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holloterm.ru/images/synth_full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0E4B-EE1A-4290-AADB-7C3127C5FD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5460-53B7-4AEF-A1D8-8A9E497CFA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8467-4455-41D0-A106-10CF6DB673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A6D4-2638-48EE-A6AE-84E0CCDBA2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6818-6B5A-4310-82EC-3A6B0143AE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589E-F863-4954-AADC-1032D0833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15F7-C407-4A8C-AAFF-B0E23EA4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8BB0-266A-4801-8A0C-2E425F201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892C-E981-460A-B8EA-CF4C2EE1F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F45A-7685-4C1E-B474-58A2A18F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7099-D847-48D8-9257-7E2AF226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7BD3-69EE-4C3C-A819-6A68FB45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56D0-2006-4A1C-AC36-55E8EF06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72B3-5F27-4CAD-A718-790351F2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855D-0434-4A64-8EF0-3D489651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0DA9-A8F1-43BF-9C54-B3BA41A9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27E9-93D9-4A5D-A3E7-065A037C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A798-DB85-4B55-8226-B8975EB0566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ru.wikipedia.org/wiki/&#1040;&#1085;&#1075;&#1083;&#1080;&#1081;&#1089;&#1082;&#1080;&#1081;_&#1103;&#1079;&#1099;&#1082;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http://3.bp.blogspot.com/-EhjfB3q5fTs/UJuk0Y9uDKI/AAAAAAABOSs/OaB3_fDAPEA/s320/Doug+Knutson_+Cat+on+a+Quilt.jpg"/>
          <p:cNvPicPr/>
          <p:nvPr/>
        </p:nvPicPr>
        <p:blipFill>
          <a:blip r:embed="rId1"/>
          <a:stretch/>
        </p:blipFill>
        <p:spPr>
          <a:xfrm>
            <a:off x="2987640" y="0"/>
            <a:ext cx="61563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459640" cy="41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8000"/>
          </a:bodyPr>
          <a:p>
            <a:pPr indent="0">
              <a:lnSpc>
                <a:spcPct val="80000"/>
              </a:lnSpc>
              <a:spcBef>
                <a:spcPts val="15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100" spc="-1" strike="noStrike">
                <a:solidFill>
                  <a:srgbClr val="ffff00"/>
                </a:solidFill>
                <a:latin typeface="Calibri"/>
              </a:rPr>
              <a:t>ТЕХНОЛОГИЯ</a:t>
            </a:r>
            <a:r>
              <a:rPr b="1" lang="ru-RU" sz="61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100" spc="-1" strike="noStrike">
                <a:solidFill>
                  <a:srgbClr val="0000ff"/>
                </a:solidFill>
                <a:latin typeface="Calibri"/>
              </a:rPr>
              <a:t>       </a:t>
            </a:r>
            <a:r>
              <a:rPr b="1" lang="ru-RU" sz="7100" spc="-1" strike="noStrike">
                <a:solidFill>
                  <a:srgbClr val="0000ff"/>
                </a:solidFill>
                <a:latin typeface="Calibri"/>
              </a:rPr>
              <a:t>лоскутного </a:t>
            </a:r>
            <a:r>
              <a:rPr b="1" lang="ru-RU" sz="71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ru-RU" sz="71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ru-RU" sz="7100" spc="-1" strike="noStrike">
                <a:solidFill>
                  <a:srgbClr val="0000ff"/>
                </a:solidFill>
                <a:latin typeface="Calibri"/>
              </a:rPr>
              <a:t>           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1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1" lang="ru-RU" sz="7100" spc="-1" strike="noStrike">
                <a:solidFill>
                  <a:srgbClr val="0000ff"/>
                </a:solidFill>
                <a:latin typeface="Calibri"/>
              </a:rPr>
              <a:t>шитья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одзаголовок 2"/>
          <p:cNvSpPr/>
          <p:nvPr/>
        </p:nvSpPr>
        <p:spPr>
          <a:xfrm>
            <a:off x="5332320" y="5357880"/>
            <a:ext cx="381168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cc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99ffcc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99ffcc"/>
                </a:solidFill>
                <a:latin typeface="Calibri"/>
              </a:rPr>
              <a:t>             </a:t>
            </a:r>
            <a:r>
              <a:rPr b="1" lang="ru-RU" sz="1800" spc="-1" strike="noStrike">
                <a:solidFill>
                  <a:srgbClr val="99ffcc"/>
                </a:solidFill>
                <a:latin typeface="Calibri"/>
              </a:rPr>
              <a:t>Выполнила:ученица 8 класса Хащенко Веро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cc"/>
                </a:solidFill>
                <a:latin typeface="Calibri"/>
              </a:rPr>
              <a:t>Руководитель: учитель технологии Кожина А.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Дополнительные материалы для изготовления изделий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Group 11"/>
          <p:cNvGrpSpPr/>
          <p:nvPr/>
        </p:nvGrpSpPr>
        <p:grpSpPr>
          <a:xfrm>
            <a:off x="1619280" y="1484280"/>
            <a:ext cx="3311280" cy="2986200"/>
            <a:chOff x="1619280" y="1484280"/>
            <a:chExt cx="3311280" cy="2986200"/>
          </a:xfrm>
        </p:grpSpPr>
        <p:pic>
          <p:nvPicPr>
            <p:cNvPr id="85" name="Picture 4" descr="img00375"/>
            <p:cNvPicPr/>
            <p:nvPr/>
          </p:nvPicPr>
          <p:blipFill>
            <a:blip r:embed="rId1"/>
            <a:stretch/>
          </p:blipFill>
          <p:spPr>
            <a:xfrm>
              <a:off x="2627280" y="1484280"/>
              <a:ext cx="2303280" cy="212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8" descr="flizelin"/>
            <p:cNvPicPr/>
            <p:nvPr/>
          </p:nvPicPr>
          <p:blipFill>
            <a:blip r:embed="rId2"/>
            <a:stretch/>
          </p:blipFill>
          <p:spPr>
            <a:xfrm>
              <a:off x="1619280" y="2565360"/>
              <a:ext cx="1904760" cy="1905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7" name="Picture 10" descr="synth_full"/>
          <p:cNvPicPr/>
          <p:nvPr/>
        </p:nvPicPr>
        <p:blipFill>
          <a:blip r:embed="rId3"/>
          <a:stretch/>
        </p:blipFill>
        <p:spPr>
          <a:xfrm>
            <a:off x="900000" y="4581360"/>
            <a:ext cx="3897360" cy="20973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2"/>
          <p:cNvSpPr/>
          <p:nvPr/>
        </p:nvSpPr>
        <p:spPr>
          <a:xfrm>
            <a:off x="5148360" y="1484280"/>
            <a:ext cx="345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Флизелин, флизофикс – может быть с клеевым покрытием или без него. Применяют для уплотнения верха издел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4932360" y="5084640"/>
            <a:ext cx="356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интепом – применяют для прокладывания внутрь при пошиве одеял и др. издел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Подготовка ткани к рабо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964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Выстирайте, распорите и отутюжьте старые вещ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Новую ткань необходимо декатировать(влажно – тепловая обработка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Шерстяные и шелковые ткани для декатирования заверните во влажное полотенце на 3-4 часа, а затем проутюжьт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Проверьте ткань на прочность окраски, для чего краешек материала прогладьте через влажную ткань. Если на ней останется след, значит краситель непрочный и его нужно закрепить, замочив ткань в воде с добавлением уксу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971640" y="-360"/>
            <a:ext cx="77040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Гармоничное сочетание  контрастных  цве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1" descr="http://xn-----6kcncsgegd4bdlcca8bsg2b.xn--p1ai/images/cvetovoi-krug.jpg"/>
          <p:cNvPicPr/>
          <p:nvPr/>
        </p:nvPicPr>
        <p:blipFill>
          <a:blip r:embed="rId1"/>
          <a:stretch/>
        </p:blipFill>
        <p:spPr>
          <a:xfrm>
            <a:off x="684360" y="692280"/>
            <a:ext cx="7559640" cy="56800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ИЗГ0Т0ВЛЕНИЕ ШАБЛОНА</a:t>
            </a: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395280" y="1076400"/>
            <a:ext cx="4537080" cy="52146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Шаблон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это образец, по которому изготавливаются какие-либо одинаковые изделия (слово немецко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ор в лоскутной технике состоит из нескольких видов многократно повторяющихся элемен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менты одного вида имеют одинаковую форму и размер. Чтобы выкроить элементы, пользуются шаблоном из плотной бумаги или карт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http://g04.a.alicdn.com/kf/HTB1aUvQIXXXXXXvXFXXq6xXFXXX6/Diy-patchwork-Templates-cola-quilt-patchwork-tools-27-set-54-styling-tools-Diy-Cloth-for-Quilting.jpg"/>
          <p:cNvPicPr/>
          <p:nvPr/>
        </p:nvPicPr>
        <p:blipFill>
          <a:blip r:embed="rId1"/>
          <a:stretch/>
        </p:blipFill>
        <p:spPr>
          <a:xfrm>
            <a:off x="5364000" y="1125360"/>
            <a:ext cx="3495960" cy="52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Лоскутное шитье – удовольствие и красота.</a:t>
            </a: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http://mtdata.ru/u23/photo7C96/20237928472-0/original.jpg"/>
          <p:cNvPicPr/>
          <p:nvPr/>
        </p:nvPicPr>
        <p:blipFill>
          <a:blip r:embed="rId1"/>
          <a:stretch/>
        </p:blipFill>
        <p:spPr>
          <a:xfrm>
            <a:off x="2916360" y="501336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http://mediasubs.ru/group/uploads/kl/klub-dlya-lyudej-u-kotoryih-doma-zhivut-koshki/image/1408964676-61583-4487.jpg"/>
          <p:cNvPicPr/>
          <p:nvPr/>
        </p:nvPicPr>
        <p:blipFill>
          <a:blip r:embed="rId2"/>
          <a:stretch/>
        </p:blipFill>
        <p:spPr>
          <a:xfrm>
            <a:off x="179280" y="1052640"/>
            <a:ext cx="2665440" cy="2000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http://img1.liveinternet.ru/images/attach/c/2/73/321/73321133_69377b71g9e933fd4d344690.jpg"/>
          <p:cNvPicPr/>
          <p:nvPr/>
        </p:nvPicPr>
        <p:blipFill>
          <a:blip r:embed="rId3"/>
          <a:stretch/>
        </p:blipFill>
        <p:spPr>
          <a:xfrm>
            <a:off x="6012000" y="836640"/>
            <a:ext cx="2933640" cy="224460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1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http://s44.radikal.ru/i106/1202/f4/6fc4e5c61464.jpg"/>
          <p:cNvPicPr/>
          <p:nvPr/>
        </p:nvPicPr>
        <p:blipFill>
          <a:blip r:embed="rId4"/>
          <a:stretch/>
        </p:blipFill>
        <p:spPr>
          <a:xfrm>
            <a:off x="3059280" y="1125360"/>
            <a:ext cx="2808000" cy="1866960"/>
          </a:xfrm>
          <a:prstGeom prst="rect">
            <a:avLst/>
          </a:prstGeom>
          <a:ln w="0">
            <a:noFill/>
          </a:ln>
        </p:spPr>
      </p:pic>
      <p:pic>
        <p:nvPicPr>
          <p:cNvPr id="104" name="Содержимое 6" descr="imagesCALMPGDG.jpg"/>
          <p:cNvPicPr/>
          <p:nvPr/>
        </p:nvPicPr>
        <p:blipFill>
          <a:blip r:embed="rId5"/>
          <a:stretch/>
        </p:blipFill>
        <p:spPr>
          <a:xfrm>
            <a:off x="6272280" y="3279600"/>
            <a:ext cx="2811240" cy="4668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22"/>
          <p:cNvPicPr/>
          <p:nvPr/>
        </p:nvPicPr>
        <p:blipFill>
          <a:blip r:embed="rId6"/>
          <a:stretch/>
        </p:blipFill>
        <p:spPr>
          <a:xfrm>
            <a:off x="4356000" y="3213000"/>
            <a:ext cx="1765440" cy="1741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http://interior-life.ru/wp-content/uploads/2016/04/59246939_1274297033_1766.jpg"/>
          <p:cNvPicPr/>
          <p:nvPr/>
        </p:nvPicPr>
        <p:blipFill>
          <a:blip r:embed="rId7"/>
          <a:stretch/>
        </p:blipFill>
        <p:spPr>
          <a:xfrm>
            <a:off x="324000" y="3141720"/>
            <a:ext cx="237636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Impact"/>
              </a:rPr>
              <a:t>Лоскутные картин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Группа 6"/>
          <p:cNvGrpSpPr/>
          <p:nvPr/>
        </p:nvGrpSpPr>
        <p:grpSpPr>
          <a:xfrm>
            <a:off x="971640" y="907920"/>
            <a:ext cx="8172360" cy="5950080"/>
            <a:chOff x="971640" y="907920"/>
            <a:chExt cx="8172360" cy="5950080"/>
          </a:xfrm>
        </p:grpSpPr>
        <p:pic>
          <p:nvPicPr>
            <p:cNvPr id="109" name="Picture 4" descr="http://vdohnovenie-online.ru/wp-content/uploads/2015/06/if-54.jpg"/>
            <p:cNvPicPr/>
            <p:nvPr/>
          </p:nvPicPr>
          <p:blipFill>
            <a:blip r:embed="rId1"/>
            <a:stretch/>
          </p:blipFill>
          <p:spPr>
            <a:xfrm>
              <a:off x="4492080" y="907920"/>
              <a:ext cx="3933720" cy="27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2" descr="http://s020.radikal.ru/i715/1301/18/28f40d8627a1.jpg"/>
            <p:cNvPicPr/>
            <p:nvPr/>
          </p:nvPicPr>
          <p:blipFill>
            <a:blip r:embed="rId2"/>
            <a:stretch/>
          </p:blipFill>
          <p:spPr>
            <a:xfrm>
              <a:off x="971640" y="915120"/>
              <a:ext cx="3468600" cy="255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6" descr="http://mtdata.ru/u25/photo3999/20013169674-0/original.jpg"/>
            <p:cNvPicPr/>
            <p:nvPr/>
          </p:nvPicPr>
          <p:blipFill>
            <a:blip r:embed="rId3"/>
            <a:stretch/>
          </p:blipFill>
          <p:spPr>
            <a:xfrm>
              <a:off x="1192320" y="3795840"/>
              <a:ext cx="3689640" cy="30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8" descr="http://mtdata.ru/u25/photo23A6/20282784832-0/original.jpg"/>
            <p:cNvPicPr/>
            <p:nvPr/>
          </p:nvPicPr>
          <p:blipFill>
            <a:blip r:embed="rId4"/>
            <a:stretch/>
          </p:blipFill>
          <p:spPr>
            <a:xfrm>
              <a:off x="4809600" y="3948480"/>
              <a:ext cx="4334400" cy="2558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Как работают профессионалы в техни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                           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лоскутного шить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Группа 5"/>
          <p:cNvGrpSpPr/>
          <p:nvPr/>
        </p:nvGrpSpPr>
        <p:grpSpPr>
          <a:xfrm>
            <a:off x="1187280" y="1197000"/>
            <a:ext cx="7417080" cy="4897440"/>
            <a:chOff x="1187280" y="1197000"/>
            <a:chExt cx="7417080" cy="4897440"/>
          </a:xfrm>
        </p:grpSpPr>
        <p:pic>
          <p:nvPicPr>
            <p:cNvPr id="115" name="Picture 6" descr="http://quiltstudio.ru/wp-content/uploads/2008/05/575ca82ef765.jpg"/>
            <p:cNvPicPr/>
            <p:nvPr/>
          </p:nvPicPr>
          <p:blipFill>
            <a:blip r:embed="rId1"/>
            <a:stretch/>
          </p:blipFill>
          <p:spPr>
            <a:xfrm>
              <a:off x="3960000" y="1510920"/>
              <a:ext cx="4644360" cy="33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" descr="a00244fbc584"/>
            <p:cNvPicPr/>
            <p:nvPr/>
          </p:nvPicPr>
          <p:blipFill>
            <a:blip r:embed="rId2"/>
            <a:stretch/>
          </p:blipFill>
          <p:spPr>
            <a:xfrm>
              <a:off x="1251000" y="4083840"/>
              <a:ext cx="3095640" cy="201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4" descr="http://patch-island.s3.amazonaws.com/site/production/172f9a3e-2576-11df-94c4-1231390a31a3/old/article_259_pic6.jpg"/>
            <p:cNvPicPr/>
            <p:nvPr/>
          </p:nvPicPr>
          <p:blipFill>
            <a:blip r:embed="rId3"/>
            <a:stretch/>
          </p:blipFill>
          <p:spPr>
            <a:xfrm>
              <a:off x="1187280" y="1197000"/>
              <a:ext cx="2902320" cy="2755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1" descr="6e6c180a5cec9533c6de9b8f4133a76a"/>
          <p:cNvPicPr/>
          <p:nvPr/>
        </p:nvPicPr>
        <p:blipFill>
          <a:blip r:embed="rId1"/>
          <a:stretch/>
        </p:blipFill>
        <p:spPr>
          <a:xfrm>
            <a:off x="2411280" y="981000"/>
            <a:ext cx="4392720" cy="426564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52" name="Rectangle 9"/>
          <p:cNvSpPr/>
          <p:nvPr/>
        </p:nvSpPr>
        <p:spPr>
          <a:xfrm>
            <a:off x="2486520" y="544428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деяло «Солнечные часы», Англия 179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1979640" y="5877000"/>
            <a:ext cx="6192720" cy="642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эчворк, от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англ.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patchwork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— «одеяло, покрывало, изделие из разноцветных лоскутов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ИСТОРИЯ ЛОСКУТНОГО ШИТЬ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изготовить творческую работу в технике лоскутного шитья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ч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робнее познакомиться с историей появления лоскутного шить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репить знания техники изготовления творческой работы из лоскутк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ширить свой кругозо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ипотез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«Если лоскутное шитье является средством развития воображения и творчества человека, то может способствовать сохранению своих национальных традиций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3"/>
          <p:cNvSpPr/>
          <p:nvPr/>
        </p:nvSpPr>
        <p:spPr>
          <a:xfrm>
            <a:off x="2124000" y="26028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стория лоскутного шитья в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4284720" y="765000"/>
            <a:ext cx="4319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шей стране упоминания о данной технике встречаются с XIX века с поступлением в продажу заморского дорогостоящего ситца. Своего расцвета это искусство достигло в конце XIX в., что связано началом развития производства ситца машинным способом на мануфактурах и повсеместным распространением недорогих тканей из хлопка с набивным рисунком. Таким образом, в нашей стране вся история лоскутного шитья кратко сводится к появлению промышленного производства в текстильной сф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Картинка 8 из 25"/>
          <p:cNvPicPr/>
          <p:nvPr/>
        </p:nvPicPr>
        <p:blipFill>
          <a:blip r:embed="rId1"/>
          <a:stretch/>
        </p:blipFill>
        <p:spPr>
          <a:xfrm>
            <a:off x="2050920" y="1773360"/>
            <a:ext cx="18194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036000" cy="14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Разные названия одного      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                       творчества.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00000" y="2174760"/>
            <a:ext cx="77868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Calibri"/>
              </a:rPr>
              <a:t>Пэчворк</a:t>
            </a: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 - в переводе с английского «лоскутная работа»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Calibri"/>
              </a:rPr>
              <a:t>Квилт</a:t>
            </a: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  - стёганое одеяло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Calibri"/>
              </a:rPr>
              <a:t>Текстильный колла</a:t>
            </a: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ж -   в переводе с французского – наклеивание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Calibri"/>
              </a:rPr>
              <a:t>Текстильная мозаика </a:t>
            </a: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–орнамент, выполненный из отдельных пригнанных друг к другу лоскутков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C:\Users\Татьяна\Documents\Мои результаты сканирования\2010-05 (май)\сканирование0048.jpg"/>
          <p:cNvPicPr/>
          <p:nvPr/>
        </p:nvPicPr>
        <p:blipFill>
          <a:blip r:embed="rId1"/>
          <a:stretch/>
        </p:blipFill>
        <p:spPr>
          <a:xfrm>
            <a:off x="900000" y="907920"/>
            <a:ext cx="2951280" cy="2571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000320" y="836280"/>
            <a:ext cx="514332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Рабочее место при выполнении лоскутного шитья делится на 3 зоны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:</a:t>
            </a: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Стол с инструментами, приспособлениями, материалами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- Швейная машина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- Гладильная дос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Удобно когда инструменты и приспособления располагаются по правую руку от работающего, а материалы – по леву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Инструменты следует хранить в рабочей коробоч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Для шаблонов и рисунков нужна пап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Во время работы свет должен падать с левой стороны или сперед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Во время работы нужно сидеть прямо , на всей поверхности стула, слегка наклонив корпус и голову вперед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Изделие должно находиться на расстоянии 30 – 40 см. от глаз работающего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11" descr="Рисунок10"/>
          <p:cNvPicPr/>
          <p:nvPr/>
        </p:nvPicPr>
        <p:blipFill>
          <a:blip r:embed="rId2"/>
          <a:stretch/>
        </p:blipFill>
        <p:spPr>
          <a:xfrm>
            <a:off x="755640" y="3860640"/>
            <a:ext cx="2955960" cy="2149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8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Группа 7"/>
          <p:cNvGrpSpPr/>
          <p:nvPr/>
        </p:nvGrpSpPr>
        <p:grpSpPr>
          <a:xfrm>
            <a:off x="1403280" y="404640"/>
            <a:ext cx="7740720" cy="5445360"/>
            <a:chOff x="1403280" y="404640"/>
            <a:chExt cx="7740720" cy="5445360"/>
          </a:xfrm>
        </p:grpSpPr>
        <p:pic>
          <p:nvPicPr>
            <p:cNvPr id="68" name="Picture 20" descr="http://uzluga.ru/potrb/%D0%9B%D0%BE%D1%81%D0%BA%D1%83%D1%82%D0%BD%D0%BE%D0%B5+%D1%88%D0%B8%D1%82%D1%8C%D0%B5+%D0%B8%D0%B7%D0%B4%D0%B0%D0%B2%D0%BD%D0%B0+%D0%B8%D0%B7%D0%B2%D0%B5%D1%81%D1%82%D0%BD%D0%BE+%D0%BC%D0%BD%D0%BE%D0%B3%D0%B8%D0%BC+%D0%BD%D0%B0%D1%80%D0%BE%D0%B4%D0%B0%D0%BC+%D0%B8+%D1%83%D1%85%D0%BE%D0%B4%D0%B8%D1%82+%D0%BA%D0%BE%D1%80%D0%BD%D1%8F%D0%BC%D0%B8+%D0%B4%D0%B0%D0%BB%D0%B5%D0%BA%D0%BE+%D0%B2+%D0%B4%D1%80%D0%B5%D0%B2%D0%BD%D0%BE%D1%81%D1%82%D1%8Cb/img4.jpg"/>
            <p:cNvPicPr/>
            <p:nvPr/>
          </p:nvPicPr>
          <p:blipFill>
            <a:blip r:embed="rId1"/>
            <a:stretch/>
          </p:blipFill>
          <p:spPr>
            <a:xfrm>
              <a:off x="1403280" y="404640"/>
              <a:ext cx="6395400" cy="531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12" descr="C:\Users\Татьяна\Documents\Мои результаты сканирования\2010-04 (апр)\сканирование0011.jpg"/>
            <p:cNvPicPr/>
            <p:nvPr/>
          </p:nvPicPr>
          <p:blipFill>
            <a:blip r:embed="rId2"/>
            <a:stretch/>
          </p:blipFill>
          <p:spPr>
            <a:xfrm>
              <a:off x="7167960" y="1014840"/>
              <a:ext cx="1770840" cy="236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17" descr="C:\Users\Татьяна\Documents\Мои результаты сканирования\2010-04 (апр)\сканирование0011.jpg"/>
            <p:cNvPicPr/>
            <p:nvPr/>
          </p:nvPicPr>
          <p:blipFill>
            <a:blip r:embed="rId3"/>
            <a:stretch/>
          </p:blipFill>
          <p:spPr>
            <a:xfrm>
              <a:off x="7391520" y="3596040"/>
              <a:ext cx="1752480" cy="22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6" descr="http://uveto.ru/catalog/images/E00188/01.jpg"/>
            <p:cNvPicPr/>
            <p:nvPr/>
          </p:nvPicPr>
          <p:blipFill>
            <a:blip r:embed="rId4">
              <a:lum contrast="6000"/>
            </a:blip>
            <a:stretch/>
          </p:blipFill>
          <p:spPr>
            <a:xfrm>
              <a:off x="6388920" y="4742280"/>
              <a:ext cx="1418760" cy="918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https://ds03.infourok.ru/uploads/ex/08fd/0001688c-0b0db2cc/640/img8.jpg"/>
          <p:cNvPicPr/>
          <p:nvPr/>
        </p:nvPicPr>
        <p:blipFill>
          <a:blip r:embed="rId1"/>
          <a:stretch/>
        </p:blipFill>
        <p:spPr>
          <a:xfrm>
            <a:off x="0" y="14130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73" name="Заголовок 1" descr=""/>
          <p:cNvPicPr/>
          <p:nvPr/>
        </p:nvPicPr>
        <p:blipFill>
          <a:blip r:embed="rId2"/>
          <a:stretch/>
        </p:blipFill>
        <p:spPr>
          <a:xfrm>
            <a:off x="317520" y="-30240"/>
            <a:ext cx="8240760" cy="1389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6012000" y="1773000"/>
            <a:ext cx="3132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глы и булавки хранить в игольниц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 берите иглу в рот, не играйте с игл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талкивайте иглу в ткань с наперстк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 работе следи за пальцами своей ру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 играйте ножницами, не подносите их к лиц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спользуйте ножницы по назначени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0" descr="http://ic.pics.livejournal.com/anne_d_autriche/12365869/804307/804307_600.jpg"/>
          <p:cNvPicPr/>
          <p:nvPr/>
        </p:nvPicPr>
        <p:blipFill>
          <a:blip r:embed="rId1"/>
          <a:stretch/>
        </p:blipFill>
        <p:spPr>
          <a:xfrm>
            <a:off x="7093080" y="2421000"/>
            <a:ext cx="1869840" cy="2087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8" descr="https://im2-tub-ru.yandex.net/i?id=0f9156d17f130b699f73938b919fd56e&amp;n=33&amp;h=215&amp;w=215"/>
          <p:cNvPicPr/>
          <p:nvPr/>
        </p:nvPicPr>
        <p:blipFill>
          <a:blip r:embed="rId2"/>
          <a:stretch/>
        </p:blipFill>
        <p:spPr>
          <a:xfrm>
            <a:off x="6875640" y="189000"/>
            <a:ext cx="2128680" cy="2128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2" descr="https://im1-tub-ru.yandex.net/i?id=0ad52929782f4f1452e50db35c27eec0&amp;n=33&amp;h=215&amp;w=250"/>
          <p:cNvPicPr/>
          <p:nvPr/>
        </p:nvPicPr>
        <p:blipFill>
          <a:blip r:embed="rId3"/>
          <a:stretch/>
        </p:blipFill>
        <p:spPr>
          <a:xfrm>
            <a:off x="395280" y="1052640"/>
            <a:ext cx="1357200" cy="1166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8" descr="http://g03.a.alicdn.com/kf/HTB1GMcxHVXXXXX.XXXXq6xXFXXXB/free-Shipping-60piece-lot-MIX-Color-Cotton-font-b-Quilting-b-font-font-b-Fabric-b.jpg"/>
          <p:cNvPicPr/>
          <p:nvPr/>
        </p:nvPicPr>
        <p:blipFill>
          <a:blip r:embed="rId4"/>
          <a:stretch/>
        </p:blipFill>
        <p:spPr>
          <a:xfrm>
            <a:off x="1692360" y="0"/>
            <a:ext cx="2338200" cy="2340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6" descr="https://prv3.lori-images.net/nabor-dlya-loskutnogo-shitya-0002353743-preview.jpg"/>
          <p:cNvPicPr/>
          <p:nvPr/>
        </p:nvPicPr>
        <p:blipFill>
          <a:blip r:embed="rId5"/>
          <a:stretch/>
        </p:blipFill>
        <p:spPr>
          <a:xfrm>
            <a:off x="4140360" y="0"/>
            <a:ext cx="2576520" cy="20606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916000" y="1844280"/>
            <a:ext cx="34290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Calibri"/>
              </a:rPr>
              <a:t>Материалы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7"/>
          <p:cNvSpPr/>
          <p:nvPr/>
        </p:nvSpPr>
        <p:spPr>
          <a:xfrm>
            <a:off x="324000" y="2852640"/>
            <a:ext cx="7019640" cy="38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Для основы лучше использовать плотную хлопчатобумажную ткань, например, бортовку или мешкови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Большинство традиционных лоскутных работ выполнено из набивных ткан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Начинающим рекомендуется использовать 100% хлопчатобумажную ткань средней плотности. С ней легко работать и она не так быстро изнашивается, как неплотная ткань. В дальнейшем можно использовать различные по текстуре ткани, сочетая из между собой и создавая тем самым потрясающие изделия. </a:t>
            </a:r>
            <a:br>
              <a:rPr sz="2400"/>
            </a:b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4:41:36Z</dcterms:created>
  <dc:creator>Татьяна</dc:creator>
  <dc:description/>
  <dc:language>en-US</dc:language>
  <cp:lastModifiedBy>User</cp:lastModifiedBy>
  <dcterms:modified xsi:type="dcterms:W3CDTF">2021-04-27T03:44:13Z</dcterms:modified>
  <cp:revision>134</cp:revision>
  <dc:subject/>
  <dc:title>Слайд 1</dc:title>
</cp:coreProperties>
</file>