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BC28-EAB8-4B51-A9FF-D1C5159B3559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000F1-E68C-48F9-81E8-81923471FB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15F68-E120-4B4D-B6F8-9D72762028CF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4FB2B-A14A-41AC-916A-3A7F47B120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31537-C87F-4B7D-9085-7849F64328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4C78C-BC11-43E3-8028-5EE1CCBF7BF6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4D07F-E5ED-4D58-AAB1-1778C47A7B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0D77D-B2D0-41F6-9BB6-A7F448AA12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32128-758E-4257-ABC3-CBD24DD2B3BA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69A86-76B3-44E1-AAE1-04E6C7AFAD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49D70-9669-40AA-8F0A-305BDA895380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27AC5-4CA7-43E3-BCE4-5FCC828D25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DE96A-64E3-470C-B9A6-84D296E61085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8B084-0F61-43CA-928D-13FC4172CB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0F75B-2113-4B1E-A2F3-5033843A5A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9B445-B970-46A5-AF1D-5C19CF92F2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A8772-F1CB-4FB7-80A9-5558E64ACF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AEE2B-ACC4-4C11-AF43-DBE4B0DC941C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9EC91-4229-4736-A978-C01C5B29CB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38ABD-411D-4F20-B4B3-30F8C81CD9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0360" y="2709720"/>
            <a:ext cx="828036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b80047"/>
                </a:solidFill>
                <a:latin typeface="Arial"/>
                <a:ea typeface="Arial"/>
              </a:rPr>
              <a:t>Речь без сквернословия </a:t>
            </a:r>
            <a:r>
              <a:rPr b="0" lang="ru-RU" sz="7200" spc="-1" strike="noStrike">
                <a:solidFill>
                  <a:srgbClr val="280099"/>
                </a:solidFill>
                <a:latin typeface="Arial"/>
                <a:ea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9640" y="836640"/>
            <a:ext cx="80647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20e18"/>
                </a:solidFill>
                <a:latin typeface="Times New Roman"/>
                <a:ea typeface="MS Mincho"/>
              </a:rPr>
              <a:t>Медицинский</a:t>
            </a:r>
            <a:br>
              <a:rPr sz="4400"/>
            </a:br>
            <a:r>
              <a:rPr b="1" lang="ru-RU" sz="4400" spc="-1" strike="noStrike">
                <a:solidFill>
                  <a:srgbClr val="720e18"/>
                </a:solidFill>
                <a:latin typeface="Times New Roman"/>
                <a:ea typeface="MS Mincho"/>
              </a:rPr>
              <a:t> диагноз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MS Mincho"/>
              </a:rPr>
              <a:t>«копролалия» </a:t>
            </a:r>
            <a:r>
              <a:rPr b="1" lang="ru-RU" sz="4400" spc="-1" strike="noStrike">
                <a:solidFill>
                  <a:srgbClr val="191966"/>
                </a:solidFill>
                <a:latin typeface="Times New Roman"/>
                <a:ea typeface="MS Mincho"/>
              </a:rPr>
              <a:t>- это болезненное, иногда непреодолимое влечение к циничной и нецензурной брани безо всякого повод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737320" y="40464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26920" y="915840"/>
            <a:ext cx="71298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179280"/>
            <a:ext cx="86806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0047"/>
                </a:solidFill>
                <a:latin typeface="Times New Roman"/>
                <a:ea typeface="DejaVu Sans"/>
              </a:rPr>
              <a:t>Употребление мата - Зависимость (как алкоголь, наркотики)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5" name=""/>
          <p:cNvSpPr/>
          <p:nvPr/>
        </p:nvSpPr>
        <p:spPr>
          <a:xfrm>
            <a:off x="1733400" y="1440000"/>
            <a:ext cx="74106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DejaVu Sans"/>
              </a:rPr>
              <a:t>Стадии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3660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DejaVu Sans"/>
              </a:rPr>
              <a:t>1.Человек впервые слышит нецензурное слово, испытывает отвращение, брезгливость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3660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DejaVu Sans"/>
              </a:rPr>
              <a:t>2.Человек впервые употребляет мат за компанию, для эмоциональной разрядки, для смелости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3660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DejaVu Sans"/>
              </a:rPr>
              <a:t>3.Человек употребляет мат, не замечая этого или не может вообще изъясняться без мата, забывает другие слова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9280" y="179280"/>
            <a:ext cx="665964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0099"/>
                </a:solidFill>
                <a:latin typeface="Arial"/>
              </a:rPr>
              <a:t>Составить </a:t>
            </a:r>
            <a:r>
              <a:rPr b="1" lang="ru-RU" sz="3600" spc="-1" strike="noStrike" u="sng">
                <a:solidFill>
                  <a:srgbClr val="280099"/>
                </a:solidFill>
                <a:uFillTx/>
                <a:latin typeface="Arial"/>
              </a:rPr>
              <a:t>антирекламу </a:t>
            </a:r>
            <a:r>
              <a:rPr b="1" lang="ru-RU" sz="3600" spc="-1" strike="noStrike">
                <a:solidFill>
                  <a:srgbClr val="280099"/>
                </a:solidFill>
                <a:latin typeface="Arial"/>
              </a:rPr>
              <a:t>мата: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12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Придумать лозунг, рекламный слоган,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который побуждает отказаться от мата в своей речи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1280"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0099"/>
                </a:solidFill>
                <a:latin typeface="Arial"/>
              </a:rPr>
              <a:t>(Рекламный слоган — это яркое, эмоциональное высказывание, которое побуждает к действию или отказу от какого-либо действия)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380360" y="4603680"/>
            <a:ext cx="1365120" cy="1695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659640" y="179280"/>
            <a:ext cx="2116080" cy="1860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659640" y="2398680"/>
            <a:ext cx="190476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26920" y="915840"/>
            <a:ext cx="71298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"/>
          <p:cNvSpPr/>
          <p:nvPr/>
        </p:nvSpPr>
        <p:spPr>
          <a:xfrm>
            <a:off x="720720" y="179280"/>
            <a:ext cx="86803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99284c"/>
                </a:solidFill>
                <a:latin typeface="Times New Roman"/>
                <a:ea typeface="DejaVu Sans"/>
              </a:rPr>
              <a:t>Примерные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99284c"/>
                </a:solidFill>
                <a:latin typeface="Times New Roman"/>
                <a:ea typeface="DejaVu Sans"/>
              </a:rPr>
              <a:t>варианты антирекламы мата: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"/>
          <p:cNvSpPr/>
          <p:nvPr/>
        </p:nvSpPr>
        <p:spPr>
          <a:xfrm>
            <a:off x="1800360" y="1619280"/>
            <a:ext cx="7343640" cy="49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cc"/>
                </a:solidFill>
                <a:latin typeface="Arial"/>
                <a:ea typeface="DejaVu Sans"/>
              </a:rPr>
              <a:t>Кто использует мат, тот умишком не богат!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36600"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36600"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ae00"/>
                </a:solidFill>
                <a:latin typeface="Arial"/>
                <a:ea typeface="DejaVu Sans"/>
              </a:rPr>
              <a:t>Мат — дорога в ад!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36600"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36600"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5000b"/>
                </a:solidFill>
                <a:latin typeface="Arial"/>
                <a:ea typeface="DejaVu Sans"/>
              </a:rPr>
              <a:t>Мат — это ядов концентрат!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36600"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36600"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DejaVu Sans"/>
              </a:rPr>
              <a:t>Хочешь успехов в жизни добиться — книги читай, прекращай материться!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60360" y="2021040"/>
            <a:ext cx="864072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  <a:ea typeface="DejaVu Sans"/>
              </a:rPr>
              <a:t>Сквернословие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DejaVu Sans"/>
              </a:rPr>
              <a:t> (мат)— это речь, наполненная неприличными выражениями, непристойными словами, бранью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915840"/>
            <a:ext cx="71298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1773360"/>
            <a:ext cx="748836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"/>
          <p:cNvSpPr/>
          <p:nvPr/>
        </p:nvSpPr>
        <p:spPr>
          <a:xfrm>
            <a:off x="1440000" y="393840"/>
            <a:ext cx="7920000" cy="33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280099"/>
                </a:solidFill>
                <a:latin typeface="Arial"/>
                <a:ea typeface="DejaVu Sans"/>
              </a:rPr>
              <a:t>Сквернословие, мат</a:t>
            </a:r>
            <a:br>
              <a:rPr sz="5400"/>
            </a:br>
            <a:r>
              <a:rPr b="1" lang="ru-RU" sz="5400" spc="-1" strike="noStrike">
                <a:solidFill>
                  <a:srgbClr val="280099"/>
                </a:solidFill>
                <a:latin typeface="Arial"/>
                <a:ea typeface="DejaVu Sans"/>
              </a:rPr>
              <a:t>(как и хамство) — оружие </a:t>
            </a:r>
            <a:r>
              <a:rPr b="1" lang="ru-RU" sz="5400" spc="-1" strike="noStrike" u="sng">
                <a:solidFill>
                  <a:srgbClr val="280099"/>
                </a:solidFill>
                <a:uFillTx/>
                <a:latin typeface="Arial"/>
                <a:ea typeface="DejaVu Sans"/>
              </a:rPr>
              <a:t>неуверенных</a:t>
            </a:r>
            <a:r>
              <a:rPr b="1" lang="ru-RU" sz="5400" spc="-1" strike="noStrike">
                <a:solidFill>
                  <a:srgbClr val="280099"/>
                </a:solidFill>
                <a:latin typeface="Arial"/>
                <a:ea typeface="DejaVu Sans"/>
              </a:rPr>
              <a:t> в себе людей.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79640" y="4140360"/>
            <a:ext cx="1979640" cy="1968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959280" y="485928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020000" y="4140360"/>
            <a:ext cx="1439640" cy="21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89000" y="1440000"/>
            <a:ext cx="881064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  <a:ea typeface="DejaVu Sans"/>
              </a:rPr>
              <a:t>Сквернослови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DejaVu Sans"/>
              </a:rPr>
              <a:t> - это язык ведьм и колдунов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DejaVu Sans"/>
              </a:rPr>
              <a:t>Матные слова были включены в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  <a:ea typeface="DejaVu Sans"/>
              </a:rPr>
              <a:t>заклинания,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DejaVu Sans"/>
              </a:rPr>
              <a:t>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  <a:ea typeface="DejaVu Sans"/>
              </a:rPr>
              <a:t>наговоры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DejaVu Sans"/>
              </a:rPr>
              <a:t> и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  <a:ea typeface="DejaVu Sans"/>
              </a:rPr>
              <a:t>проклять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DejaVu San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74800" y="4176720"/>
            <a:ext cx="161928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419640" y="4500720"/>
            <a:ext cx="2339640" cy="217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840360" y="3959280"/>
            <a:ext cx="161928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9280" y="819000"/>
            <a:ext cx="86407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DejaVu Sans"/>
              </a:rPr>
              <a:t>Сквернословие(мат)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DejaVu Sans"/>
              </a:rPr>
              <a:t> Притягивание зла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DejaVu Sans"/>
              </a:rPr>
              <a:t>и неприятностей 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DejaVu Sans"/>
              </a:rPr>
              <a:t>Проблемы с окружающими, со своим здоровьем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6" name=""/>
          <p:cNvSpPr/>
          <p:nvPr/>
        </p:nvSpPr>
        <p:spPr>
          <a:xfrm>
            <a:off x="4319640" y="1979640"/>
            <a:ext cx="1440" cy="5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7" name=""/>
          <p:cNvSpPr/>
          <p:nvPr/>
        </p:nvSpPr>
        <p:spPr>
          <a:xfrm>
            <a:off x="4319640" y="3780000"/>
            <a:ext cx="1440" cy="5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914400"/>
            <a:ext cx="71280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ат используется для: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9" name=""/>
          <p:cNvSpPr/>
          <p:nvPr/>
        </p:nvSpPr>
        <p:spPr>
          <a:xfrm>
            <a:off x="793800" y="1800360"/>
            <a:ext cx="78469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Повышения эмоциональности речи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Эмоциональной разрядки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Оскорбления, унижения того, с кем говоришь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Демонстрации агрессии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Демонстрации отсутствия страха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Демонстрации «свободы», пренебрежения запретами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Демонстрации принадлежности к «своим»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915840"/>
            <a:ext cx="71298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1" name=""/>
          <p:cNvSpPr/>
          <p:nvPr/>
        </p:nvSpPr>
        <p:spPr>
          <a:xfrm>
            <a:off x="1260360" y="360360"/>
            <a:ext cx="809964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0000ff"/>
                </a:solidFill>
                <a:uFillTx/>
                <a:latin typeface="Arial"/>
                <a:ea typeface="DejaVu Sans"/>
              </a:rPr>
              <a:t>Сквернословие (мат)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  <a:ea typeface="DejaVu Sans"/>
              </a:rPr>
              <a:t> отражает </a:t>
            </a:r>
            <a:r>
              <a:rPr b="1" lang="ru-RU" sz="4800" spc="-1" strike="noStrike" u="sng">
                <a:solidFill>
                  <a:srgbClr val="0000ff"/>
                </a:solidFill>
                <a:uFillTx/>
                <a:latin typeface="Arial"/>
                <a:ea typeface="DejaVu Sans"/>
              </a:rPr>
              <a:t>бедность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  <a:ea typeface="DejaVu Sans"/>
              </a:rPr>
              <a:t> словарного запаса говорящего, </a:t>
            </a:r>
            <a:r>
              <a:rPr b="1" lang="ru-RU" sz="4800" spc="-1" strike="noStrike" u="sng">
                <a:solidFill>
                  <a:srgbClr val="0000ff"/>
                </a:solidFill>
                <a:uFillTx/>
                <a:latin typeface="Arial"/>
                <a:ea typeface="DejaVu Sans"/>
              </a:rPr>
              <a:t>неумение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  <a:ea typeface="DejaVu Sans"/>
              </a:rPr>
              <a:t> выразить словами радость или гнев.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9280" y="819000"/>
            <a:ext cx="86407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3" name=""/>
          <p:cNvSpPr/>
          <p:nvPr/>
        </p:nvSpPr>
        <p:spPr>
          <a:xfrm>
            <a:off x="615960" y="2114640"/>
            <a:ext cx="793764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Гнилые слова — от гнилого сердца.</a:t>
            </a:r>
            <a:br>
              <a:rPr sz="6000"/>
            </a:br>
            <a:br>
              <a:rPr sz="6000"/>
            </a:br>
            <a:r>
              <a:rPr b="1" lang="ru-RU" sz="5400" spc="-1" strike="noStrike">
                <a:solidFill>
                  <a:srgbClr val="b80047"/>
                </a:solidFill>
                <a:latin typeface="Times New Roman"/>
                <a:ea typeface="DejaVu Sans"/>
              </a:rPr>
              <a:t>(Русская пословица)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82800" y="0"/>
            <a:ext cx="58561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00b8"/>
                </a:solidFill>
                <a:latin typeface="Arial"/>
              </a:rPr>
              <a:t>Научные исследования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873000"/>
            <a:ext cx="54007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обрые слова, молитва, классическая музыка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6" name=""/>
          <p:cNvSpPr/>
          <p:nvPr/>
        </p:nvSpPr>
        <p:spPr>
          <a:xfrm>
            <a:off x="5040360" y="900000"/>
            <a:ext cx="3654360" cy="16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700b8"/>
                </a:solidFill>
                <a:latin typeface="Arial"/>
              </a:rPr>
              <a:t>Мат, похабщина, сквернословие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9280" y="1800360"/>
            <a:ext cx="3046680" cy="1985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260360" y="3780000"/>
            <a:ext cx="2778120" cy="2904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580000" y="1800360"/>
            <a:ext cx="3419640" cy="2340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4525920" y="3959280"/>
            <a:ext cx="3033720" cy="270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3:49:32Z</dcterms:created>
  <dc:creator>Admin</dc:creator>
  <dc:description/>
  <dc:language>en-US</dc:language>
  <cp:lastModifiedBy>Пользователь</cp:lastModifiedBy>
  <dcterms:modified xsi:type="dcterms:W3CDTF">2016-12-09T11:34:30Z</dcterms:modified>
  <cp:revision>3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