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8547-9790-4F6D-97F8-3408A5389C0B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BE988-8DD5-4766-B0B0-1325B4AB03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6D65F-D401-4DF9-8D08-A5111C3F38D6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B06ED-B565-4965-8B4B-93671D88BC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09B3D-C87A-4028-9B42-4571D1FC4B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DBDE8-BC5E-43B6-8683-B879B8F5AF45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2F2DC-B200-4558-A25C-DD37AE510E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3B1F7-0799-4938-AC27-EF2D073851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A8B9C-147D-48C6-96A5-E0A49149CCB2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412CE-7168-49C9-BFA3-CB338C5D28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73E04-B5EF-4ABF-9ED7-EA9B410329E3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FA574-81C5-4B3E-BF5E-2380C87974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C69F9-D1FA-45AA-ABEA-48EE9ABA9ABE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1A6FB-4685-4A78-ACF2-10DD0D51CB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F59B0-271A-427B-A7E3-363B290C09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608DF-3703-453C-A067-A62B1CCB9F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97867-98BB-4E83-A082-7E6A040FF0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60A23-5FF3-4B9C-BF3A-60748BA3EEA0}" type="slidenum">
              <a:rPr b="0" lang="en-US" sz="1200" spc="-1" strike="noStrike">
                <a:solidFill>
                  <a:srgbClr val="4d4d4d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37E68-6A0B-4689-83E3-945549E7DA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0483F-74FF-4241-8200-8830618DFE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0360" y="2709720"/>
            <a:ext cx="828036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lnSpc>
                <a:spcPct val="8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b80047"/>
                </a:solidFill>
                <a:latin typeface="Arial"/>
                <a:ea typeface="Arial"/>
              </a:rPr>
              <a:t>Речь без сквернословия </a:t>
            </a:r>
            <a:r>
              <a:rPr b="0" lang="ru-RU" sz="7200" spc="-1" strike="noStrike">
                <a:solidFill>
                  <a:srgbClr val="280099"/>
                </a:solidFill>
                <a:latin typeface="Arial"/>
                <a:ea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836640"/>
            <a:ext cx="8064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20e18"/>
                </a:solidFill>
                <a:latin typeface="Times New Roman"/>
                <a:ea typeface="MS Mincho"/>
              </a:rPr>
              <a:t>Медицинский</a:t>
            </a:r>
            <a:br>
              <a:rPr sz="4400"/>
            </a:br>
            <a:r>
              <a:rPr b="1" lang="ru-RU" sz="4400" spc="-1" strike="noStrike">
                <a:solidFill>
                  <a:srgbClr val="720e18"/>
                </a:solidFill>
                <a:latin typeface="Times New Roman"/>
                <a:ea typeface="MS Mincho"/>
              </a:rPr>
              <a:t> диагноз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MS Mincho"/>
              </a:rPr>
              <a:t>«копролалия» </a:t>
            </a:r>
            <a:r>
              <a:rPr b="1" lang="ru-RU" sz="4400" spc="-1" strike="noStrike">
                <a:solidFill>
                  <a:srgbClr val="191966"/>
                </a:solidFill>
                <a:latin typeface="Times New Roman"/>
                <a:ea typeface="MS Mincho"/>
              </a:rPr>
              <a:t>- это болезненное, иногда непреодолимое влечение к циничной и нецензурной брани безо всякого повода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737320" y="40464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6920" y="915840"/>
            <a:ext cx="71298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179280"/>
            <a:ext cx="86806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80047"/>
                </a:solidFill>
                <a:latin typeface="Times New Roman"/>
                <a:ea typeface="DejaVu Sans"/>
              </a:rPr>
              <a:t>Употребление мата - Зависимость (как алкоголь, наркотики)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5" name=""/>
          <p:cNvSpPr/>
          <p:nvPr/>
        </p:nvSpPr>
        <p:spPr>
          <a:xfrm>
            <a:off x="1733400" y="1440000"/>
            <a:ext cx="74106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DejaVu Sans"/>
              </a:rPr>
              <a:t>Стадии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3660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DejaVu Sans"/>
              </a:rPr>
              <a:t>1.Человек впервые слышит нецензурное слово, испытывает отвращение, брезгливость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3660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DejaVu Sans"/>
              </a:rPr>
              <a:t>2.Человек впервые употребляет мат за компанию, для эмоциональной разрядки, для смелости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3660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DejaVu Sans"/>
              </a:rPr>
              <a:t>3.Человек употребляет мат, не замечая этого или не может вообще изъясняться без мата, забывает другие слова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280" y="179280"/>
            <a:ext cx="665964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Составить </a:t>
            </a:r>
            <a:r>
              <a:rPr b="1" lang="ru-RU" sz="3600" spc="-1" strike="noStrike" u="sng">
                <a:solidFill>
                  <a:srgbClr val="280099"/>
                </a:solidFill>
                <a:uFillTx/>
                <a:latin typeface="Arial"/>
              </a:rPr>
              <a:t>антирекламу </a:t>
            </a:r>
            <a:r>
              <a:rPr b="1" lang="ru-RU" sz="3600" spc="-1" strike="noStrike">
                <a:solidFill>
                  <a:srgbClr val="280099"/>
                </a:solidFill>
                <a:latin typeface="Arial"/>
              </a:rPr>
              <a:t>мата: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12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ридумать лозунг, рекламный слоган,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который побуждает отказаться от мата в своей речи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128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0099"/>
                </a:solidFill>
                <a:latin typeface="Arial"/>
              </a:rPr>
              <a:t>(Рекламный слоган — это яркое, эмоциональное высказывание, которое побуждает к действию или отказу от какого-либо действия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380360" y="4603680"/>
            <a:ext cx="1365120" cy="1695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659640" y="179280"/>
            <a:ext cx="2116080" cy="1860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659640" y="2398680"/>
            <a:ext cx="190476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26920" y="915840"/>
            <a:ext cx="71298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"/>
          <p:cNvSpPr/>
          <p:nvPr/>
        </p:nvSpPr>
        <p:spPr>
          <a:xfrm>
            <a:off x="720720" y="179280"/>
            <a:ext cx="86803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284c"/>
                </a:solidFill>
                <a:latin typeface="Times New Roman"/>
                <a:ea typeface="DejaVu Sans"/>
              </a:rPr>
              <a:t>Примерные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9284c"/>
                </a:solidFill>
                <a:latin typeface="Times New Roman"/>
                <a:ea typeface="DejaVu Sans"/>
              </a:rPr>
              <a:t>варианты антирекламы мата: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"/>
          <p:cNvSpPr/>
          <p:nvPr/>
        </p:nvSpPr>
        <p:spPr>
          <a:xfrm>
            <a:off x="1800360" y="1619280"/>
            <a:ext cx="734364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660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cc"/>
                </a:solidFill>
                <a:latin typeface="Arial"/>
                <a:ea typeface="DejaVu Sans"/>
              </a:rPr>
              <a:t>Кто использует мат, тот умишком не богат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3660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3660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ae00"/>
                </a:solidFill>
                <a:latin typeface="Arial"/>
                <a:ea typeface="DejaVu Sans"/>
              </a:rPr>
              <a:t>Мат — дорога в ад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3660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3660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5000b"/>
                </a:solidFill>
                <a:latin typeface="Arial"/>
                <a:ea typeface="DejaVu Sans"/>
              </a:rPr>
              <a:t>Мат — это ядов концентрат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3660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36600" algn="ctr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DejaVu Sans"/>
              </a:rPr>
              <a:t>Хочешь успехов в жизни добиться — книги читай, прекращай материться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60360" y="2021040"/>
            <a:ext cx="86407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  <a:ea typeface="DejaVu Sans"/>
              </a:rPr>
              <a:t>Сквернословие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DejaVu Sans"/>
              </a:rPr>
              <a:t> (мат)— это речь, наполненная неприличными выражениями, непристойными словами, бранью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915840"/>
            <a:ext cx="71298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1773360"/>
            <a:ext cx="74883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"/>
          <p:cNvSpPr/>
          <p:nvPr/>
        </p:nvSpPr>
        <p:spPr>
          <a:xfrm>
            <a:off x="1440000" y="393840"/>
            <a:ext cx="792000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280099"/>
                </a:solidFill>
                <a:latin typeface="Arial"/>
                <a:ea typeface="DejaVu Sans"/>
              </a:rPr>
              <a:t>Сквернословие, мат</a:t>
            </a:r>
            <a:br>
              <a:rPr sz="5400"/>
            </a:br>
            <a:r>
              <a:rPr b="1" lang="ru-RU" sz="5400" spc="-1" strike="noStrike">
                <a:solidFill>
                  <a:srgbClr val="280099"/>
                </a:solidFill>
                <a:latin typeface="Arial"/>
                <a:ea typeface="DejaVu Sans"/>
              </a:rPr>
              <a:t>(как и хамство) — оружие </a:t>
            </a:r>
            <a:r>
              <a:rPr b="1" lang="ru-RU" sz="5400" spc="-1" strike="noStrike" u="sng">
                <a:solidFill>
                  <a:srgbClr val="280099"/>
                </a:solidFill>
                <a:uFillTx/>
                <a:latin typeface="Arial"/>
                <a:ea typeface="DejaVu Sans"/>
              </a:rPr>
              <a:t>неуверенных</a:t>
            </a:r>
            <a:r>
              <a:rPr b="1" lang="ru-RU" sz="5400" spc="-1" strike="noStrike">
                <a:solidFill>
                  <a:srgbClr val="280099"/>
                </a:solidFill>
                <a:latin typeface="Arial"/>
                <a:ea typeface="DejaVu Sans"/>
              </a:rPr>
              <a:t> в себе людей.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79640" y="4140360"/>
            <a:ext cx="1979640" cy="1968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959280" y="485928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020000" y="4140360"/>
            <a:ext cx="1439640" cy="21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9000" y="1440000"/>
            <a:ext cx="881064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  <a:ea typeface="DejaVu Sans"/>
              </a:rPr>
              <a:t>Сквернослови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DejaVu Sans"/>
              </a:rPr>
              <a:t> - это язык ведьм и колдунов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DejaVu Sans"/>
              </a:rPr>
              <a:t>Матные слова были включены в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  <a:ea typeface="DejaVu Sans"/>
              </a:rPr>
              <a:t>заклинания,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DejaVu Sans"/>
              </a:rPr>
              <a:t>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  <a:ea typeface="DejaVu Sans"/>
              </a:rPr>
              <a:t>наговоры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DejaVu Sans"/>
              </a:rPr>
              <a:t> и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  <a:ea typeface="DejaVu Sans"/>
              </a:rPr>
              <a:t>проклять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DejaVu San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74800" y="4176720"/>
            <a:ext cx="161928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419640" y="4500720"/>
            <a:ext cx="2339640" cy="217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840360" y="3959280"/>
            <a:ext cx="161928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819000"/>
            <a:ext cx="8640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DejaVu Sans"/>
              </a:rPr>
              <a:t>Сквернословие(мат)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DejaVu Sans"/>
              </a:rPr>
              <a:t> Притягивание зла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DejaVu Sans"/>
              </a:rPr>
              <a:t>и неприятностей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DejaVu Sans"/>
              </a:rPr>
              <a:t>Проблемы с окружающими, со своим здоровьем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"/>
          <p:cNvSpPr/>
          <p:nvPr/>
        </p:nvSpPr>
        <p:spPr>
          <a:xfrm>
            <a:off x="4319640" y="1979640"/>
            <a:ext cx="144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"/>
          <p:cNvSpPr/>
          <p:nvPr/>
        </p:nvSpPr>
        <p:spPr>
          <a:xfrm>
            <a:off x="4319640" y="3780000"/>
            <a:ext cx="144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914400"/>
            <a:ext cx="71280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ат используется для: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9" name=""/>
          <p:cNvSpPr/>
          <p:nvPr/>
        </p:nvSpPr>
        <p:spPr>
          <a:xfrm>
            <a:off x="793800" y="1800360"/>
            <a:ext cx="78469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Повышения эмоциональности речи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Эмоциональной разрядки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Оскорбления, унижения того, с кем говоришь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Демонстрации агрессии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Демонстрации отсутствия страх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Демонстрации «свободы», пренебрежения запретами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Демонстрации принадлежности к «своим»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915840"/>
            <a:ext cx="71298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"/>
          <p:cNvSpPr/>
          <p:nvPr/>
        </p:nvSpPr>
        <p:spPr>
          <a:xfrm>
            <a:off x="1260360" y="360360"/>
            <a:ext cx="80996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0000ff"/>
                </a:solidFill>
                <a:uFillTx/>
                <a:latin typeface="Arial"/>
                <a:ea typeface="DejaVu Sans"/>
              </a:rPr>
              <a:t>Сквернословие (мат)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  <a:ea typeface="DejaVu Sans"/>
              </a:rPr>
              <a:t> отражает </a:t>
            </a:r>
            <a:r>
              <a:rPr b="1" lang="ru-RU" sz="4800" spc="-1" strike="noStrike" u="sng">
                <a:solidFill>
                  <a:srgbClr val="0000ff"/>
                </a:solidFill>
                <a:uFillTx/>
                <a:latin typeface="Arial"/>
                <a:ea typeface="DejaVu Sans"/>
              </a:rPr>
              <a:t>бедность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  <a:ea typeface="DejaVu Sans"/>
              </a:rPr>
              <a:t> словарного запаса говорящего, </a:t>
            </a:r>
            <a:r>
              <a:rPr b="1" lang="ru-RU" sz="4800" spc="-1" strike="noStrike" u="sng">
                <a:solidFill>
                  <a:srgbClr val="0000ff"/>
                </a:solidFill>
                <a:uFillTx/>
                <a:latin typeface="Arial"/>
                <a:ea typeface="DejaVu Sans"/>
              </a:rPr>
              <a:t>неумение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  <a:ea typeface="DejaVu Sans"/>
              </a:rPr>
              <a:t> выразить словами радость или гнев.</a:t>
            </a:r>
            <a:endParaRPr b="0" lang="en-US" sz="4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819000"/>
            <a:ext cx="8640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"/>
          <p:cNvSpPr/>
          <p:nvPr/>
        </p:nvSpPr>
        <p:spPr>
          <a:xfrm>
            <a:off x="615960" y="2114640"/>
            <a:ext cx="793764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Гнилые слова — от гнилого сердца.</a:t>
            </a:r>
            <a:br>
              <a:rPr sz="6000"/>
            </a:br>
            <a:br>
              <a:rPr sz="6000"/>
            </a:br>
            <a:r>
              <a:rPr b="1" lang="ru-RU" sz="5400" spc="-1" strike="noStrike">
                <a:solidFill>
                  <a:srgbClr val="b80047"/>
                </a:solidFill>
                <a:latin typeface="Times New Roman"/>
                <a:ea typeface="DejaVu Sans"/>
              </a:rPr>
              <a:t>(Русская пословица)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82800" y="0"/>
            <a:ext cx="5856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700b8"/>
                </a:solidFill>
                <a:latin typeface="Arial"/>
              </a:rPr>
              <a:t>Научные исследования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873000"/>
            <a:ext cx="54007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обрые слова, молитва, классическая музык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"/>
          <p:cNvSpPr/>
          <p:nvPr/>
        </p:nvSpPr>
        <p:spPr>
          <a:xfrm>
            <a:off x="5040360" y="900000"/>
            <a:ext cx="3654360" cy="16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700b8"/>
                </a:solidFill>
                <a:latin typeface="Arial"/>
              </a:rPr>
              <a:t>Мат, похабщина, сквернословие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9280" y="1800360"/>
            <a:ext cx="3046680" cy="1985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260360" y="3780000"/>
            <a:ext cx="2778120" cy="2904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580000" y="1800360"/>
            <a:ext cx="3419640" cy="2340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4525920" y="3959280"/>
            <a:ext cx="3033720" cy="27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3:49:32Z</dcterms:created>
  <dc:creator>Admin</dc:creator>
  <dc:description/>
  <dc:language>en-US</dc:language>
  <cp:lastModifiedBy>Пользователь</cp:lastModifiedBy>
  <dcterms:modified xsi:type="dcterms:W3CDTF">2016-12-09T11:34:30Z</dcterms:modified>
  <cp:revision>3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