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FC3-62AB-4B60-9534-38F4DE65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EAE-5A1E-4F89-9A68-7E1BE9D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9D8-2944-42FB-9501-91917248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2B8-0B9D-41A0-8347-D59EE79D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631-A4DA-41B1-93D8-74FB5B8E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61B-63DA-43BB-8AF0-C00F6398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6F0-7995-454A-A96E-6F2B403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915-68DF-422E-A4B7-7297410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D7F-75EB-4F5E-9CA3-90427690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7C6-6BD3-47DC-A711-DC2D90F2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847-A75E-48F4-8238-922DCBEC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1B9-EA79-46F3-998A-00C01F8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6A6-40CC-4307-8098-88BE7A7E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исимость максимальной величины общей полезности от нулевой предельно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181080" y="1628640"/>
            <a:ext cx="9325080" cy="52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докса воды и бриллиа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81080" y="1557360"/>
            <a:ext cx="9649080" cy="530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тствие у блага элементов, полезных для здоровь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о блага удовлетворять определенную потребность потреб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войств, которые встречаютс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у продуктов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зностью для покупателя обладают только такие товары, котор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прине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здоро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удовлетворить его субъективную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ют общественной полез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ельная полезность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полезность, которую потребитель может получить при расходовании определенной суммы де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ст общей полезности блага при увеличении потребления блага на одн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льную еди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ая полезность, которую потребитель может получить при потреблении данного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полезность приобретенных покупателем товаров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полезностей всех единиц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ного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ая присущ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а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ая способна удовлетворить потребно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43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убывающей предельной полезности означает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 убывает по мере повышени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ы тов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 приносимая каждой дополнительной единицей товара, убывает по мере увеличения количества приобретаемых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е предельных полезностей к ценам убывает по мере увеличения количества б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мин “предельный” в микроэкономике 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менение измеряем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е допустимое изменени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ной велич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одной переменной величины в результате изменения на одн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ea typeface="Mang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angal"/>
              </a:rPr>
              <a:t>единицу другой переменной вел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меет большую ценность для человека — хлеб или театр (зрелища)? Что полезнее? Дороже? Какое из этих двух благ является более редким?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ом случае полезность хлеба равна 0? Полезность зрелищ равна 0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лнит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уск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я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ящим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у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ами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ями, словами. Т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влетворение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ое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ют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ени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щегос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их количества благ, экономисты называют _________________________ . 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__________________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,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ем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ом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отребления _________ единицы блага. Пр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яемых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а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оследней остающихся у потребителя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______________________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у убывающе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ьной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ости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осте объема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яемых благ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           _________________           _________________           _________________ _________________                     _________________                     _________________  _________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 5.1, определения. Индивидуально — подготовить сообщение о Вильфредо Паре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1" i="1" lang="hi-IN" sz="4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бщая и предельная полезность. Закон убывающей предельной полезност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3a14"/>
                </a:solidFill>
                <a:latin typeface="Arial"/>
              </a:rPr>
              <a:t>Парадокс воды и бриллианто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fc4a"/>
                </a:solidFill>
                <a:latin typeface="Arial"/>
              </a:rPr>
              <a:t>Почему вода, без которой невозможна жизнь, стоит дешево (или ничего не стоит), а бриллианты, являющиеся далеко не самым насущным благом, стоят очень дор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 чем руководствуетесь вы, когда выбираете товар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Допущения теории поведения потребите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итель всегда ведёт себя рацион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«полезность» является субъектив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вары с наибольшей полезностью потребители покупают в первую очер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ходы всех потребителей ограничены и на все товары и услуги установлены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cfc4a"/>
                </a:solidFill>
                <a:latin typeface="Arial"/>
              </a:rPr>
              <a:t>Общая и предельная поле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АЯ ПОЛЕЗНОСТ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otal utilit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о удовлетворение, которое люди получают от по­требления всего имеющегося у них количества благ данно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ЕЛЬНАЯ ПОЛЕЗНОСТ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U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rginal utility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— прирост общей полезности, возника­ющий вследствие увеличения объема потребления данного блага на единицу, или полезность по­следней из имеющихся в распоряжении индивида единиц бл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710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кон убывающей предельной полезност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мере того как объем потребляемых благ растет, предельная полезность каждой дополнительной единицы блага уменьш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полезности товар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Q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Ua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а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лезность това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Q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— количество товар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8:21:19Z</dcterms:created>
  <dc:creator>Admin</dc:creator>
  <dc:description/>
  <dc:language>en-US</dc:language>
  <cp:lastModifiedBy>Admin</cp:lastModifiedBy>
  <dcterms:modified xsi:type="dcterms:W3CDTF">2011-12-08T10:33:53Z</dcterms:modified>
  <cp:revision>14</cp:revision>
  <dc:subject/>
  <dc:title>Слайд 1</dc:title>
</cp:coreProperties>
</file>