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243-010D-4458-A38C-ACFEBDAF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E75-E7E3-4B39-B90C-0203044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A4F-CDA0-476A-B600-DE1A7746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E4C-6285-4912-8A3E-A25B3E5F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9DB-46FA-4DED-8A9F-720B817D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034-D89F-4D79-AB23-3BE348F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480-EF83-4AEF-9CC4-1B566CDA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919-5802-448D-BD31-133E893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972-3B2A-4448-8D6A-D4DCA381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E96-0C7C-4DDF-91E9-28BCEBB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EAA-D939-43CA-8B81-9BD4089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468-67B1-4BC1-B3A4-484CBA2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C5B-A10A-440A-B54E-A71825DC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максимальной величины общей полезности от нулевой предельно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181080" y="1628640"/>
            <a:ext cx="9325080" cy="52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докса воды и бриллиа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81080" y="1557360"/>
            <a:ext cx="9649080" cy="530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тствие у блага элементов, полезных для здоровь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блага удовлетворять определенную потребность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войств, которые встречаютс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у продуктов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ю для покупателя обладают только такие товары, котор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не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удовлетворить его субъективную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общественной полез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ельная полезность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полезность, которую потребитель может получить при расходовании определенной суммы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ст общей полезности блага при увеличении потребления блага на одн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ую еди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олезность, которую потребитель может получить при потреблении данного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полезность приобретенных покупателем товаров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полезностей всех единиц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ного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ая присущ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ая способна удовлетворить потребно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4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убывающей предельной полезности означает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 убывает по мере повышени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ы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 приносимая каждой дополнительной единицей товара, убывает по мере увеличения количества приобретаемых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 предельных полезностей к ценам убывает по мере увеличения количества б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ин “предельный” в микроэкономике 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менение измеряем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допустимое изменени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одной переменной величины в результате изменения на одн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ea typeface="Mang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angal"/>
              </a:rPr>
              <a:t>единицу другой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меет большую ценность для человека — хлеб или театр (зрелища)? Что полезнее? Дороже? Какое из этих двух благ является более редким?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случае полезность хлеба равна 0? Полезность зрелищ равна 0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уск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я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ящим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ами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ями, словами. Т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ие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ют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ени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щегос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их количества благ, экономисты называют _________________________ . 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__________________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о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отребления _________ единицы блага. Пр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яемы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оследней остающихся у потребител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______________________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у убывающе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осте объем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яемых благ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       _________________           _________________           _________________ _________________                     _________________                     _________________  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5.1, определения. Индивидуально — подготовить сообщение о Вильфредо Паре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бщая и предельная полезность. Закон убывающей предельной полезност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3a14"/>
                </a:solidFill>
                <a:latin typeface="Arial"/>
              </a:rPr>
              <a:t>Парадокс воды и бриллиан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fc4a"/>
                </a:solidFill>
                <a:latin typeface="Arial"/>
              </a:rPr>
              <a:t>Почему вода, без которой невозможна жизнь, стоит дешево (или ничего не стоит), а бриллианты, являющиеся далеко не самым насущным благом, стоят очень дор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 чем руководствуетесь вы, когда выбираете товар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опущения теории поведения потреби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итель всегда ведёт себя раци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«полезность» является субъектив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вары с наибольшей полезностью потребители покупают в первую очер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ходы всех потребителей ограничены и на все товары и услуги установлены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fc4a"/>
                </a:solidFill>
                <a:latin typeface="Arial"/>
              </a:rPr>
              <a:t>Общая и предельная поле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АЯ ПОЛЕЗНОСТ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tal utilit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о удовлетворение, которое люди получают от по­требления всего имеющегося у них количества благ данно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ЕЛЬНАЯ ПОЛЕЗНОСТ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U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ginal utilit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— прирост общей полезности, возника­ющий вследствие увеличения объема потребления данного блага на единицу, или полезность по­следней из имеющихся в распоряжении индивида единиц бл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0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он убывающей предельной полезност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мере того как объем потребляемых благ растет, предельная полезность каждой дополнительной единицы блага уменьш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полезности товар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Q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a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а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езность това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Q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— количество това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8:21:19Z</dcterms:created>
  <dc:creator>Admin</dc:creator>
  <dc:description/>
  <dc:language>en-US</dc:language>
  <cp:lastModifiedBy>Admin</cp:lastModifiedBy>
  <dcterms:modified xsi:type="dcterms:W3CDTF">2011-12-08T10:33:53Z</dcterms:modified>
  <cp:revision>14</cp:revision>
  <dc:subject/>
  <dc:title>Слайд 1</dc:title>
</cp:coreProperties>
</file>