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1743-CEC1-45BC-9C61-E4BC47854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0006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6640" y="3981240"/>
            <a:ext cx="80006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FF53-012D-4E07-9997-48A257400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420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6320" y="1752480"/>
            <a:ext cx="390420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DDB279-16BD-4958-819F-83ABF70FB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96136E-6191-4B8F-9962-4332B68FF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574560" y="304920"/>
            <a:ext cx="8000640" cy="56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94BB7E-C2A2-4677-9CD5-0B2B1A4F2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6320" y="1752480"/>
            <a:ext cx="390420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66640" y="398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48C47E-D0AC-4EC0-8F4F-7CC56B97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420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6320" y="17524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66320" y="398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703644-8C8E-4703-A16C-87DCAD23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6320" y="17524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66640" y="3981240"/>
            <a:ext cx="80006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8AA906-915F-49EA-8B94-B50BD4D3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0006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66640" y="3981240"/>
            <a:ext cx="80006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BB58B8-EE6A-4908-AEFC-C426AB6EA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6320" y="17524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66640" y="398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66320" y="398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0B72A5-ED62-42F5-9041-761BAEA5A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25758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58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76720" y="1752480"/>
            <a:ext cx="25758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566640" y="3981240"/>
            <a:ext cx="25758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71680" y="3981240"/>
            <a:ext cx="25758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976720" y="3981240"/>
            <a:ext cx="25758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D5AAA6-3A71-475F-8DBE-F0A35249E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6320" y="17524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6640" y="398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6320" y="398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0E9A-CD15-4CBE-87B8-2ED6D616B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25758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58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76720" y="1752480"/>
            <a:ext cx="25758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6640" y="3981240"/>
            <a:ext cx="25758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71680" y="3981240"/>
            <a:ext cx="25758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76720" y="3981240"/>
            <a:ext cx="25758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6A1E-48F2-4B4B-BDE4-30E5E22CB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EE12F-4A4B-4CF4-B1AC-F180AEC7A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66640" y="1752480"/>
            <a:ext cx="800064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0567C-6099-47B2-8DA8-D0E5288E9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00064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EF0FD-D1BD-4CE5-9B01-3D40F44CE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420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320" y="1752480"/>
            <a:ext cx="390420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79591-5639-486F-AA4F-0ED38CE5C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EFCCF-56D6-403E-BAEA-AAA264919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74560" y="304920"/>
            <a:ext cx="8000640" cy="56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ACEE8-558F-46D8-9C74-26998F0EC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6320" y="1752480"/>
            <a:ext cx="390420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66640" y="398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CC5E0-AE7C-4557-B1DE-5ADD7449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66640" y="1752480"/>
            <a:ext cx="800064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1869-A1EB-47E0-8C2E-8FDB937E3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420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6320" y="17524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6320" y="398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676D9-C9FA-4960-8E99-7CCBE7C6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6320" y="17524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66640" y="3981240"/>
            <a:ext cx="80006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6BB8D-20A0-4BAD-8049-5D6F9D6A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0006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6640" y="3981240"/>
            <a:ext cx="80006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14D4C-8412-4DA6-96F0-B3E249607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6320" y="17524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6640" y="398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6320" y="398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6B2B6-CF27-40DF-BF96-EB09E3B90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25758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58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76720" y="1752480"/>
            <a:ext cx="25758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66640" y="3981240"/>
            <a:ext cx="25758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71680" y="3981240"/>
            <a:ext cx="25758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76720" y="3981240"/>
            <a:ext cx="25758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24D83-64F0-4FD3-B2B7-3C2AE0FE2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6650A-306B-4B4A-822A-9F723B90A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66640" y="1752480"/>
            <a:ext cx="800064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19858-6E15-4CC5-B7E2-30A334F34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00064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BA7A4-D0BF-4567-8018-09897770D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420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6320" y="1752480"/>
            <a:ext cx="390420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571C5-BB51-41D9-A376-9C8368A67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411D8-4D89-405A-8EE1-7651C998E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00064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7045-6D4A-47B4-BCE4-BEB4BB2E7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574560" y="304920"/>
            <a:ext cx="8000640" cy="56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6A3DB-2E5B-49BA-9FCF-0DA77C9F9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6320" y="1752480"/>
            <a:ext cx="390420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66640" y="398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D473B-3C48-461B-9F41-20D016E5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420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6320" y="17524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66320" y="398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71900-DFD8-41FF-97BA-098BA5E0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6320" y="17524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66640" y="3981240"/>
            <a:ext cx="80006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7CCA9-4855-4AD2-85C0-95604927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0006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66640" y="3981240"/>
            <a:ext cx="80006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68F91-3E1E-4B11-ABF8-349608F89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6320" y="17524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66640" y="398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66320" y="398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4B91A-B8DD-4E57-9708-301BF277D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25758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58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976720" y="1752480"/>
            <a:ext cx="25758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66640" y="3981240"/>
            <a:ext cx="25758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71680" y="3981240"/>
            <a:ext cx="25758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976720" y="3981240"/>
            <a:ext cx="25758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CB160-41CB-4AC4-A907-4C822B6BB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E70F9-31BA-4D81-8ACC-F13E09B1A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566640" y="1752480"/>
            <a:ext cx="800064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1797A-3310-4799-B90D-BAC909C03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00064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D9751-E382-4BCC-9322-902337F74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420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6320" y="1752480"/>
            <a:ext cx="390420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7782-FAD1-4004-877B-4B1CAB490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420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6320" y="1752480"/>
            <a:ext cx="390420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7A559-B164-46D7-8A21-2BB327DF4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46A3C-8675-4146-9A56-417A0A5FC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74560" y="304920"/>
            <a:ext cx="8000640" cy="56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85BFB-87FD-444F-977B-24DFEC912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6320" y="1752480"/>
            <a:ext cx="390420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66640" y="398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8A331-1EDD-437A-918E-8F022D36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420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6320" y="17524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66320" y="398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96D35-C4A8-440A-A997-44EC97A1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6320" y="17524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66640" y="3981240"/>
            <a:ext cx="80006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8CD46-F8F4-4F11-BBD0-63269B43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0006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66640" y="3981240"/>
            <a:ext cx="80006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F0D1A-7EB4-425B-B658-61681B9B2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6320" y="17524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66640" y="398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66320" y="398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7428D-1BB7-44B0-A0D5-12F2D6B8F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25758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58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76720" y="1752480"/>
            <a:ext cx="25758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66640" y="3981240"/>
            <a:ext cx="25758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71680" y="3981240"/>
            <a:ext cx="25758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76720" y="3981240"/>
            <a:ext cx="25758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058E0-FF59-4ED3-8940-1DFE7D661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74B0C-EC44-49EF-BB74-7B83D196B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B59B-3143-44AA-85F2-6A519E7B9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566640" y="1752480"/>
            <a:ext cx="800064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56579-136D-463D-8758-12FEA7E20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00064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501C2-A033-4C65-ADB1-A9EA4518E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420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6320" y="1752480"/>
            <a:ext cx="390420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714E7-9094-436C-8EC2-3EBADE14F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07685-318D-4CC0-9B10-63EC3A85A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574560" y="304920"/>
            <a:ext cx="8000640" cy="56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C30D6-20A6-435A-99BF-8B4470BBB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6320" y="1752480"/>
            <a:ext cx="390420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66640" y="398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65949-7E37-461E-A09F-0D029C42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420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6320" y="17524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66320" y="398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BB35B-67F7-443C-8AAA-D8661BEF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6320" y="17524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66640" y="3981240"/>
            <a:ext cx="80006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6BAC5D-B7D9-4A2F-94C8-9ED1881D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0006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66640" y="3981240"/>
            <a:ext cx="80006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55D0A-983F-4402-9976-0085BF138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6320" y="17524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66640" y="398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66320" y="398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CE5FC-B2B1-44D0-ACE2-AE47B65B5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74560" y="304920"/>
            <a:ext cx="8000640" cy="56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71EA-8772-4F65-888C-78EB67657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25758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58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76720" y="1752480"/>
            <a:ext cx="25758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566640" y="3981240"/>
            <a:ext cx="25758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71680" y="3981240"/>
            <a:ext cx="25758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76720" y="3981240"/>
            <a:ext cx="25758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667CE-6BDC-4B96-9778-F8D47DD0B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F8FFE-11FE-480D-A25F-6E9AFFBF2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566640" y="1752480"/>
            <a:ext cx="800064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D2A13-9717-488D-BC7E-9F693A2DF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00064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CA1EBA-E0EB-45E2-865A-94FB6AADC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420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6320" y="1752480"/>
            <a:ext cx="390420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BB5D9-FF85-4EA5-978D-EB18B8E09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F4908-851A-4BFB-AE80-E1CBC1D2E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574560" y="304920"/>
            <a:ext cx="8000640" cy="56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BDC4C-5C58-43E9-AA01-693458A84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6320" y="1752480"/>
            <a:ext cx="390420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66640" y="398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A8BFC-B203-4604-8CC8-9D3A2A60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420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6320" y="17524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66320" y="398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6C6AFF-396C-43CB-B2E0-02460EE2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6320" y="17524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6640" y="3981240"/>
            <a:ext cx="80006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26304-8EB9-462D-958D-F88189E3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6320" y="1752480"/>
            <a:ext cx="390420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6640" y="398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2B84-A6AA-4474-BFC0-01DDE16A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0006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66640" y="3981240"/>
            <a:ext cx="80006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47D772-7CD9-4FBC-B5CC-4687C4131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6320" y="17524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6640" y="398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66320" y="398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7223C3-B232-42C4-8FC9-2B9BA7AFE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25758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58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976720" y="1752480"/>
            <a:ext cx="25758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566640" y="3981240"/>
            <a:ext cx="25758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71680" y="3981240"/>
            <a:ext cx="25758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976720" y="3981240"/>
            <a:ext cx="25758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210E84-6FFA-44E1-8237-289060593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2750C-D136-4545-8113-014C66C5C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66640" y="1752480"/>
            <a:ext cx="800064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1932FA-24FC-4724-93F4-1400DE6CA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00064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606996-A00E-4F63-B3DA-CA3C3BC39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420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6320" y="1752480"/>
            <a:ext cx="390420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D21088-56F4-49EA-A709-A180FBA23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3EC48-7FE0-4034-96D4-7C3459841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74560" y="304920"/>
            <a:ext cx="8000640" cy="56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111FCF-A759-4A1C-8C98-83B9EDD3F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6320" y="1752480"/>
            <a:ext cx="390420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66640" y="398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AD8C16-021E-473D-A09C-145D8870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420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6320" y="17524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6320" y="398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DD01-81A5-47C8-9415-71A28C43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420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6320" y="17524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6320" y="398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892E0-2712-4829-946A-A5F80CDD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6320" y="17524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66640" y="3981240"/>
            <a:ext cx="80006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1A5763-A9AF-43CA-89BE-7CCB518F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0006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66640" y="3981240"/>
            <a:ext cx="80006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D1A0A5-F794-4D3D-917C-3FCFE1EDA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6320" y="17524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66640" y="398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6320" y="398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35AE8F-F962-401F-B607-F3CDA34A3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25758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58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76720" y="1752480"/>
            <a:ext cx="25758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66640" y="3981240"/>
            <a:ext cx="25758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71680" y="3981240"/>
            <a:ext cx="25758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76720" y="3981240"/>
            <a:ext cx="25758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A13343-39A5-4203-9406-CED8749A4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9FF2E4-8F50-4BBB-B1BC-80413ABE2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566640" y="1752480"/>
            <a:ext cx="800064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B00D8E-A8E9-450F-BBE1-200494370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00064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DBD4CA-7F9A-4861-A0A8-5B99EE7D3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420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6320" y="1752480"/>
            <a:ext cx="390420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D077CD-FC9B-4314-967A-0DC2C8739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322115-F39C-4DB2-9CD7-1AF9C3A1F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6320" y="17524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66640" y="3981240"/>
            <a:ext cx="80006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A80F-8B73-43B8-8B15-A1574180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574560" y="304920"/>
            <a:ext cx="8000640" cy="56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83AE7F-C744-47C9-BF4A-29704DB89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6320" y="1752480"/>
            <a:ext cx="390420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66640" y="398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B64099-9ECD-40A7-A9D9-43699BB9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420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6320" y="17524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66320" y="398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98575B-7AC7-477C-9DB7-01E627FF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6320" y="17524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66640" y="3981240"/>
            <a:ext cx="80006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3C93AD-7A8A-4595-A6FC-AA852F37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0006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66640" y="3981240"/>
            <a:ext cx="80006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65754B-C3EE-4013-A80F-EC2232A9F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6320" y="17524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66640" y="398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66320" y="398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1FDE91-719B-4424-8289-8CF4BB5BC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25758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58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76720" y="1752480"/>
            <a:ext cx="25758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566640" y="3981240"/>
            <a:ext cx="25758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71680" y="3981240"/>
            <a:ext cx="25758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76720" y="3981240"/>
            <a:ext cx="25758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65FFBB-F2BA-4120-80F5-A6A6D0387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262E8B-DC3B-45BA-A591-95CF79CDD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566640" y="1752480"/>
            <a:ext cx="800064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386850-12C8-4205-8256-A6CDA384F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00064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53CAD8-3319-4AD8-BEA0-B68C9E33B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4"/>
          <p:cNvSpPr/>
          <p:nvPr/>
        </p:nvSpPr>
        <p:spPr>
          <a:xfrm>
            <a:off x="609480" y="1566720"/>
            <a:ext cx="7957800" cy="10908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chemeClr val="accent2"/>
          </a:solidFill>
          <a:ln w="9525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" name="Line 5"/>
          <p:cNvCxnSpPr/>
          <p:nvPr/>
        </p:nvCxnSpPr>
        <p:spPr>
          <a:xfrm>
            <a:off x="609480" y="6172200"/>
            <a:ext cx="7925040" cy="360"/>
          </a:xfrm>
          <a:prstGeom prst="straightConnector1">
            <a:avLst/>
          </a:prstGeom>
          <a:ln w="3175">
            <a:solidFill>
              <a:srgbClr val="6666ff"/>
            </a:solidFill>
            <a:miter/>
          </a:ln>
        </p:spPr>
      </p:cxn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  <a:ea typeface="Arial"/>
              </a:rPr>
              <a:t>Образец заголовка</a:t>
            </a: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66640" y="1752480"/>
            <a:ext cx="3924000" cy="42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  <a:ea typeface="Arial"/>
              </a:rPr>
              <a:t>Образец текста</a:t>
            </a: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680">
              <a:lnSpc>
                <a:spcPct val="100000"/>
              </a:lnSpc>
              <a:spcBef>
                <a:spcPts val="519"/>
              </a:spcBef>
              <a:buClr>
                <a:srgbClr val="6666ff"/>
              </a:buClr>
              <a:buFont typeface="Wingdings" charset="2"/>
              <a:buChar char=""/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  <a:ea typeface="Arial"/>
              </a:rPr>
              <a:t>Второй уровень</a:t>
            </a:r>
            <a:endParaRPr b="0" lang="ru-RU" sz="26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59"/>
              </a:spcBef>
              <a:buClr>
                <a:srgbClr val="6666ff"/>
              </a:buClr>
              <a:buFont typeface="Wingdings" charset="2"/>
              <a:buChar char=""/>
            </a:pPr>
            <a:r>
              <a:rPr b="0" lang="ru-RU" sz="2300" spc="-1" strike="noStrike">
                <a:solidFill>
                  <a:srgbClr val="ffffff"/>
                </a:solidFill>
                <a:latin typeface="Verdana"/>
                <a:ea typeface="Arial"/>
              </a:rPr>
              <a:t>Третий уровень</a:t>
            </a:r>
            <a:endParaRPr b="0" lang="ru-RU" sz="23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lnSpc>
                <a:spcPct val="100000"/>
              </a:lnSpc>
              <a:spcBef>
                <a:spcPts val="400"/>
              </a:spcBef>
              <a:buClr>
                <a:srgbClr val="6666ff"/>
              </a:buClr>
              <a:buFont typeface="Wingdings" charset="2"/>
              <a:buChar char=""/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520">
              <a:lnSpc>
                <a:spcPct val="10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"/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643280" y="1752480"/>
            <a:ext cx="3924000" cy="42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  <a:ea typeface="Arial"/>
              </a:rPr>
              <a:t>Образец текста</a:t>
            </a: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680">
              <a:lnSpc>
                <a:spcPct val="100000"/>
              </a:lnSpc>
              <a:spcBef>
                <a:spcPts val="519"/>
              </a:spcBef>
              <a:buClr>
                <a:srgbClr val="6666ff"/>
              </a:buClr>
              <a:buFont typeface="Wingdings" charset="2"/>
              <a:buChar char=""/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  <a:ea typeface="Arial"/>
              </a:rPr>
              <a:t>Второй уровень</a:t>
            </a:r>
            <a:endParaRPr b="0" lang="ru-RU" sz="26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59"/>
              </a:spcBef>
              <a:buClr>
                <a:srgbClr val="6666ff"/>
              </a:buClr>
              <a:buFont typeface="Wingdings" charset="2"/>
              <a:buChar char=""/>
            </a:pPr>
            <a:r>
              <a:rPr b="0" lang="ru-RU" sz="2300" spc="-1" strike="noStrike">
                <a:solidFill>
                  <a:srgbClr val="ffffff"/>
                </a:solidFill>
                <a:latin typeface="Verdana"/>
                <a:ea typeface="Arial"/>
              </a:rPr>
              <a:t>Третий уровень</a:t>
            </a:r>
            <a:endParaRPr b="0" lang="ru-RU" sz="23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lnSpc>
                <a:spcPct val="100000"/>
              </a:lnSpc>
              <a:spcBef>
                <a:spcPts val="400"/>
              </a:spcBef>
              <a:buClr>
                <a:srgbClr val="6666ff"/>
              </a:buClr>
              <a:buFont typeface="Wingdings" charset="2"/>
              <a:buChar char=""/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520">
              <a:lnSpc>
                <a:spcPct val="10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"/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>
          <a:xfrm>
            <a:off x="609480" y="6245280"/>
            <a:ext cx="19807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19807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759E37B1-BFB2-4CFF-9CA5-F4DD3DB9420C}" type="slidenum">
              <a:rPr b="0" lang="ru-RU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4"/>
          <p:cNvSpPr/>
          <p:nvPr/>
        </p:nvSpPr>
        <p:spPr>
          <a:xfrm>
            <a:off x="609480" y="1566720"/>
            <a:ext cx="7957800" cy="10908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chemeClr val="accent2"/>
          </a:solidFill>
          <a:ln w="9525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Line 5"/>
          <p:cNvCxnSpPr/>
          <p:nvPr/>
        </p:nvCxnSpPr>
        <p:spPr>
          <a:xfrm>
            <a:off x="609480" y="6172200"/>
            <a:ext cx="7925040" cy="360"/>
          </a:xfrm>
          <a:prstGeom prst="straightConnector1">
            <a:avLst/>
          </a:prstGeom>
          <a:ln w="3175">
            <a:solidFill>
              <a:srgbClr val="6666ff"/>
            </a:solidFill>
            <a:miter/>
          </a:ln>
        </p:spPr>
      </p:cxn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  <a:ea typeface="Arial"/>
              </a:rPr>
              <a:t>Образец заголовка</a:t>
            </a: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566640" y="1752480"/>
            <a:ext cx="8000640" cy="42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  <a:ea typeface="Arial"/>
              </a:rPr>
              <a:t>Образец текста</a:t>
            </a: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680">
              <a:lnSpc>
                <a:spcPct val="100000"/>
              </a:lnSpc>
              <a:spcBef>
                <a:spcPts val="519"/>
              </a:spcBef>
              <a:buClr>
                <a:srgbClr val="6666ff"/>
              </a:buClr>
              <a:buFont typeface="Wingdings" charset="2"/>
              <a:buChar char=""/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  <a:ea typeface="Arial"/>
              </a:rPr>
              <a:t>Второй уровень</a:t>
            </a:r>
            <a:endParaRPr b="0" lang="ru-RU" sz="26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59"/>
              </a:spcBef>
              <a:buClr>
                <a:srgbClr val="6666ff"/>
              </a:buClr>
              <a:buFont typeface="Wingdings" charset="2"/>
              <a:buChar char=""/>
            </a:pPr>
            <a:r>
              <a:rPr b="0" lang="ru-RU" sz="2300" spc="-1" strike="noStrike">
                <a:solidFill>
                  <a:srgbClr val="ffffff"/>
                </a:solidFill>
                <a:latin typeface="Verdana"/>
                <a:ea typeface="Arial"/>
              </a:rPr>
              <a:t>Третий уровень</a:t>
            </a:r>
            <a:endParaRPr b="0" lang="ru-RU" sz="23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lnSpc>
                <a:spcPct val="100000"/>
              </a:lnSpc>
              <a:spcBef>
                <a:spcPts val="400"/>
              </a:spcBef>
              <a:buClr>
                <a:srgbClr val="6666ff"/>
              </a:buClr>
              <a:buFont typeface="Wingdings" charset="2"/>
              <a:buChar char=""/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520">
              <a:lnSpc>
                <a:spcPct val="10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"/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09480" y="6245280"/>
            <a:ext cx="19807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19807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F900631B-8925-49F5-BE1F-A59D337F7052}" type="slidenum">
              <a:rPr b="0" lang="ru-RU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AutoShape 4"/>
          <p:cNvSpPr/>
          <p:nvPr/>
        </p:nvSpPr>
        <p:spPr>
          <a:xfrm>
            <a:off x="609480" y="1566720"/>
            <a:ext cx="7957800" cy="10908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chemeClr val="accent2"/>
          </a:solidFill>
          <a:ln w="9525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Line 5"/>
          <p:cNvCxnSpPr/>
          <p:nvPr/>
        </p:nvCxnSpPr>
        <p:spPr>
          <a:xfrm>
            <a:off x="609480" y="6172200"/>
            <a:ext cx="7925040" cy="360"/>
          </a:xfrm>
          <a:prstGeom prst="straightConnector1">
            <a:avLst/>
          </a:prstGeom>
          <a:ln w="3175">
            <a:solidFill>
              <a:srgbClr val="6666ff"/>
            </a:solidFill>
            <a:miter/>
          </a:ln>
        </p:spPr>
      </p:cxn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  <a:ea typeface="Arial"/>
              </a:rPr>
              <a:t>Образец заголовка</a:t>
            </a: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566640" y="1752480"/>
            <a:ext cx="800064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  <a:ea typeface="Arial"/>
              </a:rPr>
              <a:t>Образец текста</a:t>
            </a: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680">
              <a:lnSpc>
                <a:spcPct val="100000"/>
              </a:lnSpc>
              <a:spcBef>
                <a:spcPts val="519"/>
              </a:spcBef>
              <a:buClr>
                <a:srgbClr val="6666ff"/>
              </a:buClr>
              <a:buFont typeface="Wingdings" charset="2"/>
              <a:buChar char=""/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  <a:ea typeface="Arial"/>
              </a:rPr>
              <a:t>Второй уровень</a:t>
            </a:r>
            <a:endParaRPr b="0" lang="ru-RU" sz="26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59"/>
              </a:spcBef>
              <a:buClr>
                <a:srgbClr val="6666ff"/>
              </a:buClr>
              <a:buFont typeface="Wingdings" charset="2"/>
              <a:buChar char=""/>
            </a:pPr>
            <a:r>
              <a:rPr b="0" lang="ru-RU" sz="2300" spc="-1" strike="noStrike">
                <a:solidFill>
                  <a:srgbClr val="ffffff"/>
                </a:solidFill>
                <a:latin typeface="Verdana"/>
                <a:ea typeface="Arial"/>
              </a:rPr>
              <a:t>Третий уровень</a:t>
            </a:r>
            <a:endParaRPr b="0" lang="ru-RU" sz="23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lnSpc>
                <a:spcPct val="100000"/>
              </a:lnSpc>
              <a:spcBef>
                <a:spcPts val="400"/>
              </a:spcBef>
              <a:buClr>
                <a:srgbClr val="6666ff"/>
              </a:buClr>
              <a:buFont typeface="Wingdings" charset="2"/>
              <a:buChar char=""/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520">
              <a:lnSpc>
                <a:spcPct val="10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"/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body"/>
          </p:nvPr>
        </p:nvSpPr>
        <p:spPr>
          <a:xfrm>
            <a:off x="566640" y="3962520"/>
            <a:ext cx="800064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  <a:ea typeface="Arial"/>
              </a:rPr>
              <a:t>Образец текста</a:t>
            </a: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680">
              <a:lnSpc>
                <a:spcPct val="100000"/>
              </a:lnSpc>
              <a:spcBef>
                <a:spcPts val="519"/>
              </a:spcBef>
              <a:buClr>
                <a:srgbClr val="6666ff"/>
              </a:buClr>
              <a:buFont typeface="Wingdings" charset="2"/>
              <a:buChar char=""/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  <a:ea typeface="Arial"/>
              </a:rPr>
              <a:t>Второй уровень</a:t>
            </a:r>
            <a:endParaRPr b="0" lang="ru-RU" sz="26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59"/>
              </a:spcBef>
              <a:buClr>
                <a:srgbClr val="6666ff"/>
              </a:buClr>
              <a:buFont typeface="Wingdings" charset="2"/>
              <a:buChar char=""/>
            </a:pPr>
            <a:r>
              <a:rPr b="0" lang="ru-RU" sz="2300" spc="-1" strike="noStrike">
                <a:solidFill>
                  <a:srgbClr val="ffffff"/>
                </a:solidFill>
                <a:latin typeface="Verdana"/>
                <a:ea typeface="Arial"/>
              </a:rPr>
              <a:t>Третий уровень</a:t>
            </a:r>
            <a:endParaRPr b="0" lang="ru-RU" sz="23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lnSpc>
                <a:spcPct val="100000"/>
              </a:lnSpc>
              <a:spcBef>
                <a:spcPts val="400"/>
              </a:spcBef>
              <a:buClr>
                <a:srgbClr val="6666ff"/>
              </a:buClr>
              <a:buFont typeface="Wingdings" charset="2"/>
              <a:buChar char=""/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520">
              <a:lnSpc>
                <a:spcPct val="10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"/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dt" idx="7"/>
          </p:nvPr>
        </p:nvSpPr>
        <p:spPr>
          <a:xfrm>
            <a:off x="609480" y="6245280"/>
            <a:ext cx="19807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6553080" y="6245280"/>
            <a:ext cx="19807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BEA6409A-C9FF-4220-B049-9FCF6AB098D7}" type="slidenum">
              <a:rPr b="0" lang="ru-RU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4"/>
          <p:cNvSpPr/>
          <p:nvPr/>
        </p:nvSpPr>
        <p:spPr>
          <a:xfrm>
            <a:off x="609480" y="1566720"/>
            <a:ext cx="7957800" cy="10908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chemeClr val="accent2"/>
          </a:solidFill>
          <a:ln w="9525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Line 5"/>
          <p:cNvCxnSpPr/>
          <p:nvPr/>
        </p:nvCxnSpPr>
        <p:spPr>
          <a:xfrm>
            <a:off x="609480" y="6172200"/>
            <a:ext cx="7925040" cy="360"/>
          </a:xfrm>
          <a:prstGeom prst="straightConnector1">
            <a:avLst/>
          </a:prstGeom>
          <a:ln w="3175">
            <a:solidFill>
              <a:srgbClr val="6666ff"/>
            </a:solidFill>
            <a:miter/>
          </a:ln>
        </p:spPr>
      </p:cxn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  <a:ea typeface="Arial"/>
              </a:rPr>
              <a:t>Образец заголовка</a:t>
            </a: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566640" y="1752480"/>
            <a:ext cx="3924000" cy="42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  <a:ea typeface="Arial"/>
              </a:rPr>
              <a:t>Образец текста</a:t>
            </a: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680">
              <a:lnSpc>
                <a:spcPct val="100000"/>
              </a:lnSpc>
              <a:spcBef>
                <a:spcPts val="519"/>
              </a:spcBef>
              <a:buClr>
                <a:srgbClr val="6666ff"/>
              </a:buClr>
              <a:buFont typeface="Wingdings" charset="2"/>
              <a:buChar char=""/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  <a:ea typeface="Arial"/>
              </a:rPr>
              <a:t>Второй уровень</a:t>
            </a:r>
            <a:endParaRPr b="0" lang="ru-RU" sz="26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59"/>
              </a:spcBef>
              <a:buClr>
                <a:srgbClr val="6666ff"/>
              </a:buClr>
              <a:buFont typeface="Wingdings" charset="2"/>
              <a:buChar char=""/>
            </a:pPr>
            <a:r>
              <a:rPr b="0" lang="ru-RU" sz="2300" spc="-1" strike="noStrike">
                <a:solidFill>
                  <a:srgbClr val="ffffff"/>
                </a:solidFill>
                <a:latin typeface="Verdana"/>
                <a:ea typeface="Arial"/>
              </a:rPr>
              <a:t>Третий уровень</a:t>
            </a:r>
            <a:endParaRPr b="0" lang="ru-RU" sz="23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lnSpc>
                <a:spcPct val="100000"/>
              </a:lnSpc>
              <a:spcBef>
                <a:spcPts val="400"/>
              </a:spcBef>
              <a:buClr>
                <a:srgbClr val="6666ff"/>
              </a:buClr>
              <a:buFont typeface="Wingdings" charset="2"/>
              <a:buChar char=""/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520">
              <a:lnSpc>
                <a:spcPct val="10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"/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body"/>
          </p:nvPr>
        </p:nvSpPr>
        <p:spPr>
          <a:xfrm>
            <a:off x="4643280" y="1752480"/>
            <a:ext cx="3924000" cy="42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  <a:ea typeface="Arial"/>
              </a:rPr>
              <a:t>Образец текста</a:t>
            </a: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680">
              <a:lnSpc>
                <a:spcPct val="100000"/>
              </a:lnSpc>
              <a:spcBef>
                <a:spcPts val="519"/>
              </a:spcBef>
              <a:buClr>
                <a:srgbClr val="6666ff"/>
              </a:buClr>
              <a:buFont typeface="Wingdings" charset="2"/>
              <a:buChar char=""/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  <a:ea typeface="Arial"/>
              </a:rPr>
              <a:t>Второй уровень</a:t>
            </a:r>
            <a:endParaRPr b="0" lang="ru-RU" sz="26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59"/>
              </a:spcBef>
              <a:buClr>
                <a:srgbClr val="6666ff"/>
              </a:buClr>
              <a:buFont typeface="Wingdings" charset="2"/>
              <a:buChar char=""/>
            </a:pPr>
            <a:r>
              <a:rPr b="0" lang="ru-RU" sz="2300" spc="-1" strike="noStrike">
                <a:solidFill>
                  <a:srgbClr val="ffffff"/>
                </a:solidFill>
                <a:latin typeface="Verdana"/>
                <a:ea typeface="Arial"/>
              </a:rPr>
              <a:t>Третий уровень</a:t>
            </a:r>
            <a:endParaRPr b="0" lang="ru-RU" sz="23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lnSpc>
                <a:spcPct val="100000"/>
              </a:lnSpc>
              <a:spcBef>
                <a:spcPts val="400"/>
              </a:spcBef>
              <a:buClr>
                <a:srgbClr val="6666ff"/>
              </a:buClr>
              <a:buFont typeface="Wingdings" charset="2"/>
              <a:buChar char=""/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520">
              <a:lnSpc>
                <a:spcPct val="10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"/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dt" idx="10"/>
          </p:nvPr>
        </p:nvSpPr>
        <p:spPr>
          <a:xfrm>
            <a:off x="609480" y="6245280"/>
            <a:ext cx="19807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2"/>
          </p:nvPr>
        </p:nvSpPr>
        <p:spPr>
          <a:xfrm>
            <a:off x="6553080" y="6245280"/>
            <a:ext cx="19807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D327B281-49B6-4DB9-BA00-DE599F10E890}" type="slidenum">
              <a:rPr b="0" lang="ru-RU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AutoShape 4"/>
          <p:cNvSpPr/>
          <p:nvPr/>
        </p:nvSpPr>
        <p:spPr>
          <a:xfrm>
            <a:off x="609480" y="1566720"/>
            <a:ext cx="7957800" cy="10908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chemeClr val="accent2"/>
          </a:solidFill>
          <a:ln w="9525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" name="Line 5"/>
          <p:cNvCxnSpPr/>
          <p:nvPr/>
        </p:nvCxnSpPr>
        <p:spPr>
          <a:xfrm>
            <a:off x="609480" y="6172200"/>
            <a:ext cx="7925040" cy="360"/>
          </a:xfrm>
          <a:prstGeom prst="straightConnector1">
            <a:avLst/>
          </a:prstGeom>
          <a:ln w="3175">
            <a:solidFill>
              <a:srgbClr val="6666ff"/>
            </a:solidFill>
            <a:miter/>
          </a:ln>
        </p:spPr>
      </p:cxn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566640" y="304920"/>
            <a:ext cx="8008560" cy="57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  <a:ea typeface="Arial"/>
              </a:rPr>
              <a:t>Образец текста</a:t>
            </a: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680">
              <a:lnSpc>
                <a:spcPct val="100000"/>
              </a:lnSpc>
              <a:spcBef>
                <a:spcPts val="519"/>
              </a:spcBef>
              <a:buClr>
                <a:srgbClr val="6666ff"/>
              </a:buClr>
              <a:buFont typeface="Wingdings" charset="2"/>
              <a:buChar char=""/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  <a:ea typeface="Arial"/>
              </a:rPr>
              <a:t>Второй уровень</a:t>
            </a:r>
            <a:endParaRPr b="0" lang="ru-RU" sz="26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59"/>
              </a:spcBef>
              <a:buClr>
                <a:srgbClr val="6666ff"/>
              </a:buClr>
              <a:buFont typeface="Wingdings" charset="2"/>
              <a:buChar char=""/>
            </a:pPr>
            <a:r>
              <a:rPr b="0" lang="ru-RU" sz="2300" spc="-1" strike="noStrike">
                <a:solidFill>
                  <a:srgbClr val="ffffff"/>
                </a:solidFill>
                <a:latin typeface="Verdana"/>
                <a:ea typeface="Arial"/>
              </a:rPr>
              <a:t>Третий уровень</a:t>
            </a:r>
            <a:endParaRPr b="0" lang="ru-RU" sz="23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lnSpc>
                <a:spcPct val="100000"/>
              </a:lnSpc>
              <a:spcBef>
                <a:spcPts val="400"/>
              </a:spcBef>
              <a:buClr>
                <a:srgbClr val="6666ff"/>
              </a:buClr>
              <a:buFont typeface="Wingdings" charset="2"/>
              <a:buChar char=""/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520">
              <a:lnSpc>
                <a:spcPct val="10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"/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13"/>
          </p:nvPr>
        </p:nvSpPr>
        <p:spPr>
          <a:xfrm>
            <a:off x="609480" y="6245280"/>
            <a:ext cx="19807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ftr" idx="14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5280"/>
            <a:ext cx="19807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4C83A338-7CEE-4569-BE4D-0BF8A775A4C5}" type="slidenum">
              <a:rPr b="0" lang="ru-RU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AutoShape 4"/>
          <p:cNvSpPr/>
          <p:nvPr/>
        </p:nvSpPr>
        <p:spPr>
          <a:xfrm>
            <a:off x="609480" y="1566720"/>
            <a:ext cx="7957800" cy="10908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chemeClr val="accent2"/>
          </a:solidFill>
          <a:ln w="9525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Line 5"/>
          <p:cNvCxnSpPr/>
          <p:nvPr/>
        </p:nvCxnSpPr>
        <p:spPr>
          <a:xfrm>
            <a:off x="609480" y="6172200"/>
            <a:ext cx="7925040" cy="360"/>
          </a:xfrm>
          <a:prstGeom prst="straightConnector1">
            <a:avLst/>
          </a:prstGeom>
          <a:ln w="3175">
            <a:solidFill>
              <a:srgbClr val="6666ff"/>
            </a:solidFill>
            <a:miter/>
          </a:ln>
        </p:spPr>
      </p:cxn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  <a:ea typeface="Arial"/>
              </a:rPr>
              <a:t>Образец заголовка</a:t>
            </a: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566640" y="1752480"/>
            <a:ext cx="3924000" cy="42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  <a:ea typeface="Arial"/>
              </a:rPr>
              <a:t>Образец текста</a:t>
            </a: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680">
              <a:lnSpc>
                <a:spcPct val="100000"/>
              </a:lnSpc>
              <a:spcBef>
                <a:spcPts val="519"/>
              </a:spcBef>
              <a:buClr>
                <a:srgbClr val="6666ff"/>
              </a:buClr>
              <a:buFont typeface="Wingdings" charset="2"/>
              <a:buChar char=""/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  <a:ea typeface="Arial"/>
              </a:rPr>
              <a:t>Второй уровень</a:t>
            </a:r>
            <a:endParaRPr b="0" lang="ru-RU" sz="26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59"/>
              </a:spcBef>
              <a:buClr>
                <a:srgbClr val="6666ff"/>
              </a:buClr>
              <a:buFont typeface="Wingdings" charset="2"/>
              <a:buChar char=""/>
            </a:pPr>
            <a:r>
              <a:rPr b="0" lang="ru-RU" sz="2300" spc="-1" strike="noStrike">
                <a:solidFill>
                  <a:srgbClr val="ffffff"/>
                </a:solidFill>
                <a:latin typeface="Verdana"/>
                <a:ea typeface="Arial"/>
              </a:rPr>
              <a:t>Третий уровень</a:t>
            </a:r>
            <a:endParaRPr b="0" lang="ru-RU" sz="23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lnSpc>
                <a:spcPct val="100000"/>
              </a:lnSpc>
              <a:spcBef>
                <a:spcPts val="400"/>
              </a:spcBef>
              <a:buClr>
                <a:srgbClr val="6666ff"/>
              </a:buClr>
              <a:buFont typeface="Wingdings" charset="2"/>
              <a:buChar char=""/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520">
              <a:lnSpc>
                <a:spcPct val="10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"/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body"/>
          </p:nvPr>
        </p:nvSpPr>
        <p:spPr>
          <a:xfrm>
            <a:off x="4643280" y="1752480"/>
            <a:ext cx="39240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  <a:ea typeface="Arial"/>
              </a:rPr>
              <a:t>Образец текста</a:t>
            </a: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680">
              <a:lnSpc>
                <a:spcPct val="100000"/>
              </a:lnSpc>
              <a:spcBef>
                <a:spcPts val="519"/>
              </a:spcBef>
              <a:buClr>
                <a:srgbClr val="6666ff"/>
              </a:buClr>
              <a:buFont typeface="Wingdings" charset="2"/>
              <a:buChar char=""/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  <a:ea typeface="Arial"/>
              </a:rPr>
              <a:t>Второй уровень</a:t>
            </a:r>
            <a:endParaRPr b="0" lang="ru-RU" sz="26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59"/>
              </a:spcBef>
              <a:buClr>
                <a:srgbClr val="6666ff"/>
              </a:buClr>
              <a:buFont typeface="Wingdings" charset="2"/>
              <a:buChar char=""/>
            </a:pPr>
            <a:r>
              <a:rPr b="0" lang="ru-RU" sz="2300" spc="-1" strike="noStrike">
                <a:solidFill>
                  <a:srgbClr val="ffffff"/>
                </a:solidFill>
                <a:latin typeface="Verdana"/>
                <a:ea typeface="Arial"/>
              </a:rPr>
              <a:t>Третий уровень</a:t>
            </a:r>
            <a:endParaRPr b="0" lang="ru-RU" sz="23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lnSpc>
                <a:spcPct val="100000"/>
              </a:lnSpc>
              <a:spcBef>
                <a:spcPts val="400"/>
              </a:spcBef>
              <a:buClr>
                <a:srgbClr val="6666ff"/>
              </a:buClr>
              <a:buFont typeface="Wingdings" charset="2"/>
              <a:buChar char=""/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520">
              <a:lnSpc>
                <a:spcPct val="10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"/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body"/>
          </p:nvPr>
        </p:nvSpPr>
        <p:spPr>
          <a:xfrm>
            <a:off x="4643280" y="3962520"/>
            <a:ext cx="39240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  <a:ea typeface="Arial"/>
              </a:rPr>
              <a:t>Образец текста</a:t>
            </a: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680">
              <a:lnSpc>
                <a:spcPct val="100000"/>
              </a:lnSpc>
              <a:spcBef>
                <a:spcPts val="519"/>
              </a:spcBef>
              <a:buClr>
                <a:srgbClr val="6666ff"/>
              </a:buClr>
              <a:buFont typeface="Wingdings" charset="2"/>
              <a:buChar char=""/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  <a:ea typeface="Arial"/>
              </a:rPr>
              <a:t>Второй уровень</a:t>
            </a:r>
            <a:endParaRPr b="0" lang="ru-RU" sz="26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59"/>
              </a:spcBef>
              <a:buClr>
                <a:srgbClr val="6666ff"/>
              </a:buClr>
              <a:buFont typeface="Wingdings" charset="2"/>
              <a:buChar char=""/>
            </a:pPr>
            <a:r>
              <a:rPr b="0" lang="ru-RU" sz="2300" spc="-1" strike="noStrike">
                <a:solidFill>
                  <a:srgbClr val="ffffff"/>
                </a:solidFill>
                <a:latin typeface="Verdana"/>
                <a:ea typeface="Arial"/>
              </a:rPr>
              <a:t>Третий уровень</a:t>
            </a:r>
            <a:endParaRPr b="0" lang="ru-RU" sz="23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lnSpc>
                <a:spcPct val="100000"/>
              </a:lnSpc>
              <a:spcBef>
                <a:spcPts val="400"/>
              </a:spcBef>
              <a:buClr>
                <a:srgbClr val="6666ff"/>
              </a:buClr>
              <a:buFont typeface="Wingdings" charset="2"/>
              <a:buChar char=""/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520">
              <a:lnSpc>
                <a:spcPct val="10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"/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dt" idx="16"/>
          </p:nvPr>
        </p:nvSpPr>
        <p:spPr>
          <a:xfrm>
            <a:off x="609480" y="6245280"/>
            <a:ext cx="19807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 type="ftr" idx="17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 type="sldNum" idx="18"/>
          </p:nvPr>
        </p:nvSpPr>
        <p:spPr>
          <a:xfrm>
            <a:off x="6553080" y="6245280"/>
            <a:ext cx="19807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1EC9A762-F758-4B51-B1F0-CC52EA98D776}" type="slidenum">
              <a:rPr b="0" lang="ru-RU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AutoShape 4"/>
          <p:cNvSpPr/>
          <p:nvPr/>
        </p:nvSpPr>
        <p:spPr>
          <a:xfrm>
            <a:off x="609480" y="1566720"/>
            <a:ext cx="7957800" cy="10908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chemeClr val="accent2"/>
          </a:solidFill>
          <a:ln w="9525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4" name="Line 5"/>
          <p:cNvCxnSpPr/>
          <p:nvPr/>
        </p:nvCxnSpPr>
        <p:spPr>
          <a:xfrm>
            <a:off x="609480" y="6172200"/>
            <a:ext cx="7925040" cy="360"/>
          </a:xfrm>
          <a:prstGeom prst="straightConnector1">
            <a:avLst/>
          </a:prstGeom>
          <a:ln w="3175">
            <a:solidFill>
              <a:srgbClr val="6666ff"/>
            </a:solidFill>
            <a:miter/>
          </a:ln>
        </p:spPr>
      </p:cxn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  <a:ea typeface="Arial"/>
              </a:rPr>
              <a:t>Образец заголовка</a:t>
            </a: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566640" y="1752480"/>
            <a:ext cx="3924000" cy="42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  <a:ea typeface="Arial"/>
              </a:rPr>
              <a:t>Образец текста</a:t>
            </a: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680">
              <a:lnSpc>
                <a:spcPct val="100000"/>
              </a:lnSpc>
              <a:spcBef>
                <a:spcPts val="519"/>
              </a:spcBef>
              <a:buClr>
                <a:srgbClr val="6666ff"/>
              </a:buClr>
              <a:buFont typeface="Wingdings" charset="2"/>
              <a:buChar char=""/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  <a:ea typeface="Arial"/>
              </a:rPr>
              <a:t>Второй уровень</a:t>
            </a:r>
            <a:endParaRPr b="0" lang="ru-RU" sz="26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59"/>
              </a:spcBef>
              <a:buClr>
                <a:srgbClr val="6666ff"/>
              </a:buClr>
              <a:buFont typeface="Wingdings" charset="2"/>
              <a:buChar char=""/>
            </a:pPr>
            <a:r>
              <a:rPr b="0" lang="ru-RU" sz="2300" spc="-1" strike="noStrike">
                <a:solidFill>
                  <a:srgbClr val="ffffff"/>
                </a:solidFill>
                <a:latin typeface="Verdana"/>
                <a:ea typeface="Arial"/>
              </a:rPr>
              <a:t>Третий уровень</a:t>
            </a:r>
            <a:endParaRPr b="0" lang="ru-RU" sz="23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lnSpc>
                <a:spcPct val="100000"/>
              </a:lnSpc>
              <a:spcBef>
                <a:spcPts val="400"/>
              </a:spcBef>
              <a:buClr>
                <a:srgbClr val="6666ff"/>
              </a:buClr>
              <a:buFont typeface="Wingdings" charset="2"/>
              <a:buChar char=""/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520">
              <a:lnSpc>
                <a:spcPct val="10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"/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body"/>
          </p:nvPr>
        </p:nvSpPr>
        <p:spPr>
          <a:xfrm>
            <a:off x="4643280" y="1752480"/>
            <a:ext cx="39240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  <a:ea typeface="Arial"/>
              </a:rPr>
              <a:t>Образец текста</a:t>
            </a: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680">
              <a:lnSpc>
                <a:spcPct val="100000"/>
              </a:lnSpc>
              <a:spcBef>
                <a:spcPts val="519"/>
              </a:spcBef>
              <a:buClr>
                <a:srgbClr val="6666ff"/>
              </a:buClr>
              <a:buFont typeface="Wingdings" charset="2"/>
              <a:buChar char=""/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  <a:ea typeface="Arial"/>
              </a:rPr>
              <a:t>Второй уровень</a:t>
            </a:r>
            <a:endParaRPr b="0" lang="ru-RU" sz="26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59"/>
              </a:spcBef>
              <a:buClr>
                <a:srgbClr val="6666ff"/>
              </a:buClr>
              <a:buFont typeface="Wingdings" charset="2"/>
              <a:buChar char=""/>
            </a:pPr>
            <a:r>
              <a:rPr b="0" lang="ru-RU" sz="2300" spc="-1" strike="noStrike">
                <a:solidFill>
                  <a:srgbClr val="ffffff"/>
                </a:solidFill>
                <a:latin typeface="Verdana"/>
                <a:ea typeface="Arial"/>
              </a:rPr>
              <a:t>Третий уровень</a:t>
            </a:r>
            <a:endParaRPr b="0" lang="ru-RU" sz="23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lnSpc>
                <a:spcPct val="100000"/>
              </a:lnSpc>
              <a:spcBef>
                <a:spcPts val="400"/>
              </a:spcBef>
              <a:buClr>
                <a:srgbClr val="6666ff"/>
              </a:buClr>
              <a:buFont typeface="Wingdings" charset="2"/>
              <a:buChar char=""/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520">
              <a:lnSpc>
                <a:spcPct val="10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"/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body"/>
          </p:nvPr>
        </p:nvSpPr>
        <p:spPr>
          <a:xfrm>
            <a:off x="4643280" y="3962520"/>
            <a:ext cx="39240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  <a:ea typeface="Arial"/>
              </a:rPr>
              <a:t>Образец текста</a:t>
            </a: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680">
              <a:lnSpc>
                <a:spcPct val="100000"/>
              </a:lnSpc>
              <a:spcBef>
                <a:spcPts val="519"/>
              </a:spcBef>
              <a:buClr>
                <a:srgbClr val="6666ff"/>
              </a:buClr>
              <a:buFont typeface="Wingdings" charset="2"/>
              <a:buChar char=""/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  <a:ea typeface="Arial"/>
              </a:rPr>
              <a:t>Второй уровень</a:t>
            </a:r>
            <a:endParaRPr b="0" lang="ru-RU" sz="26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59"/>
              </a:spcBef>
              <a:buClr>
                <a:srgbClr val="6666ff"/>
              </a:buClr>
              <a:buFont typeface="Wingdings" charset="2"/>
              <a:buChar char=""/>
            </a:pPr>
            <a:r>
              <a:rPr b="0" lang="ru-RU" sz="2300" spc="-1" strike="noStrike">
                <a:solidFill>
                  <a:srgbClr val="ffffff"/>
                </a:solidFill>
                <a:latin typeface="Verdana"/>
                <a:ea typeface="Arial"/>
              </a:rPr>
              <a:t>Третий уровень</a:t>
            </a:r>
            <a:endParaRPr b="0" lang="ru-RU" sz="23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lnSpc>
                <a:spcPct val="100000"/>
              </a:lnSpc>
              <a:spcBef>
                <a:spcPts val="400"/>
              </a:spcBef>
              <a:buClr>
                <a:srgbClr val="6666ff"/>
              </a:buClr>
              <a:buFont typeface="Wingdings" charset="2"/>
              <a:buChar char=""/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520">
              <a:lnSpc>
                <a:spcPct val="10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"/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dt" idx="19"/>
          </p:nvPr>
        </p:nvSpPr>
        <p:spPr>
          <a:xfrm>
            <a:off x="609480" y="6245280"/>
            <a:ext cx="19807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 type="ftr" idx="20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 type="sldNum" idx="21"/>
          </p:nvPr>
        </p:nvSpPr>
        <p:spPr>
          <a:xfrm>
            <a:off x="6553080" y="6245280"/>
            <a:ext cx="19807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D2759575-52CA-4123-9A89-2CEF4C75AB18}" type="slidenum">
              <a:rPr b="0" lang="ru-RU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AutoShape 4"/>
          <p:cNvSpPr/>
          <p:nvPr/>
        </p:nvSpPr>
        <p:spPr>
          <a:xfrm>
            <a:off x="609480" y="1566720"/>
            <a:ext cx="7957800" cy="10908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chemeClr val="accent2"/>
          </a:solidFill>
          <a:ln w="9525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9" name="Line 5"/>
          <p:cNvCxnSpPr/>
          <p:nvPr/>
        </p:nvCxnSpPr>
        <p:spPr>
          <a:xfrm>
            <a:off x="609480" y="6172200"/>
            <a:ext cx="7925040" cy="360"/>
          </a:xfrm>
          <a:prstGeom prst="straightConnector1">
            <a:avLst/>
          </a:prstGeom>
          <a:ln w="3175">
            <a:solidFill>
              <a:srgbClr val="6666ff"/>
            </a:solidFill>
            <a:miter/>
          </a:ln>
        </p:spPr>
      </p:cxn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  <a:ea typeface="Arial"/>
              </a:rPr>
              <a:t>Образец заголовка</a:t>
            </a: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566640" y="1752480"/>
            <a:ext cx="3924000" cy="42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69800" indent="-469800">
              <a:lnSpc>
                <a:spcPct val="100000"/>
              </a:lnSpc>
              <a:spcBef>
                <a:spcPts val="561"/>
              </a:spcBef>
              <a:buClr>
                <a:srgbClr val="6666ff"/>
              </a:buClr>
              <a:buFont typeface="Wingdings" charset="2"/>
              <a:buChar char=""/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  <a:ea typeface="Arial"/>
              </a:rPr>
              <a:t>Образец текста</a:t>
            </a:r>
            <a:endParaRPr b="0" lang="ru-RU" sz="28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680">
              <a:lnSpc>
                <a:spcPct val="100000"/>
              </a:lnSpc>
              <a:spcBef>
                <a:spcPts val="479"/>
              </a:spcBef>
              <a:buClr>
                <a:srgbClr val="6666ff"/>
              </a:buClr>
              <a:buFont typeface="Wingdings" charset="2"/>
              <a:buChar char=""/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  <a:ea typeface="Arial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00"/>
              </a:spcBef>
              <a:buClr>
                <a:srgbClr val="6666ff"/>
              </a:buClr>
              <a:buFont typeface="Wingdings" charset="2"/>
              <a:buChar char=""/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Третий уровень</a:t>
            </a: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lnSpc>
                <a:spcPct val="100000"/>
              </a:lnSpc>
              <a:spcBef>
                <a:spcPts val="360"/>
              </a:spcBef>
              <a:buClr>
                <a:srgbClr val="6666ff"/>
              </a:buClr>
              <a:buFont typeface="Wingdings" charset="2"/>
              <a:buChar char=""/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  <a:ea typeface="Arial"/>
              </a:rPr>
              <a:t>Четвертый уровень</a:t>
            </a: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520">
              <a:lnSpc>
                <a:spcPct val="100000"/>
              </a:lnSpc>
              <a:spcBef>
                <a:spcPts val="451"/>
              </a:spcBef>
              <a:buClr>
                <a:srgbClr val="6666ff"/>
              </a:buClr>
              <a:buFont typeface="Wingdings" charset="2"/>
              <a:buChar char=""/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  <a:ea typeface="Arial"/>
              </a:rPr>
              <a:t>Пятый уровень</a:t>
            </a: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body"/>
          </p:nvPr>
        </p:nvSpPr>
        <p:spPr>
          <a:xfrm>
            <a:off x="4643280" y="1752480"/>
            <a:ext cx="3924000" cy="42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69800" indent="-469800">
              <a:lnSpc>
                <a:spcPct val="100000"/>
              </a:lnSpc>
              <a:spcBef>
                <a:spcPts val="561"/>
              </a:spcBef>
              <a:buClr>
                <a:srgbClr val="6666ff"/>
              </a:buClr>
              <a:buFont typeface="Wingdings" charset="2"/>
              <a:buChar char=""/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  <a:ea typeface="Arial"/>
              </a:rPr>
              <a:t>Образец текста</a:t>
            </a:r>
            <a:endParaRPr b="0" lang="ru-RU" sz="28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680">
              <a:lnSpc>
                <a:spcPct val="100000"/>
              </a:lnSpc>
              <a:spcBef>
                <a:spcPts val="479"/>
              </a:spcBef>
              <a:buClr>
                <a:srgbClr val="6666ff"/>
              </a:buClr>
              <a:buFont typeface="Wingdings" charset="2"/>
              <a:buChar char=""/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  <a:ea typeface="Arial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00"/>
              </a:spcBef>
              <a:buClr>
                <a:srgbClr val="6666ff"/>
              </a:buClr>
              <a:buFont typeface="Wingdings" charset="2"/>
              <a:buChar char=""/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Третий уровень</a:t>
            </a: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lnSpc>
                <a:spcPct val="100000"/>
              </a:lnSpc>
              <a:spcBef>
                <a:spcPts val="360"/>
              </a:spcBef>
              <a:buClr>
                <a:srgbClr val="6666ff"/>
              </a:buClr>
              <a:buFont typeface="Wingdings" charset="2"/>
              <a:buChar char=""/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  <a:ea typeface="Arial"/>
              </a:rPr>
              <a:t>Четвертый уровень</a:t>
            </a: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520">
              <a:lnSpc>
                <a:spcPct val="100000"/>
              </a:lnSpc>
              <a:spcBef>
                <a:spcPts val="451"/>
              </a:spcBef>
              <a:buClr>
                <a:srgbClr val="6666ff"/>
              </a:buClr>
              <a:buFont typeface="Wingdings" charset="2"/>
              <a:buChar char=""/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  <a:ea typeface="Arial"/>
              </a:rPr>
              <a:t>Пятый уровень</a:t>
            </a: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dt" idx="22"/>
          </p:nvPr>
        </p:nvSpPr>
        <p:spPr>
          <a:xfrm>
            <a:off x="609480" y="6245280"/>
            <a:ext cx="19807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3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 type="sldNum" idx="24"/>
          </p:nvPr>
        </p:nvSpPr>
        <p:spPr>
          <a:xfrm>
            <a:off x="6553080" y="6245280"/>
            <a:ext cx="19807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8651970A-A61A-4DEC-A609-662E53BA3449}" type="slidenum">
              <a:rPr b="0" lang="ru-RU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AutoShape 4"/>
          <p:cNvSpPr/>
          <p:nvPr/>
        </p:nvSpPr>
        <p:spPr>
          <a:xfrm>
            <a:off x="609480" y="1566720"/>
            <a:ext cx="7957800" cy="10908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chemeClr val="accent2"/>
          </a:solidFill>
          <a:ln w="9525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3" name="Line 5"/>
          <p:cNvCxnSpPr/>
          <p:nvPr/>
        </p:nvCxnSpPr>
        <p:spPr>
          <a:xfrm>
            <a:off x="609480" y="6172200"/>
            <a:ext cx="7925040" cy="360"/>
          </a:xfrm>
          <a:prstGeom prst="straightConnector1">
            <a:avLst/>
          </a:prstGeom>
          <a:ln w="3175">
            <a:solidFill>
              <a:srgbClr val="6666ff"/>
            </a:solidFill>
            <a:miter/>
          </a:ln>
        </p:spPr>
      </p:cxn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  <a:ea typeface="Arial"/>
              </a:rPr>
              <a:t>Образец заголовка</a:t>
            </a: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566640" y="1752480"/>
            <a:ext cx="39240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  <a:ea typeface="Arial"/>
              </a:rPr>
              <a:t>Образец текста</a:t>
            </a: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680">
              <a:lnSpc>
                <a:spcPct val="100000"/>
              </a:lnSpc>
              <a:spcBef>
                <a:spcPts val="519"/>
              </a:spcBef>
              <a:buClr>
                <a:srgbClr val="6666ff"/>
              </a:buClr>
              <a:buFont typeface="Wingdings" charset="2"/>
              <a:buChar char=""/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  <a:ea typeface="Arial"/>
              </a:rPr>
              <a:t>Второй уровень</a:t>
            </a:r>
            <a:endParaRPr b="0" lang="ru-RU" sz="26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59"/>
              </a:spcBef>
              <a:buClr>
                <a:srgbClr val="6666ff"/>
              </a:buClr>
              <a:buFont typeface="Wingdings" charset="2"/>
              <a:buChar char=""/>
            </a:pPr>
            <a:r>
              <a:rPr b="0" lang="ru-RU" sz="2300" spc="-1" strike="noStrike">
                <a:solidFill>
                  <a:srgbClr val="ffffff"/>
                </a:solidFill>
                <a:latin typeface="Verdana"/>
                <a:ea typeface="Arial"/>
              </a:rPr>
              <a:t>Третий уровень</a:t>
            </a:r>
            <a:endParaRPr b="0" lang="ru-RU" sz="23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lnSpc>
                <a:spcPct val="100000"/>
              </a:lnSpc>
              <a:spcBef>
                <a:spcPts val="400"/>
              </a:spcBef>
              <a:buClr>
                <a:srgbClr val="6666ff"/>
              </a:buClr>
              <a:buFont typeface="Wingdings" charset="2"/>
              <a:buChar char=""/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520">
              <a:lnSpc>
                <a:spcPct val="10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"/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body"/>
          </p:nvPr>
        </p:nvSpPr>
        <p:spPr>
          <a:xfrm>
            <a:off x="4643280" y="1752480"/>
            <a:ext cx="39240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  <a:ea typeface="Arial"/>
              </a:rPr>
              <a:t>Образец текста</a:t>
            </a: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680">
              <a:lnSpc>
                <a:spcPct val="100000"/>
              </a:lnSpc>
              <a:spcBef>
                <a:spcPts val="519"/>
              </a:spcBef>
              <a:buClr>
                <a:srgbClr val="6666ff"/>
              </a:buClr>
              <a:buFont typeface="Wingdings" charset="2"/>
              <a:buChar char=""/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  <a:ea typeface="Arial"/>
              </a:rPr>
              <a:t>Второй уровень</a:t>
            </a:r>
            <a:endParaRPr b="0" lang="ru-RU" sz="26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59"/>
              </a:spcBef>
              <a:buClr>
                <a:srgbClr val="6666ff"/>
              </a:buClr>
              <a:buFont typeface="Wingdings" charset="2"/>
              <a:buChar char=""/>
            </a:pPr>
            <a:r>
              <a:rPr b="0" lang="ru-RU" sz="2300" spc="-1" strike="noStrike">
                <a:solidFill>
                  <a:srgbClr val="ffffff"/>
                </a:solidFill>
                <a:latin typeface="Verdana"/>
                <a:ea typeface="Arial"/>
              </a:rPr>
              <a:t>Третий уровень</a:t>
            </a:r>
            <a:endParaRPr b="0" lang="ru-RU" sz="23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lnSpc>
                <a:spcPct val="100000"/>
              </a:lnSpc>
              <a:spcBef>
                <a:spcPts val="400"/>
              </a:spcBef>
              <a:buClr>
                <a:srgbClr val="6666ff"/>
              </a:buClr>
              <a:buFont typeface="Wingdings" charset="2"/>
              <a:buChar char=""/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520">
              <a:lnSpc>
                <a:spcPct val="10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"/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body"/>
          </p:nvPr>
        </p:nvSpPr>
        <p:spPr>
          <a:xfrm>
            <a:off x="566640" y="3962520"/>
            <a:ext cx="39240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  <a:ea typeface="Arial"/>
              </a:rPr>
              <a:t>Образец текста</a:t>
            </a: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680">
              <a:lnSpc>
                <a:spcPct val="100000"/>
              </a:lnSpc>
              <a:spcBef>
                <a:spcPts val="519"/>
              </a:spcBef>
              <a:buClr>
                <a:srgbClr val="6666ff"/>
              </a:buClr>
              <a:buFont typeface="Wingdings" charset="2"/>
              <a:buChar char=""/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  <a:ea typeface="Arial"/>
              </a:rPr>
              <a:t>Второй уровень</a:t>
            </a:r>
            <a:endParaRPr b="0" lang="ru-RU" sz="26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59"/>
              </a:spcBef>
              <a:buClr>
                <a:srgbClr val="6666ff"/>
              </a:buClr>
              <a:buFont typeface="Wingdings" charset="2"/>
              <a:buChar char=""/>
            </a:pPr>
            <a:r>
              <a:rPr b="0" lang="ru-RU" sz="2300" spc="-1" strike="noStrike">
                <a:solidFill>
                  <a:srgbClr val="ffffff"/>
                </a:solidFill>
                <a:latin typeface="Verdana"/>
                <a:ea typeface="Arial"/>
              </a:rPr>
              <a:t>Третий уровень</a:t>
            </a:r>
            <a:endParaRPr b="0" lang="ru-RU" sz="23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lnSpc>
                <a:spcPct val="100000"/>
              </a:lnSpc>
              <a:spcBef>
                <a:spcPts val="400"/>
              </a:spcBef>
              <a:buClr>
                <a:srgbClr val="6666ff"/>
              </a:buClr>
              <a:buFont typeface="Wingdings" charset="2"/>
              <a:buChar char=""/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520">
              <a:lnSpc>
                <a:spcPct val="10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"/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body"/>
          </p:nvPr>
        </p:nvSpPr>
        <p:spPr>
          <a:xfrm>
            <a:off x="4643280" y="3962520"/>
            <a:ext cx="39240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  <a:ea typeface="Arial"/>
              </a:rPr>
              <a:t>Образец текста</a:t>
            </a: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680">
              <a:lnSpc>
                <a:spcPct val="100000"/>
              </a:lnSpc>
              <a:spcBef>
                <a:spcPts val="519"/>
              </a:spcBef>
              <a:buClr>
                <a:srgbClr val="6666ff"/>
              </a:buClr>
              <a:buFont typeface="Wingdings" charset="2"/>
              <a:buChar char=""/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  <a:ea typeface="Arial"/>
              </a:rPr>
              <a:t>Второй уровень</a:t>
            </a:r>
            <a:endParaRPr b="0" lang="ru-RU" sz="26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59"/>
              </a:spcBef>
              <a:buClr>
                <a:srgbClr val="6666ff"/>
              </a:buClr>
              <a:buFont typeface="Wingdings" charset="2"/>
              <a:buChar char=""/>
            </a:pPr>
            <a:r>
              <a:rPr b="0" lang="ru-RU" sz="2300" spc="-1" strike="noStrike">
                <a:solidFill>
                  <a:srgbClr val="ffffff"/>
                </a:solidFill>
                <a:latin typeface="Verdana"/>
                <a:ea typeface="Arial"/>
              </a:rPr>
              <a:t>Третий уровень</a:t>
            </a:r>
            <a:endParaRPr b="0" lang="ru-RU" sz="23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lnSpc>
                <a:spcPct val="100000"/>
              </a:lnSpc>
              <a:spcBef>
                <a:spcPts val="400"/>
              </a:spcBef>
              <a:buClr>
                <a:srgbClr val="6666ff"/>
              </a:buClr>
              <a:buFont typeface="Wingdings" charset="2"/>
              <a:buChar char=""/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520">
              <a:lnSpc>
                <a:spcPct val="10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"/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 type="dt" idx="25"/>
          </p:nvPr>
        </p:nvSpPr>
        <p:spPr>
          <a:xfrm>
            <a:off x="609480" y="6245280"/>
            <a:ext cx="19807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 type="ftr" idx="26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8"/>
          <p:cNvSpPr>
            <a:spLocks noGrp="1"/>
          </p:cNvSpPr>
          <p:nvPr>
            <p:ph type="sldNum" idx="27"/>
          </p:nvPr>
        </p:nvSpPr>
        <p:spPr>
          <a:xfrm>
            <a:off x="6553080" y="6245280"/>
            <a:ext cx="19807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AA7067CA-5AF0-422C-BA32-3281ABAAB13B}" type="slidenum">
              <a:rPr b="0" lang="ru-RU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8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6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video" Target="file:///F:/&#1059;&#1088;&#1086;&#1082;&#1080;/&#1051;&#1080;&#1090;&#1077;&#1088;&#1072;&#1090;&#1091;&#1088;&#1072;/10%20&#1082;&#1083;&#1072;&#1089;&#1089;%20&#1083;&#1080;&#1090;&#1077;&#1088;/11%20&#1063;&#1077;&#1093;&#1086;&#1074;/&#1073;&#1080;&#1086;&#1075;&#1088;&#1072;&#1092;&#1080;&#1103;%20&#1063;&#1077;&#1093;&#1086;&#1074;&#1072;/&#1063;&#1077;&#1093;&#1086;&#1074;%20&#1080;%20&#1052;&#1086;&#1089;&#1082;&#1074;&#1072;.wmv" TargetMode="External"/><Relationship Id="rId2" Type="http://schemas.microsoft.com/office/2007/relationships/media" Target="file:///F:/&#1059;&#1088;&#1086;&#1082;&#1080;/&#1051;&#1080;&#1090;&#1077;&#1088;&#1072;&#1090;&#1091;&#1088;&#1072;/10%20&#1082;&#1083;&#1072;&#1089;&#1089;%20&#1083;&#1080;&#1090;&#1077;&#1088;/11%20&#1063;&#1077;&#1093;&#1086;&#1074;/&#1073;&#1080;&#1086;&#1075;&#1088;&#1072;&#1092;&#1080;&#1103;%20&#1063;&#1077;&#1093;&#1086;&#1074;&#1072;/&#1063;&#1077;&#1093;&#1086;&#1074;%20&#1080;%20&#1052;&#1086;&#1089;&#1082;&#1074;&#1072;.wmv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8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0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8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video" Target="file:///F:/&#1059;&#1088;&#1086;&#1082;&#1080;/&#1051;&#1080;&#1090;&#1077;&#1088;&#1072;&#1090;&#1091;&#1088;&#1072;/10%20&#1082;&#1083;&#1072;&#1089;&#1089;%20&#1083;&#1080;&#1090;&#1077;&#1088;/11%20&#1063;&#1077;&#1093;&#1086;&#1074;/&#1073;&#1080;&#1086;&#1075;&#1088;&#1072;&#1092;&#1080;&#1103;%20&#1063;&#1077;&#1093;&#1086;&#1074;&#1072;/&#1063;&#1077;&#1093;&#1086;&#1074;&#1099;%20&#1074;%20&#1058;&#1072;&#1075;&#1072;&#1088;&#1086;&#1075;&#1077;.wmv" TargetMode="External"/><Relationship Id="rId2" Type="http://schemas.microsoft.com/office/2007/relationships/media" Target="file:///F:/&#1059;&#1088;&#1086;&#1082;&#1080;/&#1051;&#1080;&#1090;&#1077;&#1088;&#1072;&#1090;&#1091;&#1088;&#1072;/10%20&#1082;&#1083;&#1072;&#1089;&#1089;%20&#1083;&#1080;&#1090;&#1077;&#1088;/11%20&#1063;&#1077;&#1093;&#1086;&#1074;/&#1073;&#1080;&#1086;&#1075;&#1088;&#1072;&#1092;&#1080;&#1103;%20&#1063;&#1077;&#1093;&#1086;&#1074;&#1072;/&#1063;&#1077;&#1093;&#1086;&#1074;&#1099;%20&#1074;%20&#1058;&#1072;&#1075;&#1072;&#1088;&#1086;&#1075;&#1077;.wmv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6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video" Target="file:///F:/&#1059;&#1088;&#1086;&#1082;&#1080;/&#1051;&#1080;&#1090;&#1077;&#1088;&#1072;&#1090;&#1091;&#1088;&#1072;/10%20&#1082;&#1083;&#1072;&#1089;&#1089;%20&#1083;&#1080;&#1090;&#1077;&#1088;/11%20&#1063;&#1077;&#1093;&#1086;&#1074;/&#1073;&#1080;&#1086;&#1075;&#1088;&#1072;&#1092;&#1080;&#1103;%20&#1063;&#1077;&#1093;&#1086;&#1074;&#1072;/&#1041;&#1080;&#1086;&#1075;&#1088;&#1072;&#1092;&#1080;&#1103;%20&#1063;&#1077;&#1093;&#1086;&#1074;&#1072;%20&#1085;&#1072;&#1095;&#1072;&#1083;&#1086;%20&#1090;&#1074;&#1086;&#1088;&#1095;&#1077;&#1089;&#1090;&#1074;&#1072;.wmv" TargetMode="External"/><Relationship Id="rId2" Type="http://schemas.microsoft.com/office/2007/relationships/media" Target="file:///F:/&#1059;&#1088;&#1086;&#1082;&#1080;/&#1051;&#1080;&#1090;&#1077;&#1088;&#1072;&#1090;&#1091;&#1088;&#1072;/10%20&#1082;&#1083;&#1072;&#1089;&#1089;%20&#1083;&#1080;&#1090;&#1077;&#1088;/11%20&#1063;&#1077;&#1093;&#1086;&#1074;/&#1073;&#1080;&#1086;&#1075;&#1088;&#1072;&#1092;&#1080;&#1103;%20&#1063;&#1077;&#1093;&#1086;&#1074;&#1072;/&#1041;&#1080;&#1086;&#1075;&#1088;&#1072;&#1092;&#1080;&#1103;%20&#1063;&#1077;&#1093;&#1086;&#1074;&#1072;%20&#1085;&#1072;&#1095;&#1072;&#1083;&#1086;%20&#1090;&#1074;&#1086;&#1088;&#1095;&#1077;&#1089;&#1090;&#1074;&#1072;.wmv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Verdana"/>
                <a:ea typeface="Arial"/>
              </a:rPr>
              <a:t>Антон Павлович Чехов </a:t>
            </a:r>
            <a:br>
              <a:rPr sz="3400"/>
            </a:br>
            <a:r>
              <a:rPr b="0" lang="ru-RU" sz="3400" spc="-1" strike="noStrike">
                <a:solidFill>
                  <a:srgbClr val="ffffff"/>
                </a:solidFill>
                <a:latin typeface="Verdana"/>
                <a:ea typeface="Arial"/>
              </a:rPr>
              <a:t>Очерк жизни и творчества</a:t>
            </a:r>
            <a:endParaRPr b="0" lang="ru-RU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5440" cy="42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69800" indent="0" algn="ctr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  <a:ea typeface="Arial"/>
              </a:rPr>
              <a:t>Урок литературы в 10 классе </a:t>
            </a:r>
            <a:endParaRPr b="0" lang="ru-RU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 algn="ctr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 algn="ctr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 algn="ctr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ru-RU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 algn="ctr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 algn="r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  <a:ea typeface="Arial"/>
              </a:rPr>
              <a:t>Подготовил учитель: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Verdana"/>
                <a:ea typeface="Arial"/>
              </a:rPr>
              <a:t>Триколич А.В.</a:t>
            </a:r>
            <a:br>
              <a:rPr sz="2600"/>
            </a:br>
            <a:endParaRPr b="0" lang="ru-RU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00" name="Picture 5" descr="Чехов"/>
          <p:cNvPicPr/>
          <p:nvPr/>
        </p:nvPicPr>
        <p:blipFill>
          <a:blip r:embed="rId1"/>
          <a:stretch/>
        </p:blipFill>
        <p:spPr>
          <a:xfrm>
            <a:off x="4952880" y="1752480"/>
            <a:ext cx="3328560" cy="42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 thruBlk="true"/>
      </p:transition>
    </mc:Choice>
    <mc:Fallback>
      <p:transition spd="med">
        <p:fade thruBlk="true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  <a:ea typeface="Arial"/>
              </a:rPr>
              <a:t>Пётр Ильич Чайковский</a:t>
            </a: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4228920" cy="47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69800" indent="0">
              <a:lnSpc>
                <a:spcPct val="90000"/>
              </a:lnSpc>
              <a:spcBef>
                <a:spcPts val="340"/>
              </a:spcBef>
              <a:buNone/>
              <a:tabLst>
                <a:tab algn="l" pos="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0" lang="ru-RU" sz="17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0" lang="ru-RU" sz="1700" spc="-1" strike="noStrike">
                <a:solidFill>
                  <a:srgbClr val="ffffff"/>
                </a:solidFill>
                <a:latin typeface="Verdana"/>
                <a:ea typeface="Arial"/>
              </a:rPr>
              <a:t>Прочитав в 1887 г. в одной из газет рассказ Чехова «Миряне», П. И. Чайковский был покорен талантом молодого автора. Личное знакомство писателя и композитора состоялось в 1888 г., и Чехов решил посвятить свой сборник рассказов  «Хмурые люди» Чайковскому. </a:t>
            </a:r>
            <a:r>
              <a:rPr b="0" lang="ru-RU" sz="17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0" lang="ru-RU" sz="1700" spc="-1" strike="noStrike">
                <a:solidFill>
                  <a:srgbClr val="ffffff"/>
                </a:solidFill>
                <a:latin typeface="Verdana"/>
                <a:ea typeface="Arial"/>
              </a:rPr>
              <a:t>Композитор не только дал согласие на это посвящение, но и подарил Чехову свою фотографию с дарственной надписью: «А.П. Чехову от пламенного почитателя. П. Чайковский 14 окт. 89».</a:t>
            </a:r>
            <a:endParaRPr b="0" lang="ru-RU" sz="17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0"/>
              </a:spcBef>
              <a:buNone/>
              <a:tabLst>
                <a:tab algn="l" pos="0"/>
              </a:tabLst>
            </a:pPr>
            <a:endParaRPr b="0" lang="ru-RU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3" name="Picture 7" descr="Чайковский"/>
          <p:cNvPicPr/>
          <p:nvPr/>
        </p:nvPicPr>
        <p:blipFill>
          <a:blip r:embed="rId1"/>
          <a:stretch/>
        </p:blipFill>
        <p:spPr>
          <a:xfrm>
            <a:off x="5181480" y="2057400"/>
            <a:ext cx="2809440" cy="36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 thruBlk="true"/>
      </p:transition>
    </mc:Choice>
    <mc:Fallback>
      <p:transition spd="med">
        <p:fade thruBlk="true"/>
      </p:transition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  <a:ea typeface="Arial"/>
              </a:rPr>
              <a:t>Сумы</a:t>
            </a: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4490640" cy="42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69800" indent="0">
              <a:lnSpc>
                <a:spcPct val="8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  <a:ea typeface="Arial"/>
              </a:rPr>
              <a:t>В 1888 – 1889 гг. Антон  Павлович Чехов жил и работал в украинском городе Сумы в усадебном доме семьи Линтваревых. Врачебную практику Чехов совмещал с литературными занятиями: в Сумах была написана «Скучная история», здесь у Чехова возник замысел рассказа «Учитель словесности». </a:t>
            </a:r>
            <a:endParaRPr b="0" lang="ru-RU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6" name="Picture 7" descr="Сумы"/>
          <p:cNvPicPr/>
          <p:nvPr/>
        </p:nvPicPr>
        <p:blipFill>
          <a:blip r:embed="rId1"/>
          <a:stretch/>
        </p:blipFill>
        <p:spPr>
          <a:xfrm>
            <a:off x="4800600" y="1143000"/>
            <a:ext cx="3962160" cy="44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 thruBlk="true"/>
      </p:transition>
    </mc:Choice>
    <mc:Fallback>
      <p:transition spd="med">
        <p:fade thruBlk="true"/>
      </p:transition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Verdana"/>
                <a:ea typeface="Arial"/>
              </a:rPr>
              <a:t>Рассказы Чехова</a:t>
            </a:r>
            <a:br>
              <a:rPr sz="3400"/>
            </a:br>
            <a:r>
              <a:rPr b="1" i="1" lang="ru-RU" sz="2400" spc="-1" strike="noStrike">
                <a:solidFill>
                  <a:srgbClr val="ffffff"/>
                </a:solidFill>
                <a:latin typeface="Verdana"/>
                <a:ea typeface="Arial"/>
              </a:rPr>
              <a:t>Вспомните рассказы Чехова и их названия. Что они высмеивают? Каковы их герои?</a:t>
            </a:r>
            <a:endParaRPr b="0" lang="ru-RU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8" name="Picture 7" descr="Чехов Лошадиная фамилия"/>
          <p:cNvPicPr/>
          <p:nvPr/>
        </p:nvPicPr>
        <p:blipFill>
          <a:blip r:embed="rId1"/>
          <a:stretch/>
        </p:blipFill>
        <p:spPr>
          <a:xfrm>
            <a:off x="304920" y="3886200"/>
            <a:ext cx="3924000" cy="27730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1" descr="Чехов Смерть чиновника"/>
          <p:cNvPicPr/>
          <p:nvPr/>
        </p:nvPicPr>
        <p:blipFill>
          <a:blip r:embed="rId2"/>
          <a:stretch/>
        </p:blipFill>
        <p:spPr>
          <a:xfrm>
            <a:off x="6553080" y="2819520"/>
            <a:ext cx="2361960" cy="342864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12" descr="Чехов Хамелеон (2)"/>
          <p:cNvPicPr/>
          <p:nvPr/>
        </p:nvPicPr>
        <p:blipFill>
          <a:blip r:embed="rId3"/>
          <a:stretch/>
        </p:blipFill>
        <p:spPr>
          <a:xfrm>
            <a:off x="3809880" y="1752480"/>
            <a:ext cx="2533320" cy="33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 thruBlk="true"/>
      </p:transition>
    </mc:Choice>
    <mc:Fallback>
      <p:transition spd="med">
        <p:fade thruBlk="true"/>
      </p:transition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Verdana"/>
                <a:ea typeface="Arial"/>
              </a:rPr>
              <a:t>Цикл рассказов </a:t>
            </a:r>
            <a:br>
              <a:rPr sz="3400"/>
            </a:br>
            <a:r>
              <a:rPr b="0" lang="ru-RU" sz="3400" spc="-1" strike="noStrike">
                <a:solidFill>
                  <a:srgbClr val="ffffff"/>
                </a:solidFill>
                <a:latin typeface="Verdana"/>
                <a:ea typeface="Arial"/>
              </a:rPr>
              <a:t>о «футлярной жизни»</a:t>
            </a:r>
            <a:endParaRPr b="0" lang="ru-RU" sz="3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2" name="Picture 7" descr="Беликов"/>
          <p:cNvPicPr/>
          <p:nvPr/>
        </p:nvPicPr>
        <p:blipFill>
          <a:blip r:embed="rId1"/>
          <a:stretch/>
        </p:blipFill>
        <p:spPr>
          <a:xfrm>
            <a:off x="914400" y="1905120"/>
            <a:ext cx="2982600" cy="416376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8" descr="Ионыч"/>
          <p:cNvPicPr/>
          <p:nvPr/>
        </p:nvPicPr>
        <p:blipFill>
          <a:blip r:embed="rId2"/>
          <a:stretch/>
        </p:blipFill>
        <p:spPr>
          <a:xfrm>
            <a:off x="5181480" y="1905120"/>
            <a:ext cx="3007800" cy="41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 thruBlk="true"/>
      </p:transition>
    </mc:Choice>
    <mc:Fallback>
      <p:transition spd="med">
        <p:fade thruBlk="true"/>
      </p:transition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  <a:ea typeface="Arial"/>
              </a:rPr>
              <a:t>На Сахалине</a:t>
            </a: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4800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В 1890 г. состоялась поездка А. П. Чехова на остров Сахалин. Чехов проехал через всю страну, на Сахалине изучал жизнь каторжных и ссыльных, участвовал в переписи населения острова. Итогом сахалинских впечатлений стала очерково-публицистическая книга «Остров Сахалин» (1893-1894). Сахалинские впечатления отразились и в рассказах Чехова «В ссылке» (1892), «Убийство» (1895), повести «Палата № 6» (1892). </a:t>
            </a: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6" name="Picture 7" descr="Сахалин"/>
          <p:cNvPicPr/>
          <p:nvPr/>
        </p:nvPicPr>
        <p:blipFill>
          <a:blip r:embed="rId1"/>
          <a:stretch/>
        </p:blipFill>
        <p:spPr>
          <a:xfrm>
            <a:off x="5029200" y="3886200"/>
            <a:ext cx="3904920" cy="234756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1" descr="Чехов Сахалин"/>
          <p:cNvPicPr/>
          <p:nvPr/>
        </p:nvPicPr>
        <p:blipFill>
          <a:blip r:embed="rId2"/>
          <a:stretch/>
        </p:blipFill>
        <p:spPr>
          <a:xfrm>
            <a:off x="5715000" y="457200"/>
            <a:ext cx="2814120" cy="32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 thruBlk="true"/>
      </p:transition>
    </mc:Choice>
    <mc:Fallback>
      <p:transition spd="med">
        <p:fade thruBlk="true"/>
      </p:transition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914400" y="457200"/>
            <a:ext cx="7314840" cy="54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 thruBlk="true"/>
      </p:transition>
    </mc:Choice>
    <mc:Fallback>
      <p:transition spd="med">
        <p:fade thruBlk="true"/>
      </p:transition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216106" fill="hold"/>
                                        <p:tgtEl>
                                          <p:spTgt spid="4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delay="0" evt="onClick">
                    <p:tgtEl>
                      <p:spTgt spid="438"/>
                    </p:tgtEl>
                  </p:cond>
                </p:stCondLst>
                <p:childTnLst>
                  <p:par>
                    <p:cTn id="101" nodeType="clickEffect" fill="hold">
                      <p:stCondLst>
                        <p:cond delay="0"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1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4" dur="1" fill="hold"/>
                                        <p:tgtEl>
                                          <p:spTgt spid="4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  <a:ea typeface="Arial"/>
              </a:rPr>
              <a:t>Мелихово</a:t>
            </a: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0" name="Picture 7" descr="Мелихово"/>
          <p:cNvPicPr/>
          <p:nvPr/>
        </p:nvPicPr>
        <p:blipFill>
          <a:blip r:embed="rId1"/>
          <a:stretch/>
        </p:blipFill>
        <p:spPr>
          <a:xfrm>
            <a:off x="3581280" y="380880"/>
            <a:ext cx="5089320" cy="331920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66640" y="3962520"/>
            <a:ext cx="8000640" cy="205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69800" indent="0">
              <a:lnSpc>
                <a:spcPct val="8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  <a:ea typeface="Arial"/>
              </a:rPr>
              <a:t>В 1892 году Чехов купил имение Мелихово, недалеко от станции Лопасня (сейчас г. Чехов). Здесь он помогал местным крестьянам как врач, строил школы, выезжал в губернии, охваченные голодом (1892), работал участковым врачом во время эпидемии холеры (1892-1893), участвовал во всеобщей переписи населения (1897).</a:t>
            </a:r>
            <a:endParaRPr b="0" lang="ru-RU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med" p14:dur="700">
        <p:fade thruBlk="true"/>
      </p:transition>
    </mc:Choice>
    <mc:Fallback>
      <p:transition spd="med">
        <p:fade thruBlk="true"/>
      </p:transition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Verdana"/>
                <a:ea typeface="Arial"/>
              </a:rPr>
              <a:t>Лика Мизинова </a:t>
            </a:r>
            <a:br>
              <a:rPr sz="3400"/>
            </a:br>
            <a:r>
              <a:rPr b="0" lang="ru-RU" sz="3400" spc="-1" strike="noStrike">
                <a:solidFill>
                  <a:srgbClr val="ffffff"/>
                </a:solidFill>
                <a:latin typeface="Verdana"/>
                <a:ea typeface="Arial"/>
              </a:rPr>
              <a:t>– прототип Нины Заречной</a:t>
            </a:r>
            <a:endParaRPr b="0" lang="ru-RU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114800" y="1752480"/>
            <a:ext cx="4452480" cy="42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Личная жизнь Антона Павловича складывалась сложно. В Мелихове он познакомился с начинающей актрисой Ликой Мизиновой. Она стала прототипом Нины Заречной – героини пьесы «Чайка». Антон Павлович не смог дать счастья Лике, хотя она его очень любила. В отношении женщин он был достаточно эгоистичен и холоден.</a:t>
            </a: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4" name="Picture 7" descr="Лика Мизинова"/>
          <p:cNvPicPr/>
          <p:nvPr/>
        </p:nvPicPr>
        <p:blipFill>
          <a:blip r:embed="rId1"/>
          <a:stretch/>
        </p:blipFill>
        <p:spPr>
          <a:xfrm>
            <a:off x="762120" y="1752480"/>
            <a:ext cx="335412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 thruBlk="true"/>
      </p:transition>
    </mc:Choice>
    <mc:Fallback>
      <p:transition spd="med">
        <p:fade thruBlk="true"/>
      </p:transition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  <a:ea typeface="Arial"/>
              </a:rPr>
              <a:t>Пьесы</a:t>
            </a: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6" name="Picture 7" descr="Вишнёвый сад"/>
          <p:cNvPicPr/>
          <p:nvPr/>
        </p:nvPicPr>
        <p:blipFill>
          <a:blip r:embed="rId1"/>
          <a:stretch/>
        </p:blipFill>
        <p:spPr>
          <a:xfrm>
            <a:off x="1066680" y="1752480"/>
            <a:ext cx="2939760" cy="426672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1" descr="Три сестры"/>
          <p:cNvPicPr/>
          <p:nvPr/>
        </p:nvPicPr>
        <p:blipFill>
          <a:blip r:embed="rId2"/>
          <a:stretch/>
        </p:blipFill>
        <p:spPr>
          <a:xfrm>
            <a:off x="5181480" y="1676520"/>
            <a:ext cx="3030120" cy="44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 thruBlk="true"/>
      </p:transition>
    </mc:Choice>
    <mc:Fallback>
      <p:transition spd="med">
        <p:fade thruBlk="true"/>
      </p:transition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  <a:ea typeface="Arial"/>
              </a:rPr>
              <a:t>Комиссаржевская</a:t>
            </a: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962520" y="1752480"/>
            <a:ext cx="4723920" cy="42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6980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Verdana"/>
                <a:ea typeface="Arial"/>
              </a:rPr>
              <a:t>Комиссаржевская Вера Федоровна</a:t>
            </a:r>
            <a:r>
              <a:rPr b="1" lang="ru-RU" sz="26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Verdana"/>
                <a:ea typeface="Arial"/>
              </a:rPr>
              <a:t>(1864–1910) -  русская драматическая и трагедийная актриса и режиссер. Сыграла в пьесах А.П. Чехова «Чайка» (Нина), «Дядя Ваня» (Соня).</a:t>
            </a:r>
            <a:endParaRPr b="0" lang="ru-RU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50" name="Picture 7" descr="Комиссаржевская"/>
          <p:cNvPicPr/>
          <p:nvPr/>
        </p:nvPicPr>
        <p:blipFill>
          <a:blip r:embed="rId1"/>
          <a:stretch/>
        </p:blipFill>
        <p:spPr>
          <a:xfrm>
            <a:off x="1143000" y="1828800"/>
            <a:ext cx="2731680" cy="43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 thruBlk="true"/>
      </p:transition>
    </mc:Choice>
    <mc:Fallback>
      <p:transition spd="med">
        <p:fade thruBlk="true"/>
      </p:transition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Verdana"/>
                <a:ea typeface="Arial"/>
              </a:rPr>
              <a:t>В конце урока ответьте на вопросы:</a:t>
            </a:r>
            <a:endParaRPr b="0" lang="ru-RU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000640" cy="42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  <a:ea typeface="Arial"/>
              </a:rPr>
              <a:t>Каким вы себе представляете А. П. Чехова?</a:t>
            </a: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  <a:ea typeface="Arial"/>
              </a:rPr>
              <a:t>Какие факты биографии повлияли на формирование его как личности?</a:t>
            </a: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  <a:ea typeface="Arial"/>
              </a:rPr>
              <a:t>Запишите в тетрадь основные факты его биографии.</a:t>
            </a: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med" p14:dur="700">
        <p:fade thruBlk="true"/>
      </p:transition>
    </mc:Choice>
    <mc:Fallback>
      <p:transition spd="med">
        <p:fade thruBlk="true"/>
      </p:transition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000640" cy="68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  <a:ea typeface="Arial"/>
              </a:rPr>
              <a:t>Сотрудничество с МХТ</a:t>
            </a: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52" name="Picture 7" descr="МХТ труппа"/>
          <p:cNvPicPr/>
          <p:nvPr/>
        </p:nvPicPr>
        <p:blipFill>
          <a:blip r:embed="rId1"/>
          <a:stretch/>
        </p:blipFill>
        <p:spPr>
          <a:xfrm>
            <a:off x="2133720" y="1981080"/>
            <a:ext cx="3979440" cy="303012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5" descr="Немирович Данченко"/>
          <p:cNvPicPr/>
          <p:nvPr/>
        </p:nvPicPr>
        <p:blipFill>
          <a:blip r:embed="rId2"/>
          <a:stretch/>
        </p:blipFill>
        <p:spPr>
          <a:xfrm>
            <a:off x="152280" y="1143000"/>
            <a:ext cx="2323800" cy="29206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16" descr="Станиславский"/>
          <p:cNvPicPr/>
          <p:nvPr/>
        </p:nvPicPr>
        <p:blipFill>
          <a:blip r:embed="rId3"/>
          <a:stretch/>
        </p:blipFill>
        <p:spPr>
          <a:xfrm>
            <a:off x="6629400" y="685800"/>
            <a:ext cx="1931760" cy="292212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17" descr="Чехов и труппа МХТ"/>
          <p:cNvPicPr/>
          <p:nvPr/>
        </p:nvPicPr>
        <p:blipFill>
          <a:blip r:embed="rId4"/>
          <a:stretch/>
        </p:blipFill>
        <p:spPr>
          <a:xfrm>
            <a:off x="5410080" y="3962520"/>
            <a:ext cx="3242880" cy="27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 thruBlk="true"/>
      </p:transition>
    </mc:Choice>
    <mc:Fallback>
      <p:transition spd="med">
        <p:fade thruBlk="true"/>
      </p:transition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  <a:ea typeface="Arial"/>
              </a:rPr>
              <a:t>       </a:t>
            </a:r>
            <a:r>
              <a:rPr b="0" lang="ru-RU" sz="3800" spc="-1" strike="noStrike">
                <a:solidFill>
                  <a:srgbClr val="ffffff"/>
                </a:solidFill>
                <a:latin typeface="Verdana"/>
                <a:ea typeface="Arial"/>
              </a:rPr>
              <a:t>Ялта</a:t>
            </a: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643280" y="380880"/>
            <a:ext cx="4271760" cy="56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69800" indent="0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  <a:ea typeface="Arial"/>
              </a:rPr>
              <a:t>В 1898 году А.П. Чехов переехал в Ялту. Вокруг Белой дачи на пыльном каменистом участке Антон Павлович разбил сад. В доме Чехова в Ялте бывали Горький, Куприн, Бунин, Шаляпин, Рахманинов. Сюда приезжал МХТ – показать больному писателю спектакли по его пьесам «Чайка» и «Дядя Ваня».</a:t>
            </a:r>
            <a:endParaRPr b="0" lang="ru-RU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58" name="Picture 7" descr="Чехов и Горький"/>
          <p:cNvPicPr/>
          <p:nvPr/>
        </p:nvPicPr>
        <p:blipFill>
          <a:blip r:embed="rId1"/>
          <a:stretch/>
        </p:blipFill>
        <p:spPr>
          <a:xfrm>
            <a:off x="533520" y="2209680"/>
            <a:ext cx="3924000" cy="33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 thruBlk="true"/>
      </p:transition>
    </mc:Choice>
    <mc:Fallback>
      <p:transition spd="med">
        <p:fade thruBlk="true"/>
      </p:transition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  <a:ea typeface="Arial"/>
              </a:rPr>
              <a:t>Чехов и Толстой</a:t>
            </a: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4000" cy="42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69800" indent="0">
              <a:lnSpc>
                <a:spcPct val="8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  <a:ea typeface="Arial"/>
              </a:rPr>
              <a:t>Большое влияние на творчество Чехова оказал Л.Н. Толстой. Чехов бывал в его имении Ясная поляна, вёл длительные беседы. 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  <a:ea typeface="Arial"/>
              </a:rPr>
              <a:t>Особенно их творчество перекликалось в отношении к женщинам. Их интересовал «женский вопрос», очень актуальный в то время.</a:t>
            </a:r>
            <a:endParaRPr b="0" lang="ru-RU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61" name="Picture 7" descr="Чехов и Толстой"/>
          <p:cNvPicPr/>
          <p:nvPr/>
        </p:nvPicPr>
        <p:blipFill>
          <a:blip r:embed="rId1"/>
          <a:stretch/>
        </p:blipFill>
        <p:spPr>
          <a:xfrm>
            <a:off x="5257800" y="2057400"/>
            <a:ext cx="2693520" cy="36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 thruBlk="true"/>
      </p:transition>
    </mc:Choice>
    <mc:Fallback>
      <p:transition spd="med">
        <p:fade thruBlk="true"/>
      </p:transition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  <a:ea typeface="Arial"/>
              </a:rPr>
              <a:t>«Женский вопрос»</a:t>
            </a: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63" name="Picture 7" descr="Анна на шее"/>
          <p:cNvPicPr/>
          <p:nvPr/>
        </p:nvPicPr>
        <p:blipFill>
          <a:blip r:embed="rId1"/>
          <a:stretch/>
        </p:blipFill>
        <p:spPr>
          <a:xfrm>
            <a:off x="1143000" y="1981080"/>
            <a:ext cx="2895120" cy="388584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Дама с собачкой"/>
          <p:cNvPicPr/>
          <p:nvPr/>
        </p:nvPicPr>
        <p:blipFill>
          <a:blip r:embed="rId2"/>
          <a:stretch/>
        </p:blipFill>
        <p:spPr>
          <a:xfrm>
            <a:off x="5105520" y="1905120"/>
            <a:ext cx="2838240" cy="39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 thruBlk="true"/>
      </p:transition>
    </mc:Choice>
    <mc:Fallback>
      <p:transition spd="med">
        <p:fade thruBlk="true"/>
      </p:transition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  <a:ea typeface="Arial"/>
              </a:rPr>
              <a:t>Женитьба</a:t>
            </a: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4000" cy="42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В 1901 г. Чехов женился на актрисе МХАТа Ольге Леонардовне Книппер (1868 – 1959)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Книппер-Чехова первая воплотила на сцене образы чеховских женщин, сыграв Аркадину («Чайка», 1898), Елену Андреевну («Дядя Ваня», 1899), Машу («Три сестры», 1901), Раневскую («Вишнёвый сад») и Сарру («Иванов»; обе роли в 1901). </a:t>
            </a: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67" name="Picture 7" descr="Чехов с женой"/>
          <p:cNvPicPr/>
          <p:nvPr/>
        </p:nvPicPr>
        <p:blipFill>
          <a:blip r:embed="rId1"/>
          <a:stretch/>
        </p:blipFill>
        <p:spPr>
          <a:xfrm>
            <a:off x="4648320" y="1828800"/>
            <a:ext cx="3924000" cy="41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 thruBlk="true"/>
      </p:transition>
    </mc:Choice>
    <mc:Fallback>
      <p:transition spd="med">
        <p:fade thruBlk="true"/>
      </p:transition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  <a:ea typeface="Arial"/>
              </a:rPr>
              <a:t>Ответьте на вопросы:</a:t>
            </a: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66640" y="1981080"/>
            <a:ext cx="8000640" cy="403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  <a:ea typeface="Arial"/>
              </a:rPr>
              <a:t>Каким вы себе представляете А.П. Чехова?</a:t>
            </a: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  <a:ea typeface="Arial"/>
              </a:rPr>
              <a:t>Какие факты биографии повлияли на формирование его как личности?</a:t>
            </a: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  <a:ea typeface="Arial"/>
              </a:rPr>
              <a:t>Перечислите основные факты его биографии.</a:t>
            </a: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med" p14:dur="700">
        <p:fade thruBlk="true"/>
      </p:transition>
    </mc:Choice>
    <mc:Fallback>
      <p:transition spd="med">
        <p:fade thruBlk="true"/>
      </p:transition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8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8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8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000640" cy="83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  <a:ea typeface="Arial"/>
              </a:rPr>
              <a:t>Детство в Таганроге</a:t>
            </a: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04" name="Picture 7" descr="дом где родился Чехов"/>
          <p:cNvPicPr/>
          <p:nvPr/>
        </p:nvPicPr>
        <p:blipFill>
          <a:blip r:embed="rId1"/>
          <a:stretch/>
        </p:blipFill>
        <p:spPr>
          <a:xfrm>
            <a:off x="2743200" y="1676520"/>
            <a:ext cx="4033440" cy="285408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66640" y="4495680"/>
            <a:ext cx="8000640" cy="205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«Родился я, — писал в 1902 году А. П. Чехов своему земляку Иорданову, — в доме Болотова (так говорит моя мать) или Гнутова на Полицейской улице, в маленьком флигеле во дворе. Дома этого, вероятно, уже нет».  На самом деле, флигель, в котором родился писатель, по сей день существует в Таганроге, сейчас в нем открыт дом-музей А. П. Чехова.</a:t>
            </a: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med" p14:dur="700">
        <p:fade thruBlk="true"/>
      </p:transition>
    </mc:Choice>
    <mc:Fallback>
      <p:transition spd="med">
        <p:fade thruBlk="true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  <a:ea typeface="Arial"/>
              </a:rPr>
              <a:t>Отец А.П. Чехова</a:t>
            </a: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07" name="Picture 10" descr="отец"/>
          <p:cNvPicPr/>
          <p:nvPr/>
        </p:nvPicPr>
        <p:blipFill>
          <a:blip r:embed="rId1"/>
          <a:stretch/>
        </p:blipFill>
        <p:spPr>
          <a:xfrm>
            <a:off x="1138320" y="2057400"/>
            <a:ext cx="2779200" cy="365724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643280" y="1752480"/>
            <a:ext cx="3924000" cy="42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69800" indent="0">
              <a:lnSpc>
                <a:spcPct val="8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  <a:ea typeface="Arial"/>
              </a:rPr>
              <a:t>Отец Чехова – Павел Егорович, был волевым человеком. Он прошёл суровую школу жизни и детей воспитывал в суровости. В то же время он придавал большое значение образованию. Сам он был одарённым человеком, играл на скрипке, рисовал, организовал церковный хор.</a:t>
            </a:r>
            <a:endParaRPr b="0" lang="ru-RU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med" p14:dur="700">
        <p:fade thruBlk="true"/>
      </p:transition>
    </mc:Choice>
    <mc:Fallback>
      <p:transition spd="med">
        <p:fade thruBlk="true"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  <a:ea typeface="Arial"/>
              </a:rPr>
              <a:t>Мать А.П. Чехова</a:t>
            </a: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4000" cy="42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6980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  <a:ea typeface="Arial"/>
              </a:rPr>
              <a:t>Большое влияние на Антошу оказала его мать Евгения Яковлевна – простая русская женщина. «Мать очень добрая, кроткая и разумная женщина, ей я и мои братья обязаны многим,» - писал позднее знаменитый писатель.</a:t>
            </a:r>
            <a:endParaRPr b="0" lang="ru-RU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1" name="Picture 7" descr="мать"/>
          <p:cNvPicPr/>
          <p:nvPr/>
        </p:nvPicPr>
        <p:blipFill>
          <a:blip r:embed="rId1"/>
          <a:stretch/>
        </p:blipFill>
        <p:spPr>
          <a:xfrm>
            <a:off x="5140440" y="2057400"/>
            <a:ext cx="2937960" cy="36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 thruBlk="true"/>
      </p:transition>
    </mc:Choice>
    <mc:Fallback>
      <p:transition spd="med">
        <p:fade thruBlk="true"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80920" y="419040"/>
            <a:ext cx="7314840" cy="54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 thruBlk="true"/>
      </p:transition>
    </mc:Choice>
    <mc:Fallback>
      <p:transition spd="med">
        <p:fade thruBlk="true"/>
      </p:transition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172586" fill="hold"/>
                                        <p:tgtEl>
                                          <p:spTgt spid="4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delay="0" evt="onClick">
                    <p:tgtEl>
                      <p:spTgt spid="412"/>
                    </p:tgtEl>
                  </p:cond>
                </p:stCondLst>
                <p:childTnLst>
                  <p:par>
                    <p:cTn id="41" nodeType="clickEffect" fill="hold">
                      <p:stCondLst>
                        <p:cond delay="0" evt="onClick">
                          <p:tgtEl>
                            <p:spTgt spid="412"/>
                          </p:tgtEl>
                        </p:cond>
                      </p:stCondLst>
                      <p:childTnLst>
                        <p:par>
                          <p:cTn id="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4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  <a:ea typeface="Arial"/>
              </a:rPr>
              <a:t>С братом Николаем</a:t>
            </a: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643280" y="1752480"/>
            <a:ext cx="3924000" cy="42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6980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  <a:ea typeface="Arial"/>
              </a:rPr>
              <a:t>Семья Чеховых была очень одарена. Брат Александр был беллетристом, младший брат – Михаил – знаменитым режиссёром, рано умерший Николай – превосходным художником. Сестра Мария также прекрасно рисовала.</a:t>
            </a:r>
            <a:endParaRPr b="0" lang="ru-RU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5" name="Picture 7" descr="с братом"/>
          <p:cNvPicPr/>
          <p:nvPr/>
        </p:nvPicPr>
        <p:blipFill>
          <a:blip r:embed="rId1"/>
          <a:stretch/>
        </p:blipFill>
        <p:spPr>
          <a:xfrm>
            <a:off x="1066680" y="2057400"/>
            <a:ext cx="2925360" cy="36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 thruBlk="true"/>
      </p:transition>
    </mc:Choice>
    <mc:Fallback>
      <p:transition spd="med">
        <p:fade thruBlk="true"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  <a:ea typeface="Arial"/>
              </a:rPr>
              <a:t>Антоша Чехонте</a:t>
            </a: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4800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69800" indent="0">
              <a:lnSpc>
                <a:spcPct val="8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  <a:ea typeface="Arial"/>
              </a:rPr>
              <a:t>В  1879  году  Чехов  поступил  на  медицинский  факультет  Московского университета, а с 1880 года начал сотрудничать с юмористическими  журналами, издаваемыми в Москве  и  Петербурге. По  свидетельству современников, Чехов в  поздние годы даже не помнил всех своих рассказов, напечатанных в юмористических журналах,  -  так  много он  их  писал.  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  <a:ea typeface="Arial"/>
              </a:rPr>
              <a:t>В  1883 году, например, было напечатано более 100 его рассказов и очерков. </a:t>
            </a:r>
            <a:endParaRPr b="0" lang="ru-RU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8" name="Picture 7" descr="Антоша Чехонте"/>
          <p:cNvPicPr/>
          <p:nvPr/>
        </p:nvPicPr>
        <p:blipFill>
          <a:blip r:embed="rId1"/>
          <a:stretch/>
        </p:blipFill>
        <p:spPr>
          <a:xfrm>
            <a:off x="5334120" y="152280"/>
            <a:ext cx="2292120" cy="29937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1" descr="Осколки"/>
          <p:cNvPicPr/>
          <p:nvPr/>
        </p:nvPicPr>
        <p:blipFill>
          <a:blip r:embed="rId2"/>
          <a:stretch/>
        </p:blipFill>
        <p:spPr>
          <a:xfrm>
            <a:off x="6553080" y="3276720"/>
            <a:ext cx="2371320" cy="317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 thruBlk="true"/>
      </p:transition>
    </mc:Choice>
    <mc:Fallback>
      <p:transition spd="med">
        <p:fade thruBlk="true"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914400" y="457200"/>
            <a:ext cx="7314840" cy="54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 thruBlk="true"/>
      </p:transition>
    </mc:Choice>
    <mc:Fallback>
      <p:transition spd="med">
        <p:fade thruBlk="true"/>
      </p:transition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131456" fill="hold"/>
                                        <p:tgtEl>
                                          <p:spTgt spid="4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delay="0" evt="onClick">
                    <p:tgtEl>
                      <p:spTgt spid="420"/>
                    </p:tgtEl>
                  </p:cond>
                </p:stCondLst>
                <p:childTnLst>
                  <p:par>
                    <p:cTn id="52" nodeType="clickEffect" fill="hold">
                      <p:stCondLst>
                        <p:cond delay="0" evt="onClick">
                          <p:tgtEl>
                            <p:spTgt spid="420"/>
                          </p:tgtEl>
                        </p:cond>
                      </p:stCondLst>
                      <p:childTnLst>
                        <p:par>
                          <p:cTn id="5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5" dur="1" fill="hold"/>
                                        <p:tgtEl>
                                          <p:spTgt spid="4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Профиль">
  <a:themeElements>
    <a:clrScheme name="Профиль 5">
      <a:dk1>
        <a:srgbClr val="006666"/>
      </a:dk1>
      <a:lt1>
        <a:srgbClr val="ffffff"/>
      </a:lt1>
      <a:dk2>
        <a:srgbClr val="003366"/>
      </a:dk2>
      <a:lt2>
        <a:srgbClr val="ffffff"/>
      </a:lt2>
      <a:accent1>
        <a:srgbClr val="0099cc"/>
      </a:accent1>
      <a:accent2>
        <a:srgbClr val="6666ff"/>
      </a:accent2>
      <a:accent3>
        <a:srgbClr val="aaadb8"/>
      </a:accent3>
      <a:accent4>
        <a:srgbClr val="dadada"/>
      </a:accent4>
      <a:accent5>
        <a:srgbClr val="aacae2"/>
      </a:accent5>
      <a:accent6>
        <a:srgbClr val="5c5ce7"/>
      </a:accent6>
      <a:hlink>
        <a:srgbClr val="ffffcc"/>
      </a:hlink>
      <a:folHlink>
        <a:srgbClr val="ff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Профиль">
  <a:themeElements>
    <a:clrScheme name="Профиль 5">
      <a:dk1>
        <a:srgbClr val="006666"/>
      </a:dk1>
      <a:lt1>
        <a:srgbClr val="ffffff"/>
      </a:lt1>
      <a:dk2>
        <a:srgbClr val="003366"/>
      </a:dk2>
      <a:lt2>
        <a:srgbClr val="ffffff"/>
      </a:lt2>
      <a:accent1>
        <a:srgbClr val="0099cc"/>
      </a:accent1>
      <a:accent2>
        <a:srgbClr val="6666ff"/>
      </a:accent2>
      <a:accent3>
        <a:srgbClr val="aaadb8"/>
      </a:accent3>
      <a:accent4>
        <a:srgbClr val="dadada"/>
      </a:accent4>
      <a:accent5>
        <a:srgbClr val="aacae2"/>
      </a:accent5>
      <a:accent6>
        <a:srgbClr val="5c5ce7"/>
      </a:accent6>
      <a:hlink>
        <a:srgbClr val="ffffcc"/>
      </a:hlink>
      <a:folHlink>
        <a:srgbClr val="ff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Профиль">
  <a:themeElements>
    <a:clrScheme name="Профиль 5">
      <a:dk1>
        <a:srgbClr val="006666"/>
      </a:dk1>
      <a:lt1>
        <a:srgbClr val="ffffff"/>
      </a:lt1>
      <a:dk2>
        <a:srgbClr val="003366"/>
      </a:dk2>
      <a:lt2>
        <a:srgbClr val="ffffff"/>
      </a:lt2>
      <a:accent1>
        <a:srgbClr val="0099cc"/>
      </a:accent1>
      <a:accent2>
        <a:srgbClr val="6666ff"/>
      </a:accent2>
      <a:accent3>
        <a:srgbClr val="aaadb8"/>
      </a:accent3>
      <a:accent4>
        <a:srgbClr val="dadada"/>
      </a:accent4>
      <a:accent5>
        <a:srgbClr val="aacae2"/>
      </a:accent5>
      <a:accent6>
        <a:srgbClr val="5c5ce7"/>
      </a:accent6>
      <a:hlink>
        <a:srgbClr val="ffffcc"/>
      </a:hlink>
      <a:folHlink>
        <a:srgbClr val="ff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Профиль">
  <a:themeElements>
    <a:clrScheme name="Профиль 5">
      <a:dk1>
        <a:srgbClr val="006666"/>
      </a:dk1>
      <a:lt1>
        <a:srgbClr val="ffffff"/>
      </a:lt1>
      <a:dk2>
        <a:srgbClr val="003366"/>
      </a:dk2>
      <a:lt2>
        <a:srgbClr val="ffffff"/>
      </a:lt2>
      <a:accent1>
        <a:srgbClr val="0099cc"/>
      </a:accent1>
      <a:accent2>
        <a:srgbClr val="6666ff"/>
      </a:accent2>
      <a:accent3>
        <a:srgbClr val="aaadb8"/>
      </a:accent3>
      <a:accent4>
        <a:srgbClr val="dadada"/>
      </a:accent4>
      <a:accent5>
        <a:srgbClr val="aacae2"/>
      </a:accent5>
      <a:accent6>
        <a:srgbClr val="5c5ce7"/>
      </a:accent6>
      <a:hlink>
        <a:srgbClr val="ffffcc"/>
      </a:hlink>
      <a:folHlink>
        <a:srgbClr val="ff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Профиль">
  <a:themeElements>
    <a:clrScheme name="Профиль 5">
      <a:dk1>
        <a:srgbClr val="006666"/>
      </a:dk1>
      <a:lt1>
        <a:srgbClr val="ffffff"/>
      </a:lt1>
      <a:dk2>
        <a:srgbClr val="003366"/>
      </a:dk2>
      <a:lt2>
        <a:srgbClr val="ffffff"/>
      </a:lt2>
      <a:accent1>
        <a:srgbClr val="0099cc"/>
      </a:accent1>
      <a:accent2>
        <a:srgbClr val="6666ff"/>
      </a:accent2>
      <a:accent3>
        <a:srgbClr val="aaadb8"/>
      </a:accent3>
      <a:accent4>
        <a:srgbClr val="dadada"/>
      </a:accent4>
      <a:accent5>
        <a:srgbClr val="aacae2"/>
      </a:accent5>
      <a:accent6>
        <a:srgbClr val="5c5ce7"/>
      </a:accent6>
      <a:hlink>
        <a:srgbClr val="ffffcc"/>
      </a:hlink>
      <a:folHlink>
        <a:srgbClr val="ff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Профиль">
  <a:themeElements>
    <a:clrScheme name="Профиль 5">
      <a:dk1>
        <a:srgbClr val="006666"/>
      </a:dk1>
      <a:lt1>
        <a:srgbClr val="ffffff"/>
      </a:lt1>
      <a:dk2>
        <a:srgbClr val="003366"/>
      </a:dk2>
      <a:lt2>
        <a:srgbClr val="ffffff"/>
      </a:lt2>
      <a:accent1>
        <a:srgbClr val="0099cc"/>
      </a:accent1>
      <a:accent2>
        <a:srgbClr val="6666ff"/>
      </a:accent2>
      <a:accent3>
        <a:srgbClr val="aaadb8"/>
      </a:accent3>
      <a:accent4>
        <a:srgbClr val="dadada"/>
      </a:accent4>
      <a:accent5>
        <a:srgbClr val="aacae2"/>
      </a:accent5>
      <a:accent6>
        <a:srgbClr val="5c5ce7"/>
      </a:accent6>
      <a:hlink>
        <a:srgbClr val="ffffcc"/>
      </a:hlink>
      <a:folHlink>
        <a:srgbClr val="ff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Профиль">
  <a:themeElements>
    <a:clrScheme name="Профиль 5">
      <a:dk1>
        <a:srgbClr val="006666"/>
      </a:dk1>
      <a:lt1>
        <a:srgbClr val="ffffff"/>
      </a:lt1>
      <a:dk2>
        <a:srgbClr val="003366"/>
      </a:dk2>
      <a:lt2>
        <a:srgbClr val="ffffff"/>
      </a:lt2>
      <a:accent1>
        <a:srgbClr val="0099cc"/>
      </a:accent1>
      <a:accent2>
        <a:srgbClr val="6666ff"/>
      </a:accent2>
      <a:accent3>
        <a:srgbClr val="aaadb8"/>
      </a:accent3>
      <a:accent4>
        <a:srgbClr val="dadada"/>
      </a:accent4>
      <a:accent5>
        <a:srgbClr val="aacae2"/>
      </a:accent5>
      <a:accent6>
        <a:srgbClr val="5c5ce7"/>
      </a:accent6>
      <a:hlink>
        <a:srgbClr val="ffffcc"/>
      </a:hlink>
      <a:folHlink>
        <a:srgbClr val="ff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Профиль">
  <a:themeElements>
    <a:clrScheme name="Профиль 5">
      <a:dk1>
        <a:srgbClr val="006666"/>
      </a:dk1>
      <a:lt1>
        <a:srgbClr val="ffffff"/>
      </a:lt1>
      <a:dk2>
        <a:srgbClr val="003366"/>
      </a:dk2>
      <a:lt2>
        <a:srgbClr val="ffffff"/>
      </a:lt2>
      <a:accent1>
        <a:srgbClr val="0099cc"/>
      </a:accent1>
      <a:accent2>
        <a:srgbClr val="6666ff"/>
      </a:accent2>
      <a:accent3>
        <a:srgbClr val="aaadb8"/>
      </a:accent3>
      <a:accent4>
        <a:srgbClr val="dadada"/>
      </a:accent4>
      <a:accent5>
        <a:srgbClr val="aacae2"/>
      </a:accent5>
      <a:accent6>
        <a:srgbClr val="5c5ce7"/>
      </a:accent6>
      <a:hlink>
        <a:srgbClr val="ffffcc"/>
      </a:hlink>
      <a:folHlink>
        <a:srgbClr val="ff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Профиль">
  <a:themeElements>
    <a:clrScheme name="Профиль 5">
      <a:dk1>
        <a:srgbClr val="006666"/>
      </a:dk1>
      <a:lt1>
        <a:srgbClr val="ffffff"/>
      </a:lt1>
      <a:dk2>
        <a:srgbClr val="003366"/>
      </a:dk2>
      <a:lt2>
        <a:srgbClr val="ffffff"/>
      </a:lt2>
      <a:accent1>
        <a:srgbClr val="0099cc"/>
      </a:accent1>
      <a:accent2>
        <a:srgbClr val="6666ff"/>
      </a:accent2>
      <a:accent3>
        <a:srgbClr val="aaadb8"/>
      </a:accent3>
      <a:accent4>
        <a:srgbClr val="dadada"/>
      </a:accent4>
      <a:accent5>
        <a:srgbClr val="aacae2"/>
      </a:accent5>
      <a:accent6>
        <a:srgbClr val="5c5ce7"/>
      </a:accent6>
      <a:hlink>
        <a:srgbClr val="ffffcc"/>
      </a:hlink>
      <a:folHlink>
        <a:srgbClr val="ff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Profile</Template>
  <TotalTime>151</TotalTime>
  <Application>LibreOffice/7.4.7.2$Linux_X86_64 LibreOffice_project/40$Build-2</Application>
  <AppVersion>15.0000</AppVersion>
  <Paragraphs>4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1T10:19:08Z</dcterms:created>
  <dc:creator>Инна</dc:creator>
  <dc:description/>
  <dc:language>en-US</dc:language>
  <cp:lastModifiedBy>Школа</cp:lastModifiedBy>
  <dcterms:modified xsi:type="dcterms:W3CDTF">2023-11-06T18:53:07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25</vt:r8>
  </property>
  <property fmtid="{D5CDD505-2E9C-101B-9397-08002B2CF9AE}" pid="4" name="Version">
    <vt:r8>1</vt:r8>
  </property>
</Properties>
</file>