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A46-7D68-4C56-A363-F4E673F2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57E-BCD1-43F7-8FCD-CB0D2946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53215-5966-4B58-8D3B-FF0DA4A7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013D0-7E27-4F1B-A36D-3B50C5F6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7F7A5-F6FA-470A-9C6E-2CE307E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7E3FB-F368-48A0-B683-E262A76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A6CC0-C87D-4F21-869F-ED13A6BB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4B8E2-C364-4174-BCE4-9C36A0B1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3A4ED-5ED9-4202-A294-89D1403A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FB7F4-F197-4E16-A5D3-FF62B035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72A6A-8D76-4469-9439-9A91417A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9F9-FA09-4189-9701-D4203C97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141-60E7-4387-8E25-BD14B09B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9F3B-628E-43D1-8FC3-D18186CF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E981-ED41-4FC2-9FEA-C5D231B5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D855-33D4-4F7C-8744-24FA62FA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5B01-1402-4AFD-9009-A75BC3BE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A899-9058-4411-BDF0-85B884B9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654E-76AE-4FC4-BFAB-BD5E34C4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55E6-C8FA-439D-BED5-12F6096F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924-309A-4C0D-904D-B0A19781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9BE-FC59-4490-8B26-4D7F06D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7997-BAE5-4C70-B770-15BCFE7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5469-20AF-44D9-9D19-32827D6A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C2F6-E1E9-4C47-807E-DA313407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116B-0D32-4F31-A8F0-230CB4B9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4DB6F-AF25-4619-AA35-08446BF5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3355E-3F5B-4CA4-B770-16440794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B56F5-7895-458C-AC89-99D4D752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310C-109B-49F6-9041-9698F8E4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5318-891F-4C86-8F24-012AC7B2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447-3F1D-4CED-B2E7-78A7A8FC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F1D0-0EC2-4894-87AC-541E497D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C981-6AF7-4ED8-A449-ABD845BC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697D-73E6-4669-A829-BB71EF83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60FE-941E-40EA-B8B2-0A9C283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55FF-DDC7-45A0-BBFA-B33547B7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6B3A-C602-4F99-9307-965FF42F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3357-7DFA-4E00-8655-BEDF9339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62FB5-D4F5-476A-A70F-FE299A59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FBA0-09A8-4CA1-8ACB-BC0A5EE6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3128-C4F0-4183-9F15-B2C11A88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7F2-4B88-443B-BBB4-59775E0F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BC7D-9852-4EBA-BB92-9E496F0F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5C4F1-CF48-4F15-ACE0-38F42710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FE04-7662-4CB8-BC0B-2017D6C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8D11-0386-4803-8794-2C192308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BAE7-E15E-4134-AD16-E012CE7B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104B-68F6-44F1-AA3B-B883DB6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EF06B-11BF-4EE3-8691-153298E5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E7C2-7F99-4F04-8560-EC1E15AE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BC01-9B03-4A85-937F-AB5825D7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F15D-3AF4-4360-9C42-4F5F3CCE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F56-7694-4A51-9EAA-84B04AD6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56028-0AAF-4652-8BF4-277B9B2C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ABE24-12C8-47FF-AB1E-62096C4E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ABE5D-D382-4663-A414-A7C7F4D3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B5CC9-820F-41E6-89CE-84DBB4D6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4138-CFF3-4100-85AC-EFF203CC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A97B-540F-4BFC-B6CA-04586E8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39CA-4C1E-4ADF-9A8E-1FA12973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344C3-0FB9-40A0-86A8-9837F7C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A2E9C-3B78-4EB3-9AF2-FADF7F6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39BCC-344E-4478-87C0-935DF95B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3D6-C157-436F-B869-2F0E621F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B1DE-DC63-4663-9A3A-CD1757B9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8849-E583-4F45-97C4-F3600D31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7915-68A5-42C5-9816-86D89FAE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88F58-878A-44C6-9BB4-AE79699F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6B54A-0237-48F9-B20E-234BE439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67623-219A-4469-91E4-E99E5E71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09ADF-E0EF-4831-AFBE-A40CC4FF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1BFC-52E3-4D27-B7DD-0105FE4B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F9C8-2FC4-417A-8660-A551ECC5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8FCC-B5A6-4D24-A0FB-2F5C1B2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CFB-2B9B-4235-972A-700C60D1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37E62-8BC5-48EE-8DF2-265010A3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E659-923C-412E-ADB4-C76A6D2C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7229C-F3E2-48C1-AA40-03D8607C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EBD59-7FA5-4639-9108-1D06A4FE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C40FC-AD24-4BF0-BD9B-922E320F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0BA5-B064-4216-93A6-33B70661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046E4-6162-4F8D-96F1-A4FF16D4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A7501-2A8B-418F-950D-2F29CE97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64FB-33F7-4AEA-B83C-66D2A0AD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BAC5E-C582-4C5E-A7E2-984C579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93C-1DDD-4E16-9067-8141E2B3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9D659-568D-43B0-A275-581C3C27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2E3D8-206E-4E70-BC70-25E0AA4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9A776-7294-4D8F-965E-1160540C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91450-4BFD-4294-882A-B8117B95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1B4E2-6C90-4FD1-81AA-EF6F5B70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2C831-B8C4-4BDE-8ED1-3FF30DF4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0578-A0DF-4F05-92D8-6423DC41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B2960-D7B1-4BEE-BCD5-D0FA3BB3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E4B00-1DD4-4045-BCE6-63C9F777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A3ED7-EC56-4E2D-8362-17FF69A8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6BB-AE25-466F-A416-2F532AAB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74560" y="304920"/>
            <a:ext cx="8000640" cy="56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B80F4-DC52-4926-BFE9-C9451C50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B916E-D6B4-4E3E-ACA8-4EEBC87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B214-EA3B-44E7-A965-B1F4793B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62596-F278-49EF-9CDC-9CF7992D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6640" y="3981240"/>
            <a:ext cx="80006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91466-9A5C-49E7-88E1-7388BD96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6320" y="175248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6664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6320" y="3981240"/>
            <a:ext cx="39042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C3FE-C64A-453F-83BD-296DAD49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76720" y="175248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6664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7168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76720" y="3981240"/>
            <a:ext cx="25758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5BA8-8282-4EBA-B4AE-8469897E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F6AEE-559D-4D73-9912-3268ED0B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4F891-FCE2-4361-8279-B826B50D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A5C1B-4EBD-4DF5-BF74-9F4618A8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64B138F-8B3C-484B-867E-E2194D34E6FC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69591C5-4BB5-4A36-ACDD-F9F4EDB10E5C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566640" y="396252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F1E5396-1CC8-4AA8-B23B-73958CE2B505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10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12BC24A-BB0E-4581-9D65-2D870ED73A9F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566640" y="304920"/>
            <a:ext cx="80085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DBACC90-2139-4F69-92B4-98CD73DEBFD1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4643280" y="396252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dt" idx="16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B703E40-B11A-43C6-9B51-24C60E6950CF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4643280" y="396252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dt" idx="19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4CD9B97-31DF-4E26-B8D1-E5224B362488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56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47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36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56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47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36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51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dt" idx="22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 type="sldNum" idx="24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56443B5-EBCA-4898-A601-94E3F1CB39C1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4"/>
          <p:cNvSpPr/>
          <p:nvPr/>
        </p:nvSpPr>
        <p:spPr>
          <a:xfrm>
            <a:off x="609480" y="1566720"/>
            <a:ext cx="7957800" cy="109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chemeClr val="accent2"/>
          </a:solidFill>
          <a:ln w="9525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Line 5"/>
          <p:cNvCxnSpPr/>
          <p:nvPr/>
        </p:nvCxnSpPr>
        <p:spPr>
          <a:xfrm>
            <a:off x="609480" y="6172200"/>
            <a:ext cx="7925040" cy="360"/>
          </a:xfrm>
          <a:prstGeom prst="straightConnector1">
            <a:avLst/>
          </a:prstGeom>
          <a:ln w="3175">
            <a:solidFill>
              <a:srgbClr val="6666ff"/>
            </a:solidFill>
            <a:miter/>
          </a:ln>
        </p:spPr>
      </p:cxn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566640" y="175248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4643280" y="175248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566640" y="396252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body"/>
          </p:nvPr>
        </p:nvSpPr>
        <p:spPr>
          <a:xfrm>
            <a:off x="4643280" y="3962520"/>
            <a:ext cx="3924000" cy="20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680">
              <a:lnSpc>
                <a:spcPct val="100000"/>
              </a:lnSpc>
              <a:spcBef>
                <a:spcPts val="519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59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  <a:ea typeface="Arial"/>
              </a:rPr>
              <a:t>Третий уровень</a:t>
            </a:r>
            <a:endParaRPr b="0" lang="ru-RU" sz="23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00"/>
              </a:spcBef>
              <a:buClr>
                <a:srgbClr val="6666ff"/>
              </a:buClr>
              <a:buFont typeface="Wingdings" charset="2"/>
              <a:buChar char="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520">
              <a:lnSpc>
                <a:spcPct val="100000"/>
              </a:lnSpc>
              <a:spcBef>
                <a:spcPts val="499"/>
              </a:spcBef>
              <a:buClr>
                <a:srgbClr val="6666f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 type="dt" idx="25"/>
          </p:nvPr>
        </p:nvSpPr>
        <p:spPr>
          <a:xfrm>
            <a:off x="6094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8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19807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-RU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EDF21D9-6D45-40E5-89B3-E9608F6887D2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video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63;&#1077;&#1093;&#1086;&#1074;%20&#1080;%20&#1052;&#1086;&#1089;&#1082;&#1074;&#1072;.wmv" TargetMode="External"/><Relationship Id="rId2" Type="http://schemas.microsoft.com/office/2007/relationships/media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63;&#1077;&#1093;&#1086;&#1074;%20&#1080;%20&#1052;&#1086;&#1089;&#1082;&#1074;&#1072;.wmv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0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63;&#1077;&#1093;&#1086;&#1074;&#1099;%20&#1074;%20&#1058;&#1072;&#1075;&#1072;&#1088;&#1086;&#1075;&#1077;.wmv" TargetMode="External"/><Relationship Id="rId2" Type="http://schemas.microsoft.com/office/2007/relationships/media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63;&#1077;&#1093;&#1086;&#1074;&#1099;%20&#1074;%20&#1058;&#1072;&#1075;&#1072;&#1088;&#1086;&#1075;&#1077;.wmv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41;&#1080;&#1086;&#1075;&#1088;&#1072;&#1092;&#1080;&#1103;%20&#1063;&#1077;&#1093;&#1086;&#1074;&#1072;%20&#1085;&#1072;&#1095;&#1072;&#1083;&#1086;%20&#1090;&#1074;&#1086;&#1088;&#1095;&#1077;&#1089;&#1090;&#1074;&#1072;.wmv" TargetMode="External"/><Relationship Id="rId2" Type="http://schemas.microsoft.com/office/2007/relationships/media" Target="file:///F:/&#1059;&#1088;&#1086;&#1082;&#1080;/&#1051;&#1080;&#1090;&#1077;&#1088;&#1072;&#1090;&#1091;&#1088;&#1072;/10%20&#1082;&#1083;&#1072;&#1089;&#1089;%20&#1083;&#1080;&#1090;&#1077;&#1088;/11%20&#1063;&#1077;&#1093;&#1086;&#1074;/&#1073;&#1080;&#1086;&#1075;&#1088;&#1072;&#1092;&#1080;&#1103;%20&#1063;&#1077;&#1093;&#1086;&#1074;&#1072;/&#1041;&#1080;&#1086;&#1075;&#1088;&#1072;&#1092;&#1080;&#1103;%20&#1063;&#1077;&#1093;&#1086;&#1074;&#1072;%20&#1085;&#1072;&#1095;&#1072;&#1083;&#1086;%20&#1090;&#1074;&#1086;&#1088;&#1095;&#1077;&#1089;&#1090;&#1074;&#1072;.wmv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Антон Павлович Чехов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Очерк жизни и творчества</a:t>
            </a:r>
            <a:endParaRPr b="0" lang="ru-RU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544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Урок литературы в 10 классе 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Подготовил учитель: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Триколич А.В.</a:t>
            </a:r>
            <a:br>
              <a:rPr sz="2600"/>
            </a:b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0" name="Picture 5" descr="Чехов"/>
          <p:cNvPicPr/>
          <p:nvPr/>
        </p:nvPicPr>
        <p:blipFill>
          <a:blip r:embed="rId1"/>
          <a:stretch/>
        </p:blipFill>
        <p:spPr>
          <a:xfrm>
            <a:off x="4952880" y="1752480"/>
            <a:ext cx="3328560" cy="42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Пётр Ильич Чайковский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22892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9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Прочитав в 1887 г. в одной из газет рассказ Чехова «Миряне», П. И. Чайковский был покорен талантом молодого автора. Личное знакомство писателя и композитора состоялось в 1888 г., и Чехов решил посвятить свой сборник рассказов  «Хмурые люди» Чайковскому. 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  <a:ea typeface="Arial"/>
              </a:rPr>
              <a:t>Композитор не только дал согласие на это посвящение, но и подарил Чехову свою фотографию с дарственной надписью: «А.П. Чехову от пламенного почитателя. П. Чайковский 14 окт. 89».</a:t>
            </a:r>
            <a:endParaRPr b="0" lang="ru-RU" sz="17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ru-RU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3" name="Picture 7" descr="Чайковский"/>
          <p:cNvPicPr/>
          <p:nvPr/>
        </p:nvPicPr>
        <p:blipFill>
          <a:blip r:embed="rId1"/>
          <a:stretch/>
        </p:blipFill>
        <p:spPr>
          <a:xfrm>
            <a:off x="5181480" y="2057400"/>
            <a:ext cx="280944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Сумы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064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В 1888 – 1889 гг. Антон  Павлович Чехов жил и работал в украинском городе Сумы в усадебном доме семьи Линтваревых. Врачебную практику Чехов совмещал с литературными занятиями: в Сумах была написана «Скучная история», здесь у Чехова возник замысел рассказа «Учитель словесности». 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6" name="Picture 7" descr="Сумы"/>
          <p:cNvPicPr/>
          <p:nvPr/>
        </p:nvPicPr>
        <p:blipFill>
          <a:blip r:embed="rId1"/>
          <a:stretch/>
        </p:blipFill>
        <p:spPr>
          <a:xfrm>
            <a:off x="4800600" y="1143000"/>
            <a:ext cx="3962160" cy="44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Рассказы Чехова</a:t>
            </a:r>
            <a:br>
              <a:rPr sz="3400"/>
            </a:br>
            <a:r>
              <a:rPr b="1" i="1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Вспомните рассказы Чехова и их названия. Что они высмеивают? Каковы их герои?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Picture 7" descr="Чехов Лошадиная фамилия"/>
          <p:cNvPicPr/>
          <p:nvPr/>
        </p:nvPicPr>
        <p:blipFill>
          <a:blip r:embed="rId1"/>
          <a:stretch/>
        </p:blipFill>
        <p:spPr>
          <a:xfrm>
            <a:off x="304920" y="3886200"/>
            <a:ext cx="3924000" cy="2773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Чехов Смерть чиновника"/>
          <p:cNvPicPr/>
          <p:nvPr/>
        </p:nvPicPr>
        <p:blipFill>
          <a:blip r:embed="rId2"/>
          <a:stretch/>
        </p:blipFill>
        <p:spPr>
          <a:xfrm>
            <a:off x="6553080" y="2819520"/>
            <a:ext cx="2361960" cy="3428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Чехов Хамелеон (2)"/>
          <p:cNvPicPr/>
          <p:nvPr/>
        </p:nvPicPr>
        <p:blipFill>
          <a:blip r:embed="rId3"/>
          <a:stretch/>
        </p:blipFill>
        <p:spPr>
          <a:xfrm>
            <a:off x="3809880" y="1752480"/>
            <a:ext cx="253332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Цикл рассказов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о «футлярной жизни»</a:t>
            </a:r>
            <a:endParaRPr b="0" lang="ru-RU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2" name="Picture 7" descr="Беликов"/>
          <p:cNvPicPr/>
          <p:nvPr/>
        </p:nvPicPr>
        <p:blipFill>
          <a:blip r:embed="rId1"/>
          <a:stretch/>
        </p:blipFill>
        <p:spPr>
          <a:xfrm>
            <a:off x="914400" y="1905120"/>
            <a:ext cx="2982600" cy="4163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Ионыч"/>
          <p:cNvPicPr/>
          <p:nvPr/>
        </p:nvPicPr>
        <p:blipFill>
          <a:blip r:embed="rId2"/>
          <a:stretch/>
        </p:blipFill>
        <p:spPr>
          <a:xfrm>
            <a:off x="5181480" y="1905120"/>
            <a:ext cx="300780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На Сахалине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80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В 1890 г. состоялась поездка А. П. Чехова на остров Сахалин. Чехов проехал через всю страну, на Сахалине изучал жизнь каторжных и ссыльных, участвовал в переписи населения острова. Итогом сахалинских впечатлений стала очерково-публицистическая книга «Остров Сахалин» (1893-1894). Сахалинские впечатления отразились и в рассказах Чехова «В ссылке» (1892), «Убийство» (1895), повести «Палата № 6» (1892). 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6" name="Picture 7" descr="Сахалин"/>
          <p:cNvPicPr/>
          <p:nvPr/>
        </p:nvPicPr>
        <p:blipFill>
          <a:blip r:embed="rId1"/>
          <a:stretch/>
        </p:blipFill>
        <p:spPr>
          <a:xfrm>
            <a:off x="5029200" y="3886200"/>
            <a:ext cx="3904920" cy="2347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Чехов Сахалин"/>
          <p:cNvPicPr/>
          <p:nvPr/>
        </p:nvPicPr>
        <p:blipFill>
          <a:blip r:embed="rId2"/>
          <a:stretch/>
        </p:blipFill>
        <p:spPr>
          <a:xfrm>
            <a:off x="5715000" y="457200"/>
            <a:ext cx="2814120" cy="32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14400" y="457200"/>
            <a:ext cx="7314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16106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delay="0" evt="onClick">
                    <p:tgtEl>
                      <p:spTgt spid="438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delay="0"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Мелихово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0" name="Picture 7" descr="Мелихово"/>
          <p:cNvPicPr/>
          <p:nvPr/>
        </p:nvPicPr>
        <p:blipFill>
          <a:blip r:embed="rId1"/>
          <a:stretch/>
        </p:blipFill>
        <p:spPr>
          <a:xfrm>
            <a:off x="3581280" y="380880"/>
            <a:ext cx="5089320" cy="33192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6640" y="396252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В 1892 году Чехов купил имение Мелихово, недалеко от станции Лопасня (сейчас г. Чехов). Здесь он помогал местным крестьянам как врач, строил школы, выезжал в губернии, охваченные голодом (1892), работал участковым врачом во время эпидемии холеры (1892-1893), участвовал во всеобщей переписи населения (1897)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Лика Мизинова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– прототип Нины Заречной</a:t>
            </a:r>
            <a:endParaRPr b="0" lang="ru-RU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14800" y="1752480"/>
            <a:ext cx="445248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Личная жизнь Антона Павловича складывалась сложно. В Мелихове он познакомился с начинающей актрисой Ликой Мизиновой. Она стала прототипом Нины Заречной – героини пьесы «Чайка». Антон Павлович не смог дать счастья Лике, хотя она его очень любила. В отношении женщин он был достаточно эгоистичен и холоден.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4" name="Picture 7" descr="Лика Мизинова"/>
          <p:cNvPicPr/>
          <p:nvPr/>
        </p:nvPicPr>
        <p:blipFill>
          <a:blip r:embed="rId1"/>
          <a:stretch/>
        </p:blipFill>
        <p:spPr>
          <a:xfrm>
            <a:off x="762120" y="1752480"/>
            <a:ext cx="33541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Пьесы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6" name="Picture 7" descr="Вишнёвый сад"/>
          <p:cNvPicPr/>
          <p:nvPr/>
        </p:nvPicPr>
        <p:blipFill>
          <a:blip r:embed="rId1"/>
          <a:stretch/>
        </p:blipFill>
        <p:spPr>
          <a:xfrm>
            <a:off x="1066680" y="1752480"/>
            <a:ext cx="2939760" cy="42667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Три сестры"/>
          <p:cNvPicPr/>
          <p:nvPr/>
        </p:nvPicPr>
        <p:blipFill>
          <a:blip r:embed="rId2"/>
          <a:stretch/>
        </p:blipFill>
        <p:spPr>
          <a:xfrm>
            <a:off x="5181480" y="1676520"/>
            <a:ext cx="3030120" cy="44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Комиссаржевская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62520" y="1752480"/>
            <a:ext cx="472392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Комиссаржевская Вера Федоровна</a:t>
            </a:r>
            <a:r>
              <a:rPr b="1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  <a:ea typeface="Arial"/>
              </a:rPr>
              <a:t>(1864–1910) -  русская драматическая и трагедийная актриса и режиссер. Сыграла в пьесах А.П. Чехова «Чайка» (Нина), «Дядя Ваня» (Соня).</a:t>
            </a:r>
            <a:endParaRPr b="0" lang="ru-RU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0" name="Picture 7" descr="Комиссаржевская"/>
          <p:cNvPicPr/>
          <p:nvPr/>
        </p:nvPicPr>
        <p:blipFill>
          <a:blip r:embed="rId1"/>
          <a:stretch/>
        </p:blipFill>
        <p:spPr>
          <a:xfrm>
            <a:off x="1143000" y="1828800"/>
            <a:ext cx="2731680" cy="43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  <a:ea typeface="Arial"/>
              </a:rPr>
              <a:t>В конце урока ответьте на вопросы:</a:t>
            </a:r>
            <a:endParaRPr b="0" lang="ru-RU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064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Каким вы себе представляете А. П. Чехова?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Какие факты биографии повлияли на формирование его как личности?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Запишите в тетрадь основные факты его биографии.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00640" cy="68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Сотрудничество с МХТ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2" name="Picture 7" descr="МХТ труппа"/>
          <p:cNvPicPr/>
          <p:nvPr/>
        </p:nvPicPr>
        <p:blipFill>
          <a:blip r:embed="rId1"/>
          <a:stretch/>
        </p:blipFill>
        <p:spPr>
          <a:xfrm>
            <a:off x="2133720" y="1981080"/>
            <a:ext cx="3979440" cy="30301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5" descr="Немирович Данченко"/>
          <p:cNvPicPr/>
          <p:nvPr/>
        </p:nvPicPr>
        <p:blipFill>
          <a:blip r:embed="rId2"/>
          <a:stretch/>
        </p:blipFill>
        <p:spPr>
          <a:xfrm>
            <a:off x="152280" y="1143000"/>
            <a:ext cx="2323800" cy="2920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6" descr="Станиславский"/>
          <p:cNvPicPr/>
          <p:nvPr/>
        </p:nvPicPr>
        <p:blipFill>
          <a:blip r:embed="rId3"/>
          <a:stretch/>
        </p:blipFill>
        <p:spPr>
          <a:xfrm>
            <a:off x="6629400" y="685800"/>
            <a:ext cx="1931760" cy="29221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7" descr="Чехов и труппа МХТ"/>
          <p:cNvPicPr/>
          <p:nvPr/>
        </p:nvPicPr>
        <p:blipFill>
          <a:blip r:embed="rId4"/>
          <a:stretch/>
        </p:blipFill>
        <p:spPr>
          <a:xfrm>
            <a:off x="5410080" y="3962520"/>
            <a:ext cx="3242880" cy="27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       </a:t>
            </a: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Ялт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43280" y="380880"/>
            <a:ext cx="427176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  <a:ea typeface="Arial"/>
              </a:rPr>
              <a:t>В 1898 году А.П. Чехов переехал в Ялту. Вокруг Белой дачи на пыльном каменистом участке Антон Павлович разбил сад. В доме Чехова в Ялте бывали Горький, Куприн, Бунин, Шаляпин, Рахманинов. Сюда приезжал МХТ – показать больному писателю спектакли по его пьесам «Чайка» и «Дядя Ваня».</a:t>
            </a: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8" name="Picture 7" descr="Чехов и Горький"/>
          <p:cNvPicPr/>
          <p:nvPr/>
        </p:nvPicPr>
        <p:blipFill>
          <a:blip r:embed="rId1"/>
          <a:stretch/>
        </p:blipFill>
        <p:spPr>
          <a:xfrm>
            <a:off x="533520" y="2209680"/>
            <a:ext cx="3924000" cy="33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Чехов и Толстой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Большое влияние на творчество Чехова оказал Л.Н. Толстой. Чехов бывал в его имении Ясная поляна, вёл длительные беседы.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Особенно их творчество перекликалось в отношении к женщинам. Их интересовал «женский вопрос», очень актуальный в то время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1" name="Picture 7" descr="Чехов и Толстой"/>
          <p:cNvPicPr/>
          <p:nvPr/>
        </p:nvPicPr>
        <p:blipFill>
          <a:blip r:embed="rId1"/>
          <a:stretch/>
        </p:blipFill>
        <p:spPr>
          <a:xfrm>
            <a:off x="5257800" y="2057400"/>
            <a:ext cx="269352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«Женский вопрос»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Picture 7" descr="Анна на шее"/>
          <p:cNvPicPr/>
          <p:nvPr/>
        </p:nvPicPr>
        <p:blipFill>
          <a:blip r:embed="rId1"/>
          <a:stretch/>
        </p:blipFill>
        <p:spPr>
          <a:xfrm>
            <a:off x="1143000" y="1981080"/>
            <a:ext cx="2895120" cy="3885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Дама с собачкой"/>
          <p:cNvPicPr/>
          <p:nvPr/>
        </p:nvPicPr>
        <p:blipFill>
          <a:blip r:embed="rId2"/>
          <a:stretch/>
        </p:blipFill>
        <p:spPr>
          <a:xfrm>
            <a:off x="5105520" y="1905120"/>
            <a:ext cx="2838240" cy="39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Женитьб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В 1901 г. Чехов женился на актрисе МХАТа Ольге Леонардовне Книппер (1868 – 1959)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Книппер-Чехова первая воплотила на сцене образы чеховских женщин, сыграв Аркадину («Чайка», 1898), Елену Андреевну («Дядя Ваня», 1899), Машу («Три сестры», 1901), Раневскую («Вишнёвый сад») и Сарру («Иванов»; обе роли в 1901). 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7" name="Picture 7" descr="Чехов с женой"/>
          <p:cNvPicPr/>
          <p:nvPr/>
        </p:nvPicPr>
        <p:blipFill>
          <a:blip r:embed="rId1"/>
          <a:stretch/>
        </p:blipFill>
        <p:spPr>
          <a:xfrm>
            <a:off x="4648320" y="1828800"/>
            <a:ext cx="3924000" cy="41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тветьте на вопросы: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66640" y="1981080"/>
            <a:ext cx="8000640" cy="40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Каким вы себе представляете А.П. Чехова?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Какие факты биографии повлияли на формирование его как личности?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Wingdings" charset="2"/>
              <a:buChar char=""/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  <a:ea typeface="Arial"/>
              </a:rPr>
              <a:t>Перечислите основные факты его биографии.</a:t>
            </a:r>
            <a:endParaRPr b="0" lang="ru-RU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00640" cy="8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Детство в Таганроге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4" name="Picture 7" descr="дом где родился Чехов"/>
          <p:cNvPicPr/>
          <p:nvPr/>
        </p:nvPicPr>
        <p:blipFill>
          <a:blip r:embed="rId1"/>
          <a:stretch/>
        </p:blipFill>
        <p:spPr>
          <a:xfrm>
            <a:off x="2743200" y="1676520"/>
            <a:ext cx="4033440" cy="28540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640" y="4495680"/>
            <a:ext cx="80006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«Родился я, — писал в 1902 году А. П. Чехов своему земляку Иорданову, — в доме Болотова (так говорит моя мать) или Гнутова на Полицейской улице, в маленьком флигеле во дворе. Дома этого, вероятно, уже нет».  На самом деле, флигель, в котором родился писатель, по сей день существует в Таганроге, сейчас в нем открыт дом-музей А. П. Чехова.</a:t>
            </a:r>
            <a:endParaRPr b="0" lang="ru-RU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Отец А.П. Чехов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7" name="Picture 10" descr="отец"/>
          <p:cNvPicPr/>
          <p:nvPr/>
        </p:nvPicPr>
        <p:blipFill>
          <a:blip r:embed="rId1"/>
          <a:stretch/>
        </p:blipFill>
        <p:spPr>
          <a:xfrm>
            <a:off x="1138320" y="2057400"/>
            <a:ext cx="2779200" cy="36572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Отец Чехова – Павел Егорович, был волевым человеком. Он прошёл суровую школу жизни и детей воспитывал в суровости. В то же время он придавал большое значение образованию. Сам он был одарённым человеком, играл на скрипке, рисовал, организовал церковный хор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Мать А.П. Чехова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Большое влияние на Антошу оказала его мать Евгения Яковлевна – простая русская женщина. «Мать очень добрая, кроткая и разумная женщина, ей я и мои братья обязаны многим,» - писал позднее знаменитый писатель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1" name="Picture 7" descr="мать"/>
          <p:cNvPicPr/>
          <p:nvPr/>
        </p:nvPicPr>
        <p:blipFill>
          <a:blip r:embed="rId1"/>
          <a:stretch/>
        </p:blipFill>
        <p:spPr>
          <a:xfrm>
            <a:off x="5140440" y="2057400"/>
            <a:ext cx="293796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0920" y="419040"/>
            <a:ext cx="7314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72586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delay="0" evt="onClick">
                    <p:tgtEl>
                      <p:spTgt spid="412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delay="0"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С братом Николаем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3280" y="1752480"/>
            <a:ext cx="3924000" cy="42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Семья Чеховых была очень одарена. Брат Александр был беллетристом, младший брат – Михаил – знаменитым режиссёром, рано умерший Николай – превосходным художником. Сестра Мария также прекрасно рисовала.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5" name="Picture 7" descr="с братом"/>
          <p:cNvPicPr/>
          <p:nvPr/>
        </p:nvPicPr>
        <p:blipFill>
          <a:blip r:embed="rId1"/>
          <a:stretch/>
        </p:blipFill>
        <p:spPr>
          <a:xfrm>
            <a:off x="1066680" y="2057400"/>
            <a:ext cx="2925360" cy="36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00640" cy="12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  <a:ea typeface="Arial"/>
              </a:rPr>
              <a:t>Антоша Чехонте</a:t>
            </a:r>
            <a:endParaRPr b="0" lang="ru-RU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800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980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В  1879  году  Чехов  поступил  на  медицинский  факультет  Московского университета, а с 1880 года начал сотрудничать с юмористическими  журналами, издаваемыми в Москве  и  Петербурге. По  свидетельству современников, Чехов в  поздние годы даже не помнил всех своих рассказов, напечатанных в юмористических журналах,  -  так  много он  их  писал.  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  <a:ea typeface="Arial"/>
              </a:rPr>
              <a:t>В  1883 году, например, было напечатано более 100 его рассказов и очерков. </a:t>
            </a:r>
            <a:endParaRPr b="0" lang="ru-RU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7" descr="Антоша Чехонте"/>
          <p:cNvPicPr/>
          <p:nvPr/>
        </p:nvPicPr>
        <p:blipFill>
          <a:blip r:embed="rId1"/>
          <a:stretch/>
        </p:blipFill>
        <p:spPr>
          <a:xfrm>
            <a:off x="5334120" y="152280"/>
            <a:ext cx="2292120" cy="2993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Осколки"/>
          <p:cNvPicPr/>
          <p:nvPr/>
        </p:nvPicPr>
        <p:blipFill>
          <a:blip r:embed="rId2"/>
          <a:stretch/>
        </p:blipFill>
        <p:spPr>
          <a:xfrm>
            <a:off x="6553080" y="3276720"/>
            <a:ext cx="2371320" cy="31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14400" y="457200"/>
            <a:ext cx="7314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 thruBlk="true"/>
      </p:transition>
    </mc:Choice>
    <mc:Fallback>
      <p:transition spd="med">
        <p:fade thruBlk="true"/>
      </p:transition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31456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delay="0" evt="onClick">
                    <p:tgtEl>
                      <p:spTgt spid="420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delay="0"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Профиль">
  <a:themeElements>
    <a:clrScheme name="Профиль 5">
      <a:dk1>
        <a:srgbClr val="006666"/>
      </a:dk1>
      <a:lt1>
        <a:srgbClr val="ffffff"/>
      </a:lt1>
      <a:dk2>
        <a:srgbClr val="003366"/>
      </a:dk2>
      <a:lt2>
        <a:srgbClr val="ffffff"/>
      </a:lt2>
      <a:accent1>
        <a:srgbClr val="0099cc"/>
      </a:accent1>
      <a:accent2>
        <a:srgbClr val="6666ff"/>
      </a:accent2>
      <a:accent3>
        <a:srgbClr val="aaadb8"/>
      </a:accent3>
      <a:accent4>
        <a:srgbClr val="dadada"/>
      </a:accent4>
      <a:accent5>
        <a:srgbClr val="aacae2"/>
      </a:accent5>
      <a:accent6>
        <a:srgbClr val="5c5ce7"/>
      </a:accent6>
      <a:hlink>
        <a:srgbClr val="ffffcc"/>
      </a:hlink>
      <a:folHlink>
        <a:srgbClr val="ff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ofile</Template>
  <TotalTime>151</TotalTime>
  <Application>LibreOffice/7.4.7.2$Linux_X86_64 LibreOffice_project/40$Build-2</Application>
  <AppVersion>15.0000</AppVersion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0:19:08Z</dcterms:created>
  <dc:creator>Инна</dc:creator>
  <dc:description/>
  <dc:language>en-US</dc:language>
  <cp:lastModifiedBy>Школа</cp:lastModifiedBy>
  <dcterms:modified xsi:type="dcterms:W3CDTF">2023-11-06T18:53:0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5</vt:r8>
  </property>
  <property fmtid="{D5CDD505-2E9C-101B-9397-08002B2CF9AE}" pid="4" name="Version">
    <vt:r8>1</vt:r8>
  </property>
</Properties>
</file>