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032-9F89-44EB-B65F-EF24CC84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2575-745F-48EF-99A4-4AF035AE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F1AB-2D3D-49F9-9486-ABD1F7D2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E3E8-5DDD-4491-8B21-52F71E6D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A40E-A558-4C69-AAB0-C061B8FA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90DB-622F-4995-BDCE-A43CF06F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75C6-2FA5-4324-B4FC-CC6EBFC7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3DBB-AC18-4160-92E4-838C22F6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A72F-8061-424D-A973-CDB3E711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D118-AEEE-4840-B4A8-A9217592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76FD-3E6C-4775-9769-DC3AAFC3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5284-2BC9-4A3C-ABAD-87784777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F998-2871-4CBC-B17A-CCA8F5EA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A776-EDFB-476E-B2D6-B84ED00C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A258-E84B-42FB-9B28-4EA99E4D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105C-F46E-45B2-9170-291AEADA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C9AE-DF24-40CB-9F54-1A89D8EE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E6A33-A098-4F55-BF29-0625F009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4464D-6F5C-434C-8066-700933C4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41B06-76C2-4D45-83B8-53B7FE0E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21168-D6FC-4946-911C-7509D455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8925A-4385-4CAE-8487-883B8C34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A754-8168-4F5A-B102-3ED8A7D2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9ADDE-BD02-4C70-ADC8-B8990E98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685D9-A699-4342-8DF4-CDDB3D37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FA2EE-1BCC-48BB-9ECF-5E471D18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7800E-CDE7-4483-A590-E1F80985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4F224-DAB4-45A8-BDCA-1E01C303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C9825-75D6-4038-9FE6-1E4852F5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CCED9-F934-437D-8E52-D45D12C2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4A5A2-EA97-44BC-97F1-494B040E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E7E17-927D-440E-ACF5-5B122F4E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0C848-0E58-48A4-BF22-ED0C6254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DA66-85E5-47F5-8B7C-FD794B73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75C2A-01AC-40FD-BC2C-1F4EA90E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12EC7-8F16-4566-9B8C-DC466C8F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136D0-6FDB-49EB-AF77-DF5D2F02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B421C-4867-49BB-914A-EEEF3034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09837-3AC9-4412-A66A-1EB4C8C8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7E115-13BB-40CA-B0EE-416B1288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02643-15DC-434A-8C3B-481C0B32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7306B-59E5-45E5-8188-DB99B561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DFD21-9FBF-423D-8845-626C4F88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CB55C-3A95-493E-9CDE-84655F84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AED-7196-48EF-BADF-88D5F105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71B36-CF3C-42BD-8E51-AC91D717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F1E88-0AF2-476D-AB70-E3A03C7A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8710B-FC87-40AB-AE85-9E03198F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CCCCD-CFC5-4F40-9F94-899FE134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A6798-48BC-40FB-9D4F-54333ADC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881EC-2C92-4E32-8F1E-D398BCD5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83C24-D5DA-4FF0-8590-D66F8AF5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C72A9-9B47-4721-8FF7-3D880EAB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85C95-0B46-4F1D-A9AE-CBBCD43D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D9BAB-1DF2-403C-960C-330B24F8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C34D-D036-4B12-ADDB-B8B90ABA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1E39C-22E1-4F53-8E74-3982A3BE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89416-1921-470A-B177-61AE7E65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4FB32-B50C-40C8-8834-4AA45629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1CC92-682C-4279-9600-291556E3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934BC-26AF-4A63-BED4-3F715DEA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BEF55-CE2B-406C-A8E8-9C7C5D69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026AA-E551-49F5-8EF0-46A60E0D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219A7-A8ED-4DA6-AA7A-AA88CA48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BA93F-35A9-43BF-84B0-05992E66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B44A7-08C6-4776-9EBB-266E9ED7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D63-2595-4D54-8C9F-E53BB881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340CA-0B50-40AA-8CB0-DDB343C3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E3587-5873-4646-B44F-2975CFE6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EB925-7EE1-49CC-AB80-3E4AF0D8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042A5-463B-44C0-8761-0F9B2659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928C6-2556-45C0-8754-4CBED813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CAF70-D928-4B0C-B640-6B728B14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533CB-DB7A-47E5-B39F-EC939A0F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4BC95-E2BE-4DC8-B431-024ED410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EF9A3-E4B0-4E6F-BEAC-8560DF9E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C11F9-B67F-4E6E-A39D-C27EC0C5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641-2407-4B25-ACA1-896B5691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11899-D305-4007-B83D-C163475C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EB504-B5A6-4F8C-B40F-A2DB3F10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4A31F-F082-4C9A-BB7B-FEDC35A2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A7DC8-1FCD-41C5-9364-64BC74AA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4D9DE-21B8-448D-865F-88B79F28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1EC6-0033-4527-9760-C18F090B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5352-E926-47A5-AB99-FE6245CFA2F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0EE0-6CB1-4138-8DAE-2F29E3246DBF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F62F-A65A-412F-B2EB-81ED629BC43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F3C2-12FF-436F-AA20-AD52AC7A6639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538E-E064-488B-B77A-EF32363D4A5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7BDC-A93A-44FD-A502-BB3C8A5082E4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426D-DAA2-435F-8ECD-E56932474A75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542880" y="646200"/>
            <a:ext cx="8497800" cy="19382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42880" y="2170080"/>
            <a:ext cx="8247240" cy="4286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1"/>
          <p:cNvSpPr/>
          <p:nvPr/>
        </p:nvSpPr>
        <p:spPr>
          <a:xfrm>
            <a:off x="357120" y="428760"/>
            <a:ext cx="8358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Тесты из ЕГ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1. В    каком   предложении   НЕ    со словом   пишется слитн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1) Шумит поток, (не)скованный зим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2) (Не)обдуманное заявление директора всех возмути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3) Сочинение (не)законче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4) Выбора у меня (не)бы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2. В каком предложении НЕ со словом пишется слитн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1) Нельзя было отредактировать рассказ, (не)испортив его.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2) Внутреннее чувство подсказывает Кутузову (не)принимать волевых реш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3) Эти события сыграли (не)малую роль в судьбе Андре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4) Новая шинель (не)сшита.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Семиугольник 2"/>
          <p:cNvGrpSpPr/>
          <p:nvPr/>
        </p:nvGrpSpPr>
        <p:grpSpPr>
          <a:xfrm>
            <a:off x="7918560" y="1262160"/>
            <a:ext cx="1060200" cy="1152360"/>
            <a:chOff x="7918560" y="1262160"/>
            <a:chExt cx="1060200" cy="1152360"/>
          </a:xfrm>
        </p:grpSpPr>
        <p:pic>
          <p:nvPicPr>
            <p:cNvPr id="323" name="Семиугольник 2" descr=""/>
            <p:cNvPicPr/>
            <p:nvPr/>
          </p:nvPicPr>
          <p:blipFill>
            <a:blip r:embed="rId1"/>
            <a:stretch/>
          </p:blipFill>
          <p:spPr>
            <a:xfrm>
              <a:off x="7918560" y="1262160"/>
              <a:ext cx="10602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8091360" y="1538280"/>
              <a:ext cx="7336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Семиугольник 3"/>
          <p:cNvGrpSpPr/>
          <p:nvPr/>
        </p:nvGrpSpPr>
        <p:grpSpPr>
          <a:xfrm>
            <a:off x="7632720" y="3548160"/>
            <a:ext cx="1060560" cy="1152360"/>
            <a:chOff x="7632720" y="3548160"/>
            <a:chExt cx="1060560" cy="1152360"/>
          </a:xfrm>
        </p:grpSpPr>
        <p:pic>
          <p:nvPicPr>
            <p:cNvPr id="326" name="Семиугольник 3" descr=""/>
            <p:cNvPicPr/>
            <p:nvPr/>
          </p:nvPicPr>
          <p:blipFill>
            <a:blip r:embed="rId2"/>
            <a:stretch/>
          </p:blipFill>
          <p:spPr>
            <a:xfrm>
              <a:off x="7632720" y="3548160"/>
              <a:ext cx="10605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7805880" y="3824280"/>
              <a:ext cx="733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1"/>
          <p:cNvSpPr/>
          <p:nvPr/>
        </p:nvSpPr>
        <p:spPr>
          <a:xfrm>
            <a:off x="357120" y="428760"/>
            <a:ext cx="8429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3. В каком предложении НЕ с последующим словом пишется отдельн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1) Художник (не)навидит фальш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2) Мы купили (не)большую вместительную сумку.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3) Работа (не)законч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4) Раздумывать было (не)ког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4. В каком предложении НЕ со словом пишется раздельн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1) Свои (не)былицы он с удовольствием рассказывал всем своим друзь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2) В квартире вот уже месяц идет ремонт, и вам (не)где принимать гос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3) (Не)правильно делать такие выводы без должного осн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4) Двери дома были (не)закры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5. В каком предложений НЕ со словом пишется раздельн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1) Я ей обязательно растолкую, что (не)чего меня боя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2) (Не)друг поддакивает, а друг спорит.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3) Это письмо еще (не)закончено мно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4) (Не)вежество хуже темной ноч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Семиугольник 2"/>
          <p:cNvGrpSpPr/>
          <p:nvPr/>
        </p:nvGrpSpPr>
        <p:grpSpPr>
          <a:xfrm>
            <a:off x="7918560" y="1262160"/>
            <a:ext cx="1060200" cy="1152360"/>
            <a:chOff x="7918560" y="1262160"/>
            <a:chExt cx="1060200" cy="1152360"/>
          </a:xfrm>
        </p:grpSpPr>
        <p:pic>
          <p:nvPicPr>
            <p:cNvPr id="330" name="Семиугольник 2" descr=""/>
            <p:cNvPicPr/>
            <p:nvPr/>
          </p:nvPicPr>
          <p:blipFill>
            <a:blip r:embed="rId1"/>
            <a:stretch/>
          </p:blipFill>
          <p:spPr>
            <a:xfrm>
              <a:off x="7918560" y="1262160"/>
              <a:ext cx="10602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8091360" y="1538280"/>
              <a:ext cx="7336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Семиугольник 3"/>
          <p:cNvGrpSpPr/>
          <p:nvPr/>
        </p:nvGrpSpPr>
        <p:grpSpPr>
          <a:xfrm>
            <a:off x="7985160" y="3760920"/>
            <a:ext cx="1062000" cy="1152360"/>
            <a:chOff x="7985160" y="3760920"/>
            <a:chExt cx="1062000" cy="1152360"/>
          </a:xfrm>
        </p:grpSpPr>
        <p:pic>
          <p:nvPicPr>
            <p:cNvPr id="333" name="Семиугольник 3" descr=""/>
            <p:cNvPicPr/>
            <p:nvPr/>
          </p:nvPicPr>
          <p:blipFill>
            <a:blip r:embed="rId2"/>
            <a:stretch/>
          </p:blipFill>
          <p:spPr>
            <a:xfrm>
              <a:off x="7985160" y="3760920"/>
              <a:ext cx="1062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163000" y="4038480"/>
              <a:ext cx="733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entury Gothic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Семиугольник 4"/>
          <p:cNvGrpSpPr/>
          <p:nvPr/>
        </p:nvGrpSpPr>
        <p:grpSpPr>
          <a:xfrm>
            <a:off x="6986520" y="5546880"/>
            <a:ext cx="1060560" cy="1152360"/>
            <a:chOff x="6986520" y="5546880"/>
            <a:chExt cx="1060560" cy="1152360"/>
          </a:xfrm>
        </p:grpSpPr>
        <p:pic>
          <p:nvPicPr>
            <p:cNvPr id="336" name="Семиугольник 4" descr=""/>
            <p:cNvPicPr/>
            <p:nvPr/>
          </p:nvPicPr>
          <p:blipFill>
            <a:blip r:embed="rId3"/>
            <a:stretch/>
          </p:blipFill>
          <p:spPr>
            <a:xfrm>
              <a:off x="6986520" y="5546880"/>
              <a:ext cx="10605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62920" y="5824440"/>
              <a:ext cx="733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357120" y="571680"/>
          <a:ext cx="8429760" cy="6064200"/>
        </p:xfrm>
        <a:graphic>
          <a:graphicData uri="http://schemas.openxmlformats.org/drawingml/2006/table">
            <a:tbl>
              <a:tblPr/>
              <a:tblGrid>
                <a:gridCol w="4214880"/>
                <a:gridCol w="4214880"/>
              </a:tblGrid>
              <a:tr h="274680"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лит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дель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320"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Century Gothic"/>
                        <a:buAutoNum type="arabicPeriod"/>
                        <a:tabLst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 сущ., прил., наре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сли без «НЕ» не употребляе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сли можно заменить синонимом без «НЕ» или близким по значению выражени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Century Gothic"/>
                        <a:buAutoNum type="arabicPeriod"/>
                        <a:tabLst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 сущ., прил., нареч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сли есть или подразумевается противопостав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сли есть частицы ВОВСЕ НЕ, ОТНЮДЬ НЕ, ДАЛЕКО НЕ, СОВСЕМ НЕ, НИЧУТЬ Н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Century Gothic"/>
                        <a:buAutoNum type="arabicPeriod"/>
                        <a:tabLst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трицательные и неопределённые местоимения и нареч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сли не вклинивается предлог (некем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Century Gothic"/>
                        <a:buAutoNum type="arabicPeriod"/>
                        <a:tabLst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трицательные и неопределённые местоимения и нареч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сли вклинивается предлог (не с кем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Century Gothic"/>
                        <a:buAutoNum type="arabicPeriod"/>
                        <a:tabLst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Глаголы и деепричас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сли без «НЕ» не употребляю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сли приставка «НЕДО» имеет значение «нехватка в нужном количестве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Century Gothic"/>
                        <a:buAutoNum type="arabicPeriod"/>
                        <a:tabLst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Глаголы и деепричас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сегд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60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тглагольные прилагательные и причас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лные, без противопоставления и зависимых сл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ас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ратк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сть зависимое сло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сть противопоставление с союзом «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сть частицы ВОВЕ НЕ, СОВСЕМ НЕ, ОТНЮДЬ НЕ, ДАЛЕКО НЕ, НИЧУТЬ Н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4" name="Заголовок 5" descr=""/>
          <p:cNvPicPr/>
          <p:nvPr/>
        </p:nvPicPr>
        <p:blipFill>
          <a:blip r:embed="rId1"/>
          <a:stretch/>
        </p:blipFill>
        <p:spPr>
          <a:xfrm>
            <a:off x="426960" y="-6480"/>
            <a:ext cx="8229600" cy="933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7200" y="428400"/>
            <a:ext cx="8229600" cy="60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А1 Имя существительное пишется с НЕ раздельно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1. (НЕ) видимкою луна освещает снег летучий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2. Передо мной был (не)враг, а друг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3. (Не)известности уже не было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4. Мы остановились в (не)доумении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5. С годами у него появилась (не)решительность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А2 НЕ пишется слитно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1. Это (не)правда, а откровенная ложь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2. (Не)правду я не потерплю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3. Это надо считать (не)удачей, а случайностью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4. Царевна (Не)смеяна – героиня многих сказок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5. (Не)терпение, а раздражительность мешали разговору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428400"/>
            <a:ext cx="8229600" cy="60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А3 Имя существительное пишется с НЕ раздельно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1. Удивила (не)зависимость и резкость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2. Появилась (не)решительность, а какая- то застенчивость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3. С (не)ряхой мало кто общается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4. (Не)счастье, а горе постигло нас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5. Человек – творец счастья и (не)счастья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А4 Слово с НЕ пишется слитно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1. Вовремя письмо (не) отправили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2. Не все (не)настье, проглянет и красное солнышко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3. Кто рано сеет, тот семян (не) теряет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4. Мне сегодня (не)здоровится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5. (Не)нависть – плохой советчик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3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510760" cy="1395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Вариант I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решительность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ряшливость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большой, но рыбны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цвет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весело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нисколько (не)трудно помочь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былицы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умны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далеко (не)трудная задач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навидеть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вежественно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правда, а ложь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большой, а маленьки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чень (не)красиво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разумно, а глуп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Вариант I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взгоды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аккуратны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добрый, но красивы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доумевать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многословно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чень (не)вежливо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погод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лепы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тнюдь (не)свежая газет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види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взрачно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дело, а бездель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добрый, а зло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овсе (не)легко сделать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серьезно, а беспечн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510760" cy="13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"/>
          <p:cNvGraphicFramePr/>
          <p:nvPr/>
        </p:nvGraphicFramePr>
        <p:xfrm>
          <a:off x="4932360" y="2255760"/>
          <a:ext cx="4038480" cy="2659320"/>
        </p:xfrm>
        <a:graphic>
          <a:graphicData uri="http://schemas.openxmlformats.org/drawingml/2006/table">
            <a:tbl>
              <a:tblPr/>
              <a:tblGrid>
                <a:gridCol w="2209680"/>
                <a:gridCol w="1828800"/>
              </a:tblGrid>
              <a:tr h="2660040">
                <a:tc>
                  <a:txBody>
                    <a:bodyPr lIns="95400" rIns="95400" tIns="95400" bIns="95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лит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множко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большой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сколько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ясно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подвижность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вольно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ожиданность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медлен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5400" rIns="95400" tIns="95400" bIns="95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дель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 вижу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 выдаю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 знаю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 мог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pSp>
        <p:nvGrpSpPr>
          <p:cNvPr id="312" name="Скругленный прямоугольник 6"/>
          <p:cNvGrpSpPr/>
          <p:nvPr/>
        </p:nvGrpSpPr>
        <p:grpSpPr>
          <a:xfrm>
            <a:off x="237960" y="1951200"/>
            <a:ext cx="4578480" cy="3217680"/>
            <a:chOff x="237960" y="1951200"/>
            <a:chExt cx="4578480" cy="3217680"/>
          </a:xfrm>
        </p:grpSpPr>
        <p:pic>
          <p:nvPicPr>
            <p:cNvPr id="313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237960" y="1951200"/>
              <a:ext cx="4578480" cy="32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73040" y="2200320"/>
              <a:ext cx="4129200" cy="27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17375e"/>
                  </a:solidFill>
                  <a:latin typeface="Century Gothic"/>
                </a:rPr>
                <a:t>Проверь себ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2" descr=""/>
          <p:cNvPicPr/>
          <p:nvPr/>
        </p:nvPicPr>
        <p:blipFill>
          <a:blip r:embed="rId1"/>
          <a:stretch/>
        </p:blipFill>
        <p:spPr>
          <a:xfrm>
            <a:off x="360360" y="493236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0" y="3571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entury Gothic"/>
              </a:rPr>
              <a:t>Трава (не)скошена, (не)мигающая звезда, (не)был в школе, (не)погасший костер, (не)выносимая духота, (ни)чем (не)нарушаемая тишина, (не)прекращающийся ни на минуту дождь, ни(с)кем (не)простившийся, афиши (не)расклеены; скамейки (не)покрашены, </a:t>
            </a:r>
            <a:br>
              <a:rPr sz="2100"/>
            </a:br>
            <a:r>
              <a:rPr b="1" lang="ru-RU" sz="2100" spc="-1" strike="noStrike">
                <a:solidFill>
                  <a:srgbClr val="ffffff"/>
                </a:solidFill>
                <a:latin typeface="Century Gothic"/>
              </a:rPr>
              <a:t>(не)убраны; (не)крашеный забор, (не)нарушив клятвы, (не)откусывайте больших кусков, вовсе (не)интересен, (не)знакомый человек; ситец (не)дорогой, а красивый; поступил (не)хорошо; (ни)чуть (не)красиво; (не)шерстяной свитер; (не)менее; делал (не)кое-как; (не)лепый поступок; взлететь (не)высоко, а низко; волосы были (не)черные; (не)дорогой, хотя и красивый подарок; (не)пять книг; все время (не)дорабатывает; (не)написанный, а напечатанный лист; совершенно (не)исследованная местность; (не)достал до дна озера; (не)тяжелее; (не)ты; (не)смотря на (не)погоду; (не)строгий учитель; (не)сколько рублей; (не)кого послать; капля (не)велика.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360360" y="4456080"/>
            <a:ext cx="8229600" cy="18655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0" y="2142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entury Gothic"/>
              </a:rPr>
              <a:t>Еще (не)завершенный роман, расставлены (не)давно, здание (не)построено в срок, шел (не)торопясь, дотемна бродил (не)спеша, (не)меньше километра; (не)широкая, но бурная речонка; небо (не)голубое; далеко (не)зрелое яблоко; еще (не)распустившийся цветок; ботинки (не)кожаные; (не)достает теплоты; (не)дочитал книгу; (не)спрашивая ни о чем; вовсе (не)трудная задача; почти (не)отредактированная рукопись; (не)откуда взять; (не)что интересное; (не)по-нашему; (не)каждый; (не)взирая на лица; совершил (не)хороший, а дурной поступок; (не)прочитанная, а лишь просмотренная книга; (не)три дня; глаза были (не)голубые; далеко (не)легкое дело; (не)здоровится; поступил (не)по-товарищески; (не)куда пойти; (не)справедливое решение; очень (не)красивый зонт; (не)легко было в пути; он был (не)весел; читал (не)громко, но выразительно; ситец (не)дорогой, а дешевый; (ни)чем (не)прикрытая голова; (не)убранные поля; (не)подумав; (не)мог заснуть; (не)ясность звука; (не)веселое путешествие; (не)тяжелее; (не)кого спросить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extBox 3" descr=""/>
          <p:cNvPicPr/>
          <p:nvPr/>
        </p:nvPicPr>
        <p:blipFill>
          <a:blip r:embed="rId1"/>
          <a:stretch/>
        </p:blipFill>
        <p:spPr>
          <a:xfrm>
            <a:off x="927000" y="1500120"/>
            <a:ext cx="6931080" cy="101772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4" descr="спортсмен.gif"/>
          <p:cNvPicPr/>
          <p:nvPr/>
        </p:nvPicPr>
        <p:blipFill>
          <a:blip r:embed="rId2"/>
          <a:stretch/>
        </p:blipFill>
        <p:spPr>
          <a:xfrm>
            <a:off x="3929040" y="3071880"/>
            <a:ext cx="1533600" cy="1733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4:19:44Z</dcterms:created>
  <dc:creator>Инна</dc:creator>
  <dc:description/>
  <dc:language>en-US</dc:language>
  <cp:lastModifiedBy>Школа</cp:lastModifiedBy>
  <dcterms:modified xsi:type="dcterms:W3CDTF">2023-10-25T07:45:49Z</dcterms:modified>
  <cp:revision>22</cp:revision>
  <dc:subject/>
  <dc:title>НЕ с различными частями речи</dc:title>
</cp:coreProperties>
</file>