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F47-19E6-4537-A48A-68AB2012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0FF-09F2-4A1B-A078-81D9DCAF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A61-0465-4D29-8B21-6F2F3168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6A2-4B3A-4E2F-AE33-CAAABE89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3EAB-96B9-4DED-929D-69FE8556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84CF-BB57-4D31-BB9B-FE79E099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0349-1D91-4BA9-A090-773C158C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4274-866D-4D8D-AE07-00E907C4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6FA5-3AD0-42E6-8537-F7E50581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1849-F246-4E1F-BCDA-59C377DF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D097-B3A3-4C63-B825-7134D1EC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D7E-1A39-439A-96FF-2752E665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A101-1EA6-4EF8-B14B-CB3F30E6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19BF-F0C6-49AA-B1B4-FF407960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FBB3-17B7-4341-82B3-977D3E7D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4687-4A59-4838-8550-E119EACD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68D2-A42C-4F94-B4F4-68BE9EBE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F682-B00B-4957-8DEC-F4612F31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D9CA-91AA-4918-8C97-4F1532A0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5E153-0EA0-4D64-A4DE-F4392CE6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A5E9-8F62-475F-A9D8-24BCF59D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EF5D-31BA-4348-A547-F5D3ADFB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CD3-982B-4AF2-8F4C-3B129258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18EF8-94DF-4923-BFDE-057D2AE3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427E-C1F0-41BB-86FA-755E0238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52B4-50C0-48E2-A844-D309566F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1423-A339-4B12-82B6-9970CE00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0CE1-98DC-43C2-8F25-5DAA9BBC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AD17-C5EF-41EA-BEBA-143BD474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0901-BAD9-4355-94DF-6153FAD8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D867-E3F7-439B-BA11-3B5F9991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7B6BA-7995-4ACA-B467-91EC8203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371C-953A-4EBB-AE0A-386BCAEB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D35-545F-44CE-BC92-916FAFB1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9572C-C468-4853-8778-771CF184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94F2-E3C2-4550-9B00-EDFFE34F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C3898-433B-41F4-AF32-15A39C88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EB66A-A6D7-4374-9F5A-2B4AE098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1651C-F559-4AC2-8EEB-B9BAC68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96050-9A2D-4D2E-BF2B-FB150D17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D60B-14DA-4B2D-94BB-6A523613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19138-ABBA-4DE7-901D-33401C19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5B04-1B24-414D-8051-99337C90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36FD-08BC-4F9B-9C50-AC46EC74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B58-BAE1-4C46-9590-A786D8C0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F8694-7E17-47CC-BB8C-A7916F82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D1F00-A36C-4811-93FB-940A0EEA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58BEA-753C-43E9-9758-8B535823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D231B-CAD0-4F5B-B4CF-1DD29AE8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12BEE-C8CD-4EB6-94CC-FD88A42A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3339-AA1C-45D1-B467-EB340A9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3A54B-6CCB-44C2-8FDB-5C8549F4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ED4CE-1266-4489-A057-8C41AE77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1CC6-5A2A-479B-8BBA-C8FB5C75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1A66E-6207-4C2A-9F74-038A54C8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F46-F3FB-4DA8-A3FE-0CB4EC6C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80D2-3C52-4EE5-B8A4-23BEAED3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11584-A565-46F9-8F77-D4AB5CAA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6B00B-8E6E-48E3-9ADE-F8C236C4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7887C-7CCB-4BBB-BC6B-E5AB9761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730E6-5D26-47A2-A8A9-0498B622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46C1A-0216-440D-BEEB-7961BA11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D0DEA-90D8-4238-9208-9F4D9F85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6A258-7015-41D4-9316-36203ECD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D9A86-2031-4F2C-A07F-B4B1325F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3AA1E-27E5-40CC-9DAF-5578471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4F8-FD4C-4F13-945F-590493AA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C3D97-EA76-4305-931E-95BB1EB0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EDA54-6C55-4A8C-BF58-147CCD9E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43992-5F18-4795-9726-FB5C041C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E0465-FA51-4B12-B6A6-C7173245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BEC4C-40CE-46A6-BA72-3173AB2B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DAFB8-49B3-4E05-B08B-5757A6EE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E8FC6-74D7-48E0-A09A-51BEFD94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319AC-957D-4B8C-971A-B6496C34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10EC4-FB4E-4C6A-BFF9-318DC819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D3581-5197-448A-82CF-89C5DFCC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C44-9E4A-4B0E-B511-59C93F8B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CE326-8AE4-485F-AA02-578E0A37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2B63A-E553-456F-92CB-D015BC57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250D1-86EB-47DC-A3B0-D6A7129C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F0AFE-C2F4-4EC9-B135-771ECB05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A2AE5-E856-423F-B101-628F2CE9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44D-7D7F-4262-9EF5-09612E7A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B4BC-F101-4656-B9E7-F604E91C126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A48B-6F42-4EE6-BF75-607157DB576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BD5E-BCF7-426C-BDBD-2A018F3C912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B6CC-3FC2-4D63-8B62-F084286BCB1A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C88A-8D42-4570-AE10-68192384003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4183-2658-4754-82CB-44109AD66095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B880-865B-4874-BA2C-F9D2BAC62EF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42880" y="646200"/>
            <a:ext cx="8497800" cy="193824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247240" cy="428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1"/>
          <p:cNvSpPr/>
          <p:nvPr/>
        </p:nvSpPr>
        <p:spPr>
          <a:xfrm>
            <a:off x="357120" y="42876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есты из ЕГ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. В    каком   предложении   НЕ    со словом   пишется слит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) Шумит поток, (не)скованный зим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) (Не)обдуманное заявление директора всех возмути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) Сочинение (не)законче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) Выбора у меня (не)бы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. В каком предложении НЕ со словом пишется слит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) Нельзя было отредактировать рассказ, (не)испортив его.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) Внутреннее чувство подсказывает Кутузову (не)принимать волевых реш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) Эти события сыграли (не)малую роль в судьбе Андре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) Новая шинель (не)сшита.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Семиугольник 2"/>
          <p:cNvGrpSpPr/>
          <p:nvPr/>
        </p:nvGrpSpPr>
        <p:grpSpPr>
          <a:xfrm>
            <a:off x="7918560" y="1262160"/>
            <a:ext cx="1060200" cy="1152360"/>
            <a:chOff x="7918560" y="1262160"/>
            <a:chExt cx="1060200" cy="1152360"/>
          </a:xfrm>
        </p:grpSpPr>
        <p:pic>
          <p:nvPicPr>
            <p:cNvPr id="323" name="Семиугольник 2" descr=""/>
            <p:cNvPicPr/>
            <p:nvPr/>
          </p:nvPicPr>
          <p:blipFill>
            <a:blip r:embed="rId1"/>
            <a:stretch/>
          </p:blipFill>
          <p:spPr>
            <a:xfrm>
              <a:off x="7918560" y="1262160"/>
              <a:ext cx="10602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8091360" y="1538280"/>
              <a:ext cx="733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Семиугольник 3"/>
          <p:cNvGrpSpPr/>
          <p:nvPr/>
        </p:nvGrpSpPr>
        <p:grpSpPr>
          <a:xfrm>
            <a:off x="7632720" y="3548160"/>
            <a:ext cx="1060560" cy="1152360"/>
            <a:chOff x="7632720" y="3548160"/>
            <a:chExt cx="1060560" cy="1152360"/>
          </a:xfrm>
        </p:grpSpPr>
        <p:pic>
          <p:nvPicPr>
            <p:cNvPr id="326" name="Семиугольник 3" descr=""/>
            <p:cNvPicPr/>
            <p:nvPr/>
          </p:nvPicPr>
          <p:blipFill>
            <a:blip r:embed="rId2"/>
            <a:stretch/>
          </p:blipFill>
          <p:spPr>
            <a:xfrm>
              <a:off x="7632720" y="3548160"/>
              <a:ext cx="1060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7805880" y="3824280"/>
              <a:ext cx="733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357120" y="428760"/>
            <a:ext cx="8429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. В каком предложении НЕ с последующим словом пишется отде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) Художник (не)навидит фальш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) Мы купили (не)большую вместительную сумку.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) Работа (не)законч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) Раздумывать было (не)ко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. В каком предложении НЕ со словом пишется разде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) Свои (не)былицы он с удовольствием рассказывал всем своим друзь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) В квартире вот уже месяц идет ремонт, и вам (не)где принимать гос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) (Не)правильно делать такие выводы без должного осн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) Двери дома были (не)закры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5. В каком предложений НЕ со словом пишется разде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1) Я ей обязательно растолкую, что (не)чего меня боя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2) (Не)друг поддакивает, а друг спорит.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3) Это письмо еще (не)закончено мно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4) (Не)вежество хуже темной но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Семиугольник 2"/>
          <p:cNvGrpSpPr/>
          <p:nvPr/>
        </p:nvGrpSpPr>
        <p:grpSpPr>
          <a:xfrm>
            <a:off x="7918560" y="1262160"/>
            <a:ext cx="1060200" cy="1152360"/>
            <a:chOff x="7918560" y="1262160"/>
            <a:chExt cx="1060200" cy="1152360"/>
          </a:xfrm>
        </p:grpSpPr>
        <p:pic>
          <p:nvPicPr>
            <p:cNvPr id="330" name="Семиугольник 2" descr=""/>
            <p:cNvPicPr/>
            <p:nvPr/>
          </p:nvPicPr>
          <p:blipFill>
            <a:blip r:embed="rId1"/>
            <a:stretch/>
          </p:blipFill>
          <p:spPr>
            <a:xfrm>
              <a:off x="7918560" y="1262160"/>
              <a:ext cx="10602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8091360" y="1538280"/>
              <a:ext cx="7336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Семиугольник 3"/>
          <p:cNvGrpSpPr/>
          <p:nvPr/>
        </p:nvGrpSpPr>
        <p:grpSpPr>
          <a:xfrm>
            <a:off x="7985160" y="3760920"/>
            <a:ext cx="1062000" cy="1152360"/>
            <a:chOff x="7985160" y="3760920"/>
            <a:chExt cx="1062000" cy="1152360"/>
          </a:xfrm>
        </p:grpSpPr>
        <p:pic>
          <p:nvPicPr>
            <p:cNvPr id="333" name="Семиугольник 3" descr=""/>
            <p:cNvPicPr/>
            <p:nvPr/>
          </p:nvPicPr>
          <p:blipFill>
            <a:blip r:embed="rId2"/>
            <a:stretch/>
          </p:blipFill>
          <p:spPr>
            <a:xfrm>
              <a:off x="7985160" y="3760920"/>
              <a:ext cx="1062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163000" y="4038480"/>
              <a:ext cx="733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entury Gothic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Семиугольник 4"/>
          <p:cNvGrpSpPr/>
          <p:nvPr/>
        </p:nvGrpSpPr>
        <p:grpSpPr>
          <a:xfrm>
            <a:off x="6986520" y="5546880"/>
            <a:ext cx="1060560" cy="1152360"/>
            <a:chOff x="6986520" y="5546880"/>
            <a:chExt cx="1060560" cy="1152360"/>
          </a:xfrm>
        </p:grpSpPr>
        <p:pic>
          <p:nvPicPr>
            <p:cNvPr id="336" name="Семиугольник 4" descr=""/>
            <p:cNvPicPr/>
            <p:nvPr/>
          </p:nvPicPr>
          <p:blipFill>
            <a:blip r:embed="rId3"/>
            <a:stretch/>
          </p:blipFill>
          <p:spPr>
            <a:xfrm>
              <a:off x="6986520" y="5546880"/>
              <a:ext cx="1060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62920" y="5824440"/>
              <a:ext cx="733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357120" y="571680"/>
          <a:ext cx="8429760" cy="606420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274680"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лит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д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 сущ., прил., наре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без «НЕ» не употребляе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можно заменить синонимом без «НЕ» или близким по значению выражени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 сущ., прил., нареч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есть или подразумевается противопоста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есть частицы ВОВСЕ НЕ, ОТНЮДЬ НЕ, ДАЛЕКО НЕ, СОВСЕМ НЕ, НИЧУТЬ 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трицательные и неопределённые местоимения и нареч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не вклинивается предлог (некем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трицательные и неопределённые местоимения и нареч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вклинивается предлог (не с кем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9200"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лаголы и деепричас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без «НЕ» не употребля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ли приставка «НЕДО» имеет значение «нехватка в нужном количестве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Century Gothic"/>
                        <a:buAutoNum type="arabicPeriod"/>
                        <a:tabLst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лаголы и деепричас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сегд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6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тглагольные прилагательные и причас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лные, без противопоставления и зависимых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час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рат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ть зависимое сло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ть противопоставление с союзом «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сть частицы ВОВЕ НЕ, СОВСЕМ НЕ, ОТНЮДЬ НЕ, ДАЛЕКО НЕ, НИЧУТЬ Н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4" name="Заголовок 5" descr=""/>
          <p:cNvPicPr/>
          <p:nvPr/>
        </p:nvPicPr>
        <p:blipFill>
          <a:blip r:embed="rId1"/>
          <a:stretch/>
        </p:blipFill>
        <p:spPr>
          <a:xfrm>
            <a:off x="426960" y="-6480"/>
            <a:ext cx="8229600" cy="93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428400"/>
            <a:ext cx="82296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1 Имя существительное пишется с НЕ раздельно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1. (НЕ) видимкою луна освещает снег летучий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2. Передо мной был (не)враг, а друг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3. (Не)известности уже не было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4. Мы остановились в (не)доумении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5. С годами у него появилась (не)решительность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2 НЕ пишется слитно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1. Это (не)правда, а откровенная ложь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2. (Не)правду я не потерплю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3. Это надо считать (не)удачей, а случайностью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4. Царевна (Не)смеяна – героиня многих сказок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5. (Не)терпение, а раздражительность мешали разговору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428400"/>
            <a:ext cx="822960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3 Имя существительное пишется с НЕ раздельно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1. Удивила (не)зависимость и резкость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2. Появилась (не)решительность, а какая- то застенчивость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3. С (не)ряхой мало кто общается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4. (Не)счастье, а горе постигло нас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5. Человек – творец счастья и (не)счастья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А4 Слово с НЕ пишется слитно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1. Вовремя письмо (не) отправили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2. Не все (не)настье, проглянет и красное солнышко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3. Кто рано сеет, тот семян (не) теряет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4. Мне сегодня (не)здоровится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5. (Не)нависть – плохой советчик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3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510760" cy="1395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Вариант I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решительнос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ряшливос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большой, но рыбн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цвет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весел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нисколько (не)трудно помоч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былиц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умн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алеко (не)трудная задач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навиде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вежественн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правда, а лож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большой, а маленьки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чень (не)красив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разумно, а глуп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Вариант I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взгод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аккуратн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добрый, но красив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доумева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многословн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чень (не)вежлив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погод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лепы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тнюдь (не)свежая газет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види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взрачн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дело, а безделье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добрый, а зло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овсе (не)легко сдела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(не)серьезно, а беспечно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176040" y="268200"/>
            <a:ext cx="8510760" cy="13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4932360" y="2255760"/>
          <a:ext cx="4038480" cy="2659320"/>
        </p:xfrm>
        <a:graphic>
          <a:graphicData uri="http://schemas.openxmlformats.org/drawingml/2006/table">
            <a:tbl>
              <a:tblPr/>
              <a:tblGrid>
                <a:gridCol w="2209680"/>
                <a:gridCol w="1828800"/>
              </a:tblGrid>
              <a:tr h="2660040"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лит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множко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большой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сколько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ясно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подвижнос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вольно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ожиданность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медлен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зд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 вижу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 выдаю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 знаю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е мог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pSp>
        <p:nvGrpSpPr>
          <p:cNvPr id="312" name="Скругленный прямоугольник 6"/>
          <p:cNvGrpSpPr/>
          <p:nvPr/>
        </p:nvGrpSpPr>
        <p:grpSpPr>
          <a:xfrm>
            <a:off x="237960" y="1951200"/>
            <a:ext cx="4578480" cy="3217680"/>
            <a:chOff x="237960" y="1951200"/>
            <a:chExt cx="4578480" cy="3217680"/>
          </a:xfrm>
        </p:grpSpPr>
        <p:pic>
          <p:nvPicPr>
            <p:cNvPr id="313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37960" y="1951200"/>
              <a:ext cx="4578480" cy="32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73040" y="2200320"/>
              <a:ext cx="4129200" cy="27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17375e"/>
                  </a:solidFill>
                  <a:latin typeface="Century Gothic"/>
                </a:rPr>
                <a:t>Проверь себ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2" descr=""/>
          <p:cNvPicPr/>
          <p:nvPr/>
        </p:nvPicPr>
        <p:blipFill>
          <a:blip r:embed="rId1"/>
          <a:stretch/>
        </p:blipFill>
        <p:spPr>
          <a:xfrm>
            <a:off x="360360" y="493236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0" y="357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Трава (не)скошена, (не)мигающая звезда, (не)был в школе, (не)погасший костер, (не)выносимая духота, (ни)чем (не)нарушаемая тишина, (не)прекращающийся ни на минуту дождь, ни(с)кем (не)простившийся, афиши (не)расклеены; скамейки (не)покрашены, </a:t>
            </a:r>
            <a:br>
              <a:rPr sz="2100"/>
            </a:br>
            <a:r>
              <a:rPr b="1" lang="ru-RU" sz="2100" spc="-1" strike="noStrike">
                <a:solidFill>
                  <a:srgbClr val="ffffff"/>
                </a:solidFill>
                <a:latin typeface="Century Gothic"/>
              </a:rPr>
              <a:t>(не)убраны; (не)крашеный забор, (не)нарушив клятвы, (не)откусывайте больших кусков, вовсе (не)интересен, (не)знакомый человек; ситец (не)дорогой, а красивый; поступил (не)хорошо; (ни)чуть (не)красиво; (не)шерстяной свитер; (не)менее; делал (не)кое-как; (не)лепый поступок; взлететь (не)высоко, а низко; волосы были (не)черные; (не)дорогой, хотя и красивый подарок; (не)пять книг; все время (не)дорабатывает; (не)написанный, а напечатанный лист; совершенно (не)исследованная местность; (не)достал до дна озера; (не)тяжелее; (не)ты; (не)смотря на (не)погоду; (не)строгий учитель; (не)сколько рублей; (не)кого послать; капля (не)велика.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360360" y="4456080"/>
            <a:ext cx="8229600" cy="1865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2142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entury Gothic"/>
              </a:rPr>
              <a:t>Еще (не)завершенный роман, расставлены (не)давно, здание (не)построено в срок, шел (не)торопясь, дотемна бродил (не)спеша, (не)меньше километра; (не)широкая, но бурная речонка; небо (не)голубое; далеко (не)зрелое яблоко; еще (не)распустившийся цветок; ботинки (не)кожаные; (не)достает теплоты; (не)дочитал книгу; (не)спрашивая ни о чем; вовсе (не)трудная задача; почти (не)отредактированная рукопись; (не)откуда взять; (не)что интересное; (не)по-нашему; (не)каждый; (не)взирая на лица; совершил (не)хороший, а дурной поступок; (не)прочитанная, а лишь просмотренная книга; (не)три дня; глаза были (не)голубые; далеко (не)легкое дело; (не)здоровится; поступил (не)по-товарищески; (не)куда пойти; (не)справедливое решение; очень (не)красивый зонт; (не)легко было в пути; он был (не)весел; читал (не)громко, но выразительно; ситец (не)дорогой, а дешевый; (ни)чем (не)прикрытая голова; (не)убранные поля; (не)подумав; (не)мог заснуть; (не)ясность звука; (не)веселое путешествие; (не)тяжелее; (не)кого спросить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xtBox 3" descr=""/>
          <p:cNvPicPr/>
          <p:nvPr/>
        </p:nvPicPr>
        <p:blipFill>
          <a:blip r:embed="rId1"/>
          <a:stretch/>
        </p:blipFill>
        <p:spPr>
          <a:xfrm>
            <a:off x="927000" y="1500120"/>
            <a:ext cx="6931080" cy="10177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спортсмен.gif"/>
          <p:cNvPicPr/>
          <p:nvPr/>
        </p:nvPicPr>
        <p:blipFill>
          <a:blip r:embed="rId2"/>
          <a:stretch/>
        </p:blipFill>
        <p:spPr>
          <a:xfrm>
            <a:off x="3929040" y="3071880"/>
            <a:ext cx="1533600" cy="1733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4:19:44Z</dcterms:created>
  <dc:creator>Инна</dc:creator>
  <dc:description/>
  <dc:language>en-US</dc:language>
  <cp:lastModifiedBy>Школа</cp:lastModifiedBy>
  <dcterms:modified xsi:type="dcterms:W3CDTF">2023-10-25T07:45:49Z</dcterms:modified>
  <cp:revision>22</cp:revision>
  <dc:subject/>
  <dc:title>НЕ с различными частями речи</dc:title>
</cp:coreProperties>
</file>