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0FB-EDE8-4C54-9CEA-CD88137A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F92-ADDE-49F9-89D4-F62D9F39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F0B-DE73-4BA5-A90A-862C848B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2DE-7412-4F06-8770-458A6255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DB4-0CC4-402B-B9EE-8F85131D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3384-0471-4F48-9F5A-8CD5A91D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3DD9-7102-421C-8826-C9C51877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9031-D329-4576-AAA8-7CF6C3BF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FF58-2588-4040-98EB-BD39A67A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A13E-93FF-4072-A485-8C90A5F8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3EF-BB54-4DA0-95BF-F6DEBB6F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A796-0116-4240-9F6E-56484345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1C64-56DE-48FB-BC84-A4FDABB7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D633-D26B-4CDB-8FDA-5D09F499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C604-74E3-4991-96AA-6D243AB5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A269-57D2-41E6-A61E-8DAB5C62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5E95-6FAB-42C3-A6C0-B003045D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8FBC-937C-4C15-AC09-DEC97A33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8DE4-796D-44B3-92FF-4C18C88A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E68F-9A14-4D75-A7DA-F650A979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257A-7EC3-4E6B-8BBC-6ED0F3C8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614-08D5-4908-A7F9-149D5A3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7561-0C7C-4300-823A-1D3EAD12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C750-D7AB-4115-AAA8-9B458C62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3A79-CC75-4B63-AA4A-55266126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AEA7-2E7D-4E26-A5E7-516E8546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6CA8-11FD-4E87-8F9A-51837F95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459F-D49E-4FA3-A8D5-C57AF6F6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974E-5A43-4F91-9FAB-27ACC818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38C98-918A-4EDA-9C2C-731D4A11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5392-899D-41EC-8175-6D7BE862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4FE90-5DEA-4A87-AED6-A7A757CD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FC0-C993-425D-AAD6-D2CF88E3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AF735-4B17-4952-A676-FFB3FE1C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77F64-85FB-4B86-B370-8B441796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E6AF6-A50D-421D-8C0C-681FE44F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0A0A-61DD-404A-805A-148AA596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0971-44E3-4B40-A791-A8EB7753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CEEBF-790D-4629-9BE6-7AC8CE2E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D888F-959C-48BB-BF54-A398D87F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F9816-C64E-420B-9DAF-3D75268C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80D7-27D8-4F83-9BF3-ED3827A2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B843-9277-4728-9447-240F77AE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E4D-FE78-45AC-96E6-DCDA7DC4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1CE0-6C8C-4534-8D21-3AE0CF77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A8B-F4B4-4BCE-B8CA-458881CD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05E-B8D3-45F1-9CC8-8D207A2E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C7A-94AF-4A4A-ADDA-3825DFE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19D9-FEDD-4CB5-9153-796A59CA5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-15840" y="0"/>
            <a:ext cx="9172440" cy="2819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0168-7942-4562-93FD-14E72B157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28C3-7F19-4CD1-A601-9B880CF62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428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D374-6A9C-4C84-87BF-6047E9099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ы связи в словосочета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ок русского языка в 11 клас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ил учит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иколич А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тип связи в словосочетании ПРИШЕДШЕЕ ИЗ ГАЛАКТ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62120" y="2057400"/>
            <a:ext cx="807696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Есть предлог — это управление. Провери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Зависимое слово — существительное; его форма не изменяется, даже если изменяется форма главного слова: пришедшим из галактик, пришедшему из галакт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ип связи — управл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тип связи в словосочетании НАПОЛНЯЯСЬ ОДНОВРЕМЕНН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висимое слово — наречие, следовательно, это примыка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ПРИМЫК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вот по кивку стоящего справа, видимо, ведущего в группе, они запели. (11)И голоса взлетел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7692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уждаем: зависимое слово — это только наречие, деепричастие, инфинити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этом предложении есть только одно наречие — справа. Главное слово — стоящего. Следовательно, это словосочетание стоящего спра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СОГЛАСОВАНИ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480" y="20574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вцы стали плотно плечом к плечу, образовав небольшое полукружие. (7)Лица их были спокойны и сосредоточенн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343040" y="175212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уждаем: при этом виде связи зависимые слова отвечают на вопросы какой?-ая?-ое?-ие?, чей?-я?-и?, который?-ая?. В данном предложении слово небольшое отвечает на этот вопрос. Главное слово при нем — полукружие. Следовательно, это словосочетание небольшое полукружие. Просклоняем его: небольшОГО полукружИЯ, небольшОМУ полукруж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олько словосочетаний со связью УПРАВЛЕНИЕ в  предложени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ть после жизни — вот что неистребимо вложено в нас от сотворения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123720" y="1143000"/>
            <a:ext cx="5867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сужда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-е словосочетание — жить после жизни; есть предлог, следовательно, это управление (живу после жизни, живем после жизн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-е словосочетание с предлогом — вложено в нас; (вложит в нас, вложенный в на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-е — вложено от сотвор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овосочетание неистребимо вложено со связью примыкание: неистребимо — нареч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едовательно, в 19 предложении три словосочетания со связью управл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7468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способ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в) черных костюм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глушили св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лодёжь наш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выкла к громогласи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али плот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от ча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и владе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дущего в групп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диный поры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ая забо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ели по кив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ергнут в раздумь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зарениях разу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лекало кажд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т ча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и мыс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кой сил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этим певц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щность музы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умалось вдру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ите способ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овь приход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ветление душ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ковечить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ша плане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жно осознава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дление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казано в музык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стигли свобод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анный ми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ое-то устрой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кий двига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его лучше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7617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труднения возникают в тех случаях, когда зависимым компонентом словосочетания является относительное местоимение в предложно-падежной форме, либо местоименное нареч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0769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ПРИМЫК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37720" y="2133720"/>
            <a:ext cx="807732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нники не понимали, откуда появился этот всадни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3"/>
          <p:cNvSpPr/>
          <p:nvPr/>
        </p:nvSpPr>
        <p:spPr>
          <a:xfrm>
            <a:off x="2286000" y="41148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куда появил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СОГЛАСОВ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анники не понимали, откуда появился этот всадни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2286000" y="35053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тот всадник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ие синтаксические единицы языка вы знае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ловосочетание и предло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вляется ли слово минимальной единицей синтаксис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является синтаксически несвободными словосочетания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е словосочетания, которые выступают в предложении в роли одного ч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А) КОТОРОМ СКАКА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2120" y="1904760"/>
            <a:ext cx="807696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ь, на котором он скакал, издалека казался просто огром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2286000" y="41148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ПРИМЫК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2057400"/>
            <a:ext cx="807696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ь, на котором он скакал, издалека казался просто огром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2286000" y="39625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здалека казал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ПРИМЫК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2514600"/>
            <a:ext cx="80769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да, в какие края спешил русский богатыр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2286000" y="41911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уда спешил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4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В) КАКИЕ КР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2120" y="2285640"/>
            <a:ext cx="807696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уда, в какие края спешил русский богатыр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2320920" y="41911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гласова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СОГЛАСОВ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2120" y="1981080"/>
            <a:ext cx="80769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каких бедах прознал и стремительно помчался на выручк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2286000" y="41148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(о) каких бедах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0769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ЧАЛСЯ НА ВЫРУЧК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2120" y="2057400"/>
            <a:ext cx="807696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каких бедах прознал и стремительно помчался на выручк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2286000" y="41911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 выпишите подчинительное словосочетание со связью ПРИМЫК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2120" y="1828440"/>
            <a:ext cx="80769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каких бедах прознал и стремительно помчался на выручку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2286000" y="401004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тремительно помчал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УПРАВЛЕ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62120" y="1904760"/>
            <a:ext cx="807696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чем думал он сейча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2286000" y="39625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 чем думал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УМАЛ СЕЙЧАС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2120" y="2361960"/>
            <a:ext cx="8076960" cy="35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чем думал он сейча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2286000" y="38926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мыка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807696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ПРИМЫК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рная жизнь, пашня, пахнущая теплым хлебом, старики — родители и молодая жена-красавица — всё осталось где-то в прошл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Прямоугольник 3"/>
          <p:cNvSpPr/>
          <p:nvPr/>
        </p:nvSpPr>
        <p:spPr>
          <a:xfrm>
            <a:off x="2286000" y="42670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сталось где-то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 упраж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62120" y="1596960"/>
          <a:ext cx="8076960" cy="3108240"/>
        </p:xfrm>
        <a:graphic>
          <a:graphicData uri="http://schemas.openxmlformats.org/drawingml/2006/table">
            <a:tbl>
              <a:tblPr/>
              <a:tblGrid>
                <a:gridCol w="3429000"/>
                <a:gridCol w="2819160"/>
                <a:gridCol w="18288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лаго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е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етливо встреч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ублено топо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пешно заверш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ниматься коллекционирова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мать вслу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третиться с матерь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ручение дипло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усство чте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а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еро смел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ждый из победите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р кни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07696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ТАЛОСЬ В ПРОШЛОМ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2285640"/>
            <a:ext cx="807696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рная жизнь, пашня, пахнущая теплым хлебом, старики — родители и молодая жена-красавица — всё осталось где-то в прошл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97160" y="45720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СОГЛАСОВ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2120" y="2209320"/>
            <a:ext cx="80769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 и не к лицу добру молодцу дома отсиживаться, коли беда нагрянула, о какой раньше не слыш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Прямоугольник 3"/>
          <p:cNvSpPr/>
          <p:nvPr/>
        </p:nvSpPr>
        <p:spPr>
          <a:xfrm>
            <a:off x="2251080" y="43434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обру молодцу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КАКОЙ НЕ СЛЫШ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2209320"/>
            <a:ext cx="80769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 и не к лицу добру молодцу дома отсиживаться, коли беда нагрянула, о какой раньше не слыш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оугольник 3"/>
          <p:cNvSpPr/>
          <p:nvPr/>
        </p:nvSpPr>
        <p:spPr>
          <a:xfrm>
            <a:off x="2286000" y="44197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ПРИМЫК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2120" y="2209320"/>
            <a:ext cx="80769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 и не к лицу добру молодцу дома отсиживаться, коли беда нагрянула, о какой раньше не слыш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2286000" y="42670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ньше не слышали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807696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СОГЛАСОВ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 эти мысли долго не давали покоя богомольцам, которые взглядом проводили удальца и помолились за его удач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2286000" y="41911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эти мысли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07696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ЗГЛЯДОМ ПРОВОД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2438280"/>
            <a:ext cx="80769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 эти мысли долго не давали покоя богомольцам, которые взглядом проводили удальца и помолились за его удач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2286000" y="44197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ПОМОЛИЛИСЬ ЗА УДАЧУ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2120" y="2514600"/>
            <a:ext cx="80769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 эти мысли долго не давали покоя богомольцам, которые взглядом проводили удальца и помолились за его удач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2286000" y="44197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ПРИМЫКА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62120" y="2057400"/>
            <a:ext cx="807696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в монастыре, куда они пришли, увидели открытые ворота и переглянулись: что-то случило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2286000" y="44434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уда пришли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СОГЛАСОВАНИ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62120" y="1981080"/>
            <a:ext cx="80769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в монастыре, куда они пришли, увидели открытые ворота и переглянулись: что-то случило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2309760" y="42670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ткрытые ворота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ВИДЕЛИ ВОРОТА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в монастыре, куда они пришли, увидели открытые ворота и переглянулись: что-то случило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Прямоугольник 3"/>
          <p:cNvSpPr/>
          <p:nvPr/>
        </p:nvSpPr>
        <p:spPr>
          <a:xfrm>
            <a:off x="2297160" y="41911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62120" y="3808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пишите слова, раскрыв скобки, вставив пропущенные бу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…ти (тот)час, з…помнить (на)век, записать (на)кануне, побежать (с)ледом, ра…бить (в)дребезги, сг…реть (до)тла, обр…щаться (за)панибрата, спрашивать (по)одиночке, соб…раться (с)позара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СОГЛАС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ом случае «плоды учения» ещё более очевид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2209680" y="4191120"/>
            <a:ext cx="449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этом случа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тип подчинительной связи в словосочетании РОБКО ШЕВЕЛИЛИ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2209680" y="3581280"/>
            <a:ext cx="449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имык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й выпишите словосочетание со связью ПРИМЫК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ичего не случится с вашим зверьём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тыми глазами теперь глядят ответственные чиновники на тех, кто бил трево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2209680" y="4343400"/>
            <a:ext cx="449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еперь глядя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тип подчинительной связи в словосочетании ТАКОГО НЕ СЛУЧА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2209680" y="3962520"/>
            <a:ext cx="449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прав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СОГЛАСО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етёнкин закрылся в ванной и начал намыливать руки, вновь и вновь прокручивая подробности всего происшедш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Прямоугольник 3"/>
          <p:cNvSpPr/>
          <p:nvPr/>
        </p:nvSpPr>
        <p:spPr>
          <a:xfrm>
            <a:off x="2244600" y="4191120"/>
            <a:ext cx="449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сего происшедше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й выпишите подчинительное словосочетание со связью СОГЛАС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62120" y="2057400"/>
            <a:ext cx="807696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о ведь – мясо испортит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 не  мясо,  мне  рога  нужны, я  из  них  лекарство  сделаю! Дочка у меня сильно хворает, уже третий го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2227320" y="472428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Третий г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ПРИМЫК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2666520"/>
            <a:ext cx="807696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 говорим иногда о других людях: «Ограниченный человек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2286000" y="464832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оворим иног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07696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 предложения выпишите подчинительное словосочетание со связью ПРИМЫК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2133720"/>
            <a:ext cx="807696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ие считают понятие чести устарелым, несовременным, в том смысле, что оно нынче не применимо – не те усло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2292480" y="4572000"/>
            <a:ext cx="449568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ынче не применим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5181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полните таблицу приведенными ниже словосочетаниями, вставляя пропущенные буквы. Определите, какие части речи выступают в качестве зависимых слов при согласовании, управлении, примыкании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80880" y="228600"/>
          <a:ext cx="8229600" cy="892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460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ык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TextBox 4"/>
          <p:cNvSpPr/>
          <p:nvPr/>
        </p:nvSpPr>
        <p:spPr>
          <a:xfrm>
            <a:off x="533520" y="129528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дание эл..ватора, легкое пр..к..сновение, к..сательная к окружности, ..десь не курят, качественное прил..гательное, ра..пространенное пр..дл..жение, пр..гласить на танец, пр..дл..гать помощь, пр..спустить флаг, оди(н, нн)надцатая ост..новка, наш пр..подаватель, пр..клонный возр..ст, пр..клонить к..лена, пр..имущество в игре, пр..ехал пр..смотреться, не(за)чем беспокоит(?)ся, пр..одолеть пр..пятствия, его сб..режения, бежал не огляд..ваяс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йти тотчас, запомнить навек, записать накануне, побежать следом, разбить вдребезги, сгореть дотла, обращаться запанибрата, спрашивать поодиночке, собираться спозара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ставьте пропущенные буквы и расставьте знаки препинания. Выпишите сочетания, не образующие словосочетаний. Произведите синтаксический разбор словосочет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62120" y="2895480"/>
            <a:ext cx="8076960" cy="29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меша…ом р…дняке прониза…ом солнцем м…гуществе…ые стволы набравших несказа…ую зрелость б…рёз осл…пительно бл…стели отливая солн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133720" y="5334120"/>
            <a:ext cx="48765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дняке, стволы блесте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подчинительной свя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1596960"/>
          <a:ext cx="8076960" cy="3479760"/>
        </p:xfrm>
        <a:graphic>
          <a:graphicData uri="http://schemas.openxmlformats.org/drawingml/2006/table">
            <a:tbl>
              <a:tblPr/>
              <a:tblGrid>
                <a:gridCol w="2692440"/>
                <a:gridCol w="2692080"/>
                <a:gridCol w="2692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глас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просы определений (какой, какая, какое, чей, чья, чьё, чьи, каков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дежные вопросы (кем? Чем? О ком? О чём? Кого? Чего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имое слово - 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имое слово - до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имое слово обстоя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имые слова наречие, деепричастие, н.ф. глаг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 словами есть пред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4"/>
          <p:cNvSpPr/>
          <p:nvPr/>
        </p:nvSpPr>
        <p:spPr>
          <a:xfrm>
            <a:off x="838080" y="0"/>
            <a:ext cx="7315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айти главное и зависимое сло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Прямоугольник 5"/>
          <p:cNvSpPr/>
          <p:nvPr/>
        </p:nvSpPr>
        <p:spPr>
          <a:xfrm>
            <a:off x="838080" y="838080"/>
            <a:ext cx="7315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пределить, чем они выраже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оугольник 6"/>
          <p:cNvSpPr/>
          <p:nvPr/>
        </p:nvSpPr>
        <p:spPr>
          <a:xfrm>
            <a:off x="152280" y="1676520"/>
            <a:ext cx="205740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висимое сло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реч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финити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епричасти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Овал 8"/>
          <p:cNvSpPr/>
          <p:nvPr/>
        </p:nvSpPr>
        <p:spPr>
          <a:xfrm>
            <a:off x="609480" y="2895480"/>
            <a:ext cx="1067040" cy="1067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Овал 9"/>
          <p:cNvSpPr/>
          <p:nvPr/>
        </p:nvSpPr>
        <p:spPr>
          <a:xfrm>
            <a:off x="2133720" y="1828800"/>
            <a:ext cx="1066680" cy="1066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Блок-схема: решение 10"/>
          <p:cNvSpPr/>
          <p:nvPr/>
        </p:nvSpPr>
        <p:spPr>
          <a:xfrm>
            <a:off x="0" y="3886200"/>
            <a:ext cx="2971800" cy="10666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мык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оугольник 11"/>
          <p:cNvSpPr/>
          <p:nvPr/>
        </p:nvSpPr>
        <p:spPr>
          <a:xfrm>
            <a:off x="3124080" y="1752480"/>
            <a:ext cx="259092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сть в словосочетании предлог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Овал 12"/>
          <p:cNvSpPr/>
          <p:nvPr/>
        </p:nvSpPr>
        <p:spPr>
          <a:xfrm>
            <a:off x="3886200" y="2819520"/>
            <a:ext cx="1066680" cy="1066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Овал 13"/>
          <p:cNvSpPr/>
          <p:nvPr/>
        </p:nvSpPr>
        <p:spPr>
          <a:xfrm>
            <a:off x="5715000" y="1828800"/>
            <a:ext cx="1066680" cy="1066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Блок-схема: решение 14"/>
          <p:cNvSpPr/>
          <p:nvPr/>
        </p:nvSpPr>
        <p:spPr>
          <a:xfrm>
            <a:off x="2971800" y="3886200"/>
            <a:ext cx="2971800" cy="10666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оугольник 15"/>
          <p:cNvSpPr/>
          <p:nvPr/>
        </p:nvSpPr>
        <p:spPr>
          <a:xfrm>
            <a:off x="6781680" y="1828800"/>
            <a:ext cx="22100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гласуются ли в роде, числе и падеже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Овал 16"/>
          <p:cNvSpPr/>
          <p:nvPr/>
        </p:nvSpPr>
        <p:spPr>
          <a:xfrm>
            <a:off x="7848720" y="2895480"/>
            <a:ext cx="1066680" cy="1067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Блок-схема: решение 19"/>
          <p:cNvSpPr/>
          <p:nvPr/>
        </p:nvSpPr>
        <p:spPr>
          <a:xfrm>
            <a:off x="6172200" y="3657600"/>
            <a:ext cx="2971800" cy="10666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огласова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69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тип связи в словосочетани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Й ИСТОР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2120" y="159660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Главное слово — истории (от него можно задать вопрос какой?(всей); это вопрос согласования. Проверим наше утвержде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Зависимое слово — местоим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 Оба слова склоняются: всеми истор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едовательно, наш вывод правилен: тип связи — согласова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4:23:07Z</dcterms:created>
  <dc:creator>Инна</dc:creator>
  <dc:description/>
  <dc:language>en-US</dc:language>
  <cp:lastModifiedBy>Школа</cp:lastModifiedBy>
  <dcterms:modified xsi:type="dcterms:W3CDTF">2023-10-27T05:52:5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