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C10-E467-45CF-BE7F-2B999567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A98-37D5-41B7-A2D3-365A97D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909-2012-4923-A496-EE2E439A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20F-0EB2-4567-A8A9-7C184C9C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9A2-849A-47CB-838E-AA0FC4A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E9F1-57DF-4605-8D6D-38869458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5887-A893-47ED-8616-4A73284E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2E9E-CF88-437F-95D5-8E7DA0C2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8EC7-0798-4445-A6F6-3AE854F1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EC99-9D4B-460B-80B2-7427DEAA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A7E-5368-4CA8-8B72-20E69C49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3430-8C1B-46F9-A6D9-E912FD4B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FC5A-1AC7-4E02-AE1D-1188AEB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3881-A69A-4A45-B295-48BD2C9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2D39-B092-47A6-9CAD-D4FEE89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9BBB-EFDC-4904-A83D-EFCC6A46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2124-8C0D-4969-9E48-36ADDBF1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82CD-1B58-4C5D-B6ED-96E3B1DE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911A-B0AB-48C5-AF29-729CC82A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1754-9FE3-4AE8-912D-C3D97821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F75D-B8CD-45B4-8D53-AA53300C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318-1293-445B-8D62-54CE1955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CC3C-ABF2-4455-AEEE-E2FF4784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BE6C-CD81-4F71-9ED4-3CBDA780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7C2B-5816-482A-B29A-0FCC0DA7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60C2-57B6-4087-9253-18C9BB6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6117-BFA1-415D-9F95-22668416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B88E-8719-43B2-8F38-125A1D32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B785-5000-410A-BB96-71740762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AC95-07A3-4297-BCDA-38ACA470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2F8E-E505-4FFA-BDD7-CEE1BDEA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B093-99F2-4829-887F-C8CCB526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13A-659A-4835-8FE9-9F24307D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2394-B2CD-4061-A838-60E0C49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3B88-7E9D-4A26-9BCB-B24024AB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C2BC-8E08-4F60-AF6F-438D5893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4052-C6A3-41C7-9BFB-01B9DDB0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290C-A752-44FC-A936-0E1978E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4DB9-F1AA-446F-B740-0C6948E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4EE4-57E4-44D9-9C90-7DE3FB3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508B-92C9-4CEA-98E5-81877C1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F28A-69A1-4142-A159-CE4292D1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090A-4692-4EDB-880D-2B971FD8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306-96A1-45A0-A5FF-1726BC7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9A73-D32D-4D34-BAA0-1115D59A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AF0-65E4-4482-A873-521E31E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FC2-FEE6-4554-B85C-F27579D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DA8-3886-4DD1-8F30-BFDEBFB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3EC0-F061-4AD9-9CBC-2BC543C0E4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2373-87D3-46E4-9BB8-D2A1817F2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1E5B-F2E7-4CD3-91C8-69BD15A75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A245-F91B-4C1D-94BF-6A11991A1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ы связи в словосочет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к русского языка в 11 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ил учит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иколич А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тип связи в словосочетании ПРИШЕДШЕЕ ИЗ ГАЛАКТ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Есть предлог — это управление. Провери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Зависимое слово — существительное; его форма не изменяется, даже если изменяется форма главного слова: пришедшим из галактик, пришедшему из галакт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 связи — управл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тип связи в словосочетании НАПОЛНЯЯСЬ ОДНОВРЕМЕНН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висимое слово — наречие, следовательно, это примык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от по кивку стоящего справа, видимо, ведущего в группе, они запели. (11)И голоса взлетел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769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уждаем: зависимое слово — это только наречие, деепричастие, инфинити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этом предложении есть только одно наречие — справа. Главное слово — стоящего. Следовательно, это словосочетание стоящего спра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СОГЛАСОВ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вцы стали плотно плечом к плечу, образовав небольшое полукружие. (7)Лица их были спокойны и сосредоточен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343040" y="175212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уждаем: при этом виде связи зависимые слова отвечают на вопросы какой?-ая?-ое?-ие?, чей?-я?-и?, который?-ая?. В данном предложении слово небольшое отвечает на этот вопрос. Главное слово при нем — полукружие. Следовательно, это словосочетание небольшое полукружие. Просклоняем его: небольшОГО полукружИЯ, небольшОМУ полукруж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олько словосочетаний со связью УПРАВЛЕНИЕ в  предложен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ть после жизни — вот что неистребимо вложено в нас от сотворения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123720" y="1143000"/>
            <a:ext cx="586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ужда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е словосочетание — жить после жизни; есть предлог, следовательно, это управление (живу после жизни, живем после жизн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-е словосочетание с предлогом — вложено в нас; (вложит в нас, вложенный в на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-е — вложено от сотво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восочетание неистребимо вложено со связью примыкание: неистребимо — нареч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овательно, в 19 предложении три словосочетания со связью управл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способ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в) черных костюм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глушили св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одёжь наш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выкла к громоглас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ли плот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т ча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и владе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дущего в групп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ый поры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ая заб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ели по кив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ергнут в раздумь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зарениях разу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лекало кажд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т ча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и мыс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ой сил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этим певц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щность музы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умалось вдру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способ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овь приход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ветление душ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ковечить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ша плане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жно осознав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дление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казано в музык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стигли свобод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анный ми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ое-то устрой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ий двиг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го лучш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7617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труднения возникают в тех случаях, когда зависимым компонентом словосочетания является относительное местоимение в предложно-падежной форме, либо местоименное нареч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7720" y="2133720"/>
            <a:ext cx="807732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нники не понимали, откуда появился этот всадни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3"/>
          <p:cNvSpPr/>
          <p:nvPr/>
        </p:nvSpPr>
        <p:spPr>
          <a:xfrm>
            <a:off x="2286000" y="41148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куда появил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СОГЛАСОВ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нники не понимали, откуда появился этот всадни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2286000" y="35053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тот всадник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интаксические единицы языка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ловосочетание и пред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ется ли слово минимальной единицей синтаксис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является синтаксически несвободными словосочетания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е словосочетания, которые выступают в предложении в роли одного ч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) КОТОРОМ СКАКА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2120" y="1904760"/>
            <a:ext cx="807696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ь, на котором он скакал, издалека казался просто огром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2286000" y="41148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ь, на котором он скакал, издалека казался просто огром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2286000" y="39625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здалека казал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2514600"/>
            <a:ext cx="80769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да, в какие края спешил русский богатыр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228600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уда спешил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В) КАКИЕ КР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2285640"/>
            <a:ext cx="807696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да, в какие края спешил русский богатыр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232092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гласов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СОГЛАСОВ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981080"/>
            <a:ext cx="80769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каких бедах прознал и стремительно помчался на выручк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2286000" y="41148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(о) каких бедах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ЧАЛСЯ НА ВЫРУЧК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каких бедах прознал и стремительно помчался на выручк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228600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2120" y="1828440"/>
            <a:ext cx="80769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каких бедах прознал и стремительно помчался на выручк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2286000" y="401004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тремительно помчал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УПРАВЛЕ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62120" y="1904760"/>
            <a:ext cx="807696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чем думал он сейч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2286000" y="39625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 чем думал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УМАЛ СЕЙЧАС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2120" y="2361960"/>
            <a:ext cx="8076960" cy="35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чем думал он сейч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2286000" y="38926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мык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07696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рная жизнь, пашня, пахнущая теплым хлебом, старики — родители и молодая жена-красавица — всё осталось где-то в прошл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2286000" y="42670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талось где-то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упраж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62120" y="1596960"/>
          <a:ext cx="8076960" cy="3108240"/>
        </p:xfrm>
        <a:graphic>
          <a:graphicData uri="http://schemas.openxmlformats.org/drawingml/2006/table">
            <a:tbl>
              <a:tblPr/>
              <a:tblGrid>
                <a:gridCol w="3429000"/>
                <a:gridCol w="2819160"/>
                <a:gridCol w="1828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го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е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ливо встреч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ублено топо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ешно заверш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иматься коллекционирова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мать всл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ретиться с матер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учение дипл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усство чте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а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ро смел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ждый из победи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 кни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07696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ТАЛОСЬ В ПРОШЛОМ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2285640"/>
            <a:ext cx="807696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рная жизнь, пашня, пахнущая теплым хлебом, старики — родители и молодая жена-красавица — всё осталось где-то в прошл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97160" y="45720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2120" y="2209320"/>
            <a:ext cx="80769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и не к лицу добру молодцу дома отсиживаться, коли беда нагрянула, о какой раньше не слыш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3"/>
          <p:cNvSpPr/>
          <p:nvPr/>
        </p:nvSpPr>
        <p:spPr>
          <a:xfrm>
            <a:off x="2251080" y="43434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бру молодцу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КАКОЙ НЕ СЛЫШ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2209320"/>
            <a:ext cx="80769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и не к лицу добру молодцу дома отсиживаться, коли беда нагрянула, о какой раньше не слыш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2286000" y="44197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2209320"/>
            <a:ext cx="80769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и не к лицу добру молодцу дома отсиживаться, коли беда нагрянула, о какой раньше не слыш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2286000" y="42670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ньше не слышал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07696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 эти мысли долго не давали покоя богомольцам, которые взглядом проводили удальца и помолились за его удач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228600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ти мысл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07696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ГЛЯДОМ ПРОВОД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2438280"/>
            <a:ext cx="80769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 эти мысли долго не давали покоя богомольцам, которые взглядом проводили удальца и помолились за его удач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2286000" y="44197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ПОМОЛИЛИСЬ ЗА УДАЧ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2514600"/>
            <a:ext cx="80769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 эти мысли долго не давали покоя богомольцам, которые взглядом проводили удальца и помолились за его удач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2286000" y="44197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в монастыре, куда они пришли, увидели открытые ворота и переглянулись: что-то случило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286000" y="44434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уда пришл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2120" y="1981080"/>
            <a:ext cx="80769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в монастыре, куда они пришли, увидели открытые ворота и переглянулись: что-то случило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2309760" y="42670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крытые ворота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ВИДЕЛИ ВОРОТА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в монастыре, куда они пришли, увидели открытые ворота и переглянулись: что-то случило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229716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62120" y="3808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ишите слова, раскрыв скобки, вставив пропущенные бу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…ти (тот)час, з…помнить (на)век, записать (на)кануне, побежать (с)ледом, ра…бить (в)дребезги, сг…реть (до)тла, обр…щаться (за)панибрата, спрашивать (по)одиночке, соб…раться (с)позара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м случае «плоды учения» ещё более очевид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2209680" y="419112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этом случа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тип подчинительной связи в словосочетании РОБКО ШЕВЕЛИЛИ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2209680" y="358128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мык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й выпишите словосочетание со связью ПРИМЫК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чего не случится с вашим зверьём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тыми глазами теперь глядят ответственные чиновники на тех, кто бил трево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2209680" y="434340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еперь глядя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тип подчинительной связи в словосочетании ТАКОГО НЕ СЛУЧ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209680" y="396252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етёнкин закрылся в ванной и начал намыливать руки, вновь и вновь прокручивая подробности всего происшед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3"/>
          <p:cNvSpPr/>
          <p:nvPr/>
        </p:nvSpPr>
        <p:spPr>
          <a:xfrm>
            <a:off x="2244600" y="419112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сего происшедше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й выпишите подчинительное словосочетание со связью СОГЛА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 ведь – мясо испорти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 не  мясо,  мне  рога  нужны, я  из  них  лекарство  сделаю! Дочка у меня сильно хворает, уже третий го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2227320" y="47242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ретий г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2666520"/>
            <a:ext cx="807696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говорим иногда о других людях: «Ограниченный челове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2286000" y="46483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оворим иног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е считают понятие чести устарелым, несовременным, в том смысле, что оно нынче не применимо – не те усло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92480" y="45720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ынче не применим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5181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лните таблицу приведенными ниже словосочетаниями, вставляя пропущенные буквы. Определите, какие части речи выступают в качестве зависимых слов при согласовании, управлении, примыкании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80880" y="228600"/>
          <a:ext cx="8229600" cy="892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46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ык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Box 4"/>
          <p:cNvSpPr/>
          <p:nvPr/>
        </p:nvSpPr>
        <p:spPr>
          <a:xfrm>
            <a:off x="533520" y="129528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дание эл..ватора, легкое пр..к..сновение, к..сательная к окружности, ..десь не курят, качественное прил..гательное, ра..пространенное пр..дл..жение, пр..гласить на танец, пр..дл..гать помощь, пр..спустить флаг, оди(н, нн)надцатая ост..новка, наш пр..подаватель, пр..клонный возр..ст, пр..клонить к..лена, пр..имущество в игре, пр..ехал пр..смотреться, не(за)чем беспокоит(?)ся, пр..одолеть пр..пятствия, его сб..режения, бежал не огляд..ваяс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йти тотчас, запомнить навек, записать накануне, побежать следом, разбить вдребезги, сгореть дотла, обращаться запанибрата, спрашивать поодиночке, собираться спозара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ставьте пропущенные буквы и расставьте знаки препинания. Выпишите сочетания, не образующие словосочетаний. Произведите синтаксический разбор словосочет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62120" y="2895480"/>
            <a:ext cx="807696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меша…ом р…дняке прониза…ом солнцем м…гуществе…ые стволы набравших несказа…ую зрелость б…рёз осл…пительно бл…стели отливая сол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133720" y="5334120"/>
            <a:ext cx="48765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дняке, стволы блесте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подчинительной 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1596960"/>
          <a:ext cx="8076960" cy="347976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глас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определений (какой, какая, какое, чей, чья, чьё, чьи, каков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ные вопросы (кем? Чем? О ком? О чём? Кого? Чего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ое слово - 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ое слово - 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ое слово обстоя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ые слова наречие, деепричастие, н.ф. глаг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 словами есть пред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4"/>
          <p:cNvSpPr/>
          <p:nvPr/>
        </p:nvSpPr>
        <p:spPr>
          <a:xfrm>
            <a:off x="838080" y="0"/>
            <a:ext cx="7315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айти главное и зависимое сло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838080" y="838080"/>
            <a:ext cx="7315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пределить, чем они выраже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152280" y="1676520"/>
            <a:ext cx="205740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висимое сло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финити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епричасти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Овал 8"/>
          <p:cNvSpPr/>
          <p:nvPr/>
        </p:nvSpPr>
        <p:spPr>
          <a:xfrm>
            <a:off x="609480" y="2895480"/>
            <a:ext cx="1067040" cy="1067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Овал 9"/>
          <p:cNvSpPr/>
          <p:nvPr/>
        </p:nvSpPr>
        <p:spPr>
          <a:xfrm>
            <a:off x="2133720" y="1828800"/>
            <a:ext cx="1066680" cy="1066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Блок-схема: решение 10"/>
          <p:cNvSpPr/>
          <p:nvPr/>
        </p:nvSpPr>
        <p:spPr>
          <a:xfrm>
            <a:off x="0" y="3886200"/>
            <a:ext cx="2971800" cy="10666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мык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11"/>
          <p:cNvSpPr/>
          <p:nvPr/>
        </p:nvSpPr>
        <p:spPr>
          <a:xfrm>
            <a:off x="3124080" y="1752480"/>
            <a:ext cx="25909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сть в словосочетании предлог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Овал 12"/>
          <p:cNvSpPr/>
          <p:nvPr/>
        </p:nvSpPr>
        <p:spPr>
          <a:xfrm>
            <a:off x="3886200" y="2819520"/>
            <a:ext cx="1066680" cy="1066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Овал 13"/>
          <p:cNvSpPr/>
          <p:nvPr/>
        </p:nvSpPr>
        <p:spPr>
          <a:xfrm>
            <a:off x="5715000" y="1828800"/>
            <a:ext cx="1066680" cy="1066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Блок-схема: решение 14"/>
          <p:cNvSpPr/>
          <p:nvPr/>
        </p:nvSpPr>
        <p:spPr>
          <a:xfrm>
            <a:off x="2971800" y="3886200"/>
            <a:ext cx="2971800" cy="10666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15"/>
          <p:cNvSpPr/>
          <p:nvPr/>
        </p:nvSpPr>
        <p:spPr>
          <a:xfrm>
            <a:off x="6781680" y="1828800"/>
            <a:ext cx="2210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гласуются ли в роде, числе и падеж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Овал 16"/>
          <p:cNvSpPr/>
          <p:nvPr/>
        </p:nvSpPr>
        <p:spPr>
          <a:xfrm>
            <a:off x="7848720" y="2895480"/>
            <a:ext cx="1066680" cy="1067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Блок-схема: решение 19"/>
          <p:cNvSpPr/>
          <p:nvPr/>
        </p:nvSpPr>
        <p:spPr>
          <a:xfrm>
            <a:off x="6172200" y="3657600"/>
            <a:ext cx="2971800" cy="10666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огласов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Й ИСТОР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Главное слово — истории (от него можно задать вопрос какой?(всей); это вопрос согласования. Проверим наше утвержд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Зависимое слово — местоим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 Оба слова склоняются: всеми истор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овательно, наш вывод правилен: тип связи — согласова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23:07Z</dcterms:created>
  <dc:creator>Инна</dc:creator>
  <dc:description/>
  <dc:language>en-US</dc:language>
  <cp:lastModifiedBy>Школа</cp:lastModifiedBy>
  <dcterms:modified xsi:type="dcterms:W3CDTF">2023-10-27T05:52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