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1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A7F5E-22ED-47C0-8029-3A9768F3B58C}" type="slidenum">
              <a:rPr b="0" lang="de-DE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23B99-20A0-4D60-93C6-A4B8A3F9F721}" type="slidenum">
              <a:rPr b="0" lang="de-DE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95200" y="3742200"/>
            <a:ext cx="8524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9520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344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77360" y="148896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59880" y="148896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95200" y="374220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77360" y="374220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59880" y="374220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299520" y="-360"/>
            <a:ext cx="852012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29520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6344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95200" y="3742200"/>
            <a:ext cx="8524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295200" y="3742200"/>
            <a:ext cx="8524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9520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6344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77360" y="148896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59880" y="148896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295200" y="374220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77360" y="374220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59880" y="374220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99520" y="-360"/>
            <a:ext cx="852012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9520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344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95200" y="3742200"/>
            <a:ext cx="8524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3124080" y="636588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299520" y="-3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Rectangle 17"/>
          <p:cNvSpPr/>
          <p:nvPr/>
        </p:nvSpPr>
        <p:spPr>
          <a:xfrm>
            <a:off x="219240" y="6365880"/>
            <a:ext cx="13428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宋体"/>
              </a:rPr>
              <a:t>Page </a:t>
            </a:r>
            <a:r>
              <a:rPr b="0" lang="de-DE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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fld id="{3185A35C-3A42-427F-B371-0086E00C8A62}" type="slidenum">
              <a:rPr b="0" lang="de-DE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12" descr="F1013002_Folie1_TH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299520" y="-3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12560" y="4687560"/>
            <a:ext cx="8305560" cy="1817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ВИКТОРИНА ПО ФУТБОЛУ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1-4 КЛАССЫ)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810720" y="6352920"/>
            <a:ext cx="751068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2000" spc="-1" strike="noStrike">
              <a:solidFill>
                <a:srgbClr val="000000"/>
              </a:solidFill>
              <a:latin typeface="Calibri"/>
              <a:ea typeface="新細明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" descr="Header WM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99520" y="9324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sz="26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pic>
        <p:nvPicPr>
          <p:cNvPr id="130" name="Рисунок 1" descr=""/>
          <p:cNvPicPr/>
          <p:nvPr/>
        </p:nvPicPr>
        <p:blipFill>
          <a:blip r:embed="rId2"/>
          <a:stretch/>
        </p:blipFill>
        <p:spPr>
          <a:xfrm>
            <a:off x="-12600" y="0"/>
            <a:ext cx="9736200" cy="6877080"/>
          </a:xfrm>
          <a:prstGeom prst="rect">
            <a:avLst/>
          </a:prstGeom>
          <a:ln w="0">
            <a:noFill/>
          </a:ln>
        </p:spPr>
      </p:pic>
      <p:pic>
        <p:nvPicPr>
          <p:cNvPr id="131" name="Рисунок 5" descr=""/>
          <p:cNvPicPr/>
          <p:nvPr/>
        </p:nvPicPr>
        <p:blipFill>
          <a:blip r:embed="rId3"/>
          <a:stretch/>
        </p:blipFill>
        <p:spPr>
          <a:xfrm>
            <a:off x="0" y="0"/>
            <a:ext cx="11015640" cy="687708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95200" y="950760"/>
            <a:ext cx="8848800" cy="649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. Красная карточка в футболе — это знак..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79280" indent="0">
              <a:lnSpc>
                <a:spcPct val="11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) удаления игрока с поля  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179280" indent="0">
              <a:lnSpc>
                <a:spcPct val="11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) предупреждения игрок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179280" indent="0">
              <a:lnSpc>
                <a:spcPct val="11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) выражения благодарности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179280" indent="0">
              <a:lnSpc>
                <a:spcPct val="11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) окончания матч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1792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Header WM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99520" y="9324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sz="26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pic>
        <p:nvPicPr>
          <p:cNvPr id="135" name="Рисунок 1" descr=""/>
          <p:cNvPicPr/>
          <p:nvPr/>
        </p:nvPicPr>
        <p:blipFill>
          <a:blip r:embed="rId2"/>
          <a:stretch/>
        </p:blipFill>
        <p:spPr>
          <a:xfrm>
            <a:off x="-12600" y="0"/>
            <a:ext cx="9736200" cy="6877080"/>
          </a:xfrm>
          <a:prstGeom prst="rect">
            <a:avLst/>
          </a:prstGeom>
          <a:ln w="0">
            <a:noFill/>
          </a:ln>
        </p:spPr>
      </p:pic>
      <p:pic>
        <p:nvPicPr>
          <p:cNvPr id="136" name="Рисунок 5" descr=""/>
          <p:cNvPicPr/>
          <p:nvPr/>
        </p:nvPicPr>
        <p:blipFill>
          <a:blip r:embed="rId3"/>
          <a:stretch/>
        </p:blipFill>
        <p:spPr>
          <a:xfrm>
            <a:off x="0" y="0"/>
            <a:ext cx="11015640" cy="687708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95200" y="741240"/>
            <a:ext cx="8848800" cy="649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. Сборная какой страны чаще других становилась чемпионом мира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79280" indent="0">
              <a:lnSpc>
                <a:spcPct val="115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) сборная СШ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79280" indent="0">
              <a:lnSpc>
                <a:spcPct val="115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) сборная Росс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79280" indent="0">
              <a:lnSpc>
                <a:spcPct val="115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) сборная Бразилии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79280" indent="0">
              <a:lnSpc>
                <a:spcPct val="115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) сборная Ямай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792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4" descr="Header WM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99520" y="9324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sz="26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pic>
        <p:nvPicPr>
          <p:cNvPr id="140" name="Рисунок 1" descr=""/>
          <p:cNvPicPr/>
          <p:nvPr/>
        </p:nvPicPr>
        <p:blipFill>
          <a:blip r:embed="rId2"/>
          <a:stretch/>
        </p:blipFill>
        <p:spPr>
          <a:xfrm>
            <a:off x="-12600" y="0"/>
            <a:ext cx="9736200" cy="6877080"/>
          </a:xfrm>
          <a:prstGeom prst="rect">
            <a:avLst/>
          </a:prstGeom>
          <a:ln w="0">
            <a:noFill/>
          </a:ln>
        </p:spPr>
      </p:pic>
      <p:pic>
        <p:nvPicPr>
          <p:cNvPr id="141" name="Рисунок 5" descr=""/>
          <p:cNvPicPr/>
          <p:nvPr/>
        </p:nvPicPr>
        <p:blipFill>
          <a:blip r:embed="rId3"/>
          <a:stretch/>
        </p:blipFill>
        <p:spPr>
          <a:xfrm>
            <a:off x="0" y="0"/>
            <a:ext cx="11015640" cy="687708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95200" y="1037880"/>
            <a:ext cx="8524800" cy="64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1.Эти люди на трибунах не болеют, но их называют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79280" indent="0">
              <a:lnSpc>
                <a:spcPct val="115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) больные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179280" indent="0">
              <a:lnSpc>
                <a:spcPct val="115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) болельщики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179280" indent="0">
              <a:lnSpc>
                <a:spcPct val="115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) заболевшие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1792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4" descr="Header WM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99520" y="9324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sz="26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pic>
        <p:nvPicPr>
          <p:cNvPr id="145" name="Рисунок 1" descr=""/>
          <p:cNvPicPr/>
          <p:nvPr/>
        </p:nvPicPr>
        <p:blipFill>
          <a:blip r:embed="rId2"/>
          <a:stretch/>
        </p:blipFill>
        <p:spPr>
          <a:xfrm>
            <a:off x="-12600" y="0"/>
            <a:ext cx="9736200" cy="6877080"/>
          </a:xfrm>
          <a:prstGeom prst="rect">
            <a:avLst/>
          </a:prstGeom>
          <a:ln w="0">
            <a:noFill/>
          </a:ln>
        </p:spPr>
      </p:pic>
      <p:pic>
        <p:nvPicPr>
          <p:cNvPr id="146" name="Рисунок 5" descr=""/>
          <p:cNvPicPr/>
          <p:nvPr/>
        </p:nvPicPr>
        <p:blipFill>
          <a:blip r:embed="rId3"/>
          <a:stretch/>
        </p:blipFill>
        <p:spPr>
          <a:xfrm>
            <a:off x="0" y="0"/>
            <a:ext cx="11015640" cy="687708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95200" y="1037880"/>
            <a:ext cx="9428400" cy="64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2. Забитый мяч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79280" indent="0">
              <a:lnSpc>
                <a:spcPct val="115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) пас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179280" indent="0">
              <a:lnSpc>
                <a:spcPct val="115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) удар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179280" indent="0">
              <a:lnSpc>
                <a:spcPct val="115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) гол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1792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4" descr="Header WM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99520" y="9324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sz="26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pic>
        <p:nvPicPr>
          <p:cNvPr id="150" name="Рисунок 1" descr=""/>
          <p:cNvPicPr/>
          <p:nvPr/>
        </p:nvPicPr>
        <p:blipFill>
          <a:blip r:embed="rId2"/>
          <a:stretch/>
        </p:blipFill>
        <p:spPr>
          <a:xfrm>
            <a:off x="-12600" y="0"/>
            <a:ext cx="9736200" cy="6877080"/>
          </a:xfrm>
          <a:prstGeom prst="rect">
            <a:avLst/>
          </a:prstGeom>
          <a:ln w="0">
            <a:noFill/>
          </a:ln>
        </p:spPr>
      </p:pic>
      <p:pic>
        <p:nvPicPr>
          <p:cNvPr id="151" name="Рисунок 5" descr=""/>
          <p:cNvPicPr/>
          <p:nvPr/>
        </p:nvPicPr>
        <p:blipFill>
          <a:blip r:embed="rId3"/>
          <a:stretch/>
        </p:blipFill>
        <p:spPr>
          <a:xfrm>
            <a:off x="0" y="0"/>
            <a:ext cx="11015640" cy="687708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95200" y="1037880"/>
            <a:ext cx="9428400" cy="64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. Сколько человек в футбольной команде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79280" indent="0">
              <a:lnSpc>
                <a:spcPct val="115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) 7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179280" indent="0">
              <a:lnSpc>
                <a:spcPct val="115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) 12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179280" indent="0">
              <a:lnSpc>
                <a:spcPct val="115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) 11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1792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4" descr="Header WM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99520" y="9324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sz="26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pic>
        <p:nvPicPr>
          <p:cNvPr id="155" name="Рисунок 1" descr=""/>
          <p:cNvPicPr/>
          <p:nvPr/>
        </p:nvPicPr>
        <p:blipFill>
          <a:blip r:embed="rId2"/>
          <a:stretch/>
        </p:blipFill>
        <p:spPr>
          <a:xfrm>
            <a:off x="-12600" y="0"/>
            <a:ext cx="9736200" cy="6877080"/>
          </a:xfrm>
          <a:prstGeom prst="rect">
            <a:avLst/>
          </a:prstGeom>
          <a:ln w="0">
            <a:noFill/>
          </a:ln>
        </p:spPr>
      </p:pic>
      <p:pic>
        <p:nvPicPr>
          <p:cNvPr id="156" name="Рисунок 5" descr=""/>
          <p:cNvPicPr/>
          <p:nvPr/>
        </p:nvPicPr>
        <p:blipFill>
          <a:blip r:embed="rId3"/>
          <a:stretch/>
        </p:blipFill>
        <p:spPr>
          <a:xfrm>
            <a:off x="0" y="0"/>
            <a:ext cx="11015640" cy="687708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95200" y="1037880"/>
            <a:ext cx="8848800" cy="64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4. Как называют главного человека в команде футболистов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79280" indent="0">
              <a:lnSpc>
                <a:spcPct val="115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) командир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179280" indent="0">
              <a:lnSpc>
                <a:spcPct val="115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) капитан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179280" indent="0">
              <a:lnSpc>
                <a:spcPct val="115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) руководитель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1792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4" descr="Header WM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99520" y="9324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sz="26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pic>
        <p:nvPicPr>
          <p:cNvPr id="160" name="Рисунок 1" descr=""/>
          <p:cNvPicPr/>
          <p:nvPr/>
        </p:nvPicPr>
        <p:blipFill>
          <a:blip r:embed="rId2"/>
          <a:stretch/>
        </p:blipFill>
        <p:spPr>
          <a:xfrm>
            <a:off x="-12600" y="0"/>
            <a:ext cx="9736200" cy="6877080"/>
          </a:xfrm>
          <a:prstGeom prst="rect">
            <a:avLst/>
          </a:prstGeom>
          <a:ln w="0">
            <a:noFill/>
          </a:ln>
        </p:spPr>
      </p:pic>
      <p:pic>
        <p:nvPicPr>
          <p:cNvPr id="161" name="Рисунок 5" descr=""/>
          <p:cNvPicPr/>
          <p:nvPr/>
        </p:nvPicPr>
        <p:blipFill>
          <a:blip r:embed="rId3"/>
          <a:stretch/>
        </p:blipFill>
        <p:spPr>
          <a:xfrm>
            <a:off x="0" y="0"/>
            <a:ext cx="11015640" cy="687708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95200" y="1037880"/>
            <a:ext cx="9428400" cy="64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5. По чему катится мяч во время матча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79280" indent="0">
              <a:lnSpc>
                <a:spcPct val="115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) по поляне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179280" indent="0">
              <a:lnSpc>
                <a:spcPct val="115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) по полю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179280" indent="0">
              <a:lnSpc>
                <a:spcPct val="115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) по площадке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1792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Header WM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99520" y="9324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sz="26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pic>
        <p:nvPicPr>
          <p:cNvPr id="165" name="Рисунок 1" descr=""/>
          <p:cNvPicPr/>
          <p:nvPr/>
        </p:nvPicPr>
        <p:blipFill>
          <a:blip r:embed="rId2"/>
          <a:stretch/>
        </p:blipFill>
        <p:spPr>
          <a:xfrm>
            <a:off x="-12600" y="0"/>
            <a:ext cx="9736200" cy="6877080"/>
          </a:xfrm>
          <a:prstGeom prst="rect">
            <a:avLst/>
          </a:prstGeom>
          <a:ln w="0">
            <a:noFill/>
          </a:ln>
        </p:spPr>
      </p:pic>
      <p:pic>
        <p:nvPicPr>
          <p:cNvPr id="166" name="Рисунок 5" descr=""/>
          <p:cNvPicPr/>
          <p:nvPr/>
        </p:nvPicPr>
        <p:blipFill>
          <a:blip r:embed="rId3"/>
          <a:stretch/>
        </p:blipFill>
        <p:spPr>
          <a:xfrm>
            <a:off x="0" y="0"/>
            <a:ext cx="11015640" cy="687708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95200" y="1184040"/>
            <a:ext cx="9428400" cy="63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7.Как называют обувь футболиста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79280" indent="0">
              <a:lnSpc>
                <a:spcPct val="115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) кроссовки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179280" indent="0">
              <a:lnSpc>
                <a:spcPct val="115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) сандалии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179280" indent="0">
              <a:lnSpc>
                <a:spcPct val="115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) бутсы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1792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4" descr="Header WM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99520" y="9324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sz="26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pic>
        <p:nvPicPr>
          <p:cNvPr id="170" name="Рисунок 1" descr=""/>
          <p:cNvPicPr/>
          <p:nvPr/>
        </p:nvPicPr>
        <p:blipFill>
          <a:blip r:embed="rId2"/>
          <a:stretch/>
        </p:blipFill>
        <p:spPr>
          <a:xfrm>
            <a:off x="-12600" y="0"/>
            <a:ext cx="9736200" cy="6877080"/>
          </a:xfrm>
          <a:prstGeom prst="rect">
            <a:avLst/>
          </a:prstGeom>
          <a:ln w="0">
            <a:noFill/>
          </a:ln>
        </p:spPr>
      </p:pic>
      <p:pic>
        <p:nvPicPr>
          <p:cNvPr id="171" name="Рисунок 5" descr=""/>
          <p:cNvPicPr/>
          <p:nvPr/>
        </p:nvPicPr>
        <p:blipFill>
          <a:blip r:embed="rId3"/>
          <a:stretch/>
        </p:blipFill>
        <p:spPr>
          <a:xfrm>
            <a:off x="0" y="0"/>
            <a:ext cx="11015640" cy="687708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95200" y="1037880"/>
            <a:ext cx="9428400" cy="64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6. Где показывают счёт игры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79280" indent="0">
              <a:lnSpc>
                <a:spcPct val="115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) на планшете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179280" indent="0">
              <a:lnSpc>
                <a:spcPct val="115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) на табло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179280" indent="0">
              <a:lnSpc>
                <a:spcPct val="115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) по телевизору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1792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4" name="Объект 3" descr=""/>
          <p:cNvPicPr/>
          <p:nvPr/>
        </p:nvPicPr>
        <p:blipFill>
          <a:blip r:embed="rId1"/>
          <a:stretch/>
        </p:blipFill>
        <p:spPr>
          <a:xfrm>
            <a:off x="-1038240" y="0"/>
            <a:ext cx="11688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Header WM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99520" y="9324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sz="26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pic>
        <p:nvPicPr>
          <p:cNvPr id="90" name="Рисунок 1" descr=""/>
          <p:cNvPicPr/>
          <p:nvPr/>
        </p:nvPicPr>
        <p:blipFill>
          <a:blip r:embed="rId2"/>
          <a:stretch/>
        </p:blipFill>
        <p:spPr>
          <a:xfrm>
            <a:off x="-12600" y="0"/>
            <a:ext cx="9736200" cy="687708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6" descr=""/>
          <p:cNvPicPr/>
          <p:nvPr/>
        </p:nvPicPr>
        <p:blipFill>
          <a:blip r:embed="rId3"/>
          <a:stretch/>
        </p:blipFill>
        <p:spPr>
          <a:xfrm>
            <a:off x="0" y="0"/>
            <a:ext cx="11015640" cy="687708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9600" y="835200"/>
            <a:ext cx="8510400" cy="60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93720" indent="-514440">
              <a:lnSpc>
                <a:spcPct val="115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 называется отдельная футбольная игра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693720" indent="0">
              <a:lnSpc>
                <a:spcPct val="115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) матч 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693720" indent="0">
              <a:lnSpc>
                <a:spcPct val="115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) тайм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693720" indent="0">
              <a:lnSpc>
                <a:spcPct val="115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) период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693720" indent="0">
              <a:lnSpc>
                <a:spcPct val="115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) сет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69372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Header WM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99520" y="9324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sz="26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pic>
        <p:nvPicPr>
          <p:cNvPr id="95" name="Рисунок 1" descr=""/>
          <p:cNvPicPr/>
          <p:nvPr/>
        </p:nvPicPr>
        <p:blipFill>
          <a:blip r:embed="rId2"/>
          <a:stretch/>
        </p:blipFill>
        <p:spPr>
          <a:xfrm>
            <a:off x="-12600" y="0"/>
            <a:ext cx="9736200" cy="687708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2" descr=""/>
          <p:cNvPicPr/>
          <p:nvPr/>
        </p:nvPicPr>
        <p:blipFill>
          <a:blip r:embed="rId3"/>
          <a:stretch/>
        </p:blipFill>
        <p:spPr>
          <a:xfrm>
            <a:off x="0" y="0"/>
            <a:ext cx="11015640" cy="68770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9600" y="835200"/>
            <a:ext cx="8510400" cy="60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Сколько длится футбольный матч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79280" indent="0">
              <a:lnSpc>
                <a:spcPct val="115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) 30 минут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179280" indent="0">
              <a:lnSpc>
                <a:spcPct val="115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) 150 минут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179280" indent="0">
              <a:lnSpc>
                <a:spcPct val="115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) 90 минут 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179280" indent="0">
              <a:lnSpc>
                <a:spcPct val="115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) 120 минут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1792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Header WM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99520" y="9324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sz="26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pic>
        <p:nvPicPr>
          <p:cNvPr id="100" name="Рисунок 1" descr=""/>
          <p:cNvPicPr/>
          <p:nvPr/>
        </p:nvPicPr>
        <p:blipFill>
          <a:blip r:embed="rId2"/>
          <a:stretch/>
        </p:blipFill>
        <p:spPr>
          <a:xfrm>
            <a:off x="-12600" y="0"/>
            <a:ext cx="9736200" cy="687708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5" descr=""/>
          <p:cNvPicPr/>
          <p:nvPr/>
        </p:nvPicPr>
        <p:blipFill>
          <a:blip r:embed="rId3"/>
          <a:stretch/>
        </p:blipFill>
        <p:spPr>
          <a:xfrm>
            <a:off x="0" y="0"/>
            <a:ext cx="11015640" cy="687708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9600" y="740880"/>
            <a:ext cx="8510400" cy="611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Игрок, основной задачей которого является забивание голов, называется..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79280" indent="0">
              <a:lnSpc>
                <a:spcPct val="11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) противником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179280" indent="0">
              <a:lnSpc>
                <a:spcPct val="11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) нападающим  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179280" indent="0">
              <a:lnSpc>
                <a:spcPct val="11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) защитником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179280" indent="0">
              <a:lnSpc>
                <a:spcPct val="11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) голкипером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1792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Header WM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99520" y="9324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sz="26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pic>
        <p:nvPicPr>
          <p:cNvPr id="105" name="Рисунок 1" descr=""/>
          <p:cNvPicPr/>
          <p:nvPr/>
        </p:nvPicPr>
        <p:blipFill>
          <a:blip r:embed="rId2"/>
          <a:stretch/>
        </p:blipFill>
        <p:spPr>
          <a:xfrm>
            <a:off x="-12600" y="0"/>
            <a:ext cx="9736200" cy="687708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5" descr=""/>
          <p:cNvPicPr/>
          <p:nvPr/>
        </p:nvPicPr>
        <p:blipFill>
          <a:blip r:embed="rId3"/>
          <a:stretch/>
        </p:blipFill>
        <p:spPr>
          <a:xfrm>
            <a:off x="0" y="0"/>
            <a:ext cx="11015640" cy="687708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95200" y="740880"/>
            <a:ext cx="8524800" cy="602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177480"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 Организация, управляющая профессиональным футболом на мировом уровне, называется..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77480" indent="0">
              <a:lnSpc>
                <a:spcPct val="11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) НБ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177480" indent="0">
              <a:lnSpc>
                <a:spcPct val="11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) ФИФА  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177480" indent="0">
              <a:lnSpc>
                <a:spcPct val="11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) НХЛ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177480" indent="0">
              <a:lnSpc>
                <a:spcPct val="11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) МАГАТЭ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1774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Header WM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99520" y="9324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sz="26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pic>
        <p:nvPicPr>
          <p:cNvPr id="110" name="Рисунок 1" descr=""/>
          <p:cNvPicPr/>
          <p:nvPr/>
        </p:nvPicPr>
        <p:blipFill>
          <a:blip r:embed="rId2"/>
          <a:stretch/>
        </p:blipFill>
        <p:spPr>
          <a:xfrm>
            <a:off x="-12600" y="0"/>
            <a:ext cx="9736200" cy="6877080"/>
          </a:xfrm>
          <a:prstGeom prst="rect">
            <a:avLst/>
          </a:prstGeom>
          <a:ln w="0">
            <a:noFill/>
          </a:ln>
        </p:spPr>
      </p:pic>
      <p:pic>
        <p:nvPicPr>
          <p:cNvPr id="111" name="Рисунок 5" descr=""/>
          <p:cNvPicPr/>
          <p:nvPr/>
        </p:nvPicPr>
        <p:blipFill>
          <a:blip r:embed="rId3"/>
          <a:stretch/>
        </p:blipFill>
        <p:spPr>
          <a:xfrm>
            <a:off x="0" y="0"/>
            <a:ext cx="11015640" cy="687708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95200" y="875880"/>
            <a:ext cx="8848800" cy="602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. Какой год считается датой рождения футбола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79280" indent="0">
              <a:lnSpc>
                <a:spcPct val="115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) 1863 год  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179280" indent="0">
              <a:lnSpc>
                <a:spcPct val="115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) 1932 год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179280" indent="0">
              <a:lnSpc>
                <a:spcPct val="115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) 1990 год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179280" indent="0">
              <a:lnSpc>
                <a:spcPct val="115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) 1812 год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1792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4" descr="Header WM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99520" y="9324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sz="26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pic>
        <p:nvPicPr>
          <p:cNvPr id="115" name="Рисунок 1" descr=""/>
          <p:cNvPicPr/>
          <p:nvPr/>
        </p:nvPicPr>
        <p:blipFill>
          <a:blip r:embed="rId2"/>
          <a:stretch/>
        </p:blipFill>
        <p:spPr>
          <a:xfrm>
            <a:off x="-12600" y="0"/>
            <a:ext cx="9736200" cy="687708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5" descr=""/>
          <p:cNvPicPr/>
          <p:nvPr/>
        </p:nvPicPr>
        <p:blipFill>
          <a:blip r:embed="rId3"/>
          <a:stretch/>
        </p:blipFill>
        <p:spPr>
          <a:xfrm>
            <a:off x="0" y="0"/>
            <a:ext cx="11015640" cy="687708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95200" y="741240"/>
            <a:ext cx="8524800" cy="615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. Сколько времени длится перерыв между первым и вторым таймом в футбольном матче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79280" indent="0">
              <a:lnSpc>
                <a:spcPct val="11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) 40 минут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179280" indent="0">
              <a:lnSpc>
                <a:spcPct val="11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) 15 минут  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179280" indent="0">
              <a:lnSpc>
                <a:spcPct val="11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) 5 минут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179280" indent="0">
              <a:lnSpc>
                <a:spcPct val="11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) 2 минуты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1792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4" descr="Header WM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99520" y="9324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sz="26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pic>
        <p:nvPicPr>
          <p:cNvPr id="120" name="Рисунок 1" descr=""/>
          <p:cNvPicPr/>
          <p:nvPr/>
        </p:nvPicPr>
        <p:blipFill>
          <a:blip r:embed="rId2"/>
          <a:stretch/>
        </p:blipFill>
        <p:spPr>
          <a:xfrm>
            <a:off x="-12600" y="0"/>
            <a:ext cx="9736200" cy="6877080"/>
          </a:xfrm>
          <a:prstGeom prst="rect">
            <a:avLst/>
          </a:prstGeom>
          <a:ln w="0">
            <a:noFill/>
          </a:ln>
        </p:spPr>
      </p:pic>
      <p:pic>
        <p:nvPicPr>
          <p:cNvPr id="121" name="Рисунок 5" descr=""/>
          <p:cNvPicPr/>
          <p:nvPr/>
        </p:nvPicPr>
        <p:blipFill>
          <a:blip r:embed="rId3"/>
          <a:stretch/>
        </p:blipFill>
        <p:spPr>
          <a:xfrm>
            <a:off x="0" y="0"/>
            <a:ext cx="11050560" cy="68994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95200" y="741240"/>
            <a:ext cx="8524800" cy="615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. Как называется человек, который следит за исполнением правил на поле во время игры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79280" indent="0">
              <a:lnSpc>
                <a:spcPct val="11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) запасной игрок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179280" indent="0">
              <a:lnSpc>
                <a:spcPct val="11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) арбитр  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179280" indent="0">
              <a:lnSpc>
                <a:spcPct val="11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) тренер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179280" indent="0">
              <a:lnSpc>
                <a:spcPct val="11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) комментатор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1792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" descr="Header WM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99520" y="9324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sz="26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pic>
        <p:nvPicPr>
          <p:cNvPr id="125" name="Рисунок 1" descr=""/>
          <p:cNvPicPr/>
          <p:nvPr/>
        </p:nvPicPr>
        <p:blipFill>
          <a:blip r:embed="rId2"/>
          <a:stretch/>
        </p:blipFill>
        <p:spPr>
          <a:xfrm>
            <a:off x="-12600" y="0"/>
            <a:ext cx="9736200" cy="6877080"/>
          </a:xfrm>
          <a:prstGeom prst="rect">
            <a:avLst/>
          </a:prstGeom>
          <a:ln w="0">
            <a:noFill/>
          </a:ln>
        </p:spPr>
      </p:pic>
      <p:pic>
        <p:nvPicPr>
          <p:cNvPr id="126" name="Рисунок 5" descr=""/>
          <p:cNvPicPr/>
          <p:nvPr/>
        </p:nvPicPr>
        <p:blipFill>
          <a:blip r:embed="rId3"/>
          <a:stretch/>
        </p:blipFill>
        <p:spPr>
          <a:xfrm>
            <a:off x="0" y="0"/>
            <a:ext cx="11015640" cy="687708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95200" y="398520"/>
            <a:ext cx="8848800" cy="65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0">
              <a:lnSpc>
                <a:spcPct val="11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. Как в команде называется человек, который может брать мяч руками на территории штрафной площадки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79280" indent="0">
              <a:lnSpc>
                <a:spcPct val="115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) вратарь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79280" indent="0">
              <a:lnSpc>
                <a:spcPct val="115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) защитни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79280" indent="0">
              <a:lnSpc>
                <a:spcPct val="115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) нападающ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79280" indent="0">
              <a:lnSpc>
                <a:spcPct val="115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) трене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792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8T10:37:44Z</dcterms:created>
  <dc:creator>Секретарь</dc:creator>
  <dc:description/>
  <dc:language>en-US</dc:language>
  <cp:lastModifiedBy>Секретарь</cp:lastModifiedBy>
  <dcterms:modified xsi:type="dcterms:W3CDTF">2021-03-24T05:37:30Z</dcterms:modified>
  <cp:revision>32</cp:revision>
  <dc:subject/>
  <dc:title>Silvester</dc:title>
</cp:coreProperties>
</file>