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0CC-5882-4633-8832-07567DC5337C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4717-B3A5-432E-9629-AD22CBC8A058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717B334A-062E-4577-878D-78511CA9125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F1013002_Folie1_T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2560" y="4687560"/>
            <a:ext cx="8305560" cy="181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ВИКТОРИНА ПО ФУТБО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1-4 КЛАССЫ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10720" y="6352920"/>
            <a:ext cx="75106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95200" y="950760"/>
            <a:ext cx="88488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Красная карточка в футболе — это знак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удаления игрока с поля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редупреждения иг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ыражения благодарн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окончания матч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5200" y="741240"/>
            <a:ext cx="88488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Сборная какой страны чаще других становилась чемпионом ми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сборная С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сборная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сборная Бразилии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сборная Ямай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85248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Эти люди на трибунах не болеют, но их называю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боль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болельщи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аболевш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94284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 Забитый мя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а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уда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го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5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94284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 Сколько человек в футбольной команд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1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1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5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88488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Как называют главного человека в команде футболист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команди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капитан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руководите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6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94284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 По чему катится мяч во время матч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о полян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о полю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о площад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6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5200" y="1184040"/>
            <a:ext cx="9428400" cy="63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Как называют обувь футболис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кроссов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сандал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бутс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7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94284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 Где показывают счёт иг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на планшет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 табл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о телевизор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Объект 3" descr=""/>
          <p:cNvPicPr/>
          <p:nvPr/>
        </p:nvPicPr>
        <p:blipFill>
          <a:blip r:embed="rId1"/>
          <a:stretch/>
        </p:blipFill>
        <p:spPr>
          <a:xfrm>
            <a:off x="-1038240" y="0"/>
            <a:ext cx="1168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9600" y="835200"/>
            <a:ext cx="8510400" cy="60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3720" indent="-514440">
              <a:lnSpc>
                <a:spcPct val="11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отдельная футбольная иг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матч 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ай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ери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с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9600" y="835200"/>
            <a:ext cx="8510400" cy="60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колько длится футбольный матч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30 мину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150 мину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90 минут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120 мину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9600" y="740880"/>
            <a:ext cx="8510400" cy="61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грок, основной задачей которого является забивание голов, называется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отивник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падающим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ащитник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голкипер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5200" y="740880"/>
            <a:ext cx="8524800" cy="60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74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рганизация, управляющая профессиональным футболом на мировом уровне, называется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НБ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ФИФА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Х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МАГАТ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5200" y="875880"/>
            <a:ext cx="8848800" cy="60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й год считается датой рождения футбо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1863 год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1932 г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1990 г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1812 г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5200" y="741240"/>
            <a:ext cx="8524800" cy="615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Сколько времени длится перерыв между первым и вторым таймом в футбольном матч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40 мину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15 минут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5 мину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2 мину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50560" cy="6899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5200" y="741240"/>
            <a:ext cx="8524800" cy="615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 называется человек, который следит за исполнением правил на поле во время иг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запасной игр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арбитр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трен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комментато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5200" y="398520"/>
            <a:ext cx="8848800" cy="65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Как в команде называется человек, который может брать мяч руками на территории штрафной площад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ратарь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защи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ападающ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трен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37:44Z</dcterms:created>
  <dc:creator>Секретарь</dc:creator>
  <dc:description/>
  <dc:language>en-US</dc:language>
  <cp:lastModifiedBy>Секретарь</cp:lastModifiedBy>
  <dcterms:modified xsi:type="dcterms:W3CDTF">2021-03-24T05:37:30Z</dcterms:modified>
  <cp:revision>32</cp:revision>
  <dc:subject/>
  <dc:title>Silvester</dc:title>
</cp:coreProperties>
</file>