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01D-D4DB-40CC-8BE2-BB6D55FB1117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A88-3090-44FB-8134-F98A075F8F7C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90AAEE8-E9BB-43DA-860A-F0F6F58C625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-1038240" y="0"/>
            <a:ext cx="11688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54080" y="4570200"/>
            <a:ext cx="8305920" cy="181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ВИКТОРИНА ПО ФУТБ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5-6 КЛАССЫ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10720" y="6352920"/>
            <a:ext cx="75106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744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10" descr=""/>
          <p:cNvPicPr/>
          <p:nvPr/>
        </p:nvPicPr>
        <p:blipFill>
          <a:blip r:embed="rId3"/>
          <a:stretch/>
        </p:blipFill>
        <p:spPr>
          <a:xfrm>
            <a:off x="-122400" y="554040"/>
            <a:ext cx="958392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132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10" descr=""/>
          <p:cNvPicPr/>
          <p:nvPr/>
        </p:nvPicPr>
        <p:blipFill>
          <a:blip r:embed="rId3"/>
          <a:stretch/>
        </p:blipFill>
        <p:spPr>
          <a:xfrm>
            <a:off x="-122400" y="933480"/>
            <a:ext cx="9577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-593640" y="-20520"/>
            <a:ext cx="11017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7132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774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8392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8392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7440" cy="688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>Секретарь</dc:creator>
  <dc:description/>
  <dc:language>en-US</dc:language>
  <cp:lastModifiedBy>Секретарь</cp:lastModifiedBy>
  <dcterms:modified xsi:type="dcterms:W3CDTF">2021-03-24T06:26:58Z</dcterms:modified>
  <cp:revision>37</cp:revision>
  <dc:subject/>
  <dc:title>Silvester</dc:title>
</cp:coreProperties>
</file>