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DCB-D800-4B8E-AA3F-003D0E8E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480-E543-45E3-B10C-03905FCB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EA1-97E3-4C26-AB04-FBAE8AFC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68E-5270-4A00-89AB-7050E055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F38-04A8-4E0F-885E-B96876FC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21C-0EF2-4EA1-A191-6F7FD987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71F-168C-47AE-8446-424E952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E0A-FFD8-4D39-BBDA-7D11075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D90-7EBE-49E2-B0F8-6425617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61E-09BD-4D68-AE63-212BC8C8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1A7-53A1-4CB3-B47B-140F5DF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71F-8A21-4705-BB54-EA318A2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93AF-5E22-410B-AF58-40595DAF9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2500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ма: «Москва – город, в котором мы живем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L:\Мои документы\День города\Kreml-v-Moskve\Рисунок8.jpg"/>
          <p:cNvPicPr/>
          <p:nvPr/>
        </p:nvPicPr>
        <p:blipFill>
          <a:blip r:embed="rId1"/>
          <a:stretch/>
        </p:blipFill>
        <p:spPr>
          <a:xfrm>
            <a:off x="250920" y="189000"/>
            <a:ext cx="8665920" cy="649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:\Мои документы\День города\Kreml-v-Moskve\Рисунок9.jpg"/>
          <p:cNvPicPr/>
          <p:nvPr/>
        </p:nvPicPr>
        <p:blipFill>
          <a:blip r:embed="rId1"/>
          <a:stretch/>
        </p:blipFill>
        <p:spPr>
          <a:xfrm>
            <a:off x="324000" y="260280"/>
            <a:ext cx="5487840" cy="410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:\Мои документы\День города\Kreml-v-Moskve\Рисунок10.jpg"/>
          <p:cNvPicPr/>
          <p:nvPr/>
        </p:nvPicPr>
        <p:blipFill>
          <a:blip r:embed="rId2"/>
          <a:stretch/>
        </p:blipFill>
        <p:spPr>
          <a:xfrm>
            <a:off x="4859280" y="3681360"/>
            <a:ext cx="41245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L:\Мои документы\День города\Kreml-v-Moskve\Рисунок11.jpg"/>
          <p:cNvPicPr/>
          <p:nvPr/>
        </p:nvPicPr>
        <p:blipFill>
          <a:blip r:embed="rId1"/>
          <a:stretch/>
        </p:blipFill>
        <p:spPr>
          <a:xfrm>
            <a:off x="2340000" y="115920"/>
            <a:ext cx="46083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3290760"/>
            <a:ext cx="822960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7200" y="28558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:\Мои документы\День города\Kreml-v-Moskve\Рисунок12.jpg"/>
          <p:cNvPicPr/>
          <p:nvPr/>
        </p:nvPicPr>
        <p:blipFill>
          <a:blip r:embed="rId3"/>
          <a:stretch/>
        </p:blipFill>
        <p:spPr>
          <a:xfrm>
            <a:off x="1184400" y="185760"/>
            <a:ext cx="67752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2920" y="285840"/>
            <a:ext cx="8686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арь – колоко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857840" y="5643720"/>
            <a:ext cx="38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арь – пуш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L:\Мои документы\День города\Kreml-v-Moskve\Рисунок13.jpg"/>
          <p:cNvPicPr/>
          <p:nvPr/>
        </p:nvPicPr>
        <p:blipFill>
          <a:blip r:embed="rId1"/>
          <a:stretch/>
        </p:blipFill>
        <p:spPr>
          <a:xfrm>
            <a:off x="684360" y="1295280"/>
            <a:ext cx="2971800" cy="426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L:\Мои документы\День города\Kreml-v-Moskve\Рисунок14.jpg"/>
          <p:cNvPicPr/>
          <p:nvPr/>
        </p:nvPicPr>
        <p:blipFill>
          <a:blip r:embed="rId2"/>
          <a:stretch/>
        </p:blipFill>
        <p:spPr>
          <a:xfrm>
            <a:off x="4211640" y="162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5840" y="285840"/>
            <a:ext cx="86868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Храм Христа Спасите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L:\Мои документы\День города\Kreml-v-Moskve\Рисунок15.jpg"/>
          <p:cNvPicPr/>
          <p:nvPr/>
        </p:nvPicPr>
        <p:blipFill>
          <a:blip r:embed="rId1"/>
          <a:stretch/>
        </p:blipFill>
        <p:spPr>
          <a:xfrm>
            <a:off x="731880" y="1052640"/>
            <a:ext cx="7405560" cy="553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420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ольшой Теа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L:\Мои документы\День города\Kreml-v-Moskve\Рисунок16.jpg"/>
          <p:cNvPicPr/>
          <p:nvPr/>
        </p:nvPicPr>
        <p:blipFill>
          <a:blip r:embed="rId1"/>
          <a:stretch/>
        </p:blipFill>
        <p:spPr>
          <a:xfrm>
            <a:off x="990720" y="1125360"/>
            <a:ext cx="7140600" cy="492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8584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атр зверей имени В. Ду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L:\Мои документы\День города\Kreml-v-Moskve\Рисунок17.jpg"/>
          <p:cNvPicPr/>
          <p:nvPr/>
        </p:nvPicPr>
        <p:blipFill>
          <a:blip r:embed="rId1"/>
          <a:stretch/>
        </p:blipFill>
        <p:spPr>
          <a:xfrm>
            <a:off x="900000" y="1413000"/>
            <a:ext cx="7488360" cy="50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ирк на цветном бульв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L:\Мои документы\День города\Kreml-v-Moskve\Рисунок18.jpg"/>
          <p:cNvPicPr/>
          <p:nvPr/>
        </p:nvPicPr>
        <p:blipFill>
          <a:blip r:embed="rId1"/>
          <a:stretch/>
        </p:blipFill>
        <p:spPr>
          <a:xfrm>
            <a:off x="1187280" y="1047600"/>
            <a:ext cx="7000920" cy="526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ретьяковская галере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L:\Мои документы\День города\Kreml-v-Moskve\Рисунок19.jpg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28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L:\Мои документы\День города\Kreml-v-Moskve\Рисунок1.jpg"/>
          <p:cNvPicPr/>
          <p:nvPr/>
        </p:nvPicPr>
        <p:blipFill>
          <a:blip r:embed="rId1"/>
          <a:stretch/>
        </p:blipFill>
        <p:spPr>
          <a:xfrm>
            <a:off x="2050920" y="49320"/>
            <a:ext cx="504216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400" y="285480"/>
            <a:ext cx="825804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сторический му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L:\Мои документы\День города\Kreml-v-Moskve\Рисунок20.jpg"/>
          <p:cNvPicPr/>
          <p:nvPr/>
        </p:nvPicPr>
        <p:blipFill>
          <a:blip r:embed="rId1"/>
          <a:stretch/>
        </p:blipFill>
        <p:spPr>
          <a:xfrm>
            <a:off x="971640" y="1197000"/>
            <a:ext cx="7223040" cy="53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8548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L:\Мои документы\День города\Kreml-v-Moskve\Рисунок21.jpg"/>
          <p:cNvPicPr/>
          <p:nvPr/>
        </p:nvPicPr>
        <p:blipFill>
          <a:blip r:embed="rId1"/>
          <a:stretch/>
        </p:blipFill>
        <p:spPr>
          <a:xfrm>
            <a:off x="1116000" y="1087560"/>
            <a:ext cx="6921360" cy="478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48240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снователь Москвы – князь Юрий Долгору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85840" y="57150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Ему в центре города установлен памятник</a:t>
            </a: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:\Мои документы\День города\Kreml-v-Moskve\Рисунок2.jpg"/>
          <p:cNvPicPr/>
          <p:nvPr/>
        </p:nvPicPr>
        <p:blipFill>
          <a:blip r:embed="rId1"/>
          <a:stretch/>
        </p:blipFill>
        <p:spPr>
          <a:xfrm>
            <a:off x="1187280" y="1414440"/>
            <a:ext cx="2476800" cy="40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:\Мои документы\День города\Kreml-v-Moskve\Рисунок3.jpg"/>
          <p:cNvPicPr/>
          <p:nvPr/>
        </p:nvPicPr>
        <p:blipFill>
          <a:blip r:embed="rId2"/>
          <a:stretch/>
        </p:blipFill>
        <p:spPr>
          <a:xfrm>
            <a:off x="4932360" y="1376280"/>
            <a:ext cx="2838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L:\Мои документы\День города\Kreml-v-Moskve\Рисунок4.jpg"/>
          <p:cNvPicPr/>
          <p:nvPr/>
        </p:nvPicPr>
        <p:blipFill>
          <a:blip r:embed="rId1"/>
          <a:stretch/>
        </p:blipFill>
        <p:spPr>
          <a:xfrm>
            <a:off x="-17640" y="333360"/>
            <a:ext cx="916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:\Мои документы\День города\Kreml-v-Moskve\Рисунок5.jpg"/>
          <p:cNvPicPr/>
          <p:nvPr/>
        </p:nvPicPr>
        <p:blipFill>
          <a:blip r:embed="rId1"/>
          <a:stretch/>
        </p:blipFill>
        <p:spPr>
          <a:xfrm>
            <a:off x="395280" y="189000"/>
            <a:ext cx="8431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23572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 гербе Москвы изображён всадник с копьём, поражающий змея. Это святой Георгий Победонос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Москва\200px-coat_of_arms_of_moscow.svg.png"/>
          <p:cNvPicPr/>
          <p:nvPr/>
        </p:nvPicPr>
        <p:blipFill>
          <a:blip r:embed="rId1"/>
          <a:stretch/>
        </p:blipFill>
        <p:spPr>
          <a:xfrm>
            <a:off x="4890960" y="1571760"/>
            <a:ext cx="3967200" cy="4700520"/>
          </a:xfrm>
          <a:prstGeom prst="rect">
            <a:avLst/>
          </a:prstGeom>
          <a:ln w="0">
            <a:noFill/>
          </a:ln>
        </p:spPr>
      </p:pic>
      <p:sp>
        <p:nvSpPr>
          <p:cNvPr id="51" name="Содержимое 2"/>
          <p:cNvSpPr/>
          <p:nvPr/>
        </p:nvSpPr>
        <p:spPr>
          <a:xfrm>
            <a:off x="285840" y="285840"/>
            <a:ext cx="8686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ерб Мос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400" y="-7920"/>
            <a:ext cx="9543960" cy="71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L:\Мои документы\День города\Kreml-v-Moskve\Рисунок6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L:\Мои документы\День города\Kreml-v-Moskve\Рисунок7.jpg"/>
          <p:cNvPicPr/>
          <p:nvPr/>
        </p:nvPicPr>
        <p:blipFill>
          <a:blip r:embed="rId1"/>
          <a:stretch/>
        </p:blipFill>
        <p:spPr>
          <a:xfrm>
            <a:off x="468360" y="260280"/>
            <a:ext cx="845028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Admin</cp:lastModifiedBy>
  <dcterms:modified xsi:type="dcterms:W3CDTF">2023-11-07T18:32:02Z</dcterms:modified>
  <cp:revision>59</cp:revision>
  <dc:subject/>
  <dc:title>Тема: Путешествие по Москве. Московский Кремль.</dc:title>
</cp:coreProperties>
</file>