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jpeg" ContentType="image/jpeg"/>
  <Override PartName="/ppt/media/image9.jpeg" ContentType="image/jpeg"/>
  <Override PartName="/ppt/media/image11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15.png" ContentType="image/png"/>
  <Override PartName="/ppt/media/image3.jpeg" ContentType="image/jpeg"/>
  <Override PartName="/ppt/media/image25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3DF7-08A2-41FD-A15E-67A136069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8E83-4771-4965-B3B8-6C9CA635D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4BD6-DCCF-48EE-B1B8-D1CBE40F9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9BAD-2F5A-41CC-B88C-6A1EB1ED2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85CC-86A8-4E6A-8608-8281AEBE1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4CD9-FC74-4411-9A05-9D29DF04F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BF1C-6285-4C9C-9AF4-6FC82A585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1FB0-829A-4F0C-88A4-75FE90058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6D97-DBE0-442D-8D34-DB1166FAB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D56B-9816-45CD-9351-9044825A8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B8BD-DAD7-48FA-82DE-8ADD2A3FC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E4F9-BE33-4826-A3D2-270F1CFE0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E361E-1AEF-491B-946F-440E61C31A3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85480" y="2500200"/>
            <a:ext cx="8458200" cy="122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Тема: «Москва – город, в котором мы живем»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L:\Мои документы\День города\Kreml-v-Moskve\Рисунок8.jpg"/>
          <p:cNvPicPr/>
          <p:nvPr/>
        </p:nvPicPr>
        <p:blipFill>
          <a:blip r:embed="rId1"/>
          <a:stretch/>
        </p:blipFill>
        <p:spPr>
          <a:xfrm>
            <a:off x="250920" y="189000"/>
            <a:ext cx="8665920" cy="64990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L:\Мои документы\День города\Kreml-v-Moskve\Рисунок9.jpg"/>
          <p:cNvPicPr/>
          <p:nvPr/>
        </p:nvPicPr>
        <p:blipFill>
          <a:blip r:embed="rId1"/>
          <a:stretch/>
        </p:blipFill>
        <p:spPr>
          <a:xfrm>
            <a:off x="324000" y="260280"/>
            <a:ext cx="5487840" cy="41054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L:\Мои документы\День города\Kreml-v-Moskve\Рисунок10.jpg"/>
          <p:cNvPicPr/>
          <p:nvPr/>
        </p:nvPicPr>
        <p:blipFill>
          <a:blip r:embed="rId2"/>
          <a:stretch/>
        </p:blipFill>
        <p:spPr>
          <a:xfrm>
            <a:off x="4859280" y="3681360"/>
            <a:ext cx="4124520" cy="30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L:\Мои документы\День города\Kreml-v-Moskve\Рисунок11.jpg"/>
          <p:cNvPicPr/>
          <p:nvPr/>
        </p:nvPicPr>
        <p:blipFill>
          <a:blip r:embed="rId1"/>
          <a:stretch/>
        </p:blipFill>
        <p:spPr>
          <a:xfrm>
            <a:off x="2340000" y="115920"/>
            <a:ext cx="4608360" cy="66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457200" y="3290760"/>
            <a:ext cx="8229600" cy="11448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"/>
          <p:cNvPicPr/>
          <p:nvPr/>
        </p:nvPicPr>
        <p:blipFill>
          <a:blip r:embed="rId2"/>
          <a:stretch/>
        </p:blipFill>
        <p:spPr>
          <a:xfrm>
            <a:off x="457200" y="28558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L:\Мои документы\День города\Kreml-v-Moskve\Рисунок12.jpg"/>
          <p:cNvPicPr/>
          <p:nvPr/>
        </p:nvPicPr>
        <p:blipFill>
          <a:blip r:embed="rId3"/>
          <a:stretch/>
        </p:blipFill>
        <p:spPr>
          <a:xfrm>
            <a:off x="1184400" y="185760"/>
            <a:ext cx="6775200" cy="64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142920" y="285840"/>
            <a:ext cx="868680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Царь – колокол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4"/>
          <p:cNvSpPr/>
          <p:nvPr/>
        </p:nvSpPr>
        <p:spPr>
          <a:xfrm>
            <a:off x="4857840" y="5643720"/>
            <a:ext cx="385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Царь – пушк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L:\Мои документы\День города\Kreml-v-Moskve\Рисунок13.jpg"/>
          <p:cNvPicPr/>
          <p:nvPr/>
        </p:nvPicPr>
        <p:blipFill>
          <a:blip r:embed="rId1"/>
          <a:stretch/>
        </p:blipFill>
        <p:spPr>
          <a:xfrm>
            <a:off x="684360" y="1295280"/>
            <a:ext cx="2971800" cy="42674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L:\Мои документы\День города\Kreml-v-Moskve\Рисунок14.jpg"/>
          <p:cNvPicPr/>
          <p:nvPr/>
        </p:nvPicPr>
        <p:blipFill>
          <a:blip r:embed="rId2"/>
          <a:stretch/>
        </p:blipFill>
        <p:spPr>
          <a:xfrm>
            <a:off x="4211640" y="1628640"/>
            <a:ext cx="4267080" cy="32004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285840" y="285840"/>
            <a:ext cx="8686800" cy="94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Храм Христа Спасител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4" descr="L:\Мои документы\День города\Kreml-v-Moskve\Рисунок15.jpg"/>
          <p:cNvPicPr/>
          <p:nvPr/>
        </p:nvPicPr>
        <p:blipFill>
          <a:blip r:embed="rId1"/>
          <a:stretch/>
        </p:blipFill>
        <p:spPr>
          <a:xfrm>
            <a:off x="731880" y="1052640"/>
            <a:ext cx="7405560" cy="55371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214200" y="285480"/>
            <a:ext cx="8686800" cy="80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Большой Театр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4" descr="L:\Мои документы\День города\Kreml-v-Moskve\Рисунок16.jpg"/>
          <p:cNvPicPr/>
          <p:nvPr/>
        </p:nvPicPr>
        <p:blipFill>
          <a:blip r:embed="rId1"/>
          <a:stretch/>
        </p:blipFill>
        <p:spPr>
          <a:xfrm>
            <a:off x="990720" y="1125360"/>
            <a:ext cx="7140600" cy="4927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457200" y="285840"/>
            <a:ext cx="8686800" cy="101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Театр зверей имени В. Дуров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L:\Мои документы\День города\Kreml-v-Moskve\Рисунок17.jpg"/>
          <p:cNvPicPr/>
          <p:nvPr/>
        </p:nvPicPr>
        <p:blipFill>
          <a:blip r:embed="rId1"/>
          <a:stretch/>
        </p:blipFill>
        <p:spPr>
          <a:xfrm>
            <a:off x="900000" y="1413000"/>
            <a:ext cx="7488360" cy="5014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457200" y="285480"/>
            <a:ext cx="8686800" cy="80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Цирк на цветном бульвар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4" descr="L:\Мои документы\День города\Kreml-v-Moskve\Рисунок18.jpg"/>
          <p:cNvPicPr/>
          <p:nvPr/>
        </p:nvPicPr>
        <p:blipFill>
          <a:blip r:embed="rId1"/>
          <a:stretch/>
        </p:blipFill>
        <p:spPr>
          <a:xfrm>
            <a:off x="1187280" y="1047600"/>
            <a:ext cx="7000920" cy="52610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142920" y="285480"/>
            <a:ext cx="8686800" cy="80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Третьяковская галере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4" descr="L:\Мои документы\День города\Kreml-v-Moskve\Рисунок19.jpg"/>
          <p:cNvPicPr/>
          <p:nvPr/>
        </p:nvPicPr>
        <p:blipFill>
          <a:blip r:embed="rId1"/>
          <a:stretch/>
        </p:blipFill>
        <p:spPr>
          <a:xfrm>
            <a:off x="826920" y="1125360"/>
            <a:ext cx="7388280" cy="52880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L:\Мои документы\День города\Kreml-v-Moskve\Рисунок1.jpg"/>
          <p:cNvPicPr/>
          <p:nvPr/>
        </p:nvPicPr>
        <p:blipFill>
          <a:blip r:embed="rId1"/>
          <a:stretch/>
        </p:blipFill>
        <p:spPr>
          <a:xfrm>
            <a:off x="2050920" y="49320"/>
            <a:ext cx="5042160" cy="67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28400" y="285480"/>
            <a:ext cx="8258040" cy="10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Исторический музе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4" descr="L:\Мои документы\День города\Kreml-v-Moskve\Рисунок20.jpg"/>
          <p:cNvPicPr/>
          <p:nvPr/>
        </p:nvPicPr>
        <p:blipFill>
          <a:blip r:embed="rId1"/>
          <a:stretch/>
        </p:blipFill>
        <p:spPr>
          <a:xfrm>
            <a:off x="971640" y="1197000"/>
            <a:ext cx="7223040" cy="53197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57200" y="285480"/>
            <a:ext cx="8686800" cy="73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Спасибо за внимани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4" descr="L:\Мои документы\День города\Kreml-v-Moskve\Рисунок21.jpg"/>
          <p:cNvPicPr/>
          <p:nvPr/>
        </p:nvPicPr>
        <p:blipFill>
          <a:blip r:embed="rId1"/>
          <a:stretch/>
        </p:blipFill>
        <p:spPr>
          <a:xfrm>
            <a:off x="1116000" y="1087560"/>
            <a:ext cx="6921360" cy="47894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0" y="482400"/>
            <a:ext cx="9144000" cy="87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Основатель Москвы – князь Юрий Долгорук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285840" y="5715000"/>
            <a:ext cx="835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Ему в центре города установлен памятник</a:t>
            </a:r>
            <a:r>
              <a:rPr b="1" lang="ru-RU" sz="18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L:\Мои документы\День города\Kreml-v-Moskve\Рисунок2.jpg"/>
          <p:cNvPicPr/>
          <p:nvPr/>
        </p:nvPicPr>
        <p:blipFill>
          <a:blip r:embed="rId1"/>
          <a:stretch/>
        </p:blipFill>
        <p:spPr>
          <a:xfrm>
            <a:off x="1187280" y="1414440"/>
            <a:ext cx="2476800" cy="40384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L:\Мои документы\День города\Kreml-v-Moskve\Рисунок3.jpg"/>
          <p:cNvPicPr/>
          <p:nvPr/>
        </p:nvPicPr>
        <p:blipFill>
          <a:blip r:embed="rId2"/>
          <a:stretch/>
        </p:blipFill>
        <p:spPr>
          <a:xfrm>
            <a:off x="4932360" y="1376280"/>
            <a:ext cx="283860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L:\Мои документы\День города\Kreml-v-Moskve\Рисунок4.jpg"/>
          <p:cNvPicPr/>
          <p:nvPr/>
        </p:nvPicPr>
        <p:blipFill>
          <a:blip r:embed="rId1"/>
          <a:stretch/>
        </p:blipFill>
        <p:spPr>
          <a:xfrm>
            <a:off x="-17640" y="333360"/>
            <a:ext cx="916164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L:\Мои документы\День города\Kreml-v-Moskve\Рисунок5.jpg"/>
          <p:cNvPicPr/>
          <p:nvPr/>
        </p:nvPicPr>
        <p:blipFill>
          <a:blip r:embed="rId1"/>
          <a:stretch/>
        </p:blipFill>
        <p:spPr>
          <a:xfrm>
            <a:off x="395280" y="189000"/>
            <a:ext cx="843120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0" y="2357280"/>
            <a:ext cx="4572000" cy="28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На гербе Москвы изображён всадник с копьём, поражающий змея. Это святой Георгий Победоносец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C:\Documents and Settings\Admin\Рабочий стол\Москва\200px-coat_of_arms_of_moscow.svg.png"/>
          <p:cNvPicPr/>
          <p:nvPr/>
        </p:nvPicPr>
        <p:blipFill>
          <a:blip r:embed="rId1"/>
          <a:stretch/>
        </p:blipFill>
        <p:spPr>
          <a:xfrm>
            <a:off x="4890960" y="1571760"/>
            <a:ext cx="3967200" cy="4700520"/>
          </a:xfrm>
          <a:prstGeom prst="rect">
            <a:avLst/>
          </a:prstGeom>
          <a:ln w="0">
            <a:noFill/>
          </a:ln>
        </p:spPr>
      </p:pic>
      <p:sp>
        <p:nvSpPr>
          <p:cNvPr id="51" name="Содержимое 2"/>
          <p:cNvSpPr/>
          <p:nvPr/>
        </p:nvSpPr>
        <p:spPr>
          <a:xfrm>
            <a:off x="285840" y="285840"/>
            <a:ext cx="8686800" cy="8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Герб Москв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14400" y="-7920"/>
            <a:ext cx="9543960" cy="710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5" descr="L:\Мои документы\День города\Kreml-v-Moskve\Рисунок6.jpg"/>
          <p:cNvPicPr/>
          <p:nvPr/>
        </p:nvPicPr>
        <p:blipFill>
          <a:blip r:embed="rId1"/>
          <a:stretch/>
        </p:blipFill>
        <p:spPr>
          <a:xfrm>
            <a:off x="324000" y="189000"/>
            <a:ext cx="8496000" cy="65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5" descr="L:\Мои документы\День города\Kreml-v-Moskve\Рисунок7.jpg"/>
          <p:cNvPicPr/>
          <p:nvPr/>
        </p:nvPicPr>
        <p:blipFill>
          <a:blip r:embed="rId1"/>
          <a:stretch/>
        </p:blipFill>
        <p:spPr>
          <a:xfrm>
            <a:off x="468360" y="260280"/>
            <a:ext cx="8450280" cy="63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Татьяна</dc:creator>
  <dc:description/>
  <dc:language>en-US</dc:language>
  <cp:lastModifiedBy>Admin</cp:lastModifiedBy>
  <dcterms:modified xsi:type="dcterms:W3CDTF">2023-11-07T18:32:02Z</dcterms:modified>
  <cp:revision>59</cp:revision>
  <dc:subject/>
  <dc:title>Тема: Путешествие по Москве. Московский Кремль.</dc:title>
</cp:coreProperties>
</file>