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84EEA-3E00-4FAC-B3C1-DB81CF859064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86613F-3B91-4C76-B2AA-C2137813E98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51280" y="1197000"/>
            <a:ext cx="4753080" cy="52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f96a1b"/>
                </a:solidFill>
                <a:latin typeface="Verdana"/>
                <a:ea typeface="DejaVu Sans"/>
              </a:rPr>
              <a:t>Если ты поранился!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69960" y="1066680"/>
            <a:ext cx="223848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Franklin Gothic Medium"/>
              </a:rPr>
              <a:t>ЕСЛИ ТЫ ПОРАНИЛСЯ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45000" y="1249200"/>
            <a:ext cx="5602320" cy="398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09440" y="1987560"/>
            <a:ext cx="2799000" cy="46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Franklin Gothic Medium"/>
              </a:rPr>
              <a:t>ОГОНЬ НЕ ШУТКА ,А БЕДА…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71920" y="895320"/>
            <a:ext cx="5535720" cy="4183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6040" y="1060560"/>
            <a:ext cx="223848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Franklin Gothic Medium"/>
              </a:rPr>
              <a:t>ПЕРЕЛОМ СОВСЕМ НЕ ШУТКА!!!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780000" y="798480"/>
            <a:ext cx="5108400" cy="4181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09440" y="1341360"/>
            <a:ext cx="22370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Franklin Gothic Medium"/>
              </a:rPr>
              <a:t>ОСТРЫЕ ПРЕДМЕТЫ ОПАСНЫ!!!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713040" y="969840"/>
            <a:ext cx="5248440" cy="417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-36360" y="1341360"/>
            <a:ext cx="223668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Franklin Gothic Medium"/>
              </a:rPr>
              <a:t>НА МОРОЗЕ ОСТОРОЖНО!!!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998880" y="969840"/>
            <a:ext cx="5035680" cy="4175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6720" y="1060560"/>
            <a:ext cx="22370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03280" y="365040"/>
            <a:ext cx="72723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Medium"/>
              </a:rPr>
              <a:t>ОСТОРОЖНЫМ БУДЬ ВСЕГДА НЕ ПРИДЕТ К ТЕБЕ БЕДА!!!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19680" y="1206360"/>
            <a:ext cx="4529160" cy="3451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4000" y="1066680"/>
            <a:ext cx="2236680" cy="3730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0T15:26:45Z</dcterms:created>
  <dc:creator>Дима</dc:creator>
  <dc:description/>
  <dc:language>en-US</dc:language>
  <cp:lastModifiedBy>user</cp:lastModifiedBy>
  <dcterms:modified xsi:type="dcterms:W3CDTF">2018-08-20T12:48:37Z</dcterms:modified>
  <cp:revision>6</cp:revision>
  <dc:subject/>
  <dc:title>Если ты поранился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