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24AF2-6CDA-41A6-83AB-BF4988E23F1C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9F065-6654-42BA-AAA6-DF7219FD03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51280" y="1197000"/>
            <a:ext cx="475308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96a1b"/>
                </a:solidFill>
                <a:latin typeface="Verdana"/>
                <a:ea typeface="DejaVu Sans"/>
              </a:rPr>
              <a:t>Если ты поранился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1066680"/>
            <a:ext cx="22384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ЕСЛИ ТЫ ПОРАНИЛСЯ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45000" y="1249200"/>
            <a:ext cx="5602320" cy="398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9440" y="1987560"/>
            <a:ext cx="279900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ОГОНЬ НЕ ШУТКА ,А БЕДА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71920" y="895320"/>
            <a:ext cx="5535720" cy="418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040" y="1060560"/>
            <a:ext cx="22384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ПЕРЕЛОМ СОВСЕМ НЕ ШУТКА!!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80000" y="798480"/>
            <a:ext cx="5108400" cy="418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9440" y="1341360"/>
            <a:ext cx="22370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ОСТРЫЕ ПРЕДМЕТЫ ОПАСНЫ!!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13040" y="969840"/>
            <a:ext cx="5248440" cy="417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36360" y="1341360"/>
            <a:ext cx="22366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НА МОРОЗЕ ОСТОРОЖНО!!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98880" y="969840"/>
            <a:ext cx="5035680" cy="417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6720" y="1060560"/>
            <a:ext cx="22370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3280" y="365040"/>
            <a:ext cx="72723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Medium"/>
              </a:rPr>
              <a:t>ОСТОРОЖНЫМ БУДЬ ВСЕГДА НЕ ПРИДЕТ К ТЕБЕ БЕДА!!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19680" y="1206360"/>
            <a:ext cx="4529160" cy="3451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1066680"/>
            <a:ext cx="22366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0T15:26:45Z</dcterms:created>
  <dc:creator>Дима</dc:creator>
  <dc:description/>
  <dc:language>en-US</dc:language>
  <cp:lastModifiedBy>user</cp:lastModifiedBy>
  <dcterms:modified xsi:type="dcterms:W3CDTF">2018-08-20T12:48:37Z</dcterms:modified>
  <cp:revision>6</cp:revision>
  <dc:subject/>
  <dc:title>Если ты поранился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