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9.jpeg" ContentType="image/jpeg"/>
  <Override PartName="/ppt/media/image28.png" ContentType="image/png"/>
  <Override PartName="/ppt/media/image16.jpeg" ContentType="image/jpeg"/>
  <Override PartName="/ppt/media/image27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E2CE4-DFF2-4B74-9021-D50A2DBAC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5A639-D85A-4FB8-A73E-E5103A32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DAF4F-79CF-495D-8D64-5E0FFD7B6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E2F87-69EA-4B4D-A2C8-DA651BC20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E8DB5-C7AD-488C-B8EC-06613598C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D9B2-6E0B-4F86-B8D2-292EEE56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34B2-6FCE-4272-8FAE-48D8BA57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F7F3-26EA-46ED-9DE9-AAC42DA3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DF2C-6339-4B90-9ED8-7114254F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B2ED-F561-4D1F-83CE-07495245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040E-8AA3-485C-9A0D-29D72D7F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FB929-19EE-4A56-8B49-D10C5D94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56FC-34F6-4570-AD63-9CED2827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8F06-570A-4DBB-A64F-987DA639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1EE6-5A69-434A-B41D-88450054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DE3E-2D2A-46F4-B6C9-F9DBBE115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4F7D-380E-4E6D-89A0-7B8DC35F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54474-D560-462C-91A7-62C123D4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0D8D3-B330-4276-A3E3-4D113037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0A316-EF5E-4212-98C3-E3A900D0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8AC63-821A-4684-9F7C-AFEF3638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89277-049B-492C-B097-453AA8AD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FF44D-4AEE-4D61-9B60-3220F232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D74B9-58B1-4D4B-BE80-8EBE53B0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556B-A42D-4045-8E85-418587EE3C2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01D1-5A60-4C55-9FBA-92ECFF6B15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jpe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jpe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Молодежная субкультура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готовила студентка гр.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иногеева Кристина Сергеев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7031520" y="33336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оябрь 2022 год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362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дежда панков обращает на себя внимание большим количеством сопутствующих атрибутов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Жилеты (кожаные или джинсовые)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жинсы, часто с надписями, сделанными обычной шариковой ручкой или маркером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роткие кожаные куртки – «косухи», сильной степени заношенности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дежда обильно усеяна заклепками, значками, булавками, нашивками (колечки от крышек пивных банок), символика музыкальных групп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спространены «хакинги» - высокие ботинки военного типа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колотые уши (кольца, французские булавки в большом количестве)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ногда встречаются кожаные «ошейники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Металлисты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Picture 5" descr="метал"/>
          <p:cNvPicPr/>
          <p:nvPr/>
        </p:nvPicPr>
        <p:blipFill>
          <a:blip r:embed="rId1"/>
          <a:stretch/>
        </p:blipFill>
        <p:spPr>
          <a:xfrm>
            <a:off x="5940360" y="1700280"/>
            <a:ext cx="2935440" cy="3024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1"/>
          <p:cNvSpPr/>
          <p:nvPr/>
        </p:nvSpPr>
        <p:spPr>
          <a:xfrm>
            <a:off x="468360" y="1268280"/>
            <a:ext cx="5327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еталлисты (металхэды или металлеры) — это молодёжная субкультура, вдохновлённая музыкой в стиле метал, появившаяся в 1980-е год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убкультура широко распространена в северной Европе, достаточно широко — в северной Америке, есть значительное количество ее представителей в южной Америке, южной Европе и Японии. На Ближнем Востоке, за исключением Израиля и Турци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«Киноманы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00360" y="1197000"/>
            <a:ext cx="4321080" cy="41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то молодые люди, считающие своим кумиром В. Цоя и музыкальную группу «Кино». Быстро угасающая субкультура. Неформальное молодежное движение «киноманы» к настоящему времени уже почти прекратило существовани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6" descr="кино1"/>
          <p:cNvPicPr/>
          <p:nvPr/>
        </p:nvPicPr>
        <p:blipFill>
          <a:blip r:embed="rId1"/>
          <a:stretch/>
        </p:blipFill>
        <p:spPr>
          <a:xfrm>
            <a:off x="200160" y="1844640"/>
            <a:ext cx="455760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Century Schoolbook"/>
              </a:rPr>
              <a:t>                       </a:t>
            </a:r>
            <a:r>
              <a:rPr b="1" lang="ru-RU" sz="5400" spc="-1" strike="noStrike">
                <a:solidFill>
                  <a:srgbClr val="e5e5ff"/>
                </a:solidFill>
                <a:latin typeface="Century Schoolbook"/>
              </a:rPr>
              <a:t>Хиппи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Picture 7" descr="Тайная миссия хиппи"/>
          <p:cNvPicPr/>
          <p:nvPr/>
        </p:nvPicPr>
        <p:blipFill>
          <a:blip r:embed="rId1"/>
          <a:stretch/>
        </p:blipFill>
        <p:spPr>
          <a:xfrm>
            <a:off x="5076720" y="1413000"/>
            <a:ext cx="3743280" cy="415260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1"/>
          <p:cNvSpPr/>
          <p:nvPr/>
        </p:nvSpPr>
        <p:spPr>
          <a:xfrm>
            <a:off x="208080" y="47242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 хиппи за все время сложились настоящие традиции. И, наверное, самая грандиозная из них – “Собрание Радуги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8" descr="C:\Users\Natalia\Pictures\images.jpg"/>
          <p:cNvPicPr/>
          <p:nvPr/>
        </p:nvPicPr>
        <p:blipFill>
          <a:blip r:embed="rId2"/>
          <a:stretch/>
        </p:blipFill>
        <p:spPr>
          <a:xfrm>
            <a:off x="1042920" y="733320"/>
            <a:ext cx="3514680" cy="39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стаманы (растафари)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Главная идея растафарианства живет в мире уже более 400 лет. Это надежда всех африканцев на возвращение на родину и избавление от Вавилон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Picture 4" descr="рас1"/>
          <p:cNvPicPr/>
          <p:nvPr/>
        </p:nvPicPr>
        <p:blipFill>
          <a:blip r:embed="rId1"/>
          <a:stretch/>
        </p:blipFill>
        <p:spPr>
          <a:xfrm>
            <a:off x="563400" y="2997360"/>
            <a:ext cx="3648240" cy="3705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рас"/>
          <p:cNvPicPr/>
          <p:nvPr/>
        </p:nvPicPr>
        <p:blipFill>
          <a:blip r:embed="rId2"/>
          <a:stretch/>
        </p:blipFill>
        <p:spPr>
          <a:xfrm>
            <a:off x="5508720" y="2565360"/>
            <a:ext cx="27288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"Люди в черном на наших улицах", или кто такие готы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редний возраст "готов" – 15-19 лет. Минимальный возраст – 14 лет, реже встречаются лица 20-22 лет. По данным МВД России, фиксируется существенное численное превалирование девочек: на 10 девочек – 2-3 мальчик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8" descr=""/>
          <p:cNvPicPr/>
          <p:nvPr/>
        </p:nvPicPr>
        <p:blipFill>
          <a:blip r:embed="rId1"/>
          <a:stretch/>
        </p:blipFill>
        <p:spPr>
          <a:xfrm>
            <a:off x="3419640" y="3068640"/>
            <a:ext cx="238104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Что такое эмо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504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Эмо (emo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– это особый образ жизни и мышления человека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Эмо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– эмоции, яркие эмоции прежде всего, причем как позитивные, так и негативные.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Эмо-люди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живут эмоциями. Для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эмо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выражение своих чувств - не проявление слабости, а обычное состояние. Быть собой – вот что для 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эмо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самое главно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5508720" y="1413000"/>
            <a:ext cx="317952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Фрики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Фрик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— сумасшедшая и эпатажная субкультура, зародившаяся в Европе в конце ХХ века. Фрики — это люди, намеренно шокирующие сумасшедшим внешним видом и нелепым поведением. Чаще всего их можно встретить на клубных тусовках и светских вечеринках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Фрики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— отважные персонажи, которым «не слабо» время от времени появляться на улицах и в клубах  города в своем истинном обличии. В свободное от фрик -тусовок время они тщательно маскируются: носят обычную одежду, работают в обычных компаниях и учатся в обычных вузах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Freak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— каприз, причуда, чудачество; лицо, заметно выделяющееся, отличающееся от других; уродец (Словарь английского языка)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00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Фанат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267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то группы молодых людей объединенных футболом. Средний возраст российских фанатов 15-20 лет Около 80 % из них являются учащимися различных учебных заведений, 5 % являются рабочими на предприятиях и организациях, 15% временно не работаю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5413320" y="2384280"/>
            <a:ext cx="358632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олевики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Это объединение людей, которые любят историю, любят легенды и мифы. Но не просто любят читать, а еще и пробуют испытать на собственной «шкуре» то , что чувствовали наши предки или же герои легенд и сказок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х  интересует, как чувствует себя человек в кольчуге под дождем, сколько можно пробежать в доспехе, как бы вы себя вели на месте великого мага, как инквизиторы доказывали вину ведьм, что значит получить мечом по шлему в рыцарском турнире или побыть принцессой, или же почувствовать себя в роли крепостного крестьянина. Движение появилось в конце 80-х годов. Форма деятельности – ролевые игр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олодежь как социальная групп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Молодёжь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— в широком смысле обширная совокупность групповых общностей, образующих на основе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возрастных признаков и связанных с ними основных видов деятельности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олодежь — социально-демографическая группа, выделяемая на основе обусловленных возрастом особенностей социального положения молодых людей, их места и функций в социальной структуре общества, специфических интересов и ценностей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«Флешмобберы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сновные принципы флэшмоба - это массовость и безыдейность. Часто не знакомы друг с другом лично, группы не имеют постоянного числа участников, постоянных лидеров или вообще каких-либо признаков общепринятого понятия «организация». Отличаются одним качеством: в любой момент, в короткие сроки могут собрать большое количество участников той или иной акции. Акции, как правило, не носят криминального характера и в них не ставится целью нарушение общественного порядка.. Если дадаизм и концептуализм стремились к «искусству ради искусства», то флэшмоб появился как чистая технология. Изначально флэшмоб - это технология ради технологии. Причем воспользоваться ею может любой, у кого есть доступ в интернет. Цель - задействовать в акции как можно больше людей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окер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окерская субкультура, пожалуй единственное течение, которое не предусматривает от своих представителей ничего, кроме отношения к музыке. Нередко подобную музыку приверженцы рока начинают играть не отходя от «кассы», создавая свои маленькие музыкальные команды. Рокерская субкультура очень близка к байкерской. Любители мотоциклов создали параллельную рокерам байкерскую субкультуру. Рокеры и байкеры абсолютно аполитичны и ставят себя над социальными проблемам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149400" y="460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149400" y="460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тритрейсер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Уличные гонщики». Группа автомобилистов договаривается между собой и устраивает гонки, как правило, ночью, на одной из улиц города. Выбирается достаточно прямой участок дороги, на котором во время гонок развивается огромная скорость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aramond"/>
              </a:rPr>
              <a:t>Антисоциальные неформальные молодежные объединения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Национал-большевистская парт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БП – Национал -Большевистская Парт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БП начала своё существование с 1993 год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снователи: Лимонов, Дугин, Летов, Рабко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Газета партии: "Лимонка". С 2003 года, после запрещения "Лимонки" - "Генеральная Линия"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Знамя партии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расный цвет флага символизирует социалистическую идею, белый круг- национальную идею, чёрный серп и молот символизирует советскую империю, величие русской цивилизации(чёрный цвет серпа и молота символизирует обновление империи, чёрный- цвет обновления).Девиз: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«Россия – всё, остальное – ничто!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«Акция прямого действия»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250920" y="1411200"/>
          <a:ext cx="4897440" cy="302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11200"/>
                    <a:ext cx="4897440" cy="30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3" name="Picture 9" descr=""/>
          <p:cNvPicPr/>
          <p:nvPr/>
        </p:nvPicPr>
        <p:blipFill>
          <a:blip r:embed="rId3"/>
          <a:stretch/>
        </p:blipFill>
        <p:spPr>
          <a:xfrm>
            <a:off x="6372360" y="4479840"/>
            <a:ext cx="2624040" cy="229896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" descr=""/>
          <p:cNvPicPr/>
          <p:nvPr/>
        </p:nvPicPr>
        <p:blipFill>
          <a:blip r:embed="rId4"/>
          <a:stretch/>
        </p:blipFill>
        <p:spPr>
          <a:xfrm>
            <a:off x="5724360" y="2133720"/>
            <a:ext cx="2592720" cy="172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ацист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ебя называют “фашиками”, “фашистами”, “наци”, “нацистами”, “Национальным фронтом” и относят к последователям Адольфа Гитлер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знать этих ребят в черном не так трудно: черные шинели или куртки, черные рубашки, черные брюки, черные сапоги. Одежда пошита по образцу формы офицеров “третьего рейха”. У многих на лацкане куртки или пиджака, на фуражке свастика. Приветствуют друг друга возгласами “Хайль!”, “Хайль Гитлер!”, в качестве псевдонимов выбирают немецкие имена: Ганс, Пауль, Эльза и т.п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Скинхеды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ервая волна движения скинхедов появилась в конце 90-х гг., когда «бритоголовые» были участниками митингов ЛДПР. Движение скинхедов является самым массовым в молодежной среде, в котором участвуют десятки тысяч подростков и молодых людей 14- 25 лет. Кроме актов вандализма для скинхедов характерны действия хулиганского характера. Уровень уличного насилия со стороны представителей скинхедских группировок постоянно растет, а сами эти преступления становятся все более дерзкими. Если раньше убивали в подворотне, или темной улице, то теперь убийства совершаются в центре города, в людных местах, в метро, в дневное время суток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Гопники (значения)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000" y="2708280"/>
            <a:ext cx="800244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Гопники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– представители маргинальной молодежи, ведущие антисоциальный образ жизни, занимающиеся хулиганством и грабежом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940360" y="4221000"/>
            <a:ext cx="2754360" cy="2063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30625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aramond"/>
              </a:rPr>
              <a:t>Просоциальные неформальные молодежные объединения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Молодежные субкультуры </a:t>
            </a:r>
            <a:br>
              <a:rPr sz="54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Неформальные объединения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6" name="Picture 6" descr="молодь"/>
          <p:cNvPicPr/>
          <p:nvPr/>
        </p:nvPicPr>
        <p:blipFill>
          <a:blip r:embed="rId1"/>
          <a:stretch/>
        </p:blipFill>
        <p:spPr>
          <a:xfrm>
            <a:off x="2268360" y="2679840"/>
            <a:ext cx="489600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Неформалы художественной направленност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5" name="Picture 5" descr="худ"/>
          <p:cNvPicPr/>
          <p:nvPr/>
        </p:nvPicPr>
        <p:blipFill>
          <a:blip r:embed="rId1"/>
          <a:stretch/>
        </p:blipFill>
        <p:spPr>
          <a:xfrm>
            <a:off x="1835280" y="1413000"/>
            <a:ext cx="2585880" cy="3484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худ1"/>
          <p:cNvPicPr/>
          <p:nvPr/>
        </p:nvPicPr>
        <p:blipFill>
          <a:blip r:embed="rId2"/>
          <a:stretch/>
        </p:blipFill>
        <p:spPr>
          <a:xfrm>
            <a:off x="250920" y="3938760"/>
            <a:ext cx="2428920" cy="29192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йтер (граффити). Одет как обыкновенный человек. Но только не тогда, когда он работает. Важно носить то, что не жалко испачкать. Перчатки помогут защитить руки, а респиратор или повязка - не надышаться краской. Часто граффитеры одеваются в рэпперском стиле и многие из них действительно являются репперам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e5ff"/>
                </a:solidFill>
                <a:latin typeface="Garamond"/>
              </a:rPr>
              <a:t>Спасибо за внимание!!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3956040" y="1174680"/>
            <a:ext cx="1905120" cy="1962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2"/>
          <a:stretch/>
        </p:blipFill>
        <p:spPr>
          <a:xfrm>
            <a:off x="4879800" y="3137040"/>
            <a:ext cx="1832040" cy="1854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"/>
          <p:cNvPicPr/>
          <p:nvPr/>
        </p:nvPicPr>
        <p:blipFill>
          <a:blip r:embed="rId3"/>
          <a:stretch/>
        </p:blipFill>
        <p:spPr>
          <a:xfrm>
            <a:off x="5775480" y="1093680"/>
            <a:ext cx="2757240" cy="2043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"/>
          <p:cNvPicPr/>
          <p:nvPr/>
        </p:nvPicPr>
        <p:blipFill>
          <a:blip r:embed="rId4"/>
          <a:stretch/>
        </p:blipFill>
        <p:spPr>
          <a:xfrm>
            <a:off x="108000" y="1174680"/>
            <a:ext cx="2200320" cy="20764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"/>
          <p:cNvPicPr/>
          <p:nvPr/>
        </p:nvPicPr>
        <p:blipFill>
          <a:blip r:embed="rId5"/>
          <a:stretch/>
        </p:blipFill>
        <p:spPr>
          <a:xfrm>
            <a:off x="1665360" y="3137040"/>
            <a:ext cx="3243240" cy="2160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"/>
          <p:cNvPicPr/>
          <p:nvPr/>
        </p:nvPicPr>
        <p:blipFill>
          <a:blip r:embed="rId6"/>
          <a:stretch/>
        </p:blipFill>
        <p:spPr>
          <a:xfrm>
            <a:off x="0" y="3137040"/>
            <a:ext cx="1838160" cy="2485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"/>
          <p:cNvPicPr/>
          <p:nvPr/>
        </p:nvPicPr>
        <p:blipFill>
          <a:blip r:embed="rId7"/>
          <a:stretch/>
        </p:blipFill>
        <p:spPr>
          <a:xfrm>
            <a:off x="2281320" y="1155600"/>
            <a:ext cx="1595520" cy="23972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"/>
          <p:cNvPicPr/>
          <p:nvPr/>
        </p:nvPicPr>
        <p:blipFill>
          <a:blip r:embed="rId8"/>
          <a:stretch/>
        </p:blipFill>
        <p:spPr>
          <a:xfrm>
            <a:off x="6537240" y="3137040"/>
            <a:ext cx="2627280" cy="19684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" descr=""/>
          <p:cNvPicPr/>
          <p:nvPr/>
        </p:nvPicPr>
        <p:blipFill>
          <a:blip r:embed="rId9"/>
          <a:stretch/>
        </p:blipFill>
        <p:spPr>
          <a:xfrm>
            <a:off x="58680" y="5229360"/>
            <a:ext cx="2525760" cy="1893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5" descr=""/>
          <p:cNvPicPr/>
          <p:nvPr/>
        </p:nvPicPr>
        <p:blipFill>
          <a:blip r:embed="rId10"/>
          <a:stretch/>
        </p:blipFill>
        <p:spPr>
          <a:xfrm>
            <a:off x="4879800" y="5019840"/>
            <a:ext cx="2710080" cy="1809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6" descr=""/>
          <p:cNvPicPr/>
          <p:nvPr/>
        </p:nvPicPr>
        <p:blipFill>
          <a:blip r:embed="rId11"/>
          <a:stretch/>
        </p:blipFill>
        <p:spPr>
          <a:xfrm>
            <a:off x="2509920" y="4991040"/>
            <a:ext cx="2565360" cy="1838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8" descr=""/>
          <p:cNvPicPr/>
          <p:nvPr/>
        </p:nvPicPr>
        <p:blipFill>
          <a:blip r:embed="rId12"/>
          <a:stretch/>
        </p:blipFill>
        <p:spPr>
          <a:xfrm>
            <a:off x="6845400" y="5079960"/>
            <a:ext cx="2298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5e5ff"/>
                </a:solidFill>
                <a:latin typeface="Garamond"/>
              </a:rPr>
              <a:t>Молодежная субкультура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Молодежная субкультура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— частичная, относительно когерентная система внутри общей системы культуры. Ее возникновение связано с неопределенностью социальных ролей молодежи, неуверенностью в собственном социальном статусе.  Ее сущность — поиск социального статуса. Посредством нее молодые люди  "упражняются" в исполнении ролей, которые в дальнейшем должны будут играть в мире взрослых. </a:t>
            </a:r>
            <a:br>
              <a:rPr sz="28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"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НЕФОРМАЛЫ" - КТО ОНИ ?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"НЕФОРМАЛЫ" - это группа людей, которая возникла по чьей-нибудь инициативе или спонтанно для достижения какой-либо цели людьми с общими интересами и потребностям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ФОРМАЛЬНОЙ обычно называют социальную группу, обладающую юридическим статусом, являющуюся частью  социального  института, организации, где положение отдельных членов строго регламентировано официальными правилами и законами. А неформальные организации  и объединения ничего этого не имеют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лассификация неформало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928440"/>
            <a:ext cx="75708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социальные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стоят в стороне от социальных проблем, не представляют угрозу общества. К таким объединениям относятся стихийно образующиеся компании, на основе общественного интереса, увлечения, вида досуговой деятельности, подражание выбранному типу поведения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нтисоциальные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- ярко выраженный агрессивный характер, стремление утвердить себя за счет других,  нравственная глухо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осоциальные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неформальные клубы или объединения – это социально-положительные. Эти объединения приносят пользу обществу, и решают социальные проблемы культурно-защитного характер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«Мажор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«Мажор» Мажор не интересуется обычными бытовыми проблемами, поскольку все такие проблемы для него решены родителями. Он не испытывает недостатка в карманных деньгах. Он носит дефицитную одежду и обувь, может ездить на собственном (обычно новом, реже - на принадлежащем кому-то из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дителей) автомобил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среде мажоров котируется положение родителей в обществе и связанные с ним перспективы собственной жизни и карьеры. Однако, ценится и высокий уровень успеваемости в вуз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ни попадают в скандальную хронику, когда выставляют напоказ свои бриллианты , устраивать гонки на Феррари по дорогам Москвы. Они берут пример с детей арабских шейхов, но предпочитают учиться в Лондон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анилька 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анильные девушки или 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анильк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это новая субкультура, которая зародилась совсем недавно (по сравнению со всеми молодежными субкультурами, всего несколько лет назад). Причем это направление охватило, исключительно девушек. 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лавной отличительной чертой от других молодежных движений - это постоянное ношение фотоаппарата, (по большому счету зеркального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Хотя изредка встречаются и парни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анк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анковское движение возникло в середине прошлого века в США и позже охватило Европу. Это было реакцией молодежи как «потерянного поколения» на нелегкие условия жизни и невозможность полной реализации духовных сил. Очень быстро оно превратилось в форму протеста, подходящего для различных столкновений на любой почве: идеологической, социальной, культурной, музыкально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09:34:14Z</dcterms:created>
  <dc:creator>Мишаня</dc:creator>
  <dc:description/>
  <dc:language>en-US</dc:language>
  <cp:lastModifiedBy>User</cp:lastModifiedBy>
  <dcterms:modified xsi:type="dcterms:W3CDTF">2023-11-08T11:24:40Z</dcterms:modified>
  <cp:revision>110</cp:revision>
  <dc:subject/>
  <dc:title>Специфика современных российских молодежных субкультур</dc:title>
</cp:coreProperties>
</file>