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9.jpeg" ContentType="image/jpeg"/>
  <Override PartName="/ppt/media/image28.png" ContentType="image/png"/>
  <Override PartName="/ppt/media/image16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803A-ED23-402E-A853-98666ED8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25FD-09E0-4BEF-9D66-A170F5ED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8ED9-5B9A-4024-B9B8-98FAAB5D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B1D9-AA7A-4B1F-9BF9-85FD6EA1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2471-C521-4CF0-BA2B-E26EECBA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1B9E-E189-46F3-88AE-2327141E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279B-C4A4-4066-9148-0615AF1F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0322-922E-4022-9266-E8982B84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65CB-2D64-4A27-AFE5-92846E5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39D7-0C1D-4F60-A6E6-92744BC7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D718-21BD-4798-8CE0-5EAD4AB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C3A3-E0A3-4B26-9D71-F7F73ED1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A6AB-B598-449D-AE23-9B211D5C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3CBD-60D4-419E-A26E-E85059B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4FEF-018C-4D33-8ECA-B66FB74B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69EF-24AD-425B-8174-285802D8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C052-AF30-4C7F-AA50-752D7657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1B8F-F6CC-40A1-9E6A-CFEA4D36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B45A-F7F7-483A-8622-E0307373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D326-F96F-4E06-8738-E1040ECE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2F66-FF9F-4D73-AFE4-8FE90CF6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B593-2F8A-4DBC-8C8D-FFA0D39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2AE6-0135-4916-8E07-6C51863B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F8B8-9B2D-452A-9197-A309458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D9D7-7EAB-4C25-8AD7-8BEED42361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9AC3-39BD-4FFF-A4AE-95D39D1435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Молодежная субкультур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ила студентка гр.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иногеева Кристина Сергее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7031520" y="33336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ябрь 2022 го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ежда панков обращает на себя внимание большим количеством сопутствующих атрибу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Жилеты (кожаные или джинсовые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жинсы, часто с надписями, сделанными обычной шариковой ручкой или маркеро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роткие кожаные куртки – «косухи», сильной степени заношенност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ежда обильно усеяна заклепками, значками, булавками, нашивками (колечки от крышек пивных банок), символика музыкальных групп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пространены «хакинги» - высокие ботинки военного тип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колотые уши (кольца, французские булавки в большом количестве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ногда встречаются кожаные «ошейники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Металлисты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5" descr="метал"/>
          <p:cNvPicPr/>
          <p:nvPr/>
        </p:nvPicPr>
        <p:blipFill>
          <a:blip r:embed="rId1"/>
          <a:stretch/>
        </p:blipFill>
        <p:spPr>
          <a:xfrm>
            <a:off x="5940360" y="1700280"/>
            <a:ext cx="2935440" cy="3024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1"/>
          <p:cNvSpPr/>
          <p:nvPr/>
        </p:nvSpPr>
        <p:spPr>
          <a:xfrm>
            <a:off x="468360" y="1268280"/>
            <a:ext cx="532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таллисты (металхэды или металлеры) — это молодёжная субкультура, вдохновлённая музыкой в стиле метал, появившаяся в 1980-е год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бкультура широко распространена в северной Европе, достаточно широко — в северной Америке, есть значительное количество ее представителей в южной Америке, южной Европе и Японии. На Ближнем Востоке, за исключением Израиля и Тур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Киноманы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00360" y="1197000"/>
            <a:ext cx="432108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молодые люди, считающие своим кумиром В. Цоя и музыкальную группу «Кино». Быстро угасающая субкультура. Неформальное молодежное движение «киноманы» к настоящему времени уже почти прекратило существова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6" descr="кино1"/>
          <p:cNvPicPr/>
          <p:nvPr/>
        </p:nvPicPr>
        <p:blipFill>
          <a:blip r:embed="rId1"/>
          <a:stretch/>
        </p:blipFill>
        <p:spPr>
          <a:xfrm>
            <a:off x="200160" y="1844640"/>
            <a:ext cx="45576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Century Schoolbook"/>
              </a:rPr>
              <a:t>                       </a:t>
            </a:r>
            <a:r>
              <a:rPr b="1" lang="ru-RU" sz="5400" spc="-1" strike="noStrike">
                <a:solidFill>
                  <a:srgbClr val="e5e5ff"/>
                </a:solidFill>
                <a:latin typeface="Century Schoolbook"/>
              </a:rPr>
              <a:t>Хипп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7" descr="Тайная миссия хиппи"/>
          <p:cNvPicPr/>
          <p:nvPr/>
        </p:nvPicPr>
        <p:blipFill>
          <a:blip r:embed="rId1"/>
          <a:stretch/>
        </p:blipFill>
        <p:spPr>
          <a:xfrm>
            <a:off x="5076720" y="1413000"/>
            <a:ext cx="3743280" cy="41526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208080" y="4724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 хиппи за все время сложились настоящие традиции. И, наверное, самая грандиозная из них – “Собрание Радуги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8" descr="C:\Users\Natalia\Pictures\images.jpg"/>
          <p:cNvPicPr/>
          <p:nvPr/>
        </p:nvPicPr>
        <p:blipFill>
          <a:blip r:embed="rId2"/>
          <a:stretch/>
        </p:blipFill>
        <p:spPr>
          <a:xfrm>
            <a:off x="1042920" y="733320"/>
            <a:ext cx="351468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таманы (растафари)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лавная идея растафарианства живет в мире уже более 400 лет. Это надежда всех африканцев на возвращение на родину и избавление от Вавило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рас1"/>
          <p:cNvPicPr/>
          <p:nvPr/>
        </p:nvPicPr>
        <p:blipFill>
          <a:blip r:embed="rId1"/>
          <a:stretch/>
        </p:blipFill>
        <p:spPr>
          <a:xfrm>
            <a:off x="563400" y="2997360"/>
            <a:ext cx="3648240" cy="3705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рас"/>
          <p:cNvPicPr/>
          <p:nvPr/>
        </p:nvPicPr>
        <p:blipFill>
          <a:blip r:embed="rId2"/>
          <a:stretch/>
        </p:blipFill>
        <p:spPr>
          <a:xfrm>
            <a:off x="5508720" y="2565360"/>
            <a:ext cx="2728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"Люди в черном на наших улицах", или кто такие готы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редний возраст "готов" – 15-19 лет. Минимальный возраст – 14 лет, реже встречаются лица 20-22 лет. По данным МВД России, фиксируется существенное численное превалирование девочек: на 10 девочек – 2-3 мальч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3419640" y="3068640"/>
            <a:ext cx="23810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Что такое эм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50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мо (emo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это особый образ жизни и мышления человек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мо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эмоции, яркие эмоции прежде всего, причем как позитивные, так и негативные.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мо-люд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живут эмоциями. Для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мо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ыражение своих чувств - не проявление слабости, а обычное состояние. Быть собой – вот что для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эмо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амое главно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1795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Фрик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рик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сумасшедшая и эпатажная субкультура, зародившаяся в Европе в конце ХХ века. Фрики — это люди, намеренно шокирующие сумасшедшим внешним видом и нелепым поведением. Чаще всего их можно встретить на клубных тусовках и светских вечеринках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Фрик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отважные персонажи, которым «не слабо» время от времени появляться на улицах и в клубах  города в своем истинном обличии. В свободное от фрик -тусовок время они тщательно маскируются: носят обычную одежду, работают в обычных компаниях и учатся в обычных вузах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Freak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каприз, причуда, чудачество; лицо, заметно выделяющееся, отличающееся от других; уродец (Словарь английского языка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00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ана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26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группы молодых людей объединенных футболом. Средний возраст российских фанатов 15-20 лет Около 80 % из них являются учащимися различных учебных заведений, 5 % являются рабочими на предприятиях и организациях, 15% временно не работаю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413320" y="2384280"/>
            <a:ext cx="35863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левики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о объединение людей, которые любят историю, любят легенды и мифы. Но не просто любят читать, а еще и пробуют испытать на собственной «шкуре» то , что чувствовали наши предки или же герои легенд и сказо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х  интересует, как чувствует себя человек в кольчуге под дождем, сколько можно пробежать в доспехе, как бы вы себя вели на месте великого мага, как инквизиторы доказывали вину ведьм, что значит получить мечом по шлему в рыцарском турнире или побыть принцессой, или же почувствовать себя в роли крепостного крестьянина. Движение появилось в конце 80-х годов. Форма деятельности – ролевые иг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олодежь как социальная групп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олодёж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в широком смысле обширная совокупность групповых общностей, образующих на основе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возрастных признаков и связанных с ними основных видов деятельности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лодежь — социально-демографическая группа, выделяемая на основе обусловленных возрастом особенностей социального положения молодых людей, их места и функций в социальной структуре общества, специфических интересов и ценност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Флешмобберы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ные принципы флэшмоба - это массовость и безыдейность. Часто не знакомы друг с другом лично, группы не имеют постоянного числа участников, постоянных лидеров или вообще каких-либо признаков общепринятого понятия «организация». Отличаются одним качеством: в любой момент, в короткие сроки могут собрать большое количество участников той или иной акции. Акции, как правило, не носят криминального характера и в них не ставится целью нарушение общественного порядка.. Если дадаизм и концептуализм стремились к «искусству ради искусства», то флэшмоб появился как чистая технология. Изначально флэшмоб - это технология ради технологии. Причем воспользоваться ею может любой, у кого есть доступ в интернет. Цель - задействовать в акции как можно больше люд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ке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керская субкультура, пожалуй единственное течение, которое не предусматривает от своих представителей ничего, кроме отношения к музыке. Нередко подобную музыку приверженцы рока начинают играть не отходя от «кассы», создавая свои маленькие музыкальные команды. Рокерская субкультура очень близка к байкерской. Любители мотоциклов создали параллельную рокерам байкерскую субкультуру. Рокеры и байкеры абсолютно аполитичны и ставят себя над социальными проблемам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14940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14940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ритрейсе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Уличные гонщики». Группа автомобилистов договаривается между собой и устраивает гонки, как правило, ночью, на одной из улиц города. Выбирается достаточно прямой участок дороги, на котором во время гонок развивается огромная скорость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Антисоциальные неформальные молодежные объединени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Национал-большевистская парт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БП – Национал -Большевистская Парт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БП начала своё существование с 1993 го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снователи: Лимонов, Дугин, Летов, Рабк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азета партии: "Лимонка". С 2003 года, после запрещения "Лимонки" - "Генеральная Линия"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намя парт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расный цвет флага символизирует социалистическую идею, белый круг- национальную идею, чёрный серп и молот символизирует советскую империю, величие русской цивилизации(чёрный цвет серпа и молота символизирует обновление империи, чёрный- цвет обновления).Девиз: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Россия – всё, остальное – ничто!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Акция прямого действия»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50920" y="1411200"/>
          <a:ext cx="4897440" cy="30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1200"/>
                    <a:ext cx="4897440" cy="30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6372360" y="4479840"/>
            <a:ext cx="2624040" cy="22989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" descr=""/>
          <p:cNvPicPr/>
          <p:nvPr/>
        </p:nvPicPr>
        <p:blipFill>
          <a:blip r:embed="rId4"/>
          <a:stretch/>
        </p:blipFill>
        <p:spPr>
          <a:xfrm>
            <a:off x="5724360" y="2133720"/>
            <a:ext cx="259272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цист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ебя называют “фашиками”, “фашистами”, “наци”, “нацистами”, “Национальным фронтом” и относят к последователям Адольфа Гитле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знать этих ребят в черном не так трудно: черные шинели или куртки, черные рубашки, черные брюки, черные сапоги. Одежда пошита по образцу формы офицеров “третьего рейха”. У многих на лацкане куртки или пиджака, на фуражке свастика. Приветствуют друг друга возгласами “Хайль!”, “Хайль Гитлер!”, в качестве псевдонимов выбирают немецкие имена: Ганс, Пауль, Эльза и т.п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Скинхеды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вая волна движения скинхедов появилась в конце 90-х гг., когда «бритоголовые» были участниками митингов ЛДПР. Движение скинхедов является самым массовым в молодежной среде, в котором участвуют десятки тысяч подростков и молодых людей 14- 25 лет. Кроме актов вандализма для скинхедов характерны действия хулиганского характера. Уровень уличного насилия со стороны представителей скинхедских группировок постоянно растет, а сами эти преступления становятся все более дерзкими. Если раньше убивали в подворотне, или темной улице, то теперь убийства совершаются в центре города, в людных местах, в метро, в дневное время суток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опники (значения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2708280"/>
            <a:ext cx="800244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Гопник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едставители маргинальной молодежи, ведущие антисоциальный образ жизни, занимающиеся хулиганством и грабеж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754360" cy="2063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062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Просоциальные неформальные молодежные объединени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Молодежные субкультуры </a:t>
            </a:r>
            <a:br>
              <a:rPr sz="54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Неформальные объединения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6" descr="молодь"/>
          <p:cNvPicPr/>
          <p:nvPr/>
        </p:nvPicPr>
        <p:blipFill>
          <a:blip r:embed="rId1"/>
          <a:stretch/>
        </p:blipFill>
        <p:spPr>
          <a:xfrm>
            <a:off x="2268360" y="2679840"/>
            <a:ext cx="48960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еформалы художественной направлен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5" descr="худ"/>
          <p:cNvPicPr/>
          <p:nvPr/>
        </p:nvPicPr>
        <p:blipFill>
          <a:blip r:embed="rId1"/>
          <a:stretch/>
        </p:blipFill>
        <p:spPr>
          <a:xfrm>
            <a:off x="1835280" y="1413000"/>
            <a:ext cx="2585880" cy="348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худ1"/>
          <p:cNvPicPr/>
          <p:nvPr/>
        </p:nvPicPr>
        <p:blipFill>
          <a:blip r:embed="rId2"/>
          <a:stretch/>
        </p:blipFill>
        <p:spPr>
          <a:xfrm>
            <a:off x="250920" y="3938760"/>
            <a:ext cx="2428920" cy="29192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йтер (граффити). Одет как обыкновенный человек. Но только не тогда, когда он работает. Важно носить то, что не жалко испачкать. Перчатки помогут защитить руки, а респиратор или повязка - не надышаться краской. Часто граффитеры одеваются в рэпперском стиле и многие из них действительно являются реппер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!!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3956040" y="1174680"/>
            <a:ext cx="1905120" cy="196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4879800" y="3137040"/>
            <a:ext cx="1832040" cy="1854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5775480" y="1093680"/>
            <a:ext cx="2757240" cy="2043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4"/>
          <a:stretch/>
        </p:blipFill>
        <p:spPr>
          <a:xfrm>
            <a:off x="108000" y="117468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5"/>
          <a:stretch/>
        </p:blipFill>
        <p:spPr>
          <a:xfrm>
            <a:off x="1665360" y="3137040"/>
            <a:ext cx="3243240" cy="2160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6"/>
          <a:stretch/>
        </p:blipFill>
        <p:spPr>
          <a:xfrm>
            <a:off x="0" y="3137040"/>
            <a:ext cx="1838160" cy="2485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7"/>
          <a:stretch/>
        </p:blipFill>
        <p:spPr>
          <a:xfrm>
            <a:off x="2281320" y="1155600"/>
            <a:ext cx="1595520" cy="2397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8"/>
          <a:stretch/>
        </p:blipFill>
        <p:spPr>
          <a:xfrm>
            <a:off x="6537240" y="3137040"/>
            <a:ext cx="2627280" cy="1968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9"/>
          <a:stretch/>
        </p:blipFill>
        <p:spPr>
          <a:xfrm>
            <a:off x="58680" y="5229360"/>
            <a:ext cx="2525760" cy="1893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"/>
          <p:cNvPicPr/>
          <p:nvPr/>
        </p:nvPicPr>
        <p:blipFill>
          <a:blip r:embed="rId10"/>
          <a:stretch/>
        </p:blipFill>
        <p:spPr>
          <a:xfrm>
            <a:off x="4879800" y="5019840"/>
            <a:ext cx="2710080" cy="1809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"/>
          <p:cNvPicPr/>
          <p:nvPr/>
        </p:nvPicPr>
        <p:blipFill>
          <a:blip r:embed="rId11"/>
          <a:stretch/>
        </p:blipFill>
        <p:spPr>
          <a:xfrm>
            <a:off x="2509920" y="4991040"/>
            <a:ext cx="2565360" cy="1838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"/>
          <p:cNvPicPr/>
          <p:nvPr/>
        </p:nvPicPr>
        <p:blipFill>
          <a:blip r:embed="rId12"/>
          <a:stretch/>
        </p:blipFill>
        <p:spPr>
          <a:xfrm>
            <a:off x="6845400" y="5079960"/>
            <a:ext cx="2298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Молодежная субкультура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олодежная субкультур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частичная, относительно когерентная система внутри общей системы культуры. Ее возникновение связано с неопределенностью социальных ролей молодежи, неуверенностью в собственном социальном статусе.  Ее сущность — поиск социального статуса. Посредством нее молодые люди  "упражняются" в исполнении ролей, которые в дальнейшем должны будут играть в мире взрослых. 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"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ЕФОРМАЛЫ" - КТО ОНИ ?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"НЕФОРМАЛЫ" - это группа людей, которая возникла по чьей-нибудь инициативе или спонтанно для достижения какой-либо цели людьми с общими интересами и потребностя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РМАЛЬНОЙ обычно называют социальную группу, обладающую юридическим статусом, являющуюся частью  социального  института, организации, где положение отдельных членов строго регламентировано официальными правилами и законами. А неформальные организации  и объединения ничего этого не имею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ассификация неформал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928440"/>
            <a:ext cx="75708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оциальные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стоят в стороне от социальных проблем, не представляют угрозу общества. К таким объединениям относятся стихийно образующиеся компании, на основе общественного интереса, увлечения, вида досуговой деятельности, подражание выбранному типу поведени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тисоциальны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ярко выраженный агрессивный характер, стремление утвердить себя за счет других,  нравственная глухо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социальны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неформальные клубы или объединения – это социально-положительные. Эти объединения приносят пользу обществу, и решают социальные проблемы культурно-защитного характе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Мажор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Мажор» Мажор не интересуется обычными бытовыми проблемами, поскольку все такие проблемы для него решены родителями. Он не испытывает недостатка в карманных деньгах. Он носит дефицитную одежду и обувь, может ездить на собственном (обычно новом, реже - на принадлежащем кому-то из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телей) автомоби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реде мажоров котируется положение родителей в обществе и связанные с ним перспективы собственной жизни и карьеры. Однако, ценится и высокий уровень успеваемости в вуз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и попадают в скандальную хронику, когда выставляют напоказ свои бриллианты , устраивать гонки на Феррари по дорогам Москвы. Они берут пример с детей арабских шейхов, но предпочитают учиться в Лондо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анилька 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нильные девушки или 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анильк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новая субкультура, которая зародилась совсем недавно (по сравнению со всеми молодежными субкультурами, всего несколько лет назад). Причем это направление охватило, исключительно девушек. 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лавной отличительной чертой от других молодежных движений - это постоянное ношение фотоаппарата, (по большому счету зеркального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Хотя изредка встречаются и парн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ан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ковское движение возникло в середине прошлого века в США и позже охватило Европу. Это было реакцией молодежи как «потерянного поколения» на нелегкие условия жизни и невозможность полной реализации духовных сил. Очень быстро оно превратилось в форму протеста, подходящего для различных столкновений на любой почве: идеологической, социальной, культурной, музыкально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9:34:14Z</dcterms:created>
  <dc:creator>Мишаня</dc:creator>
  <dc:description/>
  <dc:language>en-US</dc:language>
  <cp:lastModifiedBy>User</cp:lastModifiedBy>
  <dcterms:modified xsi:type="dcterms:W3CDTF">2023-11-08T11:24:40Z</dcterms:modified>
  <cp:revision>110</cp:revision>
  <dc:subject/>
  <dc:title>Специфика современных российских молодежных субкультур</dc:title>
</cp:coreProperties>
</file>