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6A046302-C0A2-4C6A-9EA2-919FAE0900D2}" type="doc">
      <dgm:prSet loTypeId="urn:microsoft.com/office/officeart/2005/8/layout/radial4" loCatId="relationship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0B472B7-F8D1-47B9-BF78-E44FCAACBDA7}">
      <dgm:prSet phldrT="[Текст]" custT="1"/>
      <dgm:spPr/>
      <dgm:t>
        <a:bodyPr/>
        <a:lstStyle/>
        <a:p>
          <a:r>
            <a:rPr lang="ru-RU" sz="2400" dirty="0"/>
            <a:t>Конфликты</a:t>
          </a:r>
        </a:p>
      </dgm:t>
    </dgm:pt>
    <dgm:pt modelId="{81FDB4B4-E98F-4274-9C0B-BB36EABFA611}" type="parTrans" cxnId="{2AC73D68-C608-42B8-8CC5-A0BE95FE483D}">
      <dgm:prSet/>
      <dgm:spPr/>
      <dgm:t>
        <a:bodyPr/>
        <a:lstStyle/>
        <a:p>
          <a:endParaRPr lang="ru-RU"/>
        </a:p>
      </dgm:t>
    </dgm:pt>
    <dgm:pt modelId="{5F2DBF3A-2F40-4FC1-A8A8-094F12079DDC}" type="sibTrans" cxnId="{2AC73D68-C608-42B8-8CC5-A0BE95FE483D}">
      <dgm:prSet/>
      <dgm:spPr/>
      <dgm:t>
        <a:bodyPr/>
        <a:lstStyle/>
        <a:p>
          <a:endParaRPr lang="ru-RU"/>
        </a:p>
      </dgm:t>
    </dgm:pt>
    <dgm:pt modelId="{CD447B8A-BCC7-4DBF-8EC3-C78ABA62A94D}">
      <dgm:prSet phldrT="[Текст]" custT="1"/>
      <dgm:spPr/>
      <dgm:t>
        <a:bodyPr/>
        <a:lstStyle/>
        <a:p>
          <a:r>
            <a:rPr lang="ru-RU" sz="2400" u="sng" dirty="0">
              <a:latin typeface="Times New Roman" pitchFamily="18" charset="0"/>
              <a:cs typeface="Times New Roman" pitchFamily="18" charset="0"/>
            </a:rPr>
            <a:t>конструктивные </a:t>
          </a:r>
        </a:p>
        <a:p>
          <a:r>
            <a:rPr lang="ru-RU" sz="2400" u="sng" dirty="0">
              <a:latin typeface="Times New Roman" pitchFamily="18" charset="0"/>
              <a:cs typeface="Times New Roman" pitchFamily="18" charset="0"/>
            </a:rPr>
            <a:t>и</a:t>
          </a:r>
        </a:p>
        <a:p>
          <a:r>
            <a:rPr lang="ru-RU" sz="2400" u="sng" dirty="0">
              <a:latin typeface="Times New Roman" pitchFamily="18" charset="0"/>
              <a:cs typeface="Times New Roman" pitchFamily="18" charset="0"/>
            </a:rPr>
            <a:t>деструктивные</a:t>
          </a:r>
          <a:r>
            <a:rPr lang="ru-RU" sz="2000" u="sng" dirty="0"/>
            <a:t> </a:t>
          </a:r>
          <a:endParaRPr lang="ru-RU" sz="2000" dirty="0"/>
        </a:p>
      </dgm:t>
    </dgm:pt>
    <dgm:pt modelId="{51506682-A041-46DF-AE90-6749C15200CA}" type="parTrans" cxnId="{6DE0C8F1-94D9-495A-83E8-A5A2EB9CF912}">
      <dgm:prSet/>
      <dgm:spPr/>
      <dgm:t>
        <a:bodyPr/>
        <a:lstStyle/>
        <a:p>
          <a:endParaRPr lang="ru-RU"/>
        </a:p>
      </dgm:t>
    </dgm:pt>
    <dgm:pt modelId="{426491B0-D99A-44D8-B658-97D88BAFAE0C}" type="sibTrans" cxnId="{6DE0C8F1-94D9-495A-83E8-A5A2EB9CF912}">
      <dgm:prSet/>
      <dgm:spPr/>
      <dgm:t>
        <a:bodyPr/>
        <a:lstStyle/>
        <a:p>
          <a:endParaRPr lang="ru-RU"/>
        </a:p>
      </dgm:t>
    </dgm:pt>
    <dgm:pt modelId="{EB7151B8-F90C-4E02-814C-D98F1DE043EA}">
      <dgm:prSet custT="1"/>
      <dgm:spPr/>
      <dgm:t>
        <a:bodyPr/>
        <a:lstStyle/>
        <a:p>
          <a:r>
            <a:rPr lang="ru-RU" sz="2400" u="sng" dirty="0">
              <a:latin typeface="Times New Roman" pitchFamily="18" charset="0"/>
              <a:cs typeface="Times New Roman" pitchFamily="18" charset="0"/>
            </a:rPr>
            <a:t>позитивные </a:t>
          </a:r>
        </a:p>
        <a:p>
          <a:r>
            <a:rPr lang="ru-RU" sz="2400" u="sng" dirty="0">
              <a:latin typeface="Times New Roman" pitchFamily="18" charset="0"/>
              <a:cs typeface="Times New Roman" pitchFamily="18" charset="0"/>
            </a:rPr>
            <a:t>и </a:t>
          </a:r>
        </a:p>
        <a:p>
          <a:r>
            <a:rPr lang="ru-RU" sz="2400" u="sng" dirty="0">
              <a:latin typeface="Times New Roman" pitchFamily="18" charset="0"/>
              <a:cs typeface="Times New Roman" pitchFamily="18" charset="0"/>
            </a:rPr>
            <a:t>негативные</a:t>
          </a:r>
          <a:endParaRPr lang="ru-RU" sz="2400" dirty="0">
            <a:latin typeface="Times New Roman" pitchFamily="18" charset="0"/>
            <a:cs typeface="Times New Roman" pitchFamily="18" charset="0"/>
          </a:endParaRPr>
        </a:p>
      </dgm:t>
    </dgm:pt>
    <dgm:pt modelId="{82EC26F2-97C4-4FA0-B648-9237A7CC8FC4}" type="parTrans" cxnId="{CB1D8353-FDD1-4E36-91B0-85D51C010663}">
      <dgm:prSet/>
      <dgm:spPr/>
      <dgm:t>
        <a:bodyPr/>
        <a:lstStyle/>
        <a:p>
          <a:endParaRPr lang="ru-RU"/>
        </a:p>
      </dgm:t>
    </dgm:pt>
    <dgm:pt modelId="{3CC62AC8-4CB4-406E-B323-79668F6AF3A5}" type="sibTrans" cxnId="{CB1D8353-FDD1-4E36-91B0-85D51C010663}">
      <dgm:prSet/>
      <dgm:spPr/>
      <dgm:t>
        <a:bodyPr/>
        <a:lstStyle/>
        <a:p>
          <a:endParaRPr lang="ru-RU"/>
        </a:p>
      </dgm:t>
    </dgm:pt>
    <dgm:pt modelId="{C27FAB00-C7EE-41B9-BF33-F84D0D6AEB1C}">
      <dgm:prSet custT="1"/>
      <dgm:spPr/>
      <dgm:t>
        <a:bodyPr/>
        <a:lstStyle/>
        <a:p>
          <a:r>
            <a:rPr lang="ru-RU" sz="2400" u="sng" dirty="0" err="1">
              <a:latin typeface="Times New Roman" pitchFamily="18" charset="0"/>
              <a:cs typeface="Times New Roman" pitchFamily="18" charset="0"/>
            </a:rPr>
            <a:t>антагонические</a:t>
          </a:r>
          <a:r>
            <a:rPr lang="ru-RU" sz="2400" u="sng" dirty="0">
              <a:latin typeface="Times New Roman" pitchFamily="18" charset="0"/>
              <a:cs typeface="Times New Roman" pitchFamily="18" charset="0"/>
            </a:rPr>
            <a:t> </a:t>
          </a:r>
        </a:p>
        <a:p>
          <a:r>
            <a:rPr lang="ru-RU" sz="2400" u="sng" dirty="0">
              <a:latin typeface="Times New Roman" pitchFamily="18" charset="0"/>
              <a:cs typeface="Times New Roman" pitchFamily="18" charset="0"/>
            </a:rPr>
            <a:t>и </a:t>
          </a:r>
        </a:p>
        <a:p>
          <a:r>
            <a:rPr lang="ru-RU" sz="2400" u="sng" dirty="0">
              <a:latin typeface="Times New Roman" pitchFamily="18" charset="0"/>
              <a:cs typeface="Times New Roman" pitchFamily="18" charset="0"/>
            </a:rPr>
            <a:t>компромиссные</a:t>
          </a:r>
          <a:endParaRPr lang="ru-RU" sz="2400" dirty="0">
            <a:latin typeface="Times New Roman" pitchFamily="18" charset="0"/>
            <a:cs typeface="Times New Roman" pitchFamily="18" charset="0"/>
          </a:endParaRPr>
        </a:p>
      </dgm:t>
    </dgm:pt>
    <dgm:pt modelId="{559D99C5-2624-452A-B036-7CC76EAC95AE}" type="parTrans" cxnId="{2B279CBB-5937-4472-BED4-C014188CF186}">
      <dgm:prSet/>
      <dgm:spPr/>
      <dgm:t>
        <a:bodyPr/>
        <a:lstStyle/>
        <a:p>
          <a:endParaRPr lang="ru-RU"/>
        </a:p>
      </dgm:t>
    </dgm:pt>
    <dgm:pt modelId="{DBA18E53-172B-48A3-A7B9-F239DA157760}" type="sibTrans" cxnId="{2B279CBB-5937-4472-BED4-C014188CF186}">
      <dgm:prSet/>
      <dgm:spPr/>
      <dgm:t>
        <a:bodyPr/>
        <a:lstStyle/>
        <a:p>
          <a:endParaRPr lang="ru-RU"/>
        </a:p>
      </dgm:t>
    </dgm:pt>
    <dgm:pt modelId="{8406F2DF-2419-4867-BBC0-C7BCFE2554AA}" type="pres">
      <dgm:prSet presAssocID="{6A046302-C0A2-4C6A-9EA2-919FAE0900D2}" presName="cycle" presStyleCnt="0">
        <dgm:presLayoutVars>
          <dgm:chMax val="1"/>
          <dgm:dir/>
          <dgm:animLvl val="ctr"/>
          <dgm:resizeHandles val="exact"/>
        </dgm:presLayoutVars>
      </dgm:prSet>
      <dgm:spPr/>
    </dgm:pt>
    <dgm:pt modelId="{3ECF9560-020E-4259-87C4-65569C94BF91}" type="pres">
      <dgm:prSet presAssocID="{C0B472B7-F8D1-47B9-BF78-E44FCAACBDA7}" presName="centerShape" presStyleLbl="node0" presStyleIdx="0" presStyleCnt="1" custScaleX="108392" custScaleY="83584" custLinFactNeighborX="4286" custLinFactNeighborY="-18"/>
      <dgm:spPr/>
    </dgm:pt>
    <dgm:pt modelId="{54DF4FE3-E608-4EC3-A3AB-B5CCC0241551}" type="pres">
      <dgm:prSet presAssocID="{51506682-A041-46DF-AE90-6749C15200CA}" presName="parTrans" presStyleLbl="bgSibTrans2D1" presStyleIdx="0" presStyleCnt="3" custLinFactNeighborX="15063" custLinFactNeighborY="25171"/>
      <dgm:spPr/>
    </dgm:pt>
    <dgm:pt modelId="{D1ACCBE4-D05B-49FB-BB8C-E56D1F6373CC}" type="pres">
      <dgm:prSet presAssocID="{CD447B8A-BCC7-4DBF-8EC3-C78ABA62A94D}" presName="node" presStyleLbl="node1" presStyleIdx="0" presStyleCnt="3" custScaleX="154589" custScaleY="150819" custRadScaleRad="127301" custRadScaleInc="-14175">
        <dgm:presLayoutVars>
          <dgm:bulletEnabled val="1"/>
        </dgm:presLayoutVars>
      </dgm:prSet>
      <dgm:spPr/>
    </dgm:pt>
    <dgm:pt modelId="{0E7CD79A-A861-43EB-936A-584F4E1D24AE}" type="pres">
      <dgm:prSet presAssocID="{82EC26F2-97C4-4FA0-B648-9237A7CC8FC4}" presName="parTrans" presStyleLbl="bgSibTrans2D1" presStyleIdx="1" presStyleCnt="3" custAng="21221316" custLinFactNeighborX="-13205" custLinFactNeighborY="15049"/>
      <dgm:spPr/>
    </dgm:pt>
    <dgm:pt modelId="{1F82DF28-9B41-46DC-87D2-56054CD09694}" type="pres">
      <dgm:prSet presAssocID="{EB7151B8-F90C-4E02-814C-D98F1DE043EA}" presName="node" presStyleLbl="node1" presStyleIdx="1" presStyleCnt="3" custScaleX="172402" custRadScaleRad="101469" custRadScaleInc="13073">
        <dgm:presLayoutVars>
          <dgm:bulletEnabled val="1"/>
        </dgm:presLayoutVars>
      </dgm:prSet>
      <dgm:spPr/>
    </dgm:pt>
    <dgm:pt modelId="{100315CD-9405-41AF-8D89-A76BEE354FC1}" type="pres">
      <dgm:prSet presAssocID="{559D99C5-2624-452A-B036-7CC76EAC95AE}" presName="parTrans" presStyleLbl="bgSibTrans2D1" presStyleIdx="2" presStyleCnt="3" custScaleX="138931"/>
      <dgm:spPr/>
    </dgm:pt>
    <dgm:pt modelId="{FB64E2D8-BEA0-46E1-A909-985DA74FDC78}" type="pres">
      <dgm:prSet presAssocID="{C27FAB00-C7EE-41B9-BF33-F84D0D6AEB1C}" presName="node" presStyleLbl="node1" presStyleIdx="2" presStyleCnt="3" custScaleX="142844" custRadScaleRad="113884" custRadScaleInc="17003">
        <dgm:presLayoutVars>
          <dgm:bulletEnabled val="1"/>
        </dgm:presLayoutVars>
      </dgm:prSet>
      <dgm:spPr/>
    </dgm:pt>
  </dgm:ptLst>
  <dgm:cxnLst>
    <dgm:cxn modelId="{C25FE216-34E6-4CC6-9055-5F9E08DABAF7}" type="presOf" srcId="{EB7151B8-F90C-4E02-814C-D98F1DE043EA}" destId="{1F82DF28-9B41-46DC-87D2-56054CD09694}" srcOrd="0" destOrd="0" presId="urn:microsoft.com/office/officeart/2005/8/layout/radial4"/>
    <dgm:cxn modelId="{6A9FC524-A8F5-4504-A53C-3F966F93AB40}" type="presOf" srcId="{CD447B8A-BCC7-4DBF-8EC3-C78ABA62A94D}" destId="{D1ACCBE4-D05B-49FB-BB8C-E56D1F6373CC}" srcOrd="0" destOrd="0" presId="urn:microsoft.com/office/officeart/2005/8/layout/radial4"/>
    <dgm:cxn modelId="{DD045344-7259-409F-BC7F-650BFFA5676F}" type="presOf" srcId="{C27FAB00-C7EE-41B9-BF33-F84D0D6AEB1C}" destId="{FB64E2D8-BEA0-46E1-A909-985DA74FDC78}" srcOrd="0" destOrd="0" presId="urn:microsoft.com/office/officeart/2005/8/layout/radial4"/>
    <dgm:cxn modelId="{2AC73D68-C608-42B8-8CC5-A0BE95FE483D}" srcId="{6A046302-C0A2-4C6A-9EA2-919FAE0900D2}" destId="{C0B472B7-F8D1-47B9-BF78-E44FCAACBDA7}" srcOrd="0" destOrd="0" parTransId="{81FDB4B4-E98F-4274-9C0B-BB36EABFA611}" sibTransId="{5F2DBF3A-2F40-4FC1-A8A8-094F12079DDC}"/>
    <dgm:cxn modelId="{D849A26F-38F2-45DA-BC00-D0149B5F8329}" type="presOf" srcId="{559D99C5-2624-452A-B036-7CC76EAC95AE}" destId="{100315CD-9405-41AF-8D89-A76BEE354FC1}" srcOrd="0" destOrd="0" presId="urn:microsoft.com/office/officeart/2005/8/layout/radial4"/>
    <dgm:cxn modelId="{CB1D8353-FDD1-4E36-91B0-85D51C010663}" srcId="{C0B472B7-F8D1-47B9-BF78-E44FCAACBDA7}" destId="{EB7151B8-F90C-4E02-814C-D98F1DE043EA}" srcOrd="1" destOrd="0" parTransId="{82EC26F2-97C4-4FA0-B648-9237A7CC8FC4}" sibTransId="{3CC62AC8-4CB4-406E-B323-79668F6AF3A5}"/>
    <dgm:cxn modelId="{DFDF00A7-AFA1-415F-88C0-128F726C5320}" type="presOf" srcId="{6A046302-C0A2-4C6A-9EA2-919FAE0900D2}" destId="{8406F2DF-2419-4867-BBC0-C7BCFE2554AA}" srcOrd="0" destOrd="0" presId="urn:microsoft.com/office/officeart/2005/8/layout/radial4"/>
    <dgm:cxn modelId="{F9EFCBAF-DEA6-4DFA-87B5-5960A0CFDACB}" type="presOf" srcId="{82EC26F2-97C4-4FA0-B648-9237A7CC8FC4}" destId="{0E7CD79A-A861-43EB-936A-584F4E1D24AE}" srcOrd="0" destOrd="0" presId="urn:microsoft.com/office/officeart/2005/8/layout/radial4"/>
    <dgm:cxn modelId="{2B279CBB-5937-4472-BED4-C014188CF186}" srcId="{C0B472B7-F8D1-47B9-BF78-E44FCAACBDA7}" destId="{C27FAB00-C7EE-41B9-BF33-F84D0D6AEB1C}" srcOrd="2" destOrd="0" parTransId="{559D99C5-2624-452A-B036-7CC76EAC95AE}" sibTransId="{DBA18E53-172B-48A3-A7B9-F239DA157760}"/>
    <dgm:cxn modelId="{1B4ABAD1-099C-4864-801B-B6C27AB3005B}" type="presOf" srcId="{51506682-A041-46DF-AE90-6749C15200CA}" destId="{54DF4FE3-E608-4EC3-A3AB-B5CCC0241551}" srcOrd="0" destOrd="0" presId="urn:microsoft.com/office/officeart/2005/8/layout/radial4"/>
    <dgm:cxn modelId="{06AC08D5-CC31-421F-B7FC-114BD39474D7}" type="presOf" srcId="{C0B472B7-F8D1-47B9-BF78-E44FCAACBDA7}" destId="{3ECF9560-020E-4259-87C4-65569C94BF91}" srcOrd="0" destOrd="0" presId="urn:microsoft.com/office/officeart/2005/8/layout/radial4"/>
    <dgm:cxn modelId="{6DE0C8F1-94D9-495A-83E8-A5A2EB9CF912}" srcId="{C0B472B7-F8D1-47B9-BF78-E44FCAACBDA7}" destId="{CD447B8A-BCC7-4DBF-8EC3-C78ABA62A94D}" srcOrd="0" destOrd="0" parTransId="{51506682-A041-46DF-AE90-6749C15200CA}" sibTransId="{426491B0-D99A-44D8-B658-97D88BAFAE0C}"/>
    <dgm:cxn modelId="{E393C4DE-F79A-41FD-A43E-9B5882DBCA9D}" type="presParOf" srcId="{8406F2DF-2419-4867-BBC0-C7BCFE2554AA}" destId="{3ECF9560-020E-4259-87C4-65569C94BF91}" srcOrd="0" destOrd="0" presId="urn:microsoft.com/office/officeart/2005/8/layout/radial4"/>
    <dgm:cxn modelId="{8BBD2E2E-1356-42AE-A144-AD588FC220A6}" type="presParOf" srcId="{8406F2DF-2419-4867-BBC0-C7BCFE2554AA}" destId="{54DF4FE3-E608-4EC3-A3AB-B5CCC0241551}" srcOrd="1" destOrd="0" presId="urn:microsoft.com/office/officeart/2005/8/layout/radial4"/>
    <dgm:cxn modelId="{218AEB9A-375D-43DB-9AED-B8F4D8513F03}" type="presParOf" srcId="{8406F2DF-2419-4867-BBC0-C7BCFE2554AA}" destId="{D1ACCBE4-D05B-49FB-BB8C-E56D1F6373CC}" srcOrd="2" destOrd="0" presId="urn:microsoft.com/office/officeart/2005/8/layout/radial4"/>
    <dgm:cxn modelId="{B0DCF847-748C-4DC9-A615-4135CD689BC6}" type="presParOf" srcId="{8406F2DF-2419-4867-BBC0-C7BCFE2554AA}" destId="{0E7CD79A-A861-43EB-936A-584F4E1D24AE}" srcOrd="3" destOrd="0" presId="urn:microsoft.com/office/officeart/2005/8/layout/radial4"/>
    <dgm:cxn modelId="{05154C3C-4F2A-4C0B-BAE9-40EA7DC143E1}" type="presParOf" srcId="{8406F2DF-2419-4867-BBC0-C7BCFE2554AA}" destId="{1F82DF28-9B41-46DC-87D2-56054CD09694}" srcOrd="4" destOrd="0" presId="urn:microsoft.com/office/officeart/2005/8/layout/radial4"/>
    <dgm:cxn modelId="{F908D021-3EAA-43CF-AD6F-F9BD6B7B2B1A}" type="presParOf" srcId="{8406F2DF-2419-4867-BBC0-C7BCFE2554AA}" destId="{100315CD-9405-41AF-8D89-A76BEE354FC1}" srcOrd="5" destOrd="0" presId="urn:microsoft.com/office/officeart/2005/8/layout/radial4"/>
    <dgm:cxn modelId="{2C10B058-1C19-40DE-B36D-270C3A6E35A2}" type="presParOf" srcId="{8406F2DF-2419-4867-BBC0-C7BCFE2554AA}" destId="{FB64E2D8-BEA0-46E1-A909-985DA74FDC78}" srcOrd="6" destOrd="0" presId="urn:microsoft.com/office/officeart/2005/8/layout/radial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ECF9560-020E-4259-87C4-65569C94BF91}">
      <dsp:nvSpPr>
        <dsp:cNvPr id="0" name=""/>
        <dsp:cNvSpPr/>
      </dsp:nvSpPr>
      <dsp:spPr>
        <a:xfrm>
          <a:off x="3286140" y="2714644"/>
          <a:ext cx="2236764" cy="1724829"/>
        </a:xfrm>
        <a:prstGeom prst="ellips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5240" tIns="15240" rIns="15240" bIns="15240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kern="1200" dirty="0"/>
            <a:t>Конфликты</a:t>
          </a:r>
        </a:p>
      </dsp:txBody>
      <dsp:txXfrm>
        <a:off x="3613707" y="2967239"/>
        <a:ext cx="1581630" cy="1219639"/>
      </dsp:txXfrm>
    </dsp:sp>
    <dsp:sp modelId="{54DF4FE3-E608-4EC3-A3AB-B5CCC0241551}">
      <dsp:nvSpPr>
        <dsp:cNvPr id="0" name=""/>
        <dsp:cNvSpPr/>
      </dsp:nvSpPr>
      <dsp:spPr>
        <a:xfrm rot="12480842">
          <a:off x="1709258" y="2388783"/>
          <a:ext cx="2107317" cy="588122"/>
        </a:xfrm>
        <a:prstGeom prst="lef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D1ACCBE4-D05B-49FB-BB8C-E56D1F6373CC}">
      <dsp:nvSpPr>
        <dsp:cNvPr id="0" name=""/>
        <dsp:cNvSpPr/>
      </dsp:nvSpPr>
      <dsp:spPr>
        <a:xfrm>
          <a:off x="0" y="857250"/>
          <a:ext cx="3030576" cy="2365335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5720" tIns="45720" rIns="45720" bIns="45720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u="sng" kern="1200" dirty="0">
              <a:latin typeface="Times New Roman" pitchFamily="18" charset="0"/>
              <a:cs typeface="Times New Roman" pitchFamily="18" charset="0"/>
            </a:rPr>
            <a:t>конструктивные </a:t>
          </a:r>
        </a:p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u="sng" kern="1200" dirty="0">
              <a:latin typeface="Times New Roman" pitchFamily="18" charset="0"/>
              <a:cs typeface="Times New Roman" pitchFamily="18" charset="0"/>
            </a:rPr>
            <a:t>и</a:t>
          </a:r>
        </a:p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u="sng" kern="1200" dirty="0">
              <a:latin typeface="Times New Roman" pitchFamily="18" charset="0"/>
              <a:cs typeface="Times New Roman" pitchFamily="18" charset="0"/>
            </a:rPr>
            <a:t>деструктивные</a:t>
          </a:r>
          <a:r>
            <a:rPr lang="ru-RU" sz="2000" u="sng" kern="1200" dirty="0"/>
            <a:t> </a:t>
          </a:r>
          <a:endParaRPr lang="ru-RU" sz="2000" kern="1200" dirty="0"/>
        </a:p>
      </dsp:txBody>
      <dsp:txXfrm>
        <a:off x="69278" y="926528"/>
        <a:ext cx="2892020" cy="2226779"/>
      </dsp:txXfrm>
    </dsp:sp>
    <dsp:sp modelId="{0E7CD79A-A861-43EB-936A-584F4E1D24AE}">
      <dsp:nvSpPr>
        <dsp:cNvPr id="0" name=""/>
        <dsp:cNvSpPr/>
      </dsp:nvSpPr>
      <dsp:spPr>
        <a:xfrm rot="16001645">
          <a:off x="3388939" y="1528779"/>
          <a:ext cx="1759881" cy="588122"/>
        </a:xfrm>
        <a:prstGeom prst="lef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1F82DF28-9B41-46DC-87D2-56054CD09694}">
      <dsp:nvSpPr>
        <dsp:cNvPr id="0" name=""/>
        <dsp:cNvSpPr/>
      </dsp:nvSpPr>
      <dsp:spPr>
        <a:xfrm>
          <a:off x="2857517" y="71440"/>
          <a:ext cx="3379784" cy="156832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5720" tIns="45720" rIns="45720" bIns="45720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u="sng" kern="1200" dirty="0">
              <a:latin typeface="Times New Roman" pitchFamily="18" charset="0"/>
              <a:cs typeface="Times New Roman" pitchFamily="18" charset="0"/>
            </a:rPr>
            <a:t>позитивные </a:t>
          </a:r>
        </a:p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u="sng" kern="1200" dirty="0">
              <a:latin typeface="Times New Roman" pitchFamily="18" charset="0"/>
              <a:cs typeface="Times New Roman" pitchFamily="18" charset="0"/>
            </a:rPr>
            <a:t>и </a:t>
          </a:r>
        </a:p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u="sng" kern="1200" dirty="0">
              <a:latin typeface="Times New Roman" pitchFamily="18" charset="0"/>
              <a:cs typeface="Times New Roman" pitchFamily="18" charset="0"/>
            </a:rPr>
            <a:t>негативные</a:t>
          </a:r>
          <a:endParaRPr lang="ru-RU" sz="24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2903452" y="117375"/>
        <a:ext cx="3287914" cy="1476457"/>
      </dsp:txXfrm>
    </dsp:sp>
    <dsp:sp modelId="{100315CD-9405-41AF-8D89-A76BEE354FC1}">
      <dsp:nvSpPr>
        <dsp:cNvPr id="0" name=""/>
        <dsp:cNvSpPr/>
      </dsp:nvSpPr>
      <dsp:spPr>
        <a:xfrm rot="19916311">
          <a:off x="4998806" y="2369383"/>
          <a:ext cx="2239075" cy="588122"/>
        </a:xfrm>
        <a:prstGeom prst="leftArrow">
          <a:avLst>
            <a:gd name="adj1" fmla="val 60000"/>
            <a:gd name="adj2" fmla="val 50000"/>
          </a:avLst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FB64E2D8-BEA0-46E1-A909-985DA74FDC78}">
      <dsp:nvSpPr>
        <dsp:cNvPr id="0" name=""/>
        <dsp:cNvSpPr/>
      </dsp:nvSpPr>
      <dsp:spPr>
        <a:xfrm>
          <a:off x="5429273" y="1500206"/>
          <a:ext cx="2800326" cy="1568327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5720" tIns="45720" rIns="45720" bIns="45720" numCol="1" spcCol="1270" anchor="ctr" anchorCtr="0">
          <a:noAutofit/>
        </a:bodyPr>
        <a:lstStyle/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u="sng" kern="1200" dirty="0" err="1">
              <a:latin typeface="Times New Roman" pitchFamily="18" charset="0"/>
              <a:cs typeface="Times New Roman" pitchFamily="18" charset="0"/>
            </a:rPr>
            <a:t>антагонические</a:t>
          </a:r>
          <a:r>
            <a:rPr lang="ru-RU" sz="2400" u="sng" kern="1200" dirty="0">
              <a:latin typeface="Times New Roman" pitchFamily="18" charset="0"/>
              <a:cs typeface="Times New Roman" pitchFamily="18" charset="0"/>
            </a:rPr>
            <a:t> </a:t>
          </a:r>
        </a:p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u="sng" kern="1200" dirty="0">
              <a:latin typeface="Times New Roman" pitchFamily="18" charset="0"/>
              <a:cs typeface="Times New Roman" pitchFamily="18" charset="0"/>
            </a:rPr>
            <a:t>и </a:t>
          </a:r>
        </a:p>
        <a:p>
          <a:pPr marL="0" lvl="0" indent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  <a:buNone/>
          </a:pPr>
          <a:r>
            <a:rPr lang="ru-RU" sz="2400" u="sng" kern="1200" dirty="0">
              <a:latin typeface="Times New Roman" pitchFamily="18" charset="0"/>
              <a:cs typeface="Times New Roman" pitchFamily="18" charset="0"/>
            </a:rPr>
            <a:t>компромиссные</a:t>
          </a:r>
          <a:endParaRPr lang="ru-RU" sz="24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5475208" y="1546141"/>
        <a:ext cx="2708456" cy="1476457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radial4">
  <dgm:title val=""/>
  <dgm:desc val=""/>
  <dgm:catLst>
    <dgm:cat type="relationship" pri="19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5" srcId="1" destId="11" srcOrd="0" destOrd="0"/>
        <dgm:cxn modelId="16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cycle">
    <dgm:varLst>
      <dgm:chMax val="1"/>
      <dgm:dir/>
      <dgm:animLvl val="ctr"/>
      <dgm:resizeHandles val="exact"/>
    </dgm:varLst>
    <dgm:choose name="Name0">
      <dgm:if name="Name1" func="var" arg="dir" op="equ" val="norm">
        <dgm:choose name="Name2">
          <dgm:if name="Name3" axis="ch ch" ptType="node node" st="1 1" cnt="1 0" func="cnt" op="lte" val="1">
            <dgm:alg type="cycle">
              <dgm:param type="stAng" val="0"/>
              <dgm:param type="spanAng" val="360"/>
              <dgm:param type="ctrShpMap" val="fNode"/>
            </dgm:alg>
          </dgm:if>
          <dgm:else name="Name4">
            <dgm:choose name="Name5">
              <dgm:if name="Name6" axis="ch ch" ptType="node node" st="1 1" cnt="1 0" func="cnt" op="lte" val="3">
                <dgm:alg type="cycle">
                  <dgm:param type="stAng" val="-55"/>
                  <dgm:param type="spanAng" val="110"/>
                  <dgm:param type="ctrShpMap" val="fNode"/>
                </dgm:alg>
              </dgm:if>
              <dgm:else name="Name7">
                <dgm:choose name="Name8">
                  <dgm:if name="Name9" axis="ch ch" ptType="node node" st="1 1" cnt="1 0" func="cnt" op="equ" val="4">
                    <dgm:alg type="cycle">
                      <dgm:param type="stAng" val="-75"/>
                      <dgm:param type="spanAng" val="150"/>
                      <dgm:param type="ctrShpMap" val="fNode"/>
                    </dgm:alg>
                  </dgm:if>
                  <dgm:else name="Name10">
                    <dgm:alg type="cycle">
                      <dgm:param type="stAng" val="-90"/>
                      <dgm:param type="spanAng" val="180"/>
                      <dgm:param type="ctrShpMap" val="fNode"/>
                    </dgm:alg>
                  </dgm:else>
                </dgm:choose>
              </dgm:else>
            </dgm:choose>
          </dgm:else>
        </dgm:choose>
      </dgm:if>
      <dgm:else name="Name11">
        <dgm:choose name="Name12">
          <dgm:if name="Name13" axis="ch ch" ptType="node node" st="1 1" cnt="1 0" func="cnt" op="lte" val="1">
            <dgm:alg type="cycle">
              <dgm:param type="stAng" val="0"/>
              <dgm:param type="spanAng" val="-360"/>
              <dgm:param type="ctrShpMap" val="fNode"/>
            </dgm:alg>
          </dgm:if>
          <dgm:else name="Name14">
            <dgm:choose name="Name15">
              <dgm:if name="Name16" axis="ch ch" ptType="node node" st="1 1" cnt="1 0" func="cnt" op="lte" val="3">
                <dgm:alg type="cycle">
                  <dgm:param type="stAng" val="55"/>
                  <dgm:param type="spanAng" val="-110"/>
                  <dgm:param type="ctrShpMap" val="fNode"/>
                </dgm:alg>
              </dgm:if>
              <dgm:else name="Name17">
                <dgm:choose name="Name18">
                  <dgm:if name="Name19" axis="ch ch" ptType="node node" st="1 1" cnt="1 0" func="cnt" op="equ" val="4">
                    <dgm:alg type="cycle">
                      <dgm:param type="stAng" val="75"/>
                      <dgm:param type="spanAng" val="-150"/>
                      <dgm:param type="ctrShpMap" val="fNode"/>
                    </dgm:alg>
                  </dgm:if>
                  <dgm:else name="Name20">
                    <dgm:alg type="cycle">
                      <dgm:param type="stAng" val="90"/>
                      <dgm:param type="spanAng" val="-180"/>
                      <dgm:param type="ctrShpMap" val="fNode"/>
                    </dgm:alg>
                  </dgm:else>
                </dgm:choose>
              </dgm:else>
            </dgm:choose>
          </dgm:else>
        </dgm:choose>
      </dgm:else>
    </dgm:choose>
    <dgm:shape xmlns:r="http://schemas.openxmlformats.org/officeDocument/2006/relationships" r:blip="">
      <dgm:adjLst/>
    </dgm:shape>
    <dgm:presOf/>
    <dgm:constrLst>
      <dgm:constr type="w" for="ch" forName="centerShape" refType="w"/>
      <dgm:constr type="w" for="ch" forName="node" refType="w" refFor="ch" refForName="centerShape" fact="0.95"/>
      <dgm:constr type="h" for="ch" forName="parTrans" refType="w" refFor="ch" refForName="centerShape" fact="0.285"/>
      <dgm:constr type="sp" refType="w" refFor="ch" refForName="centerShape" op="equ" fact="0.23"/>
      <dgm:constr type="sibSp" refType="w" refFor="ch" refForName="node" fact="0.1"/>
      <dgm:constr type="primFontSz" for="ch" forName="node" op="equ"/>
    </dgm:constrLst>
    <dgm:choose name="Name21">
      <dgm:if name="Name22" axis="ch ch" ptType="node node" st="1 1" cnt="1 0" func="cnt" op="lte" val="5">
        <dgm:ruleLst>
          <dgm:rule type="w" for="ch" forName="centerShape" val="NaN" fact="0.27" max="NaN"/>
        </dgm:ruleLst>
      </dgm:if>
      <dgm:else name="Name23">
        <dgm:ruleLst>
          <dgm:rule type="w" for="ch" forName="centerShape" val="NaN" fact="0.27" max="NaN"/>
          <dgm:rule type="w" for="ch" forName="node" val="NaN" fact="0.7" max="NaN"/>
        </dgm:ruleLst>
      </dgm:else>
    </dgm:choose>
    <dgm:forEach name="Name24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tMarg" refType="primFontSz" fact="0.05"/>
          <dgm:constr type="bMarg" refType="primFontSz" fact="0.05"/>
          <dgm:constr type="lMarg" refType="primFontSz" fact="0.05"/>
          <dgm:constr type="rMarg" refType="primFontSz" fact="0.05"/>
          <dgm:constr type="primFontSz" val="65"/>
          <dgm:constr type="h" refType="w"/>
        </dgm:constrLst>
        <dgm:ruleLst>
          <dgm:rule type="primFontSz" val="5" fact="NaN" max="NaN"/>
        </dgm:ruleLst>
      </dgm:layoutNode>
      <dgm:forEach name="Name25" axis="ch">
        <dgm:forEach name="Name26" axis="self" ptType="parTrans">
          <dgm:layoutNode name="parTrans" styleLbl="bgSibTrans2D1">
            <dgm:alg type="conn">
              <dgm:param type="begPts" val="auto"/>
              <dgm:param type="endPts" val="ctr"/>
              <dgm:param type="endSty" val="noArr"/>
              <dgm:param type="begSty" val="arr"/>
            </dgm:alg>
            <dgm:shape xmlns:r="http://schemas.openxmlformats.org/officeDocument/2006/relationships" type="conn" r:blip="">
              <dgm:adjLst/>
            </dgm:shape>
            <dgm:presOf axis="self"/>
            <dgm:constrLst>
              <dgm:constr type="begPad" refType="connDist" fact="0.055"/>
              <dgm:constr type="endPad"/>
            </dgm:constrLst>
            <dgm:ruleLst/>
          </dgm:layoutNode>
        </dgm:forEach>
        <dgm:forEach name="Name27" axis="self" ptType="node">
          <dgm:layoutNode name="node" styleLbl="node1">
            <dgm:varLst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OrSelf" ptType="node"/>
            <dgm:constrLst>
              <dgm:constr type="primFontSz" val="65"/>
              <dgm:constr type="h" refType="w" fact="0.8"/>
              <dgm:constr type="tMarg" refType="primFontSz" fact="0.15"/>
              <dgm:constr type="bMarg" refType="primFontSz" fact="0.15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</dgm:forEach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B49-B9E0-43CA-8AF8-CDE9C137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CF7-8119-4FEC-99D5-9FBFB2B7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E1C-3BD9-4ECF-89D1-EA4CDD19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AD78-8205-4407-B0FB-680434E8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6B6C-8907-45BC-9FDA-9474B07D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CB9D-9694-437A-B146-8AB1F845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48E3-FDA4-4637-AAA8-00D361EC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A70F-94E1-41FE-9884-F0266175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40DE-F742-405B-9514-7F27D032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22D7-C46D-4209-8440-49E22FFE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9A6C-7A0E-4805-97E4-5FE9BFBE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8BEF-E4C0-41B9-9EB1-47FFEAAC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5F95-BB56-4875-BBE1-ABF34761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46C9-A1E2-4207-9E73-3257542A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BEF6-17A4-4582-B3E0-2D0EFB17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1D9F-0201-4B4D-94D4-BF475F41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9DE1-4D8F-4645-805C-04E08421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C1BB-BE5B-4B46-B0CE-237784F1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F595-E8CB-47E0-9C8D-77FC392C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4C98-124B-45BA-AC05-DDDEC4DB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F3ED-F619-4DB7-BEB0-8EED2AC1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411-603D-40A2-9789-7F3E3FF4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316B-1DAF-4C15-A823-F41280C8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735-3CF9-4E12-AB3B-EC152937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5576AC-F1A0-43D9-A3EC-FFD9D7E1043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55384D-38DB-4C50-9FD1-251C41BC9E5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.xm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" Target="slide1.xml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" Target="slide2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4200" y="1000080"/>
            <a:ext cx="8643600" cy="286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оциальный конфликт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643200" y="4357800"/>
            <a:ext cx="5114520" cy="11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ила студентка гр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отова Татья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7616160" y="201240"/>
            <a:ext cx="149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й 202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24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пы и стадии развития социальных конфликтов</a:t>
            </a:r>
            <a:br>
              <a:rPr sz="4400"/>
            </a:b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642960"/>
            <a:ext cx="8229240" cy="54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юбой конфликт имеет временные границы -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чало и окончание конфликта.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чало конфликта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рактеризуется  возникновением  первых актов противодействия. Конфликт считается  начавшимся  в  случае совпадения трех условий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ин  участник  сознательно и активно действует в ущерб другому участнику (как физически, так и морально, информационно)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торой участник осознает, что указанные действия направлены против его интересов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торой  участник  в связи  с этим предпринимает активные действия по отношению к первому участнику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кончание конфликта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прекращение  действий друг против друга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5-конечная звезда 3">
            <a:hlinkClick r:id="rId1" action="ppaction://hlinksldjump"/>
          </p:cNvPr>
          <p:cNvSpPr/>
          <p:nvPr/>
        </p:nvSpPr>
        <p:spPr>
          <a:xfrm>
            <a:off x="7929720" y="6000840"/>
            <a:ext cx="642600" cy="5713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5" name="Рисунок 4" descr="conflict.jpg"/>
          <p:cNvPicPr/>
          <p:nvPr/>
        </p:nvPicPr>
        <p:blipFill>
          <a:blip r:embed="rId2"/>
          <a:stretch/>
        </p:blipFill>
        <p:spPr>
          <a:xfrm>
            <a:off x="2928960" y="5214960"/>
            <a:ext cx="2761920" cy="135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500040"/>
            <a:ext cx="8229240" cy="56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инамике  конфликта  можно выделить следующие периоды и этапы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Латентный перио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предконфликт) включает этапы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никновение объективной проблемной ситуации - существует противоречие между субъектами, но оно еще не осознано и нет конфликтных действий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ознание объективной проблемной ситуации - восприятие реальности как проблемной и понимание необходимости  предпринять какие-то действия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пытки сторон разрешить объективную ситуацию неконфликтными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способа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убеждением,  разъяснением, просьбами, информированием)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едконфликтная ситуац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ситуация  воспринимается  как наличие угрозы  безопасности,  общественным интересам одной из сторон взаимодействия,  что провоцирует конфликтное поведение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ткрытый перио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часто называют собственно конфликтом.  Он включает следующие этапы:    инцидент и эскалация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5-конечная звезда 2">
            <a:hlinkClick r:id="rId1" action="ppaction://hlinksldjump"/>
          </p:cNvPr>
          <p:cNvSpPr/>
          <p:nvPr/>
        </p:nvSpPr>
        <p:spPr>
          <a:xfrm>
            <a:off x="8286840" y="6143760"/>
            <a:ext cx="64260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новные формы завершения конфлик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8229240" cy="51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местная деятельность его участников, направленная на прекращение противодействия и решение проблемы, которая привела к столкновению. Разрешение конфликта предполагает активность обеих сторон по изменению условий взаимодействия и устранению причин конфликта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регул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в устранении противоречий принимает участие третья сторон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hlinkClick r:id="rId1" action="ppaction://hlinksldjump"/>
              </a:rPr>
              <a:t>Затуха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ременное прекращение противодействия при сохранении основных признаков конфликта: противоречия и напряженных отношений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Устранение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оздействие на конфликт, в результате которого ликвидируются его основные структурные компоненты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ерерастание в другой конфлик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 отношениях сторон возникает новое, более значимое противоречие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5-конечная звезда 3">
            <a:hlinkClick r:id="rId4" action="ppaction://hlinksldjump"/>
          </p:cNvPr>
          <p:cNvSpPr/>
          <p:nvPr/>
        </p:nvSpPr>
        <p:spPr>
          <a:xfrm>
            <a:off x="8215200" y="6215040"/>
            <a:ext cx="64260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1" name="Рисунок 4" descr="0.jpeg"/>
          <p:cNvPicPr/>
          <p:nvPr/>
        </p:nvPicPr>
        <p:blipFill>
          <a:blip r:embed="rId5"/>
          <a:stretch/>
        </p:blipFill>
        <p:spPr>
          <a:xfrm>
            <a:off x="7000920" y="214200"/>
            <a:ext cx="2142720" cy="16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ходами конфликта могут быт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785880"/>
            <a:ext cx="8229240" cy="53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анение одной или обеих сторон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остановка конфлик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беда одной из сторон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ление объекта конфлик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гласие о правилах совместного использования объек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внозначная компенсация одной из сторон за овладение объектом другой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аз обеих сторон от посягательств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ьтернативное определение таких объектов, которые удовлетворяют интересы обеих сторон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5-конечная звезда 3">
            <a:hlinkClick r:id="rId1" action="ppaction://hlinksldjump"/>
          </p:cNvPr>
          <p:cNvSpPr/>
          <p:nvPr/>
        </p:nvSpPr>
        <p:spPr>
          <a:xfrm>
            <a:off x="8286840" y="6143760"/>
            <a:ext cx="64260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5" name="Рисунок 4" descr="33A6995B-D185-44BB-B06F-0066B35F0CF4_mw800_s.jpg"/>
          <p:cNvPicPr/>
          <p:nvPr/>
        </p:nvPicPr>
        <p:blipFill>
          <a:blip r:embed="rId2"/>
          <a:stretch/>
        </p:blipFill>
        <p:spPr>
          <a:xfrm>
            <a:off x="6643800" y="428760"/>
            <a:ext cx="2095200" cy="15714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ssora300_1.jpg"/>
          <p:cNvPicPr/>
          <p:nvPr/>
        </p:nvPicPr>
        <p:blipFill>
          <a:blip r:embed="rId3"/>
          <a:stretch/>
        </p:blipFill>
        <p:spPr>
          <a:xfrm>
            <a:off x="4143240" y="4643280"/>
            <a:ext cx="2642760" cy="185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00040"/>
            <a:ext cx="8229240" cy="56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ый конфликт - сложное социальное взаимодействие, содержанием которого является процесс развития и разрешения непримиримых противоречий, т. е. таких, которые невозможно разрешить без изменения основных условий и факторов взаимодействия. Из этого следует - разрешение конфликта требует изменений в социальной жизни людей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5-конечная звезда 2">
            <a:hlinkClick r:id="rId1" action="ppaction://hlinksldjump"/>
          </p:cNvPr>
          <p:cNvSpPr/>
          <p:nvPr/>
        </p:nvSpPr>
        <p:spPr>
          <a:xfrm>
            <a:off x="8286840" y="6143760"/>
            <a:ext cx="64260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9" name="Рисунок 4" descr="%D0%BC%D0%B8%D0%BC%D0%B8%D0%BC%D0%B8%D0%BC(1).jpg"/>
          <p:cNvPicPr/>
          <p:nvPr/>
        </p:nvPicPr>
        <p:blipFill>
          <a:blip r:embed="rId2"/>
          <a:stretch/>
        </p:blipFill>
        <p:spPr>
          <a:xfrm>
            <a:off x="357120" y="3643200"/>
            <a:ext cx="1691280" cy="24998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конфликт в семье.jpg"/>
          <p:cNvPicPr/>
          <p:nvPr/>
        </p:nvPicPr>
        <p:blipFill>
          <a:blip r:embed="rId3"/>
          <a:stretch/>
        </p:blipFill>
        <p:spPr>
          <a:xfrm>
            <a:off x="5357880" y="4000680"/>
            <a:ext cx="2571480" cy="22143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200711087043001.jpg"/>
          <p:cNvPicPr/>
          <p:nvPr/>
        </p:nvPicPr>
        <p:blipFill>
          <a:blip r:embed="rId4"/>
          <a:stretch/>
        </p:blipFill>
        <p:spPr>
          <a:xfrm>
            <a:off x="7000920" y="142920"/>
            <a:ext cx="1595160" cy="185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исок литературы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Социология.» С.С. Фролов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Конфликтология.» И. С. Варенко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Социология конфликта.» А. Г. Здравомыслов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Электронный учебник.» К. М. Оганян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5-конечная звезда 3">
            <a:hlinkClick r:id="rId1" action="ppaction://hlinksldjump"/>
          </p:cNvPr>
          <p:cNvSpPr/>
          <p:nvPr/>
        </p:nvSpPr>
        <p:spPr>
          <a:xfrm>
            <a:off x="7929720" y="5857920"/>
            <a:ext cx="713880" cy="5713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россворд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Picture 2"/>
          <p:cNvGraphicFramePr/>
          <p:nvPr/>
        </p:nvGraphicFramePr>
        <p:xfrm>
          <a:off x="1785960" y="642960"/>
          <a:ext cx="9308880" cy="748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Pictur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642960"/>
                    <a:ext cx="9308880" cy="74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Box 4"/>
          <p:cNvSpPr/>
          <p:nvPr/>
        </p:nvSpPr>
        <p:spPr>
          <a:xfrm>
            <a:off x="214200" y="285840"/>
            <a:ext cx="292860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дин из двух отцов-основателей современной фазы социологической теории (вместе с М.Вебером). Основные труды: «О разделении общественного труда», «Самоубийств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arenR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способленчество, пассивное принятие существующего порядка вещей, господствующего мнения, взглядо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глашательство, отсутствие собственной позиции, своего м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5715000" y="3000240"/>
            <a:ext cx="3428640" cy="25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)Отклонение в поведении человека от общепринятых норм и прав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) Характеристика экономического положения индивида или социальной группы, при котором они не могут удовлетворить определенный круг минимальных потребностей необходимых для жизни, сохранения трудоспособности, продолжения р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россворд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Picture 2"/>
          <p:cNvGraphicFramePr/>
          <p:nvPr/>
        </p:nvGraphicFramePr>
        <p:xfrm>
          <a:off x="0" y="-285840"/>
          <a:ext cx="9572400" cy="792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Pictur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85840"/>
                    <a:ext cx="9572400" cy="79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Box 5"/>
          <p:cNvSpPr/>
          <p:nvPr/>
        </p:nvSpPr>
        <p:spPr>
          <a:xfrm>
            <a:off x="5072040" y="857160"/>
            <a:ext cx="407160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)Одна из форм завершения конфликт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ременное прекращение противодействия при сохранении основных признаков конфликта: противоречия и напряженных 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Основоположник социологии как самостоятельной нау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акое состояние общества, в котором заметная часть его членов, зная о существовании обязывающих их норм, относится к ним негативно или равнодуш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) Временное собрание людей, объединенных в замкнутом физическом пространстве общностью интере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) Первичная форма социальной организации, возникшая на основе родовых связей и характеризуемая непосредственным типом социальных 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) Междисциплинарная наука о молодёж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россворд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Picture 3"/>
          <p:cNvGraphicFramePr/>
          <p:nvPr/>
        </p:nvGraphicFramePr>
        <p:xfrm>
          <a:off x="1000080" y="0"/>
          <a:ext cx="7365600" cy="63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7365600" cy="63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5-конечная звезда 3">
            <a:hlinkClick r:id="rId3" action="ppaction://hlinksldjump"/>
          </p:cNvPr>
          <p:cNvSpPr/>
          <p:nvPr/>
        </p:nvSpPr>
        <p:spPr>
          <a:xfrm>
            <a:off x="8215200" y="6143760"/>
            <a:ext cx="57132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чины затухания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тощения ресурсов обеих сторон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еря мотива к борьбе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ориентация мотив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5-конечная звезда 3">
            <a:hlinkClick r:id="rId1" action="ppaction://hlinksldjump"/>
          </p:cNvPr>
          <p:cNvSpPr/>
          <p:nvPr/>
        </p:nvSpPr>
        <p:spPr>
          <a:xfrm>
            <a:off x="8001000" y="6000840"/>
            <a:ext cx="642600" cy="64260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51" name="Рисунок 4" descr="1615.jpg"/>
          <p:cNvPicPr/>
          <p:nvPr/>
        </p:nvPicPr>
        <p:blipFill>
          <a:blip r:embed="rId2"/>
          <a:stretch/>
        </p:blipFill>
        <p:spPr>
          <a:xfrm>
            <a:off x="5643720" y="1428840"/>
            <a:ext cx="2999880" cy="23569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173109370.jpg"/>
          <p:cNvPicPr/>
          <p:nvPr/>
        </p:nvPicPr>
        <p:blipFill>
          <a:blip r:embed="rId3"/>
          <a:stretch/>
        </p:blipFill>
        <p:spPr>
          <a:xfrm>
            <a:off x="285840" y="3500280"/>
            <a:ext cx="4571640" cy="257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: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Сущность конфликта и его функци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Виды конфликто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Причины социальных конфликто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Структура социального конфликт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Этапы и стадии развития социальных конфликто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Формы и критерии завершения конфликт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Список литератур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особы устранения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0040" y="1643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ъятие из конфликта одного из оппонентов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ключение взаимодействия оппонентов на длительное время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анение объек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анение дефицита объек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5-конечная звезда 3">
            <a:hlinkClick r:id="rId1" action="ppaction://hlinksldjump"/>
          </p:cNvPr>
          <p:cNvSpPr/>
          <p:nvPr/>
        </p:nvSpPr>
        <p:spPr>
          <a:xfrm>
            <a:off x="8215200" y="5857920"/>
            <a:ext cx="642600" cy="7855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56" name="Рисунок 4" descr="image005.jpg"/>
          <p:cNvPicPr/>
          <p:nvPr/>
        </p:nvPicPr>
        <p:blipFill>
          <a:blip r:embed="rId2"/>
          <a:stretch/>
        </p:blipFill>
        <p:spPr>
          <a:xfrm>
            <a:off x="4857840" y="3357720"/>
            <a:ext cx="2219040" cy="33332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5" descr="1204937469_1204852298_54384.jpg"/>
          <p:cNvPicPr/>
          <p:nvPr/>
        </p:nvPicPr>
        <p:blipFill>
          <a:blip r:embed="rId3"/>
          <a:stretch/>
        </p:blipFill>
        <p:spPr>
          <a:xfrm>
            <a:off x="6072120" y="142920"/>
            <a:ext cx="2759760" cy="18378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6" descr="rabotodatel.jpg"/>
          <p:cNvPicPr/>
          <p:nvPr/>
        </p:nvPicPr>
        <p:blipFill>
          <a:blip r:embed="rId4"/>
          <a:stretch/>
        </p:blipFill>
        <p:spPr>
          <a:xfrm>
            <a:off x="642960" y="3714840"/>
            <a:ext cx="380952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28760" y="7858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Конфлик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 конфликтом понимается наиболее острый способ разрешения значимых противоречий, возникающих в процессе взаимодействия, заключающийся в противодействии субъектов конфликта и обычно сопровождающийся негативными эмоция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5-конечная звезда 3">
            <a:hlinkClick r:id="rId1" action="ppaction://hlinksldjump"/>
          </p:cNvPr>
          <p:cNvSpPr/>
          <p:nvPr/>
        </p:nvSpPr>
        <p:spPr>
          <a:xfrm>
            <a:off x="8286840" y="6143760"/>
            <a:ext cx="64260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9" name="Рисунок 4" descr="konflict_08.jpg"/>
          <p:cNvPicPr/>
          <p:nvPr/>
        </p:nvPicPr>
        <p:blipFill>
          <a:blip r:embed="rId2"/>
          <a:stretch/>
        </p:blipFill>
        <p:spPr>
          <a:xfrm>
            <a:off x="785880" y="4572000"/>
            <a:ext cx="25714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Конфликт может выполнять конструктивные и деструктивные функции.</a:t>
            </a:r>
            <a:br>
              <a:rPr sz="4400"/>
            </a:b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240" cy="52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нструктивные функции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фликт устраняет полностью или частично противоречия, возникающие в силу  несовершенства  организации  деятельности, ошибок управления, выполнения обязанностей и т.п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фликт позволяет  более  полно  оценить  индивидуально-психологические особенности людей,  участвующих в нем.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фликт  позволяет  ослабить психологическую напряженность, являющуюся реакцией участников на конфликтную ситуацию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фликт служит источником развития  личности,  межличностных отношений.  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фликт  может  улучшить  качество индивидуальной деятельности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отстаивании справедливых целей повышается авторитет одного из участников, заметно улучшается отношение сослуживцев к нему. 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личностные  конфликты служат средством социализации человека, способствуют самоутверждению личности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5-конечная звезда 3">
            <a:hlinkClick r:id="rId1" action="ppaction://hlinksldjump"/>
          </p:cNvPr>
          <p:cNvSpPr/>
          <p:nvPr/>
        </p:nvSpPr>
        <p:spPr>
          <a:xfrm>
            <a:off x="8286840" y="6143760"/>
            <a:ext cx="64260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14200" y="357120"/>
            <a:ext cx="8229240" cy="55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еструктивные функции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Выраженное негативное воздействие большинства  конфликтов на  психическое  состояние участников.  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еблагополучно  развивающиеся конфликты могут сопровождаться психологическим и физическим  насилием,  травмированием оппонентов. 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онфликт  сопровождается  стрессом.  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онфликт  формирует  негативный  образ другого - "образ врага".                                                         </a:t>
            </a:r>
            <a:endParaRPr b="0" lang="ru-RU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5-конечная звезда 3">
            <a:hlinkClick r:id="rId1" action="ppaction://hlinksldjump"/>
          </p:cNvPr>
          <p:cNvSpPr/>
          <p:nvPr/>
        </p:nvSpPr>
        <p:spPr>
          <a:xfrm>
            <a:off x="8286840" y="6143760"/>
            <a:ext cx="64260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5" name="Рисунок 4" descr="01.jpg"/>
          <p:cNvPicPr/>
          <p:nvPr/>
        </p:nvPicPr>
        <p:blipFill>
          <a:blip r:embed="rId2"/>
          <a:stretch/>
        </p:blipFill>
        <p:spPr>
          <a:xfrm>
            <a:off x="4357800" y="3714840"/>
            <a:ext cx="3357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 конфликтов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Содержимое 5"/>
          <p:cNvGraphicFramePr/>
          <p:nvPr/>
        </p:nvGraphicFramePr>
        <p:xfrm>
          <a:off x="500040" y="857160"/>
          <a:ext cx="8229240" cy="5142240"/>
        </p:xfrm>
        <a:graphic>
          <a:graphicData uri="http://schemas.openxmlformats.org/drawingml/2006/table">
            <a:tbl>
              <a:tblPr/>
              <a:tblGrid>
                <a:gridCol w="785520"/>
                <a:gridCol w="2357280"/>
                <a:gridCol w="2643120"/>
                <a:gridCol w="1143000"/>
                <a:gridCol w="129996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Конфликты с участием чело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Зооконфли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520">
                <a:tc rowSpan="9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Соц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нутриличнос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 rowSpan="9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Интерапсих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Зоосоц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Межличност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Между «хочу» и «хочу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Между личностью и групп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Между «могу» и «не могу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Между двумя животн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Между малыми социальными групп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Между «хочу» и «не могу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Между животным и групп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Между средними социальными групп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Между «нужно» и «нужн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Между большими социальными групп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Между «хочу» и «нужн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Между группами живот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Межгосударстве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Между «нужно» и «не могу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Межкоали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5-конечная звезда 4">
            <a:hlinkClick r:id="rId1" action="ppaction://hlinksldjump"/>
          </p:cNvPr>
          <p:cNvSpPr/>
          <p:nvPr/>
        </p:nvSpPr>
        <p:spPr>
          <a:xfrm>
            <a:off x="8143920" y="6215040"/>
            <a:ext cx="57132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6"/>
          <p:cNvSpPr/>
          <p:nvPr/>
        </p:nvSpPr>
        <p:spPr>
          <a:xfrm>
            <a:off x="1785960" y="2643120"/>
            <a:ext cx="2424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f3f0e2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348086577"/>
              </p:ext>
            </p:extLst>
          </p:nvPr>
        </p:nvGraphicFramePr>
        <p:xfrm>
          <a:off x="428760" y="928800"/>
          <a:ext cx="82292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00" name="5-конечная звезда 3">
            <a:hlinkClick r:id="rId6" action="ppaction://hlinksldjump"/>
          </p:cNvPr>
          <p:cNvSpPr/>
          <p:nvPr/>
        </p:nvSpPr>
        <p:spPr>
          <a:xfrm>
            <a:off x="8286840" y="6143760"/>
            <a:ext cx="64260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1" name="Рисунок 4" descr="ris2.jpg"/>
          <p:cNvPicPr/>
          <p:nvPr/>
        </p:nvPicPr>
        <p:blipFill>
          <a:blip r:embed="rId7"/>
          <a:stretch/>
        </p:blipFill>
        <p:spPr>
          <a:xfrm>
            <a:off x="500040" y="4429080"/>
            <a:ext cx="2928600" cy="21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24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ичины социальных конфликтов</a:t>
            </a:r>
            <a:br>
              <a:rPr sz="4400"/>
            </a:b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8760" y="857160"/>
            <a:ext cx="82292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0024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0024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0024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0024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0024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уществует четыре группы причин конфликтов: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0024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0024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ъективные                                                        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рганизационно- управленческие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ъективные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е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чностные                                                                 субъективные                      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00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трелка вправо 6"/>
          <p:cNvSpPr/>
          <p:nvPr/>
        </p:nvSpPr>
        <p:spPr>
          <a:xfrm>
            <a:off x="4429080" y="2786040"/>
            <a:ext cx="1499760" cy="713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Стрелка вправо 8"/>
          <p:cNvSpPr/>
          <p:nvPr/>
        </p:nvSpPr>
        <p:spPr>
          <a:xfrm>
            <a:off x="4214880" y="4786200"/>
            <a:ext cx="1499760" cy="713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5-конечная звезда 5">
            <a:hlinkClick r:id="rId1" action="ppaction://hlinksldjump"/>
          </p:cNvPr>
          <p:cNvSpPr/>
          <p:nvPr/>
        </p:nvSpPr>
        <p:spPr>
          <a:xfrm>
            <a:off x="8143920" y="6072120"/>
            <a:ext cx="49968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7" name="Рисунок 7" descr="2h.jpg"/>
          <p:cNvPicPr/>
          <p:nvPr/>
        </p:nvPicPr>
        <p:blipFill>
          <a:blip r:embed="rId2"/>
          <a:stretch/>
        </p:blipFill>
        <p:spPr>
          <a:xfrm>
            <a:off x="6643800" y="142920"/>
            <a:ext cx="1929240" cy="27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49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руктура социального конфликта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22924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ждая конфликтная  ситуация  имеет  объективное  содержание и субъективное значение. Начнем с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ивн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одержания конфликтной ситуаци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частники конфлик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едмет конфлик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бъект  конфлик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Микро-  и  макросред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мим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ив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оставляющих конфликта существуют такж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убъективные составляющие 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стремления сторон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тратегии и тактики их поведения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риятие конфликтной ситуаци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5-конечная звезда 3">
            <a:hlinkClick r:id="rId1" action="ppaction://hlinksldjump"/>
          </p:cNvPr>
          <p:cNvSpPr/>
          <p:nvPr/>
        </p:nvSpPr>
        <p:spPr>
          <a:xfrm>
            <a:off x="8001000" y="6072120"/>
            <a:ext cx="713880" cy="4996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1" name="Рисунок 4" descr="arm.jpg"/>
          <p:cNvPicPr/>
          <p:nvPr/>
        </p:nvPicPr>
        <p:blipFill>
          <a:blip r:embed="rId2"/>
          <a:stretch/>
        </p:blipFill>
        <p:spPr>
          <a:xfrm>
            <a:off x="6286680" y="1785960"/>
            <a:ext cx="2285640" cy="17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  <Words>1053</Words>
  <Paragraphs>162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12:44:07Z</dcterms:created>
  <dc:creator>XTreme</dc:creator>
  <dc:description/>
  <dc:language>en-US</dc:language>
  <cp:lastModifiedBy>User</cp:lastModifiedBy>
  <dcterms:modified xsi:type="dcterms:W3CDTF">2023-10-27T09:59:35Z</dcterms:modified>
  <cp:revision>34</cp:revision>
  <dc:subject/>
  <dc:title>Социальный конфлик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0</vt:r8>
  </property>
</Properties>
</file>