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A046302-C0A2-4C6A-9EA2-919FAE0900D2}" type="doc">
      <dgm:prSet loTypeId="urn:microsoft.com/office/officeart/2005/8/layout/radial4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0B472B7-F8D1-47B9-BF78-E44FCAACBDA7}">
      <dgm:prSet phldrT="[Текст]" custT="1"/>
      <dgm:spPr/>
      <dgm:t>
        <a:bodyPr/>
        <a:lstStyle/>
        <a:p>
          <a:r>
            <a:rPr lang="ru-RU" sz="2400" dirty="0"/>
            <a:t>Конфликты</a:t>
          </a:r>
        </a:p>
      </dgm:t>
    </dgm:pt>
    <dgm:pt modelId="{81FDB4B4-E98F-4274-9C0B-BB36EABFA611}" type="parTrans" cxnId="{2AC73D68-C608-42B8-8CC5-A0BE95FE483D}">
      <dgm:prSet/>
      <dgm:spPr/>
      <dgm:t>
        <a:bodyPr/>
        <a:lstStyle/>
        <a:p>
          <a:endParaRPr lang="ru-RU"/>
        </a:p>
      </dgm:t>
    </dgm:pt>
    <dgm:pt modelId="{5F2DBF3A-2F40-4FC1-A8A8-094F12079DDC}" type="sibTrans" cxnId="{2AC73D68-C608-42B8-8CC5-A0BE95FE483D}">
      <dgm:prSet/>
      <dgm:spPr/>
      <dgm:t>
        <a:bodyPr/>
        <a:lstStyle/>
        <a:p>
          <a:endParaRPr lang="ru-RU"/>
        </a:p>
      </dgm:t>
    </dgm:pt>
    <dgm:pt modelId="{CD447B8A-BCC7-4DBF-8EC3-C78ABA62A94D}">
      <dgm:prSet phldrT="[Текст]" custT="1"/>
      <dgm:spPr/>
      <dgm:t>
        <a:bodyPr/>
        <a:lstStyle/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конструктивные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и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деструктивные</a:t>
          </a:r>
          <a:r>
            <a:rPr lang="ru-RU" sz="2000" u="sng" dirty="0"/>
            <a:t> </a:t>
          </a:r>
          <a:endParaRPr lang="ru-RU" sz="2000" dirty="0"/>
        </a:p>
      </dgm:t>
    </dgm:pt>
    <dgm:pt modelId="{51506682-A041-46DF-AE90-6749C15200CA}" type="parTrans" cxnId="{6DE0C8F1-94D9-495A-83E8-A5A2EB9CF912}">
      <dgm:prSet/>
      <dgm:spPr/>
      <dgm:t>
        <a:bodyPr/>
        <a:lstStyle/>
        <a:p>
          <a:endParaRPr lang="ru-RU"/>
        </a:p>
      </dgm:t>
    </dgm:pt>
    <dgm:pt modelId="{426491B0-D99A-44D8-B658-97D88BAFAE0C}" type="sibTrans" cxnId="{6DE0C8F1-94D9-495A-83E8-A5A2EB9CF912}">
      <dgm:prSet/>
      <dgm:spPr/>
      <dgm:t>
        <a:bodyPr/>
        <a:lstStyle/>
        <a:p>
          <a:endParaRPr lang="ru-RU"/>
        </a:p>
      </dgm:t>
    </dgm:pt>
    <dgm:pt modelId="{EB7151B8-F90C-4E02-814C-D98F1DE043EA}">
      <dgm:prSet custT="1"/>
      <dgm:spPr/>
      <dgm:t>
        <a:bodyPr/>
        <a:lstStyle/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позитивные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и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негативные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82EC26F2-97C4-4FA0-B648-9237A7CC8FC4}" type="parTrans" cxnId="{CB1D8353-FDD1-4E36-91B0-85D51C010663}">
      <dgm:prSet/>
      <dgm:spPr/>
      <dgm:t>
        <a:bodyPr/>
        <a:lstStyle/>
        <a:p>
          <a:endParaRPr lang="ru-RU"/>
        </a:p>
      </dgm:t>
    </dgm:pt>
    <dgm:pt modelId="{3CC62AC8-4CB4-406E-B323-79668F6AF3A5}" type="sibTrans" cxnId="{CB1D8353-FDD1-4E36-91B0-85D51C010663}">
      <dgm:prSet/>
      <dgm:spPr/>
      <dgm:t>
        <a:bodyPr/>
        <a:lstStyle/>
        <a:p>
          <a:endParaRPr lang="ru-RU"/>
        </a:p>
      </dgm:t>
    </dgm:pt>
    <dgm:pt modelId="{C27FAB00-C7EE-41B9-BF33-F84D0D6AEB1C}">
      <dgm:prSet custT="1"/>
      <dgm:spPr/>
      <dgm:t>
        <a:bodyPr/>
        <a:lstStyle/>
        <a:p>
          <a:r>
            <a:rPr lang="ru-RU" sz="2400" u="sng" dirty="0" err="1">
              <a:latin typeface="Times New Roman" pitchFamily="18" charset="0"/>
              <a:cs typeface="Times New Roman" pitchFamily="18" charset="0"/>
            </a:rPr>
            <a:t>антагонические</a:t>
          </a:r>
          <a:r>
            <a:rPr lang="ru-RU" sz="2400" u="sng" dirty="0">
              <a:latin typeface="Times New Roman" pitchFamily="18" charset="0"/>
              <a:cs typeface="Times New Roman" pitchFamily="18" charset="0"/>
            </a:rPr>
            <a:t>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и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компромиссные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559D99C5-2624-452A-B036-7CC76EAC95AE}" type="parTrans" cxnId="{2B279CBB-5937-4472-BED4-C014188CF186}">
      <dgm:prSet/>
      <dgm:spPr/>
      <dgm:t>
        <a:bodyPr/>
        <a:lstStyle/>
        <a:p>
          <a:endParaRPr lang="ru-RU"/>
        </a:p>
      </dgm:t>
    </dgm:pt>
    <dgm:pt modelId="{DBA18E53-172B-48A3-A7B9-F239DA157760}" type="sibTrans" cxnId="{2B279CBB-5937-4472-BED4-C014188CF186}">
      <dgm:prSet/>
      <dgm:spPr/>
      <dgm:t>
        <a:bodyPr/>
        <a:lstStyle/>
        <a:p>
          <a:endParaRPr lang="ru-RU"/>
        </a:p>
      </dgm:t>
    </dgm:pt>
    <dgm:pt modelId="{8406F2DF-2419-4867-BBC0-C7BCFE2554AA}" type="pres">
      <dgm:prSet presAssocID="{6A046302-C0A2-4C6A-9EA2-919FAE0900D2}" presName="cycle" presStyleCnt="0">
        <dgm:presLayoutVars>
          <dgm:chMax val="1"/>
          <dgm:dir/>
          <dgm:animLvl val="ctr"/>
          <dgm:resizeHandles val="exact"/>
        </dgm:presLayoutVars>
      </dgm:prSet>
      <dgm:spPr/>
    </dgm:pt>
    <dgm:pt modelId="{3ECF9560-020E-4259-87C4-65569C94BF91}" type="pres">
      <dgm:prSet presAssocID="{C0B472B7-F8D1-47B9-BF78-E44FCAACBDA7}" presName="centerShape" presStyleLbl="node0" presStyleIdx="0" presStyleCnt="1" custScaleX="108392" custScaleY="83584" custLinFactNeighborX="4286" custLinFactNeighborY="-18"/>
      <dgm:spPr/>
    </dgm:pt>
    <dgm:pt modelId="{54DF4FE3-E608-4EC3-A3AB-B5CCC0241551}" type="pres">
      <dgm:prSet presAssocID="{51506682-A041-46DF-AE90-6749C15200CA}" presName="parTrans" presStyleLbl="bgSibTrans2D1" presStyleIdx="0" presStyleCnt="3" custLinFactNeighborX="15063" custLinFactNeighborY="25171"/>
      <dgm:spPr/>
    </dgm:pt>
    <dgm:pt modelId="{D1ACCBE4-D05B-49FB-BB8C-E56D1F6373CC}" type="pres">
      <dgm:prSet presAssocID="{CD447B8A-BCC7-4DBF-8EC3-C78ABA62A94D}" presName="node" presStyleLbl="node1" presStyleIdx="0" presStyleCnt="3" custScaleX="154589" custScaleY="150819" custRadScaleRad="127301" custRadScaleInc="-14175">
        <dgm:presLayoutVars>
          <dgm:bulletEnabled val="1"/>
        </dgm:presLayoutVars>
      </dgm:prSet>
      <dgm:spPr/>
    </dgm:pt>
    <dgm:pt modelId="{0E7CD79A-A861-43EB-936A-584F4E1D24AE}" type="pres">
      <dgm:prSet presAssocID="{82EC26F2-97C4-4FA0-B648-9237A7CC8FC4}" presName="parTrans" presStyleLbl="bgSibTrans2D1" presStyleIdx="1" presStyleCnt="3" custAng="21221316" custLinFactNeighborX="-13205" custLinFactNeighborY="15049"/>
      <dgm:spPr/>
    </dgm:pt>
    <dgm:pt modelId="{1F82DF28-9B41-46DC-87D2-56054CD09694}" type="pres">
      <dgm:prSet presAssocID="{EB7151B8-F90C-4E02-814C-D98F1DE043EA}" presName="node" presStyleLbl="node1" presStyleIdx="1" presStyleCnt="3" custScaleX="172402" custRadScaleRad="101469" custRadScaleInc="13073">
        <dgm:presLayoutVars>
          <dgm:bulletEnabled val="1"/>
        </dgm:presLayoutVars>
      </dgm:prSet>
      <dgm:spPr/>
    </dgm:pt>
    <dgm:pt modelId="{100315CD-9405-41AF-8D89-A76BEE354FC1}" type="pres">
      <dgm:prSet presAssocID="{559D99C5-2624-452A-B036-7CC76EAC95AE}" presName="parTrans" presStyleLbl="bgSibTrans2D1" presStyleIdx="2" presStyleCnt="3" custScaleX="138931"/>
      <dgm:spPr/>
    </dgm:pt>
    <dgm:pt modelId="{FB64E2D8-BEA0-46E1-A909-985DA74FDC78}" type="pres">
      <dgm:prSet presAssocID="{C27FAB00-C7EE-41B9-BF33-F84D0D6AEB1C}" presName="node" presStyleLbl="node1" presStyleIdx="2" presStyleCnt="3" custScaleX="142844" custRadScaleRad="113884" custRadScaleInc="17003">
        <dgm:presLayoutVars>
          <dgm:bulletEnabled val="1"/>
        </dgm:presLayoutVars>
      </dgm:prSet>
      <dgm:spPr/>
    </dgm:pt>
  </dgm:ptLst>
  <dgm:cxnLst>
    <dgm:cxn modelId="{C25FE216-34E6-4CC6-9055-5F9E08DABAF7}" type="presOf" srcId="{EB7151B8-F90C-4E02-814C-D98F1DE043EA}" destId="{1F82DF28-9B41-46DC-87D2-56054CD09694}" srcOrd="0" destOrd="0" presId="urn:microsoft.com/office/officeart/2005/8/layout/radial4"/>
    <dgm:cxn modelId="{6A9FC524-A8F5-4504-A53C-3F966F93AB40}" type="presOf" srcId="{CD447B8A-BCC7-4DBF-8EC3-C78ABA62A94D}" destId="{D1ACCBE4-D05B-49FB-BB8C-E56D1F6373CC}" srcOrd="0" destOrd="0" presId="urn:microsoft.com/office/officeart/2005/8/layout/radial4"/>
    <dgm:cxn modelId="{DD045344-7259-409F-BC7F-650BFFA5676F}" type="presOf" srcId="{C27FAB00-C7EE-41B9-BF33-F84D0D6AEB1C}" destId="{FB64E2D8-BEA0-46E1-A909-985DA74FDC78}" srcOrd="0" destOrd="0" presId="urn:microsoft.com/office/officeart/2005/8/layout/radial4"/>
    <dgm:cxn modelId="{2AC73D68-C608-42B8-8CC5-A0BE95FE483D}" srcId="{6A046302-C0A2-4C6A-9EA2-919FAE0900D2}" destId="{C0B472B7-F8D1-47B9-BF78-E44FCAACBDA7}" srcOrd="0" destOrd="0" parTransId="{81FDB4B4-E98F-4274-9C0B-BB36EABFA611}" sibTransId="{5F2DBF3A-2F40-4FC1-A8A8-094F12079DDC}"/>
    <dgm:cxn modelId="{D849A26F-38F2-45DA-BC00-D0149B5F8329}" type="presOf" srcId="{559D99C5-2624-452A-B036-7CC76EAC95AE}" destId="{100315CD-9405-41AF-8D89-A76BEE354FC1}" srcOrd="0" destOrd="0" presId="urn:microsoft.com/office/officeart/2005/8/layout/radial4"/>
    <dgm:cxn modelId="{CB1D8353-FDD1-4E36-91B0-85D51C010663}" srcId="{C0B472B7-F8D1-47B9-BF78-E44FCAACBDA7}" destId="{EB7151B8-F90C-4E02-814C-D98F1DE043EA}" srcOrd="1" destOrd="0" parTransId="{82EC26F2-97C4-4FA0-B648-9237A7CC8FC4}" sibTransId="{3CC62AC8-4CB4-406E-B323-79668F6AF3A5}"/>
    <dgm:cxn modelId="{DFDF00A7-AFA1-415F-88C0-128F726C5320}" type="presOf" srcId="{6A046302-C0A2-4C6A-9EA2-919FAE0900D2}" destId="{8406F2DF-2419-4867-BBC0-C7BCFE2554AA}" srcOrd="0" destOrd="0" presId="urn:microsoft.com/office/officeart/2005/8/layout/radial4"/>
    <dgm:cxn modelId="{F9EFCBAF-DEA6-4DFA-87B5-5960A0CFDACB}" type="presOf" srcId="{82EC26F2-97C4-4FA0-B648-9237A7CC8FC4}" destId="{0E7CD79A-A861-43EB-936A-584F4E1D24AE}" srcOrd="0" destOrd="0" presId="urn:microsoft.com/office/officeart/2005/8/layout/radial4"/>
    <dgm:cxn modelId="{2B279CBB-5937-4472-BED4-C014188CF186}" srcId="{C0B472B7-F8D1-47B9-BF78-E44FCAACBDA7}" destId="{C27FAB00-C7EE-41B9-BF33-F84D0D6AEB1C}" srcOrd="2" destOrd="0" parTransId="{559D99C5-2624-452A-B036-7CC76EAC95AE}" sibTransId="{DBA18E53-172B-48A3-A7B9-F239DA157760}"/>
    <dgm:cxn modelId="{1B4ABAD1-099C-4864-801B-B6C27AB3005B}" type="presOf" srcId="{51506682-A041-46DF-AE90-6749C15200CA}" destId="{54DF4FE3-E608-4EC3-A3AB-B5CCC0241551}" srcOrd="0" destOrd="0" presId="urn:microsoft.com/office/officeart/2005/8/layout/radial4"/>
    <dgm:cxn modelId="{06AC08D5-CC31-421F-B7FC-114BD39474D7}" type="presOf" srcId="{C0B472B7-F8D1-47B9-BF78-E44FCAACBDA7}" destId="{3ECF9560-020E-4259-87C4-65569C94BF91}" srcOrd="0" destOrd="0" presId="urn:microsoft.com/office/officeart/2005/8/layout/radial4"/>
    <dgm:cxn modelId="{6DE0C8F1-94D9-495A-83E8-A5A2EB9CF912}" srcId="{C0B472B7-F8D1-47B9-BF78-E44FCAACBDA7}" destId="{CD447B8A-BCC7-4DBF-8EC3-C78ABA62A94D}" srcOrd="0" destOrd="0" parTransId="{51506682-A041-46DF-AE90-6749C15200CA}" sibTransId="{426491B0-D99A-44D8-B658-97D88BAFAE0C}"/>
    <dgm:cxn modelId="{E393C4DE-F79A-41FD-A43E-9B5882DBCA9D}" type="presParOf" srcId="{8406F2DF-2419-4867-BBC0-C7BCFE2554AA}" destId="{3ECF9560-020E-4259-87C4-65569C94BF91}" srcOrd="0" destOrd="0" presId="urn:microsoft.com/office/officeart/2005/8/layout/radial4"/>
    <dgm:cxn modelId="{8BBD2E2E-1356-42AE-A144-AD588FC220A6}" type="presParOf" srcId="{8406F2DF-2419-4867-BBC0-C7BCFE2554AA}" destId="{54DF4FE3-E608-4EC3-A3AB-B5CCC0241551}" srcOrd="1" destOrd="0" presId="urn:microsoft.com/office/officeart/2005/8/layout/radial4"/>
    <dgm:cxn modelId="{218AEB9A-375D-43DB-9AED-B8F4D8513F03}" type="presParOf" srcId="{8406F2DF-2419-4867-BBC0-C7BCFE2554AA}" destId="{D1ACCBE4-D05B-49FB-BB8C-E56D1F6373CC}" srcOrd="2" destOrd="0" presId="urn:microsoft.com/office/officeart/2005/8/layout/radial4"/>
    <dgm:cxn modelId="{B0DCF847-748C-4DC9-A615-4135CD689BC6}" type="presParOf" srcId="{8406F2DF-2419-4867-BBC0-C7BCFE2554AA}" destId="{0E7CD79A-A861-43EB-936A-584F4E1D24AE}" srcOrd="3" destOrd="0" presId="urn:microsoft.com/office/officeart/2005/8/layout/radial4"/>
    <dgm:cxn modelId="{05154C3C-4F2A-4C0B-BAE9-40EA7DC143E1}" type="presParOf" srcId="{8406F2DF-2419-4867-BBC0-C7BCFE2554AA}" destId="{1F82DF28-9B41-46DC-87D2-56054CD09694}" srcOrd="4" destOrd="0" presId="urn:microsoft.com/office/officeart/2005/8/layout/radial4"/>
    <dgm:cxn modelId="{F908D021-3EAA-43CF-AD6F-F9BD6B7B2B1A}" type="presParOf" srcId="{8406F2DF-2419-4867-BBC0-C7BCFE2554AA}" destId="{100315CD-9405-41AF-8D89-A76BEE354FC1}" srcOrd="5" destOrd="0" presId="urn:microsoft.com/office/officeart/2005/8/layout/radial4"/>
    <dgm:cxn modelId="{2C10B058-1C19-40DE-B36D-270C3A6E35A2}" type="presParOf" srcId="{8406F2DF-2419-4867-BBC0-C7BCFE2554AA}" destId="{FB64E2D8-BEA0-46E1-A909-985DA74FDC78}" srcOrd="6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ECF9560-020E-4259-87C4-65569C94BF91}">
      <dsp:nvSpPr>
        <dsp:cNvPr id="0" name=""/>
        <dsp:cNvSpPr/>
      </dsp:nvSpPr>
      <dsp:spPr>
        <a:xfrm>
          <a:off x="3286140" y="2714644"/>
          <a:ext cx="2236764" cy="1724829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240" tIns="15240" rIns="15240" bIns="1524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kern="1200" dirty="0"/>
            <a:t>Конфликты</a:t>
          </a:r>
        </a:p>
      </dsp:txBody>
      <dsp:txXfrm>
        <a:off x="3613707" y="2967239"/>
        <a:ext cx="1581630" cy="1219639"/>
      </dsp:txXfrm>
    </dsp:sp>
    <dsp:sp modelId="{54DF4FE3-E608-4EC3-A3AB-B5CCC0241551}">
      <dsp:nvSpPr>
        <dsp:cNvPr id="0" name=""/>
        <dsp:cNvSpPr/>
      </dsp:nvSpPr>
      <dsp:spPr>
        <a:xfrm rot="12480842">
          <a:off x="1709258" y="2388783"/>
          <a:ext cx="2107317" cy="588122"/>
        </a:xfrm>
        <a:prstGeom prst="lef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1ACCBE4-D05B-49FB-BB8C-E56D1F6373CC}">
      <dsp:nvSpPr>
        <dsp:cNvPr id="0" name=""/>
        <dsp:cNvSpPr/>
      </dsp:nvSpPr>
      <dsp:spPr>
        <a:xfrm>
          <a:off x="0" y="857250"/>
          <a:ext cx="3030576" cy="2365335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конструктивные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и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деструктивные</a:t>
          </a:r>
          <a:r>
            <a:rPr lang="ru-RU" sz="2000" u="sng" kern="1200" dirty="0"/>
            <a:t> </a:t>
          </a:r>
          <a:endParaRPr lang="ru-RU" sz="2000" kern="1200" dirty="0"/>
        </a:p>
      </dsp:txBody>
      <dsp:txXfrm>
        <a:off x="69278" y="926528"/>
        <a:ext cx="2892020" cy="2226779"/>
      </dsp:txXfrm>
    </dsp:sp>
    <dsp:sp modelId="{0E7CD79A-A861-43EB-936A-584F4E1D24AE}">
      <dsp:nvSpPr>
        <dsp:cNvPr id="0" name=""/>
        <dsp:cNvSpPr/>
      </dsp:nvSpPr>
      <dsp:spPr>
        <a:xfrm rot="16001645">
          <a:off x="3388939" y="1528779"/>
          <a:ext cx="1759881" cy="588122"/>
        </a:xfrm>
        <a:prstGeom prst="lef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F82DF28-9B41-46DC-87D2-56054CD09694}">
      <dsp:nvSpPr>
        <dsp:cNvPr id="0" name=""/>
        <dsp:cNvSpPr/>
      </dsp:nvSpPr>
      <dsp:spPr>
        <a:xfrm>
          <a:off x="2857517" y="71440"/>
          <a:ext cx="3379784" cy="156832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позитивные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и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негативные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903452" y="117375"/>
        <a:ext cx="3287914" cy="1476457"/>
      </dsp:txXfrm>
    </dsp:sp>
    <dsp:sp modelId="{100315CD-9405-41AF-8D89-A76BEE354FC1}">
      <dsp:nvSpPr>
        <dsp:cNvPr id="0" name=""/>
        <dsp:cNvSpPr/>
      </dsp:nvSpPr>
      <dsp:spPr>
        <a:xfrm rot="19916311">
          <a:off x="4998806" y="2369383"/>
          <a:ext cx="2239075" cy="588122"/>
        </a:xfrm>
        <a:prstGeom prst="lef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FB64E2D8-BEA0-46E1-A909-985DA74FDC78}">
      <dsp:nvSpPr>
        <dsp:cNvPr id="0" name=""/>
        <dsp:cNvSpPr/>
      </dsp:nvSpPr>
      <dsp:spPr>
        <a:xfrm>
          <a:off x="5429273" y="1500206"/>
          <a:ext cx="2800326" cy="156832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 err="1">
              <a:latin typeface="Times New Roman" pitchFamily="18" charset="0"/>
              <a:cs typeface="Times New Roman" pitchFamily="18" charset="0"/>
            </a:rPr>
            <a:t>антагонические</a:t>
          </a: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и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компромиссные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5475208" y="1546141"/>
        <a:ext cx="2708456" cy="147645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85F-8A53-48E3-8651-276692DE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B28-AEA1-4E0C-A2A0-D82868F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8B9-1533-4872-850B-7A9D7471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A07-85CF-4524-B653-1284BEF4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E9BD-39F6-4B84-9827-66B17B89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9588-8A0E-4A18-9CB0-59B127E6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AC40-8153-4415-8A0A-707C32EF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E513-2079-4072-9D30-9146B2CA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919D-5847-4B10-A37C-719B81CA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32BE-FBC2-401D-B904-11844C5C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06D8-CE47-489E-91A2-807AC53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F4C-49E1-478A-9ECC-7DEB80CF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3F76-0C77-4E7C-93A6-646FD5E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6A3-671E-4076-992C-8E740CB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619E-12BA-4378-829F-55F26C3A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BF61-FFCB-4DD8-857A-7060B9CD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F461-4622-46DE-9EC4-DCDF615F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93D-9D00-451C-B3EC-BF66119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414-9927-4785-B08B-0A342D97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925-3B4C-437A-B8BA-AA14B2D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737-C451-42B9-AEC5-078DC312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E79-0836-40F4-A6D1-6DA9B9C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EF2-CFC6-42DA-840B-5AF5EF9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DA6-D7C7-4A81-8724-FA56CA9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EC52A1-041C-4CDB-A733-3830D6EBB20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0C44F8-C128-4DF7-BC44-748020668F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" Target="slide2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8643600" cy="286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оциальный конфликт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43200" y="435780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студентка гр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тов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616160" y="201240"/>
            <a:ext cx="149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й 202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пы и стадии развития социальных конфликтов</a:t>
            </a:r>
            <a:br>
              <a:rPr sz="44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642960"/>
            <a:ext cx="8229240" cy="54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ой конфликт имеет временные границы 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чало и окончание конфликта.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чало конфликт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изуется  возникновением  первых актов противодействия. Конфликт считается  начавшимся  в  случае совпадения трех условий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  участник  сознательно и активно действует в ущерб другому участнику (как физически, так и морально, информационно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участник осознает, что указанные действия направлены против его интерес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 участник  в связи  с этим предпринимает активные действия по отношению к первому участник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ончание конфликт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прекращение  действий друг против друг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5-конечная звезда 3">
            <a:hlinkClick r:id="rId1" action="ppaction://hlinksldjump"/>
          </p:cNvPr>
          <p:cNvSpPr/>
          <p:nvPr/>
        </p:nvSpPr>
        <p:spPr>
          <a:xfrm>
            <a:off x="7929720" y="6000840"/>
            <a:ext cx="6426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5" name="Рисунок 4" descr="conflict.jpg"/>
          <p:cNvPicPr/>
          <p:nvPr/>
        </p:nvPicPr>
        <p:blipFill>
          <a:blip r:embed="rId2"/>
          <a:stretch/>
        </p:blipFill>
        <p:spPr>
          <a:xfrm>
            <a:off x="2928960" y="5214960"/>
            <a:ext cx="276192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инамике  конфликта  можно выделить следующие периоды и этап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Латен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редконфликт) включает этап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никновение объективной проблемной ситуации - существует противоречие между субъектами, но оно еще не осознано и нет конфликтных действи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знание объективной проблемной ситуации - восприятие реальности как проблемной и понимание необходимости  предпринять какие-то действи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ытки сторон разрешить объективную ситуацию неконфликтным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способ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убеждением,  разъяснением, просьбами, информированием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дконфликтная ситу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ситуация  воспринимается  как наличие угрозы  безопасности,  общественным интересам одной из сторон взаимодействия,  что провоцирует конфликтное поведени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ткрытый пери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асто называют собственно конфликтом.  Он включает следующие этапы:    инцидент и эскалаци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5-конечная звезда 2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формы завершения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229240" cy="51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его участников, направленная на прекращение противодействия и решение проблемы, которая привела к столкновению. Разрешение конфликта предполагает активность обеих сторон по изменению условий взаимодействия и устранению причин конфлик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в устранении противоречий принимает участие третья сторон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hlinkClick r:id="rId1" action="ppaction://hlinksldjump"/>
              </a:rPr>
              <a:t>Затух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еменное прекращение противодействия при сохранении основных признаков конфликта: противоречия и напряженных отношени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Устранение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действие на конфликт, в результате которого ликвидируются его основные структурные компонент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ерастание в другой конфлик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 отношениях сторон возникает новое, более значимое противоречи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5-конечная звезда 3">
            <a:hlinkClick r:id="rId4" action="ppaction://hlinksldjump"/>
          </p:cNvPr>
          <p:cNvSpPr/>
          <p:nvPr/>
        </p:nvSpPr>
        <p:spPr>
          <a:xfrm>
            <a:off x="8215200" y="621504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1" name="Рисунок 4" descr="0.jpeg"/>
          <p:cNvPicPr/>
          <p:nvPr/>
        </p:nvPicPr>
        <p:blipFill>
          <a:blip r:embed="rId5"/>
          <a:stretch/>
        </p:blipFill>
        <p:spPr>
          <a:xfrm>
            <a:off x="7000920" y="214200"/>
            <a:ext cx="2142720" cy="16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ходами конфликта могут бы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240" cy="53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анение одной или обеих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становка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беда одной из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ение объекта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ие о правилах совместного использования объе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означная компенсация одной из сторон за овладение объектом другой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аз обеих сторон от посягательст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ьтернативное определение таких объектов, которые удовлетворяют интересы обеих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5" name="Рисунок 4" descr="33A6995B-D185-44BB-B06F-0066B35F0CF4_mw800_s.jpg"/>
          <p:cNvPicPr/>
          <p:nvPr/>
        </p:nvPicPr>
        <p:blipFill>
          <a:blip r:embed="rId2"/>
          <a:stretch/>
        </p:blipFill>
        <p:spPr>
          <a:xfrm>
            <a:off x="6643800" y="42876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ssora300_1.jpg"/>
          <p:cNvPicPr/>
          <p:nvPr/>
        </p:nvPicPr>
        <p:blipFill>
          <a:blip r:embed="rId3"/>
          <a:stretch/>
        </p:blipFill>
        <p:spPr>
          <a:xfrm>
            <a:off x="4143240" y="4643280"/>
            <a:ext cx="264276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конфликт - сложное социальное взаимодействие, содержанием которого является процесс развития и разрешения непримиримых противоречий, т. е. таких, которые невозможно разрешить без изменения основных условий и факторов взаимодействия. Из этого следует - разрешение конфликта требует изменений в социальной жизни люд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5-конечная звезда 2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9" name="Рисунок 4" descr="%D0%BC%D0%B8%D0%BC%D0%B8%D0%BC%D0%B8%D0%BC(1).jpg"/>
          <p:cNvPicPr/>
          <p:nvPr/>
        </p:nvPicPr>
        <p:blipFill>
          <a:blip r:embed="rId2"/>
          <a:stretch/>
        </p:blipFill>
        <p:spPr>
          <a:xfrm>
            <a:off x="357120" y="3643200"/>
            <a:ext cx="1691280" cy="24998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конфликт в семье.jpg"/>
          <p:cNvPicPr/>
          <p:nvPr/>
        </p:nvPicPr>
        <p:blipFill>
          <a:blip r:embed="rId3"/>
          <a:stretch/>
        </p:blipFill>
        <p:spPr>
          <a:xfrm>
            <a:off x="5357880" y="4000680"/>
            <a:ext cx="2571480" cy="2214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200711087043001.jpg"/>
          <p:cNvPicPr/>
          <p:nvPr/>
        </p:nvPicPr>
        <p:blipFill>
          <a:blip r:embed="rId4"/>
          <a:stretch/>
        </p:blipFill>
        <p:spPr>
          <a:xfrm>
            <a:off x="7000920" y="142920"/>
            <a:ext cx="159516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сок литера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оциология.» С.С. Фрол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нфликтология.» И. С. Варенко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оциология конфликта.» А. Г. Здравомысл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Электронный учебник.» К. М. Оганя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-конечная звезда 3">
            <a:hlinkClick r:id="rId1" action="ppaction://hlinksldjump"/>
          </p:cNvPr>
          <p:cNvSpPr/>
          <p:nvPr/>
        </p:nvSpPr>
        <p:spPr>
          <a:xfrm>
            <a:off x="7929720" y="5857920"/>
            <a:ext cx="71388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оссвор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Picture 2"/>
          <p:cNvGraphicFramePr/>
          <p:nvPr/>
        </p:nvGraphicFramePr>
        <p:xfrm>
          <a:off x="1785960" y="642960"/>
          <a:ext cx="9308880" cy="74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642960"/>
                    <a:ext cx="9308880" cy="74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Box 4"/>
          <p:cNvSpPr/>
          <p:nvPr/>
        </p:nvSpPr>
        <p:spPr>
          <a:xfrm>
            <a:off x="214200" y="285840"/>
            <a:ext cx="2928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из двух отцов-основателей современной фазы социологической теории (вместе с М.Вебером). Основные труды: «О разделении общественного труда», «Самоубийств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способленчество, пассивное принятие существующего порядка вещей, господствующего мнения, взгляд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глашательство, отсутствие собственной позиции, своего м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715000" y="3000240"/>
            <a:ext cx="342864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Отклонение в поведении человека от общепринятых норм и прав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) Характеристика экономического положения индивида или социальной группы, при котором они не могут удовлетворить определенный круг минимальных потребностей необходимых для жизни, сохранения трудоспособности, продолжения 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оссвор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Picture 2"/>
          <p:cNvGraphicFramePr/>
          <p:nvPr/>
        </p:nvGraphicFramePr>
        <p:xfrm>
          <a:off x="0" y="-285840"/>
          <a:ext cx="9572400" cy="79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5840"/>
                    <a:ext cx="9572400" cy="79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5"/>
          <p:cNvSpPr/>
          <p:nvPr/>
        </p:nvSpPr>
        <p:spPr>
          <a:xfrm>
            <a:off x="5072040" y="857160"/>
            <a:ext cx="40716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)Одна из форм завершения конфликт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еменное прекращение противодействия при сохранении основных признаков конфликта: противоречия и напряжен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сновоположник социологии как самостоятельной на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акое состояние общества, в котором заметная часть его членов, зная о существовании обязывающих их норм, относится к ним негативно или равнодуш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) Временное собрание людей, объединенных в замкнутом физическом пространстве общностью инте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) Первичная форма социальной организации, возникшая на основе родовых связей и характеризуемая непосредственным типом социаль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) Междисциплинарная наука о молодёж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оссвор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Picture 3"/>
          <p:cNvGraphicFramePr/>
          <p:nvPr/>
        </p:nvGraphicFramePr>
        <p:xfrm>
          <a:off x="1000080" y="0"/>
          <a:ext cx="7365600" cy="63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7365600" cy="63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5-конечная звезда 3">
            <a:hlinkClick r:id="rId3" action="ppaction://hlinksldjump"/>
          </p:cNvPr>
          <p:cNvSpPr/>
          <p:nvPr/>
        </p:nvSpPr>
        <p:spPr>
          <a:xfrm>
            <a:off x="8215200" y="614376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ы затухания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щения ресурсов обеих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ря мотива к борьб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ориентация мотив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-конечная звезда 3">
            <a:hlinkClick r:id="rId1" action="ppaction://hlinksldjump"/>
          </p:cNvPr>
          <p:cNvSpPr/>
          <p:nvPr/>
        </p:nvSpPr>
        <p:spPr>
          <a:xfrm>
            <a:off x="8001000" y="6000840"/>
            <a:ext cx="64260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1" name="Рисунок 4" descr="1615.jpg"/>
          <p:cNvPicPr/>
          <p:nvPr/>
        </p:nvPicPr>
        <p:blipFill>
          <a:blip r:embed="rId2"/>
          <a:stretch/>
        </p:blipFill>
        <p:spPr>
          <a:xfrm>
            <a:off x="5643720" y="1428840"/>
            <a:ext cx="2999880" cy="23569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173109370.jpg"/>
          <p:cNvPicPr/>
          <p:nvPr/>
        </p:nvPicPr>
        <p:blipFill>
          <a:blip r:embed="rId3"/>
          <a:stretch/>
        </p:blipFill>
        <p:spPr>
          <a:xfrm>
            <a:off x="285840" y="3500280"/>
            <a:ext cx="4571640" cy="25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Сущность конфликта и его функ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Виды конфликт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Причины социальных конфликт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Структура социального конфлик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Этапы и стадии развития социальных конфликт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Формы и критерии завершения конфлик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Список литератур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ы устранения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ъятие из конфликта одного из оппонент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лючение взаимодействия оппонентов на длительное врем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анение объе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анение дефицита объе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5-конечная звезда 3">
            <a:hlinkClick r:id="rId1" action="ppaction://hlinksldjump"/>
          </p:cNvPr>
          <p:cNvSpPr/>
          <p:nvPr/>
        </p:nvSpPr>
        <p:spPr>
          <a:xfrm>
            <a:off x="8215200" y="5857920"/>
            <a:ext cx="642600" cy="7855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6" name="Рисунок 4" descr="image005.jpg"/>
          <p:cNvPicPr/>
          <p:nvPr/>
        </p:nvPicPr>
        <p:blipFill>
          <a:blip r:embed="rId2"/>
          <a:stretch/>
        </p:blipFill>
        <p:spPr>
          <a:xfrm>
            <a:off x="4857840" y="3357720"/>
            <a:ext cx="2219040" cy="3333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1204937469_1204852298_54384.jpg"/>
          <p:cNvPicPr/>
          <p:nvPr/>
        </p:nvPicPr>
        <p:blipFill>
          <a:blip r:embed="rId3"/>
          <a:stretch/>
        </p:blipFill>
        <p:spPr>
          <a:xfrm>
            <a:off x="6072120" y="142920"/>
            <a:ext cx="2759760" cy="18378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rabotodatel.jpg"/>
          <p:cNvPicPr/>
          <p:nvPr/>
        </p:nvPicPr>
        <p:blipFill>
          <a:blip r:embed="rId4"/>
          <a:stretch/>
        </p:blipFill>
        <p:spPr>
          <a:xfrm>
            <a:off x="642960" y="3714840"/>
            <a:ext cx="38095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онфли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конфликтом понимается наиболее острый способ разрешения значимых противоречий, возникающих в процессе взаимодействия, заключающийся в противодействии субъектов конфликта и обычно сопровождающийся негативными эмоция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Рисунок 4" descr="konflict_08.jpg"/>
          <p:cNvPicPr/>
          <p:nvPr/>
        </p:nvPicPr>
        <p:blipFill>
          <a:blip r:embed="rId2"/>
          <a:stretch/>
        </p:blipFill>
        <p:spPr>
          <a:xfrm>
            <a:off x="785880" y="4572000"/>
            <a:ext cx="25714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фликт может выполнять конструктивные и деструктивные функции.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структивные функции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устраняет полностью или частично противоречия, возникающие в силу  несовершенства  организации  деятельности, ошибок управления, выполнения обязанностей и т.п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позволяет  более  полно  оценить  индивидуально-психологические особенности людей,  участвующих в нем.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 позволяет  ослабить психологическую напряженность, являющуюся реакцией участников на конфликтную ситуацию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служит источником развития  личности,  межличностных отношений.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 может  улучшить  качество индивидуальной деятельност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тстаивании справедливых целей повышается авторитет одного из участников, заметно улучшается отношение сослуживцев к нему.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ые  конфликты служат средством социализации человека, способствуют самоутверждению личност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8229240" cy="55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еструктивные функции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ыраженное негативное воздействие большинства  конфликтов на  психическое  состояние участников. 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благополучно  развивающиеся конфликты могут сопровождаться психологическим и физическим  насилием,  травмированием оппонентов.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нфликт  сопровождается  стрессом. 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нфликт  формирует  негативный  образ другого - "образ врага".                                                        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Рисунок 4" descr="01.jpg"/>
          <p:cNvPicPr/>
          <p:nvPr/>
        </p:nvPicPr>
        <p:blipFill>
          <a:blip r:embed="rId2"/>
          <a:stretch/>
        </p:blipFill>
        <p:spPr>
          <a:xfrm>
            <a:off x="4357800" y="3714840"/>
            <a:ext cx="3357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конфликт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Содержимое 5"/>
          <p:cNvGraphicFramePr/>
          <p:nvPr/>
        </p:nvGraphicFramePr>
        <p:xfrm>
          <a:off x="500040" y="857160"/>
          <a:ext cx="8229240" cy="5142240"/>
        </p:xfrm>
        <a:graphic>
          <a:graphicData uri="http://schemas.openxmlformats.org/drawingml/2006/table">
            <a:tbl>
              <a:tblPr/>
              <a:tblGrid>
                <a:gridCol w="785520"/>
                <a:gridCol w="2357280"/>
                <a:gridCol w="2643120"/>
                <a:gridCol w="1143000"/>
                <a:gridCol w="129996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Конфликты с участием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Зооконфли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row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оц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нутри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row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нтерапсих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Зоосоц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личнос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ду «хочу» и «хоч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ду личностью и групп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могу» и «не мо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двумя живот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ду малыми социальными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хочу» и «не мо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животным и групп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средними социальными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нужно» и «нуж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большими социальными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хочу» и «нуж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группами живот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государ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нужно» и «не мо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коали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5-конечная звезда 4">
            <a:hlinkClick r:id="rId1" action="ppaction://hlinksldjump"/>
          </p:cNvPr>
          <p:cNvSpPr/>
          <p:nvPr/>
        </p:nvSpPr>
        <p:spPr>
          <a:xfrm>
            <a:off x="8143920" y="621504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6"/>
          <p:cNvSpPr/>
          <p:nvPr/>
        </p:nvSpPr>
        <p:spPr>
          <a:xfrm>
            <a:off x="1785960" y="2643120"/>
            <a:ext cx="2424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3f0e2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21325536"/>
              </p:ext>
            </p:extLst>
          </p:nvPr>
        </p:nvGraphicFramePr>
        <p:xfrm>
          <a:off x="428760" y="92880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0" name="5-конечная звезда 3">
            <a:hlinkClick r:id="rId6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1" name="Рисунок 4" descr="ris2.jpg"/>
          <p:cNvPicPr/>
          <p:nvPr/>
        </p:nvPicPr>
        <p:blipFill>
          <a:blip r:embed="rId7"/>
          <a:stretch/>
        </p:blipFill>
        <p:spPr>
          <a:xfrm>
            <a:off x="500040" y="4429080"/>
            <a:ext cx="292860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24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чины социальных конфликтов</a:t>
            </a:r>
            <a:br>
              <a:rPr sz="44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29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ет четыре группы причин конфликтов: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ективные                                                        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ганизационно- управленческие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ктивны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е                                                                 субъективные                  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трелка вправо 6"/>
          <p:cNvSpPr/>
          <p:nvPr/>
        </p:nvSpPr>
        <p:spPr>
          <a:xfrm>
            <a:off x="4429080" y="2786040"/>
            <a:ext cx="1499760" cy="71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Стрелка вправо 8"/>
          <p:cNvSpPr/>
          <p:nvPr/>
        </p:nvSpPr>
        <p:spPr>
          <a:xfrm>
            <a:off x="4214880" y="4786200"/>
            <a:ext cx="1499760" cy="71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5-конечная звезда 5">
            <a:hlinkClick r:id="rId1" action="ppaction://hlinksldjump"/>
          </p:cNvPr>
          <p:cNvSpPr/>
          <p:nvPr/>
        </p:nvSpPr>
        <p:spPr>
          <a:xfrm>
            <a:off x="8143920" y="6072120"/>
            <a:ext cx="4996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7" name="Рисунок 7" descr="2h.jpg"/>
          <p:cNvPicPr/>
          <p:nvPr/>
        </p:nvPicPr>
        <p:blipFill>
          <a:blip r:embed="rId2"/>
          <a:stretch/>
        </p:blipFill>
        <p:spPr>
          <a:xfrm>
            <a:off x="6643800" y="142920"/>
            <a:ext cx="192924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49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а социального конфликта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ая конфликтная  ситуация  имеет  объективное  содержание и субъективное значение. Начнем 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ив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держания конфликтной ситуаци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дмет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ъект 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икро-  и  макросре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им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ив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ставляющих конфликта существуют такж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бъективные составляющие 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тремления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атегии и тактики их поведен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риятие конфликтной ситуаци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-конечная звезда 3">
            <a:hlinkClick r:id="rId1" action="ppaction://hlinksldjump"/>
          </p:cNvPr>
          <p:cNvSpPr/>
          <p:nvPr/>
        </p:nvSpPr>
        <p:spPr>
          <a:xfrm>
            <a:off x="8001000" y="6072120"/>
            <a:ext cx="7138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1" name="Рисунок 4" descr="arm.jpg"/>
          <p:cNvPicPr/>
          <p:nvPr/>
        </p:nvPicPr>
        <p:blipFill>
          <a:blip r:embed="rId2"/>
          <a:stretch/>
        </p:blipFill>
        <p:spPr>
          <a:xfrm>
            <a:off x="6286680" y="1785960"/>
            <a:ext cx="22856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  <Words>1053</Words>
  <Paragraphs>162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2:44:07Z</dcterms:created>
  <dc:creator>XTreme</dc:creator>
  <dc:description/>
  <dc:language>en-US</dc:language>
  <cp:lastModifiedBy>User</cp:lastModifiedBy>
  <dcterms:modified xsi:type="dcterms:W3CDTF">2023-10-27T09:59:35Z</dcterms:modified>
  <cp:revision>34</cp:revision>
  <dc:subject/>
  <dc:title>Социальный конфли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