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9.jpeg" ContentType="image/jpeg"/>
  <Override PartName="/ppt/media/image11.jpeg" ContentType="image/jpeg"/>
  <Override PartName="/ppt/media/image5.jpeg" ContentType="image/jpeg"/>
  <Override PartName="/ppt/media/image6.png" ContentType="image/png"/>
  <Override PartName="/ppt/media/image13.png" ContentType="image/png"/>
  <Override PartName="/ppt/media/image12.jpeg" ContentType="image/jpeg"/>
  <Override PartName="/ppt/media/image4.gif" ContentType="image/gif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235F-4D16-4158-829D-9FAEEBBA7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C7A5-7094-4EF4-BCC1-1945210F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D262-F3B4-4943-8A33-DB0BDCECA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3292-2BF2-4719-9E1D-E4E401EA0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9C6B-B38B-45D7-BF6A-A1012CB1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C149-649E-4D71-A912-E20936FD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F89F-E7D6-433A-BDA1-C28F9C26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B21D-5DE8-4D3E-8F76-EF73AEEC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7E48-61F4-4E02-9DF0-C5BAEABA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DA62-C2C4-4FB6-B69F-E150DB81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8E06-810D-40A7-A362-A498CA87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16D0-11D0-4D80-9992-24846D6F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227D-642E-4ACE-BC9A-3AADB7A5497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МБОУ Луговская СО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3889-2AE6-4F80-BFC5-0A9B7305D5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freesoft.ru/semeynyy_byudzhet_android" TargetMode="External"/><Relationship Id="rId3" Type="http://schemas.openxmlformats.org/officeDocument/2006/relationships/hyperlink" Target="http://freesoft.ru/semeynyy_byudzhet_android" TargetMode="External"/><Relationship Id="rId4" Type="http://schemas.openxmlformats.org/officeDocument/2006/relationships/hyperlink" Target="http://freesoft.ru/semeynyy_byudzhet_android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Портале Svoy Вы можете купить и скачать книгу Личный финанс. - 6 Февраля 2014 - Blog - Webreliz"/>
          <p:cNvPicPr/>
          <p:nvPr/>
        </p:nvPicPr>
        <p:blipFill>
          <a:blip r:embed="rId1"/>
          <a:stretch/>
        </p:blipFill>
        <p:spPr>
          <a:xfrm>
            <a:off x="2119320" y="1928880"/>
            <a:ext cx="4881600" cy="328608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900000" y="85716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Родительское собрание на тем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«Семейное финансовое планиро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357880" y="5357880"/>
            <a:ext cx="3535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Arial"/>
              </a:rPr>
              <a:t>Автор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Arial"/>
              </a:rPr>
              <a:t>Кадацкая Ю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Arial"/>
              </a:rPr>
              <a:t>Семенова Н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Arial"/>
              </a:rPr>
              <a:t>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Arial"/>
              </a:rPr>
              <a:t>Ларина Т.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Притча о радже и его сыновь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Притча.avi" descr=""/>
          <p:cNvPicPr/>
          <p:nvPr/>
        </p:nvPicPr>
        <p:blipFill>
          <a:blip r:embed="rId1"/>
          <a:stretch/>
        </p:blipFill>
        <p:spPr>
          <a:xfrm>
            <a:off x="347760" y="836640"/>
            <a:ext cx="83199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14715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Официальный сайт школы 1853 Финансы"/>
          <p:cNvPicPr/>
          <p:nvPr/>
        </p:nvPicPr>
        <p:blipFill>
          <a:blip r:embed="rId1"/>
          <a:stretch/>
        </p:blipFill>
        <p:spPr>
          <a:xfrm>
            <a:off x="785880" y="555480"/>
            <a:ext cx="7858080" cy="58262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124000" y="83520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Georgia"/>
                <a:ea typeface="Arial"/>
              </a:rPr>
              <a:t>Разминка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908000" y="1297800"/>
            <a:ext cx="5616720" cy="28382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Как называется учреждение, в котором хранятся деньг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 что, по уверению пословицы, денег не беру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Как говорят о деньгах, если они пропали впустую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Какие знаки надеется увидеть на денежных банкнотах каждый кассир?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 что обычно откладывают деньги предусмотрительные граждане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А сколько денег остается в вашей семье. - Тема дня - Новос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5940360" y="26028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Эпи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5580000" y="878040"/>
            <a:ext cx="30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357120" y="2286000"/>
            <a:ext cx="8572680" cy="143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Можем ли 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«нажить» и «сберечь»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4284720" y="620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егче деньги прожить чем наж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егче деньги нажить, чем сбере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ринная русская послов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50920" y="1916280"/>
            <a:ext cx="4321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alibri"/>
                <a:ea typeface="Arial"/>
              </a:rPr>
              <a:t>Семейный  бюджет может бы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00000"/>
              </a:lnSpc>
              <a:spcBef>
                <a:spcPts val="561"/>
              </a:spcBef>
              <a:buClr>
                <a:srgbClr val="00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Calibri"/>
                <a:ea typeface="Arial"/>
              </a:rPr>
              <a:t>сбалансированным</a:t>
            </a:r>
            <a:r>
              <a:rPr b="1" lang="ru-RU" sz="1800" spc="-1" strike="noStrike">
                <a:solidFill>
                  <a:srgbClr val="003300"/>
                </a:solidFill>
                <a:latin typeface="Calibri"/>
                <a:ea typeface="Arial"/>
              </a:rPr>
              <a:t> (расходы равны доходам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00000"/>
              </a:lnSpc>
              <a:spcBef>
                <a:spcPts val="561"/>
              </a:spcBef>
              <a:buClr>
                <a:srgbClr val="00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Calibri"/>
                <a:ea typeface="Arial"/>
              </a:rPr>
              <a:t>дефицитным</a:t>
            </a:r>
            <a:r>
              <a:rPr b="1" lang="ru-RU" sz="1800" spc="-1" strike="noStrike">
                <a:solidFill>
                  <a:srgbClr val="003300"/>
                </a:solidFill>
                <a:latin typeface="Calibri"/>
                <a:ea typeface="Arial"/>
              </a:rPr>
              <a:t> (расходы больше, чем доход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00000"/>
              </a:lnSpc>
              <a:spcBef>
                <a:spcPts val="561"/>
              </a:spcBef>
              <a:buClr>
                <a:srgbClr val="00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Calibri"/>
                <a:ea typeface="Arial"/>
              </a:rPr>
              <a:t>профицитным</a:t>
            </a:r>
            <a:r>
              <a:rPr b="1" lang="ru-RU" sz="1800" spc="-1" strike="noStrike">
                <a:solidFill>
                  <a:srgbClr val="003300"/>
                </a:solidFill>
                <a:latin typeface="Calibri"/>
                <a:ea typeface="Arial"/>
              </a:rPr>
              <a:t> (доходы больше, чем расход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3"/>
          <p:cNvGrpSpPr/>
          <p:nvPr/>
        </p:nvGrpSpPr>
        <p:grpSpPr>
          <a:xfrm>
            <a:off x="4859280" y="549360"/>
            <a:ext cx="1709640" cy="1887480"/>
            <a:chOff x="4859280" y="549360"/>
            <a:chExt cx="1709640" cy="1887480"/>
          </a:xfrm>
        </p:grpSpPr>
        <p:pic>
          <p:nvPicPr>
            <p:cNvPr id="56" name="Picture 4" descr="Мешок деньги"/>
            <p:cNvPicPr/>
            <p:nvPr/>
          </p:nvPicPr>
          <p:blipFill>
            <a:blip r:embed="rId1"/>
            <a:stretch/>
          </p:blipFill>
          <p:spPr>
            <a:xfrm>
              <a:off x="4859280" y="549360"/>
              <a:ext cx="170964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5"/>
            <p:cNvSpPr/>
            <p:nvPr/>
          </p:nvSpPr>
          <p:spPr>
            <a:xfrm>
              <a:off x="5146560" y="1773360"/>
              <a:ext cx="1152720" cy="33732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ДОХО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6"/>
          <p:cNvGrpSpPr/>
          <p:nvPr/>
        </p:nvGrpSpPr>
        <p:grpSpPr>
          <a:xfrm>
            <a:off x="6877080" y="549360"/>
            <a:ext cx="1709640" cy="1887480"/>
            <a:chOff x="6877080" y="549360"/>
            <a:chExt cx="1709640" cy="1887480"/>
          </a:xfrm>
        </p:grpSpPr>
        <p:pic>
          <p:nvPicPr>
            <p:cNvPr id="59" name="Picture 7" descr="Мешок деньги"/>
            <p:cNvPicPr/>
            <p:nvPr/>
          </p:nvPicPr>
          <p:blipFill>
            <a:blip r:embed="rId2"/>
            <a:stretch/>
          </p:blipFill>
          <p:spPr>
            <a:xfrm>
              <a:off x="6877080" y="549360"/>
              <a:ext cx="170964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8"/>
            <p:cNvSpPr/>
            <p:nvPr/>
          </p:nvSpPr>
          <p:spPr>
            <a:xfrm>
              <a:off x="7165800" y="1773360"/>
              <a:ext cx="1295640" cy="33732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РАСХО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 Box 9"/>
          <p:cNvSpPr/>
          <p:nvPr/>
        </p:nvSpPr>
        <p:spPr>
          <a:xfrm>
            <a:off x="4859280" y="189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alibri"/>
                <a:ea typeface="Arial"/>
              </a:rPr>
              <a:t>Сбалансированный б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0"/>
          <p:cNvGrpSpPr/>
          <p:nvPr/>
        </p:nvGrpSpPr>
        <p:grpSpPr>
          <a:xfrm>
            <a:off x="4932360" y="4653000"/>
            <a:ext cx="1697040" cy="1873080"/>
            <a:chOff x="4932360" y="4653000"/>
            <a:chExt cx="1697040" cy="1873080"/>
          </a:xfrm>
        </p:grpSpPr>
        <p:pic>
          <p:nvPicPr>
            <p:cNvPr id="63" name="Picture 11" descr="Мешок деньги"/>
            <p:cNvPicPr/>
            <p:nvPr/>
          </p:nvPicPr>
          <p:blipFill>
            <a:blip r:embed="rId3"/>
            <a:stretch/>
          </p:blipFill>
          <p:spPr>
            <a:xfrm>
              <a:off x="4932360" y="4653000"/>
              <a:ext cx="1697040" cy="18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2"/>
            <p:cNvSpPr/>
            <p:nvPr/>
          </p:nvSpPr>
          <p:spPr>
            <a:xfrm>
              <a:off x="5148360" y="5840280"/>
              <a:ext cx="1152360" cy="33732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ДОХО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13"/>
          <p:cNvSpPr/>
          <p:nvPr/>
        </p:nvSpPr>
        <p:spPr>
          <a:xfrm>
            <a:off x="6084720" y="47260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alibri"/>
                <a:ea typeface="Arial"/>
              </a:rPr>
              <a:t>Профицит бюдж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4"/>
          <p:cNvGrpSpPr/>
          <p:nvPr/>
        </p:nvGrpSpPr>
        <p:grpSpPr>
          <a:xfrm>
            <a:off x="6948360" y="2637000"/>
            <a:ext cx="1712880" cy="1892160"/>
            <a:chOff x="6948360" y="2637000"/>
            <a:chExt cx="1712880" cy="1892160"/>
          </a:xfrm>
        </p:grpSpPr>
        <p:pic>
          <p:nvPicPr>
            <p:cNvPr id="67" name="Picture 15" descr="Мешок деньги"/>
            <p:cNvPicPr/>
            <p:nvPr/>
          </p:nvPicPr>
          <p:blipFill>
            <a:blip r:embed="rId4"/>
            <a:stretch/>
          </p:blipFill>
          <p:spPr>
            <a:xfrm>
              <a:off x="6948360" y="2637000"/>
              <a:ext cx="1712880" cy="18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6"/>
            <p:cNvSpPr/>
            <p:nvPr/>
          </p:nvSpPr>
          <p:spPr>
            <a:xfrm>
              <a:off x="7164360" y="3860640"/>
              <a:ext cx="1295280" cy="33732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РАСХО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7"/>
          <p:cNvGrpSpPr/>
          <p:nvPr/>
        </p:nvGrpSpPr>
        <p:grpSpPr>
          <a:xfrm>
            <a:off x="5148360" y="3213000"/>
            <a:ext cx="1295280" cy="1268280"/>
            <a:chOff x="5148360" y="3213000"/>
            <a:chExt cx="1295280" cy="1268280"/>
          </a:xfrm>
        </p:grpSpPr>
        <p:pic>
          <p:nvPicPr>
            <p:cNvPr id="70" name="Picture 18" descr="Мешок деньги"/>
            <p:cNvPicPr/>
            <p:nvPr/>
          </p:nvPicPr>
          <p:blipFill>
            <a:blip r:embed="rId5"/>
            <a:stretch/>
          </p:blipFill>
          <p:spPr>
            <a:xfrm>
              <a:off x="5219640" y="3213000"/>
              <a:ext cx="11476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9"/>
            <p:cNvSpPr/>
            <p:nvPr/>
          </p:nvSpPr>
          <p:spPr>
            <a:xfrm>
              <a:off x="5148360" y="3860640"/>
              <a:ext cx="1295280" cy="33732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ДОХО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20"/>
          <p:cNvSpPr/>
          <p:nvPr/>
        </p:nvSpPr>
        <p:spPr>
          <a:xfrm>
            <a:off x="4572000" y="278136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alibri"/>
                <a:ea typeface="Arial"/>
              </a:rPr>
              <a:t>Дефицит бюдж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21"/>
          <p:cNvGrpSpPr/>
          <p:nvPr/>
        </p:nvGrpSpPr>
        <p:grpSpPr>
          <a:xfrm>
            <a:off x="7020000" y="5229360"/>
            <a:ext cx="1295280" cy="1268280"/>
            <a:chOff x="7020000" y="5229360"/>
            <a:chExt cx="1295280" cy="1268280"/>
          </a:xfrm>
        </p:grpSpPr>
        <p:pic>
          <p:nvPicPr>
            <p:cNvPr id="74" name="Picture 22" descr="Мешок деньги"/>
            <p:cNvPicPr/>
            <p:nvPr/>
          </p:nvPicPr>
          <p:blipFill>
            <a:blip r:embed="rId6"/>
            <a:stretch/>
          </p:blipFill>
          <p:spPr>
            <a:xfrm>
              <a:off x="7093080" y="5229360"/>
              <a:ext cx="11476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23"/>
            <p:cNvSpPr/>
            <p:nvPr/>
          </p:nvSpPr>
          <p:spPr>
            <a:xfrm>
              <a:off x="7020000" y="5840280"/>
              <a:ext cx="1295280" cy="33732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РАСХО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 Box 27"/>
          <p:cNvSpPr/>
          <p:nvPr/>
        </p:nvSpPr>
        <p:spPr>
          <a:xfrm>
            <a:off x="6300720" y="62064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96443"/>
                </a:solidFill>
                <a:latin typeface="Calibri"/>
                <a:ea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8"/>
          <p:cNvSpPr/>
          <p:nvPr/>
        </p:nvSpPr>
        <p:spPr>
          <a:xfrm>
            <a:off x="6300720" y="299736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96443"/>
                </a:solidFill>
                <a:latin typeface="Symbol"/>
                <a:ea typeface="Symbol"/>
              </a:rPr>
              <a:t>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9"/>
          <p:cNvSpPr/>
          <p:nvPr/>
        </p:nvSpPr>
        <p:spPr>
          <a:xfrm>
            <a:off x="6516720" y="486900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96443"/>
                </a:solidFill>
                <a:latin typeface="Symbol"/>
                <a:ea typeface="Symbol"/>
              </a:rPr>
              <a:t>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4" descr="Стипендия студент"/>
          <p:cNvPicPr/>
          <p:nvPr/>
        </p:nvPicPr>
        <p:blipFill>
          <a:blip r:embed="rId7"/>
          <a:srcRect l="23083" t="0" r="0" b="0"/>
          <a:stretch/>
        </p:blipFill>
        <p:spPr>
          <a:xfrm>
            <a:off x="285840" y="285840"/>
            <a:ext cx="1825560" cy="1585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9" descr="Касса кассир супермаркет магазин"/>
          <p:cNvPicPr/>
          <p:nvPr/>
        </p:nvPicPr>
        <p:blipFill>
          <a:blip r:embed="rId8"/>
          <a:stretch/>
        </p:blipFill>
        <p:spPr>
          <a:xfrm>
            <a:off x="357120" y="4071960"/>
            <a:ext cx="1857600" cy="2286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Коммунальные услуги счет 2"/>
          <p:cNvPicPr/>
          <p:nvPr/>
        </p:nvPicPr>
        <p:blipFill>
          <a:blip r:embed="rId9"/>
          <a:srcRect l="0" t="3360" r="0" b="9575"/>
          <a:stretch/>
        </p:blipFill>
        <p:spPr>
          <a:xfrm>
            <a:off x="2214720" y="312840"/>
            <a:ext cx="2341440" cy="1616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j0216011"/>
          <p:cNvPicPr/>
          <p:nvPr/>
        </p:nvPicPr>
        <p:blipFill>
          <a:blip r:embed="rId10"/>
          <a:stretch/>
        </p:blipFill>
        <p:spPr>
          <a:xfrm>
            <a:off x="2178000" y="4000680"/>
            <a:ext cx="248616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Разработка технико-экономического обоснования реконструкции энергоблоков 5, 7, 8 ТЭС г. Аксу"/>
          <p:cNvPicPr/>
          <p:nvPr/>
        </p:nvPicPr>
        <p:blipFill>
          <a:blip r:embed="rId1"/>
          <a:srcRect l="0" t="0" r="0" b="905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Схема 2" descr=""/>
          <p:cNvPicPr/>
          <p:nvPr/>
        </p:nvPicPr>
        <p:blipFill>
          <a:blip r:embed="rId2"/>
          <a:stretch/>
        </p:blipFill>
        <p:spPr>
          <a:xfrm>
            <a:off x="1279440" y="1414440"/>
            <a:ext cx="7682040" cy="405936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3059280" y="333360"/>
            <a:ext cx="3241440" cy="1191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ри типа капитал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Проект по разработке стандартов indoor-индустрии набирает обороты - Outdoor"/>
          <p:cNvPicPr/>
          <p:nvPr/>
        </p:nvPicPr>
        <p:blipFill>
          <a:blip r:embed="rId1"/>
          <a:stretch/>
        </p:blipFill>
        <p:spPr>
          <a:xfrm>
            <a:off x="1285920" y="928800"/>
            <a:ext cx="6645240" cy="496728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1547640" y="0"/>
            <a:ext cx="60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  <a:ea typeface="Arial"/>
              </a:rPr>
              <a:t>Работа в групп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428760" y="714240"/>
            <a:ext cx="307152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1. Банковские карты и наличные день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6000840" y="500040"/>
            <a:ext cx="292896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 Кредиты и накоп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3000240" y="5072040"/>
            <a:ext cx="307188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3. Инвести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1"/>
          <p:cNvSpPr/>
          <p:nvPr/>
        </p:nvSpPr>
        <p:spPr>
          <a:xfrm>
            <a:off x="357120" y="5857920"/>
            <a:ext cx="842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  <a:ea typeface="Arial"/>
              </a:rPr>
              <a:t>Каким образом могут повлиять на семейный бюджет вопросы, обсуждаемые в группах? Плюсы и минусы для семейного бюджета, возможные ри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214200" y="285840"/>
            <a:ext cx="857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Georgia"/>
                <a:ea typeface="Arial"/>
              </a:rPr>
              <a:t>Преимущества планирования  семейного бюд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428760" y="1571760"/>
            <a:ext cx="850104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Планирование семейного бюджета повышает финансовую дисциплину в семье, делает финансовые потоки контролируемыми и управляемы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Georgi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Планируя семейный бюджет , вы сможете использовать имеющиеся  финансовые ресурсы  более эффектив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0000"/>
              </a:buClr>
              <a:buFont typeface="Georgi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Планирование семейного бюджета существенно предотвращает возможные  ссоры и скандалы из-за денег в семь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Georgi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Планируя  семейный бюджет, вы сможете быстрее рассчитаться с долгами, если у вас таковые  имеются, расширить денежные активы семьи, создав резервы, сбережения и капит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Как экономить деньги. 7 практических рекомендаций"/>
          <p:cNvPicPr/>
          <p:nvPr/>
        </p:nvPicPr>
        <p:blipFill>
          <a:blip r:embed="rId1"/>
          <a:srcRect l="0" t="0" r="0" b="6954"/>
          <a:stretch/>
        </p:blipFill>
        <p:spPr>
          <a:xfrm>
            <a:off x="1928880" y="452520"/>
            <a:ext cx="4929120" cy="369072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2"/>
          <p:cNvSpPr/>
          <p:nvPr/>
        </p:nvSpPr>
        <p:spPr>
          <a:xfrm>
            <a:off x="142920" y="4429080"/>
            <a:ext cx="864396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 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Georgia"/>
                <a:ea typeface="Arial"/>
                <a:hlinkClick r:id="rId3"/>
              </a:rPr>
              <a:t>Приложение, которое поможет без  лишней суеты вести семейный бюдж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Georgia"/>
                <a:ea typeface="Arial"/>
                <a:hlinkClick r:id="rId4"/>
              </a:rPr>
              <a:t>http://freesoft.ru/semeynyy_byudzhet_andr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  <a:ea typeface="Arial"/>
              </a:rPr>
              <a:t>оптимизировать расходы  и достигнуть поставленных ц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8T16:03:41Z</dcterms:created>
  <dc:creator>админ</dc:creator>
  <dc:description/>
  <dc:language>en-US</dc:language>
  <cp:lastModifiedBy>User</cp:lastModifiedBy>
  <dcterms:modified xsi:type="dcterms:W3CDTF">2023-11-09T14:14:08Z</dcterms:modified>
  <cp:revision>15</cp:revision>
  <dc:subject/>
  <dc:title>Слайд 1</dc:title>
</cp:coreProperties>
</file>