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404-343F-4763-AD2B-3C0CE30B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8F9-2237-48F8-A116-A1C36B71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64F-78F6-49DE-BDCB-E310B98F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411-0CF4-47C3-A8A0-27CB04A1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C2A-9DA2-4360-8807-5207669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99F-5A73-4525-A787-C6D93E71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53E-57F2-4A63-959F-1131E417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D07-73AC-4067-B38B-AA28F71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2BE-5CA3-43F3-8B2E-AAA9C51F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5E7-0C25-4365-8C88-3622B73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BED-5BAB-4826-A7A7-6AC31D8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A34-1AD0-4CFE-A2E4-E757277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E9E8-07EA-473E-AA1A-BD5CEED2D9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БОУ Луг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F6B-CB21-4F91-AF8D-331C1D901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freesoft.ru/semeynyy_byudzhet_android" TargetMode="External"/><Relationship Id="rId3" Type="http://schemas.openxmlformats.org/officeDocument/2006/relationships/hyperlink" Target="http://freesoft.ru/semeynyy_byudzhet_android" TargetMode="External"/><Relationship Id="rId4" Type="http://schemas.openxmlformats.org/officeDocument/2006/relationships/hyperlink" Target="http://freesoft.ru/semeynyy_byudzhet_android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ортале Svoy Вы можете купить и скачать книгу Личный финанс. - 6 Февраля 2014 - Blog - Webreliz"/>
          <p:cNvPicPr/>
          <p:nvPr/>
        </p:nvPicPr>
        <p:blipFill>
          <a:blip r:embed="rId1"/>
          <a:stretch/>
        </p:blipFill>
        <p:spPr>
          <a:xfrm>
            <a:off x="2119320" y="1928880"/>
            <a:ext cx="488160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00000" y="8571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Родительское собрание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«Семейное финансовое план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357880" y="5357880"/>
            <a:ext cx="353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Ав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Кадацкая Ю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Семенова Н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Ларина Т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Притча о радже и его сыновь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итча.avi" descr=""/>
          <p:cNvPicPr/>
          <p:nvPr/>
        </p:nvPicPr>
        <p:blipFill>
          <a:blip r:embed="rId1"/>
          <a:stretch/>
        </p:blipFill>
        <p:spPr>
          <a:xfrm>
            <a:off x="347760" y="836640"/>
            <a:ext cx="8319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471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Официальный сайт школы 1853 Финансы"/>
          <p:cNvPicPr/>
          <p:nvPr/>
        </p:nvPicPr>
        <p:blipFill>
          <a:blip r:embed="rId1"/>
          <a:stretch/>
        </p:blipFill>
        <p:spPr>
          <a:xfrm>
            <a:off x="785880" y="555480"/>
            <a:ext cx="7858080" cy="5826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24000" y="8352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Georgia"/>
                <a:ea typeface="Arial"/>
              </a:rPr>
              <a:t>Разминк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908000" y="1297800"/>
            <a:ext cx="5616720" cy="2838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называется учреждение, в котором хранятся день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что, по уверению пословицы, денег не бер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говорят о деньгах, если они пропали впусту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знаки надеется увидеть на денежных банкнотах каждый кассир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что обычно откладывают деньги предусмотрительные граждан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А сколько денег остается в вашей семье. - Тема дня - Нов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0360" y="26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580000" y="87804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57120" y="2286000"/>
            <a:ext cx="85726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ожем ли 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«нажить» и «сберечь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28472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деньги прожить чем на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деньги нажить, чем сбе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нная русская посл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1916280"/>
            <a:ext cx="4321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Семейный  бюджет может бы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сбалансирован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расходы равны дохода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дефицит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расходы больше, чем доход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alibri"/>
                <a:ea typeface="Arial"/>
              </a:rPr>
              <a:t>профицитным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(доходы больше, чем расх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859280" y="549360"/>
            <a:ext cx="1709640" cy="1887480"/>
            <a:chOff x="4859280" y="549360"/>
            <a:chExt cx="1709640" cy="1887480"/>
          </a:xfrm>
        </p:grpSpPr>
        <p:pic>
          <p:nvPicPr>
            <p:cNvPr id="56" name="Picture 4" descr="Мешок деньги"/>
            <p:cNvPicPr/>
            <p:nvPr/>
          </p:nvPicPr>
          <p:blipFill>
            <a:blip r:embed="rId1"/>
            <a:stretch/>
          </p:blipFill>
          <p:spPr>
            <a:xfrm>
              <a:off x="4859280" y="549360"/>
              <a:ext cx="17096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5146560" y="1773360"/>
              <a:ext cx="115272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6877080" y="549360"/>
            <a:ext cx="1709640" cy="1887480"/>
            <a:chOff x="6877080" y="549360"/>
            <a:chExt cx="1709640" cy="1887480"/>
          </a:xfrm>
        </p:grpSpPr>
        <p:pic>
          <p:nvPicPr>
            <p:cNvPr id="59" name="Picture 7" descr="Мешок деньги"/>
            <p:cNvPicPr/>
            <p:nvPr/>
          </p:nvPicPr>
          <p:blipFill>
            <a:blip r:embed="rId2"/>
            <a:stretch/>
          </p:blipFill>
          <p:spPr>
            <a:xfrm>
              <a:off x="6877080" y="549360"/>
              <a:ext cx="170964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7165800" y="1773360"/>
              <a:ext cx="129564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9"/>
          <p:cNvSpPr/>
          <p:nvPr/>
        </p:nvSpPr>
        <p:spPr>
          <a:xfrm>
            <a:off x="4859280" y="18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Сбалансирова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4932360" y="4653000"/>
            <a:ext cx="1697040" cy="1873080"/>
            <a:chOff x="4932360" y="4653000"/>
            <a:chExt cx="1697040" cy="1873080"/>
          </a:xfrm>
        </p:grpSpPr>
        <p:pic>
          <p:nvPicPr>
            <p:cNvPr id="63" name="Picture 11" descr="Мешок деньги"/>
            <p:cNvPicPr/>
            <p:nvPr/>
          </p:nvPicPr>
          <p:blipFill>
            <a:blip r:embed="rId3"/>
            <a:stretch/>
          </p:blipFill>
          <p:spPr>
            <a:xfrm>
              <a:off x="4932360" y="4653000"/>
              <a:ext cx="169704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5148360" y="5840280"/>
              <a:ext cx="115236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3"/>
          <p:cNvSpPr/>
          <p:nvPr/>
        </p:nvSpPr>
        <p:spPr>
          <a:xfrm>
            <a:off x="6084720" y="4726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Профицит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4"/>
          <p:cNvGrpSpPr/>
          <p:nvPr/>
        </p:nvGrpSpPr>
        <p:grpSpPr>
          <a:xfrm>
            <a:off x="6948360" y="2637000"/>
            <a:ext cx="1712880" cy="1892160"/>
            <a:chOff x="6948360" y="2637000"/>
            <a:chExt cx="1712880" cy="1892160"/>
          </a:xfrm>
        </p:grpSpPr>
        <p:pic>
          <p:nvPicPr>
            <p:cNvPr id="67" name="Picture 15" descr="Мешок деньги"/>
            <p:cNvPicPr/>
            <p:nvPr/>
          </p:nvPicPr>
          <p:blipFill>
            <a:blip r:embed="rId4"/>
            <a:stretch/>
          </p:blipFill>
          <p:spPr>
            <a:xfrm>
              <a:off x="6948360" y="2637000"/>
              <a:ext cx="171288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6"/>
            <p:cNvSpPr/>
            <p:nvPr/>
          </p:nvSpPr>
          <p:spPr>
            <a:xfrm>
              <a:off x="7164360" y="386064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5148360" y="3213000"/>
            <a:ext cx="1295280" cy="1268280"/>
            <a:chOff x="5148360" y="3213000"/>
            <a:chExt cx="1295280" cy="1268280"/>
          </a:xfrm>
        </p:grpSpPr>
        <p:pic>
          <p:nvPicPr>
            <p:cNvPr id="70" name="Picture 18" descr="Мешок деньги"/>
            <p:cNvPicPr/>
            <p:nvPr/>
          </p:nvPicPr>
          <p:blipFill>
            <a:blip r:embed="rId5"/>
            <a:stretch/>
          </p:blipFill>
          <p:spPr>
            <a:xfrm>
              <a:off x="5219640" y="3213000"/>
              <a:ext cx="1147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9"/>
            <p:cNvSpPr/>
            <p:nvPr/>
          </p:nvSpPr>
          <p:spPr>
            <a:xfrm>
              <a:off x="5148360" y="386064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0"/>
          <p:cNvSpPr/>
          <p:nvPr/>
        </p:nvSpPr>
        <p:spPr>
          <a:xfrm>
            <a:off x="4572000" y="278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Дефицит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1"/>
          <p:cNvGrpSpPr/>
          <p:nvPr/>
        </p:nvGrpSpPr>
        <p:grpSpPr>
          <a:xfrm>
            <a:off x="7020000" y="5229360"/>
            <a:ext cx="1295280" cy="1268280"/>
            <a:chOff x="7020000" y="5229360"/>
            <a:chExt cx="1295280" cy="1268280"/>
          </a:xfrm>
        </p:grpSpPr>
        <p:pic>
          <p:nvPicPr>
            <p:cNvPr id="74" name="Picture 22" descr="Мешок деньги"/>
            <p:cNvPicPr/>
            <p:nvPr/>
          </p:nvPicPr>
          <p:blipFill>
            <a:blip r:embed="rId6"/>
            <a:stretch/>
          </p:blipFill>
          <p:spPr>
            <a:xfrm>
              <a:off x="7093080" y="5229360"/>
              <a:ext cx="1147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3"/>
            <p:cNvSpPr/>
            <p:nvPr/>
          </p:nvSpPr>
          <p:spPr>
            <a:xfrm>
              <a:off x="7020000" y="5840280"/>
              <a:ext cx="1295280" cy="3373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7"/>
          <p:cNvSpPr/>
          <p:nvPr/>
        </p:nvSpPr>
        <p:spPr>
          <a:xfrm>
            <a:off x="630072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96443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6300720" y="2997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96443"/>
                </a:solidFill>
                <a:latin typeface="Symbol"/>
                <a:ea typeface="Symbol"/>
              </a:rPr>
              <a:t>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6516720" y="486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96443"/>
                </a:solidFill>
                <a:latin typeface="Symbol"/>
                <a:ea typeface="Symbol"/>
              </a:rPr>
              <a:t>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Стипендия студент"/>
          <p:cNvPicPr/>
          <p:nvPr/>
        </p:nvPicPr>
        <p:blipFill>
          <a:blip r:embed="rId7"/>
          <a:srcRect l="23083" t="0" r="0" b="0"/>
          <a:stretch/>
        </p:blipFill>
        <p:spPr>
          <a:xfrm>
            <a:off x="285840" y="285840"/>
            <a:ext cx="182556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Касса кассир супермаркет магазин"/>
          <p:cNvPicPr/>
          <p:nvPr/>
        </p:nvPicPr>
        <p:blipFill>
          <a:blip r:embed="rId8"/>
          <a:stretch/>
        </p:blipFill>
        <p:spPr>
          <a:xfrm>
            <a:off x="357120" y="4071960"/>
            <a:ext cx="18576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Коммунальные услуги счет 2"/>
          <p:cNvPicPr/>
          <p:nvPr/>
        </p:nvPicPr>
        <p:blipFill>
          <a:blip r:embed="rId9"/>
          <a:srcRect l="0" t="3360" r="0" b="9575"/>
          <a:stretch/>
        </p:blipFill>
        <p:spPr>
          <a:xfrm>
            <a:off x="2214720" y="312840"/>
            <a:ext cx="2341440" cy="16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j0216011"/>
          <p:cNvPicPr/>
          <p:nvPr/>
        </p:nvPicPr>
        <p:blipFill>
          <a:blip r:embed="rId10"/>
          <a:stretch/>
        </p:blipFill>
        <p:spPr>
          <a:xfrm>
            <a:off x="2178000" y="4000680"/>
            <a:ext cx="2486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Разработка технико-экономического обоснования реконструкции энергоблоков 5, 7, 8 ТЭС г. Аксу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Схема 2" descr=""/>
          <p:cNvPicPr/>
          <p:nvPr/>
        </p:nvPicPr>
        <p:blipFill>
          <a:blip r:embed="rId2"/>
          <a:stretch/>
        </p:blipFill>
        <p:spPr>
          <a:xfrm>
            <a:off x="1279440" y="1414440"/>
            <a:ext cx="7682040" cy="4059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59280" y="333360"/>
            <a:ext cx="324144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 типа капита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Проект по разработке стандартов indoor-индустрии набирает обороты - Outdoor"/>
          <p:cNvPicPr/>
          <p:nvPr/>
        </p:nvPicPr>
        <p:blipFill>
          <a:blip r:embed="rId1"/>
          <a:stretch/>
        </p:blipFill>
        <p:spPr>
          <a:xfrm>
            <a:off x="1285920" y="928800"/>
            <a:ext cx="6645240" cy="4967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547640" y="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28760" y="714240"/>
            <a:ext cx="30715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Банковские карты и наличные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00840" y="500040"/>
            <a:ext cx="2928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Кредиты и нако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000240" y="5072040"/>
            <a:ext cx="30718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Инвест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357120" y="585792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Каким образом могут повлиять на семейный бюджет вопросы, обсуждаемые в группах? Плюсы и минусы для семейного бюджета, возможны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4200" y="28584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Georgia"/>
                <a:ea typeface="Arial"/>
              </a:rPr>
              <a:t>Преимущества планирования  семей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28760" y="1571760"/>
            <a:ext cx="85010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ланирование семейного бюджета повышает финансовую дисциплину в семье, делает финансовые потоки контролируемыми и управляем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ланируя семейный бюджет , вы сможете использовать имеющиеся  финансовые ресурсы  более эффектив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ланирование семейного бюджета существенно предотвращает возможные  ссоры и скандалы из-за денег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ланируя  семейный бюджет, вы сможете быстрее рассчитаться с долгами, если у вас таковые  имеются, расширить денежные активы семьи, создав резервы, сбережения и 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к экономить деньги. 7 практических рекомендаций"/>
          <p:cNvPicPr/>
          <p:nvPr/>
        </p:nvPicPr>
        <p:blipFill>
          <a:blip r:embed="rId1"/>
          <a:srcRect l="0" t="0" r="0" b="6954"/>
          <a:stretch/>
        </p:blipFill>
        <p:spPr>
          <a:xfrm>
            <a:off x="1928880" y="452520"/>
            <a:ext cx="4929120" cy="3690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142920" y="4429080"/>
            <a:ext cx="8643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3"/>
              </a:rPr>
              <a:t>Приложение, которое поможет без  лишней суеты вести семейный 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4"/>
              </a:rPr>
              <a:t>http://freesoft.ru/semeynyy_byudzhet_and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оптимизировать расходы  и достигнуть поставле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16:03:41Z</dcterms:created>
  <dc:creator>админ</dc:creator>
  <dc:description/>
  <dc:language>en-US</dc:language>
  <cp:lastModifiedBy>User</cp:lastModifiedBy>
  <dcterms:modified xsi:type="dcterms:W3CDTF">2023-11-09T14:14:08Z</dcterms:modified>
  <cp:revision>15</cp:revision>
  <dc:subject/>
  <dc:title>Слайд 1</dc:title>
</cp:coreProperties>
</file>