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4C78C-D172-4A78-865A-2CB1CCB0477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D09DB6-ABF6-413C-A5C8-F7DFAF3439F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8DE48-D7B4-419E-A42E-C334B0DC126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0C4B-534A-4674-92A8-EEAD1CA08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0F1B-1EBF-4520-8156-6A570E0B9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78AE-388D-4B9D-AF9F-679FAAD0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1E80-D234-409B-9014-518B78011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C459-A201-4C22-839E-58820F638F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7F02-CE27-4929-85AC-61BE82ADD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AD46-45B7-499C-872C-E6ED41940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D67E-6CFD-4FBA-91FE-45DB683AFC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06E3-35C6-48DF-8C05-9ADC85C5E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769E-1447-4626-99EB-34D8A02621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F0ED-CC28-4571-8547-20180A192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B416-27AB-44EE-AE22-35CCE1ECB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C83A-B302-4AB2-A7D4-89F66EFC23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518A-06F2-4226-BE1F-59CFD99C7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B6A4-B8ED-4A3A-87D5-25E889FD08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E1C1-995F-43CE-B569-8D90FB6127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90DD-4BEA-4CCF-8A0D-254CD58F2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55CF-4931-44A5-A3C2-45F40DD39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A3E3-E749-415A-A9FA-022B97551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185F-A17A-4576-9E9B-B7485D4F8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B96D-E535-4F3B-BFFD-4AFFE3496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CE58-BC2E-4083-9715-6681749A2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EF27-9034-485B-A226-0AB8FA36C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F8F5-2C17-4098-992B-B9B118E45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838131-4413-4255-B3C9-F19166A535B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F9DE94-A2D3-4AEF-A7B2-3EFC9427DBD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1160" y="914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виг сына –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        подвиг матер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567864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куда от памяти не детьс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 познать покоя, тиши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тается вечной болью в сердц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ын, не возвратившийся с войны.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. Рождественск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68960" y="2400480"/>
            <a:ext cx="2398680" cy="42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едения о сыновьях филь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лос матери из филь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ликая Мать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ушла с сыновьями в бессмерть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8680" y="2565360"/>
            <a:ext cx="7716960" cy="38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0160" y="689040"/>
            <a:ext cx="7788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емля, где мои сыночки?..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3214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их читает женщин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74800" y="557280"/>
            <a:ext cx="6245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тебе – солдатская ма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4164"/>
          <a:stretch/>
        </p:blipFill>
        <p:spPr>
          <a:xfrm>
            <a:off x="2340000" y="242100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рдце пульсирующее со стуко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5200" y="549360"/>
            <a:ext cx="777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мир приходит женщина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59160"/>
            <a:ext cx="2116080" cy="158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72240" y="4327560"/>
            <a:ext cx="2030400" cy="1520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08520" y="2924280"/>
            <a:ext cx="2023920" cy="15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413000" y="2492280"/>
            <a:ext cx="2106360" cy="15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08520" y="4778280"/>
            <a:ext cx="2039760" cy="1527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151680" y="2492280"/>
            <a:ext cx="2106360" cy="15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сять жизней Степановых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мнит Росс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3695760" cy="432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56360" y="2405160"/>
            <a:ext cx="1646280" cy="2560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99320" y="5052960"/>
            <a:ext cx="20160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9880" y="839880"/>
            <a:ext cx="76150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амая прекрасная из женщин – 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женщина с ребенком на рука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08480" y="2455920"/>
            <a:ext cx="2676600" cy="429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2455920"/>
            <a:ext cx="35323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29080" y="2852640"/>
            <a:ext cx="4264200" cy="32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3457800" cy="431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0160" y="833400"/>
            <a:ext cx="3889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Sitka Small"/>
              </a:rPr>
              <a:t>Женщина -</a:t>
            </a: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Sitka Small"/>
              </a:rPr>
              <a:t>                 Мать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38320" y="210960"/>
            <a:ext cx="7729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.А.Ахматов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2454120"/>
            <a:ext cx="583272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96760" y="1039680"/>
            <a:ext cx="78076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пистини́я Фёдоровна Степанов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1874 -1969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565360"/>
            <a:ext cx="4105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вять сыновей вырастила и воспитала эта женщина, благословила их на ратный подвиг во имя Отчизны. Они своими боевыми делами, ценой своей жизни приблизили день нашей Великой Побе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2389320"/>
            <a:ext cx="345600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68680" y="843120"/>
            <a:ext cx="63262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д крышей голуби чертят круги,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сокие тучки застыли.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з этого дома один за другим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епановы в бой уходили.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14446"/>
          <a:stretch/>
        </p:blipFill>
        <p:spPr>
          <a:xfrm>
            <a:off x="900000" y="2492280"/>
            <a:ext cx="4680000" cy="374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0" b="6250"/>
          <a:stretch/>
        </p:blipFill>
        <p:spPr>
          <a:xfrm>
            <a:off x="5676840" y="2492280"/>
            <a:ext cx="32162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50960" y="865080"/>
            <a:ext cx="69325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ы сядем и письма как летопись боя,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 хронику чувств перечтём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2394000"/>
            <a:ext cx="77868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их Ивана из пись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367000"/>
            <a:ext cx="5977080" cy="4471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3240" y="768240"/>
            <a:ext cx="816444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о страшное слово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похоронка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03:06Z</dcterms:created>
  <dc:creator>Аликеева </dc:creator>
  <dc:description/>
  <dc:language>en-US</dc:language>
  <cp:lastModifiedBy>D-tora</cp:lastModifiedBy>
  <dcterms:modified xsi:type="dcterms:W3CDTF">2023-02-18T14:04:55Z</dcterms:modified>
  <cp:revision>26</cp:revision>
  <dc:subject/>
  <dc:title>День Победы – 9 мая.</dc:title>
</cp:coreProperties>
</file>