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3360" cy="3084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4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B9A80B-DF3A-4A68-AD93-9C47020A28A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F3FD02-A822-4CC4-9878-6158BE751E8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519667-8CB9-4835-A08B-30A9352E3F5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B773-B48D-4520-B4C1-15659428A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E24D-D725-4350-93E9-6AF6B17E7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A5D1-4A6F-4662-B1D6-C1F298060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A4C2-A3D8-4CD9-8DE4-2ACBA1D16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C0E0E-3165-4FCD-837B-A0C1C6CB5D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AD2A-E54D-411F-BFDB-5679B6FFC4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5E2DE-7A47-47B1-98F6-84DB2064C3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58F3A-1403-4DF7-869F-BD6DE1F697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85B78-935E-41D7-B8A5-28F4247F8C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400" y="833040"/>
            <a:ext cx="777888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7D778-95FE-4364-8EE9-C66ABC4C95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239C-63EE-491C-AAE2-3E32312B35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19A0C-F603-4EBA-9E77-6D4B62E90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FCB2A-247E-4E32-8663-CC3BC2D696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21A2B-E09D-4659-89BB-56E99002BA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268D0-A654-4E1E-93DB-0A7A2199B3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DE203-CE84-49AC-BCEA-731EC79300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7F21C-039B-44DA-B953-75614CEF59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8951-AB8E-40FC-B328-00C2A97EE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671B0-958F-4AF8-8A80-56C9BDBA8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079A-7FE9-42B8-B5C6-E69E2ED50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833040"/>
            <a:ext cx="777888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36CF-B161-4452-8E6E-B6B26F0A1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10CB-4A54-4405-9489-7C2642ECB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8F43-6821-4C1F-851F-D2F758DA3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DD9D-D923-410A-815B-40A9B21BC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8320" cy="6856560"/>
            <a:chOff x="0" y="0"/>
            <a:chExt cx="761832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240" y="1981080"/>
              <a:ext cx="7390080" cy="317520"/>
              <a:chOff x="228240" y="1981080"/>
              <a:chExt cx="7390080" cy="3175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08840" cy="3160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7880" y="1981080"/>
                <a:ext cx="39204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100354-5544-4AB8-A516-F3629DC02648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5480" cy="317520"/>
            <a:chOff x="3632040" y="4889520"/>
            <a:chExt cx="4875480" cy="31752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4560" cy="3157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2"/>
          </p:nvPr>
        </p:nvSpPr>
        <p:spPr>
          <a:xfrm>
            <a:off x="75960" y="6248160"/>
            <a:ext cx="585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1745E1-D04F-468B-A53F-83B02391AEDC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1160" y="914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двиг сына – </a:t>
            </a: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                   подвиг матер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362320"/>
            <a:ext cx="5678640" cy="39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икуда от памяти не деться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 познать покоя, тишин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стается вечной болью в сердц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ын, не возвратившийся с войны. 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. Рождественск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68960" y="2400480"/>
            <a:ext cx="2398680" cy="42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ведения о сыновьях фильм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олос матери из фильм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еликая Мать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ушла с сыновьями в бессмерть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58680" y="2565360"/>
            <a:ext cx="7716960" cy="38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0160" y="689040"/>
            <a:ext cx="7788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Земля, где мои сыночки?..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432144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их читает женщина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774800" y="557280"/>
            <a:ext cx="624528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мя тебе – солдатская мат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4164"/>
          <a:stretch/>
        </p:blipFill>
        <p:spPr>
          <a:xfrm>
            <a:off x="2340000" y="242100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ердце пульсирующее со стуком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5200" y="549360"/>
            <a:ext cx="7778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 </a:t>
            </a: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 мир приходит женщина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59160"/>
            <a:ext cx="2116080" cy="1584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672240" y="4327560"/>
            <a:ext cx="2030400" cy="1520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908520" y="2924280"/>
            <a:ext cx="2023920" cy="1515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413000" y="2492280"/>
            <a:ext cx="2106360" cy="1578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908520" y="4778280"/>
            <a:ext cx="2039760" cy="1527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151680" y="2492280"/>
            <a:ext cx="2106360" cy="15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есять жизней Степановых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мнит Росси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3695760" cy="4321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56360" y="2405160"/>
            <a:ext cx="1646280" cy="2560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899320" y="5052960"/>
            <a:ext cx="2016000" cy="16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9880" y="839880"/>
            <a:ext cx="76150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амая прекрасная из женщин –  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женщина с ребенком на руках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08480" y="2455920"/>
            <a:ext cx="2676600" cy="4290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58920" y="2455920"/>
            <a:ext cx="353232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29080" y="2852640"/>
            <a:ext cx="4264200" cy="3240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3457800" cy="4316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0160" y="833400"/>
            <a:ext cx="38894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6666"/>
                </a:solidFill>
                <a:latin typeface="Sitka Small"/>
              </a:rPr>
              <a:t>Женщина -</a:t>
            </a:r>
            <a:br>
              <a:rPr sz="2800"/>
            </a:br>
            <a:r>
              <a:rPr b="1" i="1" lang="ru-RU" sz="2800" spc="-1" strike="noStrike">
                <a:solidFill>
                  <a:srgbClr val="006666"/>
                </a:solidFill>
                <a:latin typeface="Sitka Small"/>
              </a:rPr>
              <a:t>                 Мать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38320" y="210960"/>
            <a:ext cx="7729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.А.Ахматов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63640" y="2454120"/>
            <a:ext cx="5832720" cy="43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96760" y="1039680"/>
            <a:ext cx="78076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Епистини́я Фёдоровна Степанова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(1874 -1969)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2565360"/>
            <a:ext cx="41050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вять сыновей вырастила и воспитала эта женщина, благословила их на ратный подвиг во имя Отчизны. Они своими боевыми делами, ценой своей жизни приблизили день нашей Великой Побед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19640" y="2389320"/>
            <a:ext cx="345600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568680" y="843120"/>
            <a:ext cx="63262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д крышей голуби чертят круги,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сокие тучки застыли.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з этого дома один за другим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тепановы в бой уходили. 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14446"/>
          <a:stretch/>
        </p:blipFill>
        <p:spPr>
          <a:xfrm>
            <a:off x="900000" y="2492280"/>
            <a:ext cx="4680000" cy="3745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0" t="0" r="0" b="6250"/>
          <a:stretch/>
        </p:blipFill>
        <p:spPr>
          <a:xfrm>
            <a:off x="5676840" y="2492280"/>
            <a:ext cx="321624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50960" y="865080"/>
            <a:ext cx="69325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ы сядем и письма как летопись боя,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ак хронику чувств перечтём.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00000" y="2394000"/>
            <a:ext cx="7786800" cy="43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их Ивана из письм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2367000"/>
            <a:ext cx="5977080" cy="4471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3240" y="768240"/>
            <a:ext cx="816444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Это страшное слово                                  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«похоронка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03:06Z</dcterms:created>
  <dc:creator>Аликеева </dc:creator>
  <dc:description/>
  <dc:language>en-US</dc:language>
  <cp:lastModifiedBy>D-tora</cp:lastModifiedBy>
  <dcterms:modified xsi:type="dcterms:W3CDTF">2023-02-18T14:04:55Z</dcterms:modified>
  <cp:revision>26</cp:revision>
  <dc:subject/>
  <dc:title>День Победы – 9 мая.</dc:title>
</cp:coreProperties>
</file>