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8C9-B18D-4397-AC64-8B3BDE29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CAF-C81C-4F45-A173-A8B9354B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94B-C64E-4955-A366-D7BB9FA3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08F-DA0E-4275-84F9-EC02F460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3EAB-E419-4415-AFF8-7F5BB3FD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5642-C29B-404B-9F0D-20915028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5881-149C-4EC8-AF8D-F200D22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8748-3EF1-4E46-A29F-FF3B8055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1C5-1215-4E67-BDE8-CD28440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07A0-C7A2-4E0C-803C-B4FD6DA7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3DDD-60F6-4A9F-8E88-51520AE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855-4479-45F8-964A-077C9360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1FE9-5A78-4034-B16B-6BB27C6E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C641-0D7A-4818-B30F-2795160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783-D91C-45B2-B769-B4E1DFA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165E-C369-46DC-B0AA-9AE08F26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93E2-8330-4C46-8F9F-AD314E9A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921-167F-44CE-AEFB-BE1BFE74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35A-6DB3-4A66-B95E-5138386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16E-496E-42C0-ACF2-C87DECA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69160" cy="741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3AB-2A5D-4F4F-A65D-CEAB58ED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86E-418E-44F3-A5C1-AA3C6CAA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452-4F6A-49E7-BAD0-69ED0D7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D5A-F007-4034-9485-4ED6AB7B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50932C-CAF2-49A3-AA67-7BEED6047B4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2720" cy="1244520"/>
            <a:chOff x="7920" y="5540400"/>
            <a:chExt cx="1782720" cy="12445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7280" cy="10288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0880" cy="2030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5680" cy="649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1960" cy="592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2760" cy="1904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8800" cy="1760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4560" cy="6062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6000" cy="2746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6240" cy="1047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2720" cy="1236600"/>
              <a:chOff x="7920" y="5540400"/>
              <a:chExt cx="1782720" cy="12366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8680" cy="1122480"/>
                <a:chOff x="792000" y="5654520"/>
                <a:chExt cx="868680" cy="11224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7680" cy="1364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0720" cy="209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6960" cy="184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3200" cy="395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5560" cy="2332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8480" cy="3762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2720" cy="1074600"/>
                <a:chOff x="7920" y="5540400"/>
                <a:chExt cx="1782720" cy="1074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7360" cy="1364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5240" cy="6969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5640" cy="2635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9400" cy="9414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0840" cy="398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8160" cy="2127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592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7360" cy="1350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4480" cy="4307040"/>
            <a:chOff x="8680320" y="2116080"/>
            <a:chExt cx="384480" cy="43070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4000" cy="22640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4000" cy="2590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897240" y="-149040"/>
            <a:ext cx="2975760" cy="2837880"/>
            <a:chOff x="6897240" y="-149040"/>
            <a:chExt cx="2975760" cy="2837880"/>
          </a:xfrm>
        </p:grpSpPr>
        <p:grpSp>
          <p:nvGrpSpPr>
            <p:cNvPr id="39" name=""/>
            <p:cNvGrpSpPr/>
            <p:nvPr/>
          </p:nvGrpSpPr>
          <p:grpSpPr>
            <a:xfrm>
              <a:off x="6897240" y="-149040"/>
              <a:ext cx="2975760" cy="2837880"/>
              <a:chOff x="6897240" y="-149040"/>
              <a:chExt cx="2975760" cy="283788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6840" cy="4557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897240" y="-149040"/>
                <a:ext cx="2975760" cy="2837880"/>
                <a:chOff x="6897240" y="-149040"/>
                <a:chExt cx="2975760" cy="283788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778520" y="-26280"/>
                  <a:ext cx="346680" cy="2239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898400" y="643680"/>
                  <a:ext cx="610920" cy="7894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501680" y="412920"/>
                  <a:ext cx="1148760" cy="162036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521840" y="57240"/>
                  <a:ext cx="172584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72160" y="1857960"/>
                  <a:ext cx="383040" cy="2181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89360" y="1655640"/>
                  <a:ext cx="410400" cy="2577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804800" y="298080"/>
                  <a:ext cx="410400" cy="2635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739280" y="139680"/>
                  <a:ext cx="405720" cy="247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3993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E5BFBF-E336-4962-AC94-AE1197F190B1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6480" cy="1776240"/>
            <a:chOff x="195120" y="235080"/>
            <a:chExt cx="3786480" cy="17762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0120" cy="161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0760" cy="1596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0520" cy="1457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6480" cy="1714320"/>
              <a:chOff x="195120" y="235080"/>
              <a:chExt cx="3786480" cy="17143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5160" cy="3380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6480" cy="17143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4800" cy="973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58560" cy="649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5120" cy="5760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05800" y="4233600"/>
            <a:ext cx="1164600" cy="1325880"/>
            <a:chOff x="7705800" y="4233600"/>
            <a:chExt cx="1164600" cy="132588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59120"/>
              <a:ext cx="996840" cy="4633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520" y="4637160"/>
              <a:ext cx="993600" cy="4590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8000" y="4624920"/>
              <a:ext cx="658800" cy="4190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05800" y="4233600"/>
              <a:ext cx="1164600" cy="1325880"/>
              <a:chOff x="7705800" y="4233600"/>
              <a:chExt cx="1164600" cy="132588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810200" y="5069880"/>
                <a:ext cx="100800" cy="125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09400" y="4571280"/>
                <a:ext cx="1157040" cy="6501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9520" y="4709880"/>
                <a:ext cx="818640" cy="367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98240" y="4509000"/>
                <a:ext cx="107280" cy="2451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44640" y="4727160"/>
                <a:ext cx="333720" cy="2156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cap="sq"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по русскому языку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«Новоярковская СОШ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ппес Ольга Алексее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 ( на выбор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3560" indent="-58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ить текст, включив в него как можно больше фразеологизм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3560" indent="-58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С головы до ног». Записать 10 фразеологизмов о частях тела человека (голова, глаз, нога), указать их знач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за урок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38916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90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лово – это одно из самых необыкновенных чудес, какие мы можем наблюдать в мир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. Ушин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Слово, оно что яблочко: с одного-то боку зелёное, так с другого румяное, ты умей его девица, повёртывать…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706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Фразеологизмы.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Их признаки и значения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ся с фразеологизм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ься отличать фразеологизмы о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гих лексических групп слов и правильно употреблять их в своей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764640"/>
            <a:ext cx="6689880" cy="22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зеология от греческого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hrasis –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ыражение, оборот речи, слово, понятие 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ogos -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йдите устойчивое словосоче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ъясните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ерите синони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йте выв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5280" y="692280"/>
            <a:ext cx="7694640" cy="5484600"/>
            <a:chOff x="395280" y="692280"/>
            <a:chExt cx="7694640" cy="5484600"/>
          </a:xfrm>
        </p:grpSpPr>
        <p:sp>
          <p:nvSpPr>
            <p:cNvPr id="165" name=""/>
            <p:cNvSpPr/>
            <p:nvPr/>
          </p:nvSpPr>
          <p:spPr>
            <a:xfrm>
              <a:off x="4242600" y="4378320"/>
              <a:ext cx="3845880" cy="17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Как и слова, используются готовыми, запоминают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5280" y="4378320"/>
              <a:ext cx="3845880" cy="17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3. Создаются в процессе речи, не требуют запомин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42600" y="300708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Слова теряют свою смысловую самосто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280" y="300708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2. Слова сохраняют свою смысловую самосто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2600" y="163620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В их составе нельзя заменить одно слово други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5280" y="1636200"/>
              <a:ext cx="3845880" cy="13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1. Любое из слов можно заменить другими словам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42600" y="692280"/>
              <a:ext cx="38458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ризнаки фразеологиз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5280" y="692280"/>
              <a:ext cx="384588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Признаки словосочета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80" y="692280"/>
              <a:ext cx="7693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5280" y="163620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280" y="300708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5280" y="4378320"/>
              <a:ext cx="769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5280" y="6176880"/>
              <a:ext cx="7693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5280" y="692280"/>
              <a:ext cx="0" cy="548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42600" y="692280"/>
              <a:ext cx="0" cy="5482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89920" y="692280"/>
              <a:ext cx="0" cy="5482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549360"/>
            <a:ext cx="62643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ин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7160" indent="-317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ы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70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засучив рука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в поте лиц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ломал голов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наю как дважды д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рон счита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итал в облак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л спустя рука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07T06:02:01Z</dcterms:created>
  <dc:creator>User</dc:creator>
  <dc:description/>
  <dc:language>en-US</dc:language>
  <cp:lastModifiedBy>User</cp:lastModifiedBy>
  <dcterms:modified xsi:type="dcterms:W3CDTF">2023-11-07T06:52:56Z</dcterms:modified>
  <cp:revision>2</cp:revision>
  <dc:subject/>
  <dc:title>Слайд 1</dc:title>
</cp:coreProperties>
</file>