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9C5D3-BD09-4AC1-BACF-20F557ABE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69160" cy="15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464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8600"/>
            <a:ext cx="769464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8F5F0-FB4C-45A8-909C-816C66272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69160" cy="15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48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8880" y="1828800"/>
            <a:ext cx="37548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8600"/>
            <a:ext cx="37548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8880" y="3738600"/>
            <a:ext cx="37548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537CD-3E32-4322-B6E9-1994AE6AD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69160" cy="15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52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520" y="1828800"/>
            <a:ext cx="247752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240" y="1828800"/>
            <a:ext cx="247752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8600"/>
            <a:ext cx="247752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520" y="3738600"/>
            <a:ext cx="247752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240" y="3738600"/>
            <a:ext cx="247752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B91FA-01A5-4BA6-B266-854396F39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2C4E2-CC35-4C33-84E4-CEE02494E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69160" cy="15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4640" cy="36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45F5C-C54A-46B0-93B3-6F8706E8F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69160" cy="15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4640" cy="36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F1023-8EC0-425B-BFB8-D9B3B1542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69160" cy="15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4800" cy="36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8880" y="1828800"/>
            <a:ext cx="3754800" cy="36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F72EF-3B0D-4EEB-88EE-566165032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69160" cy="15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63A4D-7461-454A-B111-C7BF9ACB7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69160" cy="741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42377-FC66-4EF3-B179-80AD79400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69160" cy="15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48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8880" y="1828800"/>
            <a:ext cx="3754800" cy="36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8600"/>
            <a:ext cx="37548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341CE-BACD-4360-BA51-13A11F296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69160" cy="15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4640" cy="36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1391F-D96E-4AE2-99C5-1F877E363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69160" cy="15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4800" cy="36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8880" y="1828800"/>
            <a:ext cx="37548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8880" y="3738600"/>
            <a:ext cx="37548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DCF22-A0F6-478D-A797-23004BFE4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69160" cy="15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48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8880" y="1828800"/>
            <a:ext cx="37548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8600"/>
            <a:ext cx="769464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D4202-C323-43BD-B4D1-6DCB48F8B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69160" cy="15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464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8600"/>
            <a:ext cx="769464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A778D-5E4E-4313-B481-EDAF71DC0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69160" cy="15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48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8880" y="1828800"/>
            <a:ext cx="37548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8600"/>
            <a:ext cx="37548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8880" y="3738600"/>
            <a:ext cx="37548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F67BB-C2E2-497B-906D-574FC79A6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69160" cy="15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52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520" y="1828800"/>
            <a:ext cx="247752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240" y="1828800"/>
            <a:ext cx="247752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8600"/>
            <a:ext cx="247752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520" y="3738600"/>
            <a:ext cx="247752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240" y="3738600"/>
            <a:ext cx="247752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516E7-CEEA-4832-A9CC-90C74729F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69160" cy="15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4640" cy="36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EC7D2-C802-454C-9BBB-084438C4B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69160" cy="15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4800" cy="36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8880" y="1828800"/>
            <a:ext cx="3754800" cy="36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3B9E3-D3C2-4A1C-B502-E0605C27B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69160" cy="15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B2DAE-9DB3-4E6A-BA94-DF8F5AE73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69160" cy="741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33EE0-CFCD-4DC3-AC9E-9B018A6EA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69160" cy="15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48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8880" y="1828800"/>
            <a:ext cx="3754800" cy="36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8600"/>
            <a:ext cx="37548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AA6A6-FF80-4BE3-AD20-61D8FE246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69160" cy="15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4800" cy="36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8880" y="1828800"/>
            <a:ext cx="37548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8880" y="3738600"/>
            <a:ext cx="37548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2123D-7872-4F75-951B-889A5071B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69160" cy="15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48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8880" y="1828800"/>
            <a:ext cx="37548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8600"/>
            <a:ext cx="769464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08FD2-1830-4F85-BC12-1A33EE5C4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0000">
            <a:off x="7776360" y="-13680"/>
            <a:ext cx="116172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69160" cy="15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4640" cy="36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301680" indent="-3016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301680" indent="-301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301680" indent="-3016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301680" indent="-3016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301680" indent="-3016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301680" indent="-3016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2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796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0BFE8C8-1299-4E72-BC1F-3DD001081A04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00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0000">
            <a:off x="7830720" y="19332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2720" cy="1244520"/>
            <a:chOff x="7920" y="5540400"/>
            <a:chExt cx="1782720" cy="12445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7280" cy="102888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0880" cy="20304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5680" cy="649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1960" cy="59220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2760" cy="1904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18800" cy="1760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4560" cy="6062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6000" cy="27468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6240" cy="1047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2720" cy="1236600"/>
              <a:chOff x="7920" y="5540400"/>
              <a:chExt cx="1782720" cy="12366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68680" cy="1122480"/>
                <a:chOff x="792000" y="5654520"/>
                <a:chExt cx="868680" cy="11224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7680" cy="13644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0720" cy="2095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6960" cy="18432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3200" cy="3952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5560" cy="2332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8480" cy="37620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2720" cy="1074600"/>
                <a:chOff x="7920" y="5540400"/>
                <a:chExt cx="1782720" cy="10746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7360" cy="13644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5240" cy="6969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5640" cy="26352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09400" cy="94140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0840" cy="3985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8160" cy="2127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5920" cy="33480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7360" cy="1350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4480" cy="4307040"/>
            <a:chOff x="8680320" y="2116080"/>
            <a:chExt cx="384480" cy="430704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4000" cy="226404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4000" cy="259092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6897240" y="-149040"/>
            <a:ext cx="2975760" cy="2837880"/>
            <a:chOff x="6897240" y="-149040"/>
            <a:chExt cx="2975760" cy="2837880"/>
          </a:xfrm>
        </p:grpSpPr>
        <p:grpSp>
          <p:nvGrpSpPr>
            <p:cNvPr id="39" name=""/>
            <p:cNvGrpSpPr/>
            <p:nvPr/>
          </p:nvGrpSpPr>
          <p:grpSpPr>
            <a:xfrm>
              <a:off x="6897240" y="-149040"/>
              <a:ext cx="2975760" cy="2837880"/>
              <a:chOff x="6897240" y="-149040"/>
              <a:chExt cx="2975760" cy="2837880"/>
            </a:xfrm>
          </p:grpSpPr>
          <p:sp>
            <p:nvSpPr>
              <p:cNvPr id="40" name=""/>
              <p:cNvSpPr/>
              <p:nvPr/>
            </p:nvSpPr>
            <p:spPr>
              <a:xfrm rot="18420000">
                <a:off x="8618400" y="1725120"/>
                <a:ext cx="96840" cy="45576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6897240" y="-149040"/>
                <a:ext cx="2975760" cy="2837880"/>
                <a:chOff x="6897240" y="-149040"/>
                <a:chExt cx="2975760" cy="2837880"/>
              </a:xfrm>
            </p:grpSpPr>
            <p:sp>
              <p:nvSpPr>
                <p:cNvPr id="42" name=""/>
                <p:cNvSpPr/>
                <p:nvPr/>
              </p:nvSpPr>
              <p:spPr>
                <a:xfrm rot="18420000">
                  <a:off x="7778520" y="-26280"/>
                  <a:ext cx="346680" cy="2239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0000">
                  <a:off x="7898400" y="643680"/>
                  <a:ext cx="610920" cy="78948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0000">
                  <a:off x="7501680" y="412920"/>
                  <a:ext cx="1148760" cy="162036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0000">
                  <a:off x="7521840" y="57240"/>
                  <a:ext cx="1725840" cy="242532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0000">
                  <a:off x="8372160" y="1857960"/>
                  <a:ext cx="383040" cy="21816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0000">
                  <a:off x="8289360" y="1655640"/>
                  <a:ext cx="410400" cy="25776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0000">
                  <a:off x="7804800" y="298080"/>
                  <a:ext cx="410400" cy="26352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0000">
                  <a:off x="7739280" y="139680"/>
                  <a:ext cx="405720" cy="24732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5160" cy="15084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1280"/>
            <a:ext cx="6399360" cy="22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B679BC88-38F4-4966-A0AA-5DFF4C34514A}" type="slidenum">
              <a:rPr b="0" lang="ru-RU" sz="1400" spc="-1" strike="noStrike">
                <a:solidFill>
                  <a:srgbClr val="000000"/>
                </a:solidFill>
                <a:latin typeface="Comic Sans MS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6480" cy="1776240"/>
            <a:chOff x="195120" y="235080"/>
            <a:chExt cx="3786480" cy="17762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0120" cy="161280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0760" cy="15969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0520" cy="145728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6480" cy="1714320"/>
              <a:chOff x="195120" y="235080"/>
              <a:chExt cx="3786480" cy="17143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5160" cy="3380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6480" cy="17143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4800" cy="973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58560" cy="6490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5120" cy="5760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05800" y="4233600"/>
            <a:ext cx="1164600" cy="1325880"/>
            <a:chOff x="7705800" y="4233600"/>
            <a:chExt cx="1164600" cy="1325880"/>
          </a:xfrm>
        </p:grpSpPr>
        <p:sp>
          <p:nvSpPr>
            <p:cNvPr id="103" name=""/>
            <p:cNvSpPr/>
            <p:nvPr/>
          </p:nvSpPr>
          <p:spPr>
            <a:xfrm rot="7320000">
              <a:off x="7794360" y="4659120"/>
              <a:ext cx="996840" cy="4633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9520" y="4637160"/>
              <a:ext cx="993600" cy="45900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8000" y="4624920"/>
              <a:ext cx="658800" cy="4190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05800" y="4233600"/>
              <a:ext cx="1164600" cy="1325880"/>
              <a:chOff x="7705800" y="4233600"/>
              <a:chExt cx="1164600" cy="132588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810200" y="5069880"/>
                <a:ext cx="100800" cy="1252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09400" y="4571280"/>
                <a:ext cx="1157040" cy="65016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9520" y="4709880"/>
                <a:ext cx="818640" cy="36720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98240" y="4509000"/>
                <a:ext cx="107280" cy="2451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44640" y="4727160"/>
                <a:ext cx="333720" cy="21564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cap="sq"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 algn="ctr">
              <a:spcBef>
                <a:spcPts val="700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Урок по русскому языку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440"/>
            <a:ext cx="603252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Учитель русского языка и литературы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МБОУ «Новоярковская СОШ»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Каппес Ольга Алексеевна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2023 год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440" y="-352800"/>
            <a:ext cx="68706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85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Домашнее задание: ( на выбор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83560" indent="-5835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Составить текст, включив в него как можно больше фразеологизмов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83560" indent="-5835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«С головы до ног». Записать 10 фразеологизмов о частях тела человека (голова, глаз, нога), указать их значение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440" y="-352800"/>
            <a:ext cx="68706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omic Sans MS"/>
              </a:rPr>
              <a:t>Спасибо 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omic Sans MS"/>
              </a:rPr>
              <a:t>за урок!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4000" y="-389160"/>
            <a:ext cx="68706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4360" y="1341360"/>
            <a:ext cx="69055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Слово – это одно из самых необыкновенных чудес, какие мы можем наблюдать в мире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К. Ушинский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«Слово, оно что яблочко: с одного-то боку зелёное, так с другого румяное, ты умей его девица, повёртывать…»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4000" y="115560"/>
            <a:ext cx="6870600" cy="42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omic Sans MS"/>
              </a:rPr>
              <a:t>Фразеологизмы.</a:t>
            </a:r>
            <a:br>
              <a:rPr sz="4800"/>
            </a:br>
            <a:br>
              <a:rPr sz="4800"/>
            </a:br>
            <a:r>
              <a:rPr b="1" lang="ru-RU" sz="4800" spc="-1" strike="noStrike">
                <a:solidFill>
                  <a:srgbClr val="000000"/>
                </a:solidFill>
                <a:latin typeface="Comic Sans MS"/>
              </a:rPr>
              <a:t>Их признаки и значения.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11280" y="1341360"/>
            <a:ext cx="769608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Цель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ознакомиться с фразеологизмы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Учиться отличать фразеологизмы от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других лексических групп слов и правильно употреблять их в своей реч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26560" y="764640"/>
            <a:ext cx="6689880" cy="224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Фразеология от греческого 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phrasis – </a:t>
            </a: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выражение, оборот речи, слово, понятие и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26064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logos - </a:t>
            </a: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учение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26064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Алгоритм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95280" y="177336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-60804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Найдите устойчивое словосочетание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8040" indent="-60804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Объясните значение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8040" indent="-60804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одберите синоним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8040" indent="-60804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Сделайте вывод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-352800"/>
            <a:ext cx="68706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395280" y="692280"/>
            <a:ext cx="7694640" cy="5484600"/>
            <a:chOff x="395280" y="692280"/>
            <a:chExt cx="7694640" cy="5484600"/>
          </a:xfrm>
        </p:grpSpPr>
        <p:sp>
          <p:nvSpPr>
            <p:cNvPr id="165" name=""/>
            <p:cNvSpPr/>
            <p:nvPr/>
          </p:nvSpPr>
          <p:spPr>
            <a:xfrm>
              <a:off x="4242600" y="4378320"/>
              <a:ext cx="3845880" cy="179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Comic Sans MS"/>
                </a:rPr>
                <a:t>3. Как и слова, используются готовыми, запоминаютс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95280" y="4378320"/>
              <a:ext cx="3845880" cy="179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Comic Sans MS"/>
                </a:rPr>
                <a:t>3. Создаются в процессе речи, не требуют запоминани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242600" y="3007080"/>
              <a:ext cx="3845880" cy="136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Comic Sans MS"/>
                </a:rPr>
                <a:t>2. Слова теряют свою смысловую самостоятельность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95280" y="3007080"/>
              <a:ext cx="3845880" cy="136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Comic Sans MS"/>
                </a:rPr>
                <a:t>2. Слова сохраняют свою смысловую самостоятельность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242600" y="1636200"/>
              <a:ext cx="3845880" cy="136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Comic Sans MS"/>
                </a:rPr>
                <a:t>1. В их составе нельзя заменить одно слово другим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95280" y="1636200"/>
              <a:ext cx="3845880" cy="136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Comic Sans MS"/>
                </a:rPr>
                <a:t>1. Любое из слов можно заменить другими словам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242600" y="692280"/>
              <a:ext cx="3845880" cy="94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Comic Sans MS"/>
                </a:rPr>
                <a:t>Признаки фразеологизмов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95280" y="692280"/>
              <a:ext cx="3845880" cy="94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Comic Sans MS"/>
                </a:rPr>
                <a:t>Признаки словосочетаний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95280" y="692280"/>
              <a:ext cx="76932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95280" y="1636200"/>
              <a:ext cx="769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5280" y="3007080"/>
              <a:ext cx="769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5280" y="4378320"/>
              <a:ext cx="769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95280" y="6176880"/>
              <a:ext cx="76932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95280" y="692280"/>
              <a:ext cx="0" cy="54828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242600" y="692280"/>
              <a:ext cx="0" cy="54828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8089920" y="692280"/>
              <a:ext cx="0" cy="54828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440" y="-352800"/>
            <a:ext cx="68706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71280" y="549360"/>
            <a:ext cx="626436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7160" indent="-31716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Волк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7160" indent="-31716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Заяц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7160" indent="-31716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Лис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7160" indent="-31716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Свинья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7160" indent="-31716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Осел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7160" indent="-31716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Бык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7160" indent="-31716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Сорок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7160" indent="-31716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Еж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7160" indent="-31716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Рыб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440" y="-352800"/>
            <a:ext cx="68706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764640"/>
            <a:ext cx="7696080" cy="472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Работал засучив рукав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Работал в поте лиц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Поломал голову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Знаю как дважды дв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Ворон считал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Витал в облаках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Работал спустя рукав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0">
              <a:spcBef>
                <a:spcPts val="9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11-07T06:02:01Z</dcterms:created>
  <dc:creator>User</dc:creator>
  <dc:description/>
  <dc:language>en-US</dc:language>
  <cp:lastModifiedBy>User</cp:lastModifiedBy>
  <dcterms:modified xsi:type="dcterms:W3CDTF">2023-11-07T06:52:56Z</dcterms:modified>
  <cp:revision>2</cp:revision>
  <dc:subject/>
  <dc:title>Слайд 1</dc:title>
</cp:coreProperties>
</file>