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6D9-04E5-4BA5-8CED-251404F8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037-0BC4-4477-A38D-B6BEF990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C96-BF3C-4EE0-8FDD-B114DC8A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041-D3D4-4B78-97CA-32CB0BB6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0ED5-5FC4-4BFD-8608-F1403909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4E0-3DF4-44D7-9D37-E35795C2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05A9-4BAA-4578-B34F-362D22B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D989-F733-4F2B-BAB2-D5B6D315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3166-1F98-499E-8D15-776E589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805-4270-42B6-9614-8CFD6A81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E610-3BB8-4D5F-A7B0-DE68913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FDC-0EB0-4091-B863-3D44759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DBF-027F-482C-9890-9D425A5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530-90EF-4F41-B418-278F721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83C8-6937-44AD-817B-D58E3A8E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3AE7-9E4F-4F93-B19D-5D75CE8B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CE04-AB23-42C6-B686-37714B33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93B6-EECA-43E4-BF7D-FA770EB4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8933-0357-4170-A8FD-773DBC85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3480-C0D8-4A5C-B42A-8E1A92F5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5BB7-2A05-4076-A838-D2315D7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6EBA-9D05-47E7-91B1-ABC2A9F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D12-04DC-47A8-AD2E-EC662F9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91FD-A634-4787-8698-7BB01BD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4990-B644-4070-9649-55B7C32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6670-292E-4531-8F87-1C928A5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D54F-D5C8-4757-A9F8-A18E133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A4D0-19C9-4EC9-87F1-65B1C17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6D9A-CB94-4E66-BD0F-074CFE4B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0CC4-5F49-46D5-A284-5C7E48EA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C758-9BA9-4E20-9137-526029B8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51BD-BCB6-49B7-8031-01D4D92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5209-9B93-4577-A9FE-72D1C44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FF5-7F3F-4AF2-B5AD-F735146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A632-021F-4A9A-9DBE-1C503080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1D22-D880-4AB0-8A32-53D8332E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783A-0C72-46A8-97FE-DEA963E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4B62-557C-4ABD-A0B5-3C858E9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19D4-9795-4E41-B0C7-44D6736C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B05F-E276-4BAF-9CD5-701B99B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94FE-418A-4B09-88EB-ECE2FD0E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553C-D268-4675-8B81-CC28451C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7BA9-7F3C-4698-8C85-9E6AB390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E10-6C03-4564-90F8-FEBC33D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0C9-E368-4031-A2D9-44008A52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68D-F5D9-4861-B59D-649BED5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BDA-2EB2-4FE8-83A9-69A3C6C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C27-0984-4EA3-8EAE-522D2476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E111-6624-4259-8448-7F289FF6F1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209-D52D-4AF7-A1B6-59220F286A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454-1E54-4857-B5EE-5E129B6642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B28D-34CF-483E-B4E9-EA1D61C058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384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первой группе раннего возраст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"Снег,снежок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елая вся улица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057400" y="4292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щенко 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Почему снежинки летают?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Свойства снега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85760" y="1817640"/>
            <a:ext cx="6732720" cy="4362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Снег, снежок, белая вся улица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Аппликация на скотч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11280" y="1484280"/>
            <a:ext cx="4471920" cy="278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508640" y="3483000"/>
            <a:ext cx="4176720" cy="256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Рисуем снегопад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Рисование пальчиками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47880" y="1544760"/>
            <a:ext cx="4724280" cy="289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824280" y="3929040"/>
            <a:ext cx="4302000" cy="261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СПАСИБО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З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b0f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3520" y="1711440"/>
            <a:ext cx="83329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Расскажи – и я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жи – и я запом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попробовать – и я пой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йская 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уальност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младшего дошкольного возраста отличаются пытливостью в исследовании окружающего мира. Именно в этом возрасте поисковая и исследовательская деятельность занимает ведущее место и помогает в удовлетворении потребностей детей в познании окружающего мира. Исследовательская деятельность помогает детям расширять свой кругозор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одуктивные формы мышления. В процессе экспериментирования результат уточняется, проясняется и наглядно виден детям. Всякий опыт – это активный процесс, система определённых действий, при помощи которых ребёнок получает ответы на стоящие перед ним вопросы. Все дети любят зиму, зимние развлечения и 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, что такое снег, изучить его свойства, узнать, что связано со снегом в нашей жизни, дать представление о том, как снег может повредить здоровью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ировать и углубить представления детей о зиме (состояние погоды, характерные осадки, состояние растени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, наблюдательность, мышление, воображение, коммуникативные нав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одуктивную деятельность детей, совершенствовать навыки и умения в рисовании, аппликации; развивать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, что такое снег и какой он (белый, холодный, мокрый, мягкий, легкий, пушистый, обогатить речь детей описательными прилагательн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о стихотворными и музыкальными произведениями о сне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евая группа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02572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ориентирован на детей младшего дошкольного возраста (1 - 2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3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формы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3516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Д по ознакомлению с окружающ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Д по развитию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ествен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2640" y="1576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о-аналитический эта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ение плана работы; разработка содержания проекта; изучение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ение подробного плана работы по всем видам деятельности с детьми; большая совместная образовательная работа с детьми, родителями для решения поставленных задач; подборка художественных произведений, потешек, загадок, словесных игр по данной теме; блок занятий по ознакомлению с окружающи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ведение итогов работы над проектом; презентац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"Снег: какой он?"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Знакомство со снегом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96960" y="1646280"/>
            <a:ext cx="406224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971880" y="3621240"/>
            <a:ext cx="4049640" cy="289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видео</cp:lastModifiedBy>
  <dcterms:modified xsi:type="dcterms:W3CDTF">2023-11-11T13:43:02Z</dcterms:modified>
  <cp:revision>1</cp:revision>
  <dc:subject/>
  <dc:title>Проект  в первой группе раннего возраста  "Снег,снежок,  белая вся улица" </dc:title>
</cp:coreProperties>
</file>