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35A-8701-472E-8171-FF2130D3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2DF-5A4A-46E9-B372-8D9B217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2CF-03B3-41D7-9FD4-286C753C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80E-0DED-4F78-860D-6EC4A853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92C5-806A-49A2-ADA0-7CAF1778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22B6-2DBF-4706-8A9C-459C80AA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6AFA-BF02-4416-94E6-3BEAAD7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8DE2-8413-4CD8-8436-0C2398CD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606D-3335-4F26-8E8E-2698503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42C7-889A-47E1-BAAA-64E5D3A5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4D4F-C3CB-44B6-8C09-1DAD901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82E-693F-4598-BBF6-5B25EAB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4266-93FC-457A-99A5-37A9A17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AC7-2568-478A-8370-B47823A6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8266-B1BA-435D-8C59-78EAD21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28A-B25E-4FC4-8752-5C7A3730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E698-5DDE-48F0-B8A8-A01B5E44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91E7-30CF-4A9B-80C4-C86C9420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026B-05CF-44CB-B726-BC8D3568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094C-59EC-410A-A844-F79D3D9C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4A3F-51F9-48C4-A86F-8C28D06B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513C3-97B2-4889-BA78-C331B77B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620-F46B-405E-BF12-87D4875E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AA87-521D-4FD0-B783-259EFF9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CDFC-2A8C-4895-9B21-EBDFFED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FECE-231A-4A16-B1CF-6B6D0604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783C-A097-4D09-9779-F345810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FE6D-2AAB-429C-9410-68942A77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3439-ABD6-42CA-8FE9-114C735E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39A6-FAD6-4BF5-90F9-086028C2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4375-FD47-43C7-8964-88D22947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67DE-E3FD-4D75-BC02-FCFB9CDA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018A-086B-4CC6-BBEF-09BA384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7E6-BDE5-4762-BF46-14B14425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2B5F-5DA0-4E58-9136-CF5A494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DEA3-CC07-473C-B764-95EC0DE0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F71E-5153-42B6-8945-476DAEDF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D874-37E9-4FB0-A443-1C6670AC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C6C1-2713-4F07-9167-2352EAD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60154-2AEE-4565-9782-53941F54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30B7-3846-4AF3-B2A7-4BF6A86A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7E83-7B76-49EB-A05A-8EFCF30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6EE6-7376-4600-9E12-55400DB4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50B-5933-49FB-801D-16ECA9CD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8CB-AD75-4CFA-8DBC-57B935B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ABF-F0FC-4A50-BDEA-694F741A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A20-86B5-4517-89BF-CC82CAD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BB8-8A85-463C-93F7-E17189B5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DEF7-415C-4045-B678-B31AB4FBFD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1DB0-895C-4EEC-B802-F4D8863A4D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B382-3A8C-48B2-9281-9C62324C54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7B86-290A-4A12-8162-64A29E6283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3840" cy="24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первой группе раннего возраст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"Снег,снежок,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елая вся улица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057400" y="4292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щенко Анастаси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Почему снежинки летают?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Свойства снега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85760" y="1817640"/>
            <a:ext cx="6732720" cy="4362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Снег, снежок, белая вся улица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Аппликация на скотч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11280" y="1484280"/>
            <a:ext cx="4471920" cy="278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508640" y="3483000"/>
            <a:ext cx="4176720" cy="256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Рисуем снегопад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Рисование пальчиками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47880" y="1544760"/>
            <a:ext cx="4724280" cy="289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824280" y="3929040"/>
            <a:ext cx="4302000" cy="261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СПАСИБО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З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3520" y="1711440"/>
            <a:ext cx="83329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Расскажи – и я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ажи – и я запом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попробовать – и я пой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йская 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туальност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младшего дошкольного возраста отличаются пытливостью в исследовании окружающего мира. Именно в этом возрасте поисковая и исследовательская деятельность занимает ведущее место и помогает в удовлетворении потребностей детей в познании окружающего мира. Исследовательская деятельность помогает детям расширять свой кругозор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одуктивные формы мышления. В процессе экспериментирования результат уточняется, проясняется и наглядно виден детям. Всякий опыт – это активный процесс, система определённых действий, при помощи которых ребёнок получает ответы на стоящие перед ним вопросы. Все дети любят зиму, зимние развлечения и заб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, что такое снег, изучить его свойства, узнать, что связано со снегом в нашей жизни, дать представление о том, как снег может повредить здоровью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ировать и углубить представления детей о зиме (состояние погоды, характерные осадки, состояние растени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, наблюдательность, мышление, воображение, коммуникативные навы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одуктивную деятельность детей, совершенствовать навыки и умения в рисовании, аппликации; развивать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, что такое снег и какой он (белый, холодный, мокрый, мягкий, легкий, пушистый, обогатить речь детей описательными прилагательны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о стихотворными и музыкальными произведениями о сне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﻿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евая группа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02572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ориентирован на детей младшего дошкольного возраста (1 - 2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﻿</a:t>
            </a:r>
            <a:br>
              <a:rPr sz="3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формы 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13516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Д по ознакомлению с окружающ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Д по развитию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ествен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2640" y="1576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о-аналитический эта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авление плана работы; разработка содержания проекта; изучение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ение подробного плана работы по всем видам деятельности с детьми; большая совместная образовательная работа с детьми, родителями для решения поставленных задач; подборка художественных произведений, потешек, загадок, словесных игр по данной теме; блок занятий по ознакомлению с окружающим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ы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ведение итогов работы над проектом; презентац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Снег: какой он?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Знакомство со снегом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96960" y="1646280"/>
            <a:ext cx="406224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971880" y="3621240"/>
            <a:ext cx="4049640" cy="289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видео</cp:lastModifiedBy>
  <dcterms:modified xsi:type="dcterms:W3CDTF">2023-11-11T13:43:02Z</dcterms:modified>
  <cp:revision>1</cp:revision>
  <dc:subject/>
  <dc:title>Проект  в первой группе раннего возраста  "Снег,снежок,  белая вся улица" </dc:title>
</cp:coreProperties>
</file>