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458-7290-42DC-9314-DB36B653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D8F-92B5-42E0-9F95-35B27488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A06D-0653-414E-A9B3-6994DA40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532-19F4-4CDD-BD20-FA8CA30C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DB24-B922-496F-83DB-3570F8CD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0511-7A82-49C5-A05C-FF87A7C9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E77C-EBD5-4BCB-B481-B8FFF373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316D-1BC3-4B8E-9D95-43189E39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274E-F0C6-4967-890F-C27CD967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0252-376B-4C37-B900-1FB398E2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A671-34CF-485A-AE97-59FB14F1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4E94-7AFC-48C8-AE47-C27B42C8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221C-9B3D-4D8C-A235-905B21DE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17BD-F4F1-4F58-B8F9-B30C3F25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3E48-9CEF-4B55-87B6-516B46A2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C7C3-8DA9-4C06-9223-93EB7897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B066-71C2-4D7E-9F4F-A862DDD3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14970-A5C4-4140-8AA0-C1AB99F5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977CA-AC9A-448B-952E-DD0E340F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5ECD5-0EC8-45C9-8006-86E5A2AB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D28F3-4C2F-4F7A-8943-80D1CCC2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9D4F8-688A-41DA-9B80-47E80938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225-7201-488A-9A1E-60155E0A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A8A22-3394-40F1-935F-240A5457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94A9C-2F29-422A-B8A5-A4DE8BD3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6D038-DA9F-4BDD-ACD0-A313DC44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64032-8900-45BF-A291-A2E73345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84CCD-349E-49E1-B1D0-128892EE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B02E0-89A6-4AC0-AFE7-A2F73CEC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58A1-A8D0-4C3E-A7D6-781F766F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75ECE-B991-4EB7-BAB1-642E3BD8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8E57F-DD61-41A8-959F-76770DB2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66E2F-2A4F-476A-89ED-B258E784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0A6-1ED0-4052-A67A-688D5E68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61B42-F395-4F8E-B9E1-C7A0C576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9B1A2-C5BA-4B4F-9344-A37F763C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88768-0133-497F-A133-4A228531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AE7C0-39B3-404C-9C1E-6516624B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82E03-E57E-4AE3-B2B9-3F36798C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5C85F-3405-4EEC-B172-373C41EA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6EF8A-24A8-4512-BEEE-220ED0CA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9C0BA-7027-458F-96E9-7B05C32B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4291F-B208-40F1-84EE-51DBCF89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0C57-158F-421E-A52A-B0F96AC1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F0DD-30E2-4BDA-B907-84B42E0E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F74A-F49F-4500-8AFE-EC2C24E8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4440-C5EB-4D6E-A466-58FA0F4C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DDF-4AC6-4205-8519-E625B3AF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2DEB-D22D-4D00-990D-DAE081EF07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5DC1-CBBC-4B18-AB7C-DB2027838F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C22A-FF70-4164-9F3B-9D5E8EBE388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41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6BDE-F619-4E39-9709-B97965BCDC0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3840" cy="24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ект </a:t>
            </a:r>
            <a:br>
              <a:rPr sz="40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первой группе раннего возраста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"Снег,снежок,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елая вся улица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057400" y="4292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щенко Анастасия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"Почему снежинки летают?"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(Свойства снега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085760" y="1817640"/>
            <a:ext cx="6732720" cy="4362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"Снег, снежок, белая вся улица"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(Аппликация на скотч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11280" y="1484280"/>
            <a:ext cx="4471920" cy="2787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4508640" y="3483000"/>
            <a:ext cx="4176720" cy="256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"Рисуем снегопад"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(Рисование пальчиками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947880" y="1544760"/>
            <a:ext cx="4724280" cy="289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824280" y="3929040"/>
            <a:ext cx="4302000" cy="261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60308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b0f0"/>
                </a:solidFill>
                <a:latin typeface="Arial"/>
              </a:rPr>
              <a:t>СПАСИБО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b0f0"/>
                </a:solidFill>
                <a:latin typeface="Arial"/>
              </a:rPr>
              <a:t>ЗА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b0f0"/>
                </a:solidFill>
                <a:latin typeface="Arial"/>
              </a:rPr>
              <a:t>ВНИМАНИЕ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3520" y="1711440"/>
            <a:ext cx="833292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82296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Расскажи – и я за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кажи – и я запомн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ай попробовать – и я пойм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тайская послов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﻿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ктуальность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младшего дошкольного возраста отличаются пытливостью в исследовании окружающего мира. Именно в этом возрасте поисковая и исследовательская деятельность занимает ведущее место и помогает в удовлетворении потребностей детей в познании окружающего мира. Исследовательская деятельность помогает детям расширять свой кругозор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продуктивные формы мышления. В процессе экспериментирования результат уточняется, проясняется и наглядно виден детям. Всякий опыт – это активный процесс, система определённых действий, при помощи которых ребёнок получает ответы на стоящие перед ним вопросы. Все дети любят зиму, зимние развлечения и заб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ь, что такое снег, изучить его свойства, узнать, что связано со снегом в нашей жизни, дать представление о том, как снег может повредить здоровью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и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ретизировать и углубить представления детей о зиме (состояние погоды, характерные осадки, состояние растений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познавательную активность, наблюдательность, мышление, воображение, коммуникативные навы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продуктивную деятельность детей, совершенствовать навыки и умения в рисовании, аппликации; развивать творческие спосо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ть, что такое снег и какой он (белый, холодный, мокрый, мягкий, легкий, пушистый, обогатить речь детей описательными прилагательны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ся со стихотворными и музыкальными произведениями о сне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﻿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евая группа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025720"/>
            <a:ext cx="822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 ориентирован на детей младшего дошкольного возраста (1 - 2 го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﻿</a:t>
            </a:r>
            <a:br>
              <a:rPr sz="3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формы реал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135160"/>
            <a:ext cx="822960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ОД по ознакомлению с окружающ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ОД по развитию творческих способ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удожественн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апы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12640" y="15760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формационно-аналитический этап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ставление плана работы; разработка содержания проекта; изучение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ой этап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олнение подробного плана работы по всем видам деятельности с детьми; большая совместная образовательная работа с детьми, родителями для решения поставленных задач; подборка художественных произведений, потешек, загадок, словесных игр по данной теме; блок занятий по ознакомлению с окружающим ми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ключительный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ведение итогов работы над проектом; презентация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"Снег: какой он?"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(Знакомство со снегом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96960" y="1646280"/>
            <a:ext cx="4062240" cy="2514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971880" y="3621240"/>
            <a:ext cx="4049640" cy="2890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видео</cp:lastModifiedBy>
  <dcterms:modified xsi:type="dcterms:W3CDTF">2023-11-11T13:43:02Z</dcterms:modified>
  <cp:revision>1</cp:revision>
  <dc:subject/>
  <dc:title>Проект  в первой группе раннего возраста  "Снег,снежок,  белая вся улица" </dc:title>
</cp:coreProperties>
</file>