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546-71D6-4DC2-8222-D6E87E06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C19-7EA5-482F-8956-DBC659BA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889-4818-42E0-BD6F-CBE429BF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DB2-19E7-4A22-9793-8EB2A758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51F-07BE-4FC1-ACCC-E518CCDF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8D0-B40E-47E9-AE6B-0AA927D1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E0D-5A29-401A-A2B0-249A6992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ADF-7EFC-4916-B753-29B55428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F4A-9797-445D-8F58-4CDA9570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637-61AF-4AEF-A6DF-F6C312AF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255-C2D5-4D11-9932-53310258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F49-A1F9-4BA5-A9DE-15A088D4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A5E0-8957-45AA-9EEA-4F099D1031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 flipV="1" rot="21463200">
            <a:off x="6532200" y="3413160"/>
            <a:ext cx="1865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44400" y="534600"/>
            <a:ext cx="78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униципальное автоном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Центр развития ребенка – детский сад № 21 «Надеж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упинского муниципальн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514520" y="1920960"/>
            <a:ext cx="638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хранение эмоционального благополучия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ннего возраста в режимных момент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из опыта раб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419200" y="5583960"/>
            <a:ext cx="59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ищенко Анастасия Владими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спитатель 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885960" y="662760"/>
            <a:ext cx="73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идактически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п1"/>
          <p:cNvPicPr/>
          <p:nvPr/>
        </p:nvPicPr>
        <p:blipFill>
          <a:blip r:embed="rId2"/>
          <a:stretch/>
        </p:blipFill>
        <p:spPr>
          <a:xfrm>
            <a:off x="888840" y="1238400"/>
            <a:ext cx="3745080" cy="2798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п4"/>
          <p:cNvPicPr/>
          <p:nvPr/>
        </p:nvPicPr>
        <p:blipFill>
          <a:blip r:embed="rId3"/>
          <a:stretch/>
        </p:blipFill>
        <p:spPr>
          <a:xfrm>
            <a:off x="4714920" y="3259080"/>
            <a:ext cx="36036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п2"/>
          <p:cNvPicPr/>
          <p:nvPr/>
        </p:nvPicPr>
        <p:blipFill>
          <a:blip r:embed="rId2"/>
          <a:stretch/>
        </p:blipFill>
        <p:spPr>
          <a:xfrm>
            <a:off x="789120" y="644400"/>
            <a:ext cx="3468600" cy="462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п3"/>
          <p:cNvPicPr/>
          <p:nvPr/>
        </p:nvPicPr>
        <p:blipFill>
          <a:blip r:embed="rId3"/>
          <a:stretch/>
        </p:blipFill>
        <p:spPr>
          <a:xfrm>
            <a:off x="4721400" y="1297080"/>
            <a:ext cx="3562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к20"/>
          <p:cNvPicPr/>
          <p:nvPr/>
        </p:nvPicPr>
        <p:blipFill>
          <a:blip r:embed="rId2"/>
          <a:stretch/>
        </p:blipFill>
        <p:spPr>
          <a:xfrm>
            <a:off x="844560" y="714240"/>
            <a:ext cx="3733920" cy="278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к21к21"/>
          <p:cNvPicPr/>
          <p:nvPr/>
        </p:nvPicPr>
        <p:blipFill>
          <a:blip r:embed="rId3"/>
          <a:stretch/>
        </p:blipFill>
        <p:spPr>
          <a:xfrm>
            <a:off x="4646520" y="3335400"/>
            <a:ext cx="365148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885960" y="662760"/>
            <a:ext cx="73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голок «Ряжен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к5"/>
          <p:cNvPicPr/>
          <p:nvPr/>
        </p:nvPicPr>
        <p:blipFill>
          <a:blip r:embed="rId2"/>
          <a:stretch/>
        </p:blipFill>
        <p:spPr>
          <a:xfrm>
            <a:off x="839880" y="1335240"/>
            <a:ext cx="3055680" cy="4100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к7"/>
          <p:cNvPicPr/>
          <p:nvPr/>
        </p:nvPicPr>
        <p:blipFill>
          <a:blip r:embed="rId3"/>
          <a:stretch/>
        </p:blipFill>
        <p:spPr>
          <a:xfrm>
            <a:off x="4103640" y="1852560"/>
            <a:ext cx="43052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п10"/>
          <p:cNvPicPr/>
          <p:nvPr/>
        </p:nvPicPr>
        <p:blipFill>
          <a:blip r:embed="rId2"/>
          <a:stretch/>
        </p:blipFill>
        <p:spPr>
          <a:xfrm>
            <a:off x="839880" y="617400"/>
            <a:ext cx="3525840" cy="469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п11"/>
          <p:cNvPicPr/>
          <p:nvPr/>
        </p:nvPicPr>
        <p:blipFill>
          <a:blip r:embed="rId3"/>
          <a:stretch/>
        </p:blipFill>
        <p:spPr>
          <a:xfrm>
            <a:off x="4398840" y="1276200"/>
            <a:ext cx="3627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885960" y="662760"/>
            <a:ext cx="73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Жилая Комна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к2"/>
          <p:cNvPicPr/>
          <p:nvPr/>
        </p:nvPicPr>
        <p:blipFill>
          <a:blip r:embed="rId2"/>
          <a:stretch/>
        </p:blipFill>
        <p:spPr>
          <a:xfrm>
            <a:off x="914400" y="1778040"/>
            <a:ext cx="3875040" cy="29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к13"/>
          <p:cNvPicPr/>
          <p:nvPr/>
        </p:nvPicPr>
        <p:blipFill>
          <a:blip r:embed="rId3"/>
          <a:stretch/>
        </p:blipFill>
        <p:spPr>
          <a:xfrm>
            <a:off x="4967280" y="1655640"/>
            <a:ext cx="315612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4" name="Рисунок 5" descr=""/>
          <p:cNvPicPr/>
          <p:nvPr/>
        </p:nvPicPr>
        <p:blipFill>
          <a:blip r:embed="rId1"/>
          <a:stretch/>
        </p:blipFill>
        <p:spPr>
          <a:xfrm>
            <a:off x="1673280" y="1825560"/>
            <a:ext cx="5796000" cy="43513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"/>
          <p:cNvPicPr/>
          <p:nvPr/>
        </p:nvPicPr>
        <p:blipFill>
          <a:blip r:embed="rId2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514520" y="1338480"/>
            <a:ext cx="63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ПАСИБ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-4444920" y="2352600"/>
            <a:ext cx="1287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Ребенок всегда пра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правым может быть только взросл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ья программа ребенку не интересна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. Сеч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292400" y="1185120"/>
            <a:ext cx="687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кт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блема сохранения и укрепления психологического здоровья дошкольников выдвигается в область приоритетных.  От того какое эмоциональное состояние преобладает у ребенка  - зависит и то, как он будет воспринимать новую информацию, да и в целом окружающий м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820800" y="684000"/>
            <a:ext cx="745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ель: создание эмоционального благополучия для детей раннего воз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еспечение малышу комфортных условий пребывания в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бота об эмоциональном благополучии каждого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формировать у ребенка позитивный образ своего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«я»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действие личностному развитию детей раннего возра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заимодействие с семьёй для полноценного развития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934640" y="2757960"/>
            <a:ext cx="52830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ФОТОГАЛЕРЕ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из опыта раб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25200" y="4143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бота с родителям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836640" y="765720"/>
            <a:ext cx="75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бота с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п9"/>
          <p:cNvPicPr/>
          <p:nvPr/>
        </p:nvPicPr>
        <p:blipFill>
          <a:blip r:embed="rId2"/>
          <a:stretch/>
        </p:blipFill>
        <p:spPr>
          <a:xfrm>
            <a:off x="773280" y="1479600"/>
            <a:ext cx="3262320" cy="3751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п7"/>
          <p:cNvPicPr/>
          <p:nvPr/>
        </p:nvPicPr>
        <p:blipFill>
          <a:blip r:embed="rId3"/>
          <a:stretch/>
        </p:blipFill>
        <p:spPr>
          <a:xfrm>
            <a:off x="4094280" y="2035080"/>
            <a:ext cx="42498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к23"/>
          <p:cNvPicPr/>
          <p:nvPr/>
        </p:nvPicPr>
        <p:blipFill>
          <a:blip r:embed="rId2"/>
          <a:stretch/>
        </p:blipFill>
        <p:spPr>
          <a:xfrm>
            <a:off x="717480" y="520560"/>
            <a:ext cx="3876840" cy="290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к24"/>
          <p:cNvPicPr/>
          <p:nvPr/>
        </p:nvPicPr>
        <p:blipFill>
          <a:blip r:embed="rId3"/>
          <a:stretch/>
        </p:blipFill>
        <p:spPr>
          <a:xfrm>
            <a:off x="4448160" y="3384720"/>
            <a:ext cx="40752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885960" y="662760"/>
            <a:ext cx="73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вигательная 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к19"/>
          <p:cNvPicPr/>
          <p:nvPr/>
        </p:nvPicPr>
        <p:blipFill>
          <a:blip r:embed="rId2"/>
          <a:stretch/>
        </p:blipFill>
        <p:spPr>
          <a:xfrm>
            <a:off x="835200" y="1655640"/>
            <a:ext cx="3160440" cy="3306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к15"/>
          <p:cNvPicPr/>
          <p:nvPr/>
        </p:nvPicPr>
        <p:blipFill>
          <a:blip r:embed="rId3"/>
          <a:stretch/>
        </p:blipFill>
        <p:spPr>
          <a:xfrm>
            <a:off x="4135320" y="1787400"/>
            <a:ext cx="41101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к9"/>
          <p:cNvPicPr/>
          <p:nvPr/>
        </p:nvPicPr>
        <p:blipFill>
          <a:blip r:embed="rId2"/>
          <a:stretch/>
        </p:blipFill>
        <p:spPr>
          <a:xfrm>
            <a:off x="790560" y="493560"/>
            <a:ext cx="3807000" cy="2851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к4"/>
          <p:cNvPicPr/>
          <p:nvPr/>
        </p:nvPicPr>
        <p:blipFill>
          <a:blip r:embed="rId3"/>
          <a:stretch/>
        </p:blipFill>
        <p:spPr>
          <a:xfrm>
            <a:off x="4522680" y="3195720"/>
            <a:ext cx="383724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мвидео</cp:lastModifiedBy>
  <dcterms:modified xsi:type="dcterms:W3CDTF">2023-11-11T14:20:10Z</dcterms:modified>
  <cp:revision>96</cp:revision>
  <dc:subject/>
  <dc:title>Презентация PowerPoint</dc:title>
</cp:coreProperties>
</file>