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024-2AC5-439A-B13B-253F6A70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F59-DAC3-4129-B99C-E171E70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1F1-5519-460C-90D9-138DDB1F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DDD-1DD2-4E74-AE0A-F000B708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F69-B433-4ABD-B3C3-D73D6AE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DB5-9D50-4804-ABA3-0407252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FDC-BF8D-48B7-81D6-5529089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761-B7BA-4024-B955-CB1312C4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43C-0564-4611-B9CB-A72F1AD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433-A056-404E-980F-2764964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B9E-FCA1-4225-AA91-0B94B72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E7B-AC02-4C09-B480-5447537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3A6F-7FEA-4C35-AA72-F2501FD5C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 flipV="1" rot="21463200">
            <a:off x="6532200" y="3413160"/>
            <a:ext cx="186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4400" y="534600"/>
            <a:ext cx="78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нтр развития ребенка – детский сад № 21 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упин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14520" y="1920960"/>
            <a:ext cx="63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хранение эмоционального благополучия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ннего возраста в режимных момент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19200" y="5583960"/>
            <a:ext cx="59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щенко Анастасия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п1"/>
          <p:cNvPicPr/>
          <p:nvPr/>
        </p:nvPicPr>
        <p:blipFill>
          <a:blip r:embed="rId2"/>
          <a:stretch/>
        </p:blipFill>
        <p:spPr>
          <a:xfrm>
            <a:off x="888840" y="1238400"/>
            <a:ext cx="3745080" cy="27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п4"/>
          <p:cNvPicPr/>
          <p:nvPr/>
        </p:nvPicPr>
        <p:blipFill>
          <a:blip r:embed="rId3"/>
          <a:stretch/>
        </p:blipFill>
        <p:spPr>
          <a:xfrm>
            <a:off x="4714920" y="3259080"/>
            <a:ext cx="36036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п2"/>
          <p:cNvPicPr/>
          <p:nvPr/>
        </p:nvPicPr>
        <p:blipFill>
          <a:blip r:embed="rId2"/>
          <a:stretch/>
        </p:blipFill>
        <p:spPr>
          <a:xfrm>
            <a:off x="789120" y="644400"/>
            <a:ext cx="3468600" cy="462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п3"/>
          <p:cNvPicPr/>
          <p:nvPr/>
        </p:nvPicPr>
        <p:blipFill>
          <a:blip r:embed="rId3"/>
          <a:stretch/>
        </p:blipFill>
        <p:spPr>
          <a:xfrm>
            <a:off x="4721400" y="1297080"/>
            <a:ext cx="356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20"/>
          <p:cNvPicPr/>
          <p:nvPr/>
        </p:nvPicPr>
        <p:blipFill>
          <a:blip r:embed="rId2"/>
          <a:stretch/>
        </p:blipFill>
        <p:spPr>
          <a:xfrm>
            <a:off x="844560" y="71424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21к21"/>
          <p:cNvPicPr/>
          <p:nvPr/>
        </p:nvPicPr>
        <p:blipFill>
          <a:blip r:embed="rId3"/>
          <a:stretch/>
        </p:blipFill>
        <p:spPr>
          <a:xfrm>
            <a:off x="4646520" y="3335400"/>
            <a:ext cx="3651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голок «Ряжен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к5"/>
          <p:cNvPicPr/>
          <p:nvPr/>
        </p:nvPicPr>
        <p:blipFill>
          <a:blip r:embed="rId2"/>
          <a:stretch/>
        </p:blipFill>
        <p:spPr>
          <a:xfrm>
            <a:off x="839880" y="1335240"/>
            <a:ext cx="305568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7"/>
          <p:cNvPicPr/>
          <p:nvPr/>
        </p:nvPicPr>
        <p:blipFill>
          <a:blip r:embed="rId3"/>
          <a:stretch/>
        </p:blipFill>
        <p:spPr>
          <a:xfrm>
            <a:off x="4103640" y="1852560"/>
            <a:ext cx="4305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п10"/>
          <p:cNvPicPr/>
          <p:nvPr/>
        </p:nvPicPr>
        <p:blipFill>
          <a:blip r:embed="rId2"/>
          <a:stretch/>
        </p:blipFill>
        <p:spPr>
          <a:xfrm>
            <a:off x="839880" y="617400"/>
            <a:ext cx="3525840" cy="469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п11"/>
          <p:cNvPicPr/>
          <p:nvPr/>
        </p:nvPicPr>
        <p:blipFill>
          <a:blip r:embed="rId3"/>
          <a:stretch/>
        </p:blipFill>
        <p:spPr>
          <a:xfrm>
            <a:off x="4398840" y="1276200"/>
            <a:ext cx="3627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Жилая Комна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к2"/>
          <p:cNvPicPr/>
          <p:nvPr/>
        </p:nvPicPr>
        <p:blipFill>
          <a:blip r:embed="rId2"/>
          <a:stretch/>
        </p:blipFill>
        <p:spPr>
          <a:xfrm>
            <a:off x="914400" y="1778040"/>
            <a:ext cx="3875040" cy="29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к13"/>
          <p:cNvPicPr/>
          <p:nvPr/>
        </p:nvPicPr>
        <p:blipFill>
          <a:blip r:embed="rId3"/>
          <a:stretch/>
        </p:blipFill>
        <p:spPr>
          <a:xfrm>
            <a:off x="4967280" y="1655640"/>
            <a:ext cx="31561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Рисунок 5" descr=""/>
          <p:cNvPicPr/>
          <p:nvPr/>
        </p:nvPicPr>
        <p:blipFill>
          <a:blip r:embed="rId1"/>
          <a:stretch/>
        </p:blipFill>
        <p:spPr>
          <a:xfrm>
            <a:off x="1673280" y="1825560"/>
            <a:ext cx="5796000" cy="4351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514520" y="133848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-4444920" y="2352600"/>
            <a:ext cx="1287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Ребенок всегда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правым может быть только взрос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ья программа ребенку не интересн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. Сеч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92400" y="1185120"/>
            <a:ext cx="68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блема сохранения и укрепления психологического здоровья дошкольников выдвигается в область приоритетных.  От того какое эмоциональное состояние преобладает у ребенка  - зависит и то, как он будет воспринимать новую информацию, да и в целом окружающ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820800" y="684000"/>
            <a:ext cx="74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: создание эмоционального благополучия для детей ранне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ение малышу комфортных условий пребывания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бота об эмоциональном благополучии каждо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ировать у ребенка позитивный образ своег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«я»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йствие личностному развитию детей ранне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семьёй для полноценного развит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934640" y="2757960"/>
            <a:ext cx="5283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ФОТОГАЛЕР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5200" y="414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 с родителя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836640" y="765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п9"/>
          <p:cNvPicPr/>
          <p:nvPr/>
        </p:nvPicPr>
        <p:blipFill>
          <a:blip r:embed="rId2"/>
          <a:stretch/>
        </p:blipFill>
        <p:spPr>
          <a:xfrm>
            <a:off x="773280" y="1479600"/>
            <a:ext cx="3262320" cy="37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п7"/>
          <p:cNvPicPr/>
          <p:nvPr/>
        </p:nvPicPr>
        <p:blipFill>
          <a:blip r:embed="rId3"/>
          <a:stretch/>
        </p:blipFill>
        <p:spPr>
          <a:xfrm>
            <a:off x="4094280" y="2035080"/>
            <a:ext cx="4249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23"/>
          <p:cNvPicPr/>
          <p:nvPr/>
        </p:nvPicPr>
        <p:blipFill>
          <a:blip r:embed="rId2"/>
          <a:stretch/>
        </p:blipFill>
        <p:spPr>
          <a:xfrm>
            <a:off x="717480" y="520560"/>
            <a:ext cx="3876840" cy="290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24"/>
          <p:cNvPicPr/>
          <p:nvPr/>
        </p:nvPicPr>
        <p:blipFill>
          <a:blip r:embed="rId3"/>
          <a:stretch/>
        </p:blipFill>
        <p:spPr>
          <a:xfrm>
            <a:off x="4448160" y="3384720"/>
            <a:ext cx="407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19"/>
          <p:cNvPicPr/>
          <p:nvPr/>
        </p:nvPicPr>
        <p:blipFill>
          <a:blip r:embed="rId2"/>
          <a:stretch/>
        </p:blipFill>
        <p:spPr>
          <a:xfrm>
            <a:off x="835200" y="1655640"/>
            <a:ext cx="3160440" cy="330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к15"/>
          <p:cNvPicPr/>
          <p:nvPr/>
        </p:nvPicPr>
        <p:blipFill>
          <a:blip r:embed="rId3"/>
          <a:stretch/>
        </p:blipFill>
        <p:spPr>
          <a:xfrm>
            <a:off x="4135320" y="1787400"/>
            <a:ext cx="4110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к9"/>
          <p:cNvPicPr/>
          <p:nvPr/>
        </p:nvPicPr>
        <p:blipFill>
          <a:blip r:embed="rId2"/>
          <a:stretch/>
        </p:blipFill>
        <p:spPr>
          <a:xfrm>
            <a:off x="790560" y="493560"/>
            <a:ext cx="3807000" cy="285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4"/>
          <p:cNvPicPr/>
          <p:nvPr/>
        </p:nvPicPr>
        <p:blipFill>
          <a:blip r:embed="rId3"/>
          <a:stretch/>
        </p:blipFill>
        <p:spPr>
          <a:xfrm>
            <a:off x="4522680" y="3195720"/>
            <a:ext cx="38372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мвидео</cp:lastModifiedBy>
  <dcterms:modified xsi:type="dcterms:W3CDTF">2023-11-11T14:20:10Z</dcterms:modified>
  <cp:revision>96</cp:revision>
  <dc:subject/>
  <dc:title>Презентация PowerPoint</dc:title>
</cp:coreProperties>
</file>