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10D5-EEE5-4096-84CA-9A6C89C5CB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6348-1B8F-463A-AFD0-CA69CA78DA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25B0-EE69-4DCB-B242-0B9F5F42FB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99B9-1D5B-4073-A6D0-9122EF5E7C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838-6E48-43EB-AF12-884BC322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E1B-8D67-4B2D-BCCB-F0087354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500-48CC-4A9C-BBDA-9E99FF8D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8CD-D0C0-4310-A608-02FDCBD0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77E3-CE13-48E4-B926-750BC992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E0FD-AE98-497B-87AD-4A171E93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77F2-4902-4942-9488-F4F7C362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44BB-942D-4A2F-9B49-A39D9061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8213-A941-4412-AC87-962A7D5F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2471-4D97-4114-B2DA-5ED80F30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7037-381B-4B30-B654-A3FC89C4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20A-E676-47B6-8C4F-33A9CD99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6766-5275-4592-B477-ADA3B63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C94B-7C1C-4857-AA88-F474D4E5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31EF-3061-4E2D-ACED-54AEEC37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0111-88FE-4F82-9CF8-AE161E62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A28C-E69F-4925-BECC-956937CA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986-8445-49C6-B0E5-DAA980D8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CA1-6729-410C-8B2D-8B15A0E0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7EC-7BDC-4454-900D-46CBD85A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0C7-3B6B-45B3-B9DB-F831538D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D33-B423-4BD4-A018-D53B0379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C9D-41FF-49BA-A54E-75672571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C40-3420-418B-A734-2AC2D12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7AC0-5E6F-4F3A-B2F8-2D9C559961D3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AF49-5DFD-463E-A687-8D21E3508D85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858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Arial"/>
              </a:rPr>
              <a:t>Речевая</a:t>
            </a:r>
            <a:br>
              <a:rPr sz="4400"/>
            </a:br>
            <a:r>
              <a:rPr b="1" lang="ru-RU" sz="4400" spc="-1" strike="noStrike">
                <a:solidFill>
                  <a:srgbClr val="00339a"/>
                </a:solidFill>
                <a:latin typeface="Arial"/>
              </a:rPr>
              <a:t> готовность к школе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95640" y="3213000"/>
            <a:ext cx="4968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a"/>
                </a:solidFill>
                <a:latin typeface="Arial"/>
              </a:rPr>
              <a:t>Дёмина Ольга Валентиновна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a"/>
                </a:solidFill>
                <a:latin typeface="Arial"/>
              </a:rPr>
              <a:t>учитель-логопед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019160" y="692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59652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товность к школе 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95280" y="2492280"/>
            <a:ext cx="38163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a"/>
                </a:solidFill>
                <a:latin typeface="Arial"/>
              </a:rPr>
              <a:t>Когда говорят о "готовности к школе", то имеют в виду не отдельные умения и знания, а их определенный набор, в котором присутствуют все основные компонен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лист"/>
          <p:cNvPicPr/>
          <p:nvPr/>
        </p:nvPicPr>
        <p:blipFill>
          <a:blip r:embed="rId2"/>
          <a:stretch/>
        </p:blipFill>
        <p:spPr>
          <a:xfrm>
            <a:off x="2916360" y="537372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5148360" y="672840"/>
            <a:ext cx="3527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f2c1f"/>
                </a:solidFill>
                <a:latin typeface="Arial"/>
              </a:rPr>
              <a:t>Наша речь</a:t>
            </a:r>
            <a:r>
              <a:rPr b="0" lang="ru-RU" sz="2000" spc="-1" strike="noStrike">
                <a:solidFill>
                  <a:srgbClr val="00339a"/>
                </a:solidFill>
                <a:latin typeface="Arial"/>
              </a:rPr>
              <a:t> – процесс общения, поэтому готовность или неготовность к обучению в школе во многом определяется уровнем  речевого развития. Ведь именно, при помощи речи устной и письменной ребенку предстоит усвоить всю систему знаний. Чем лучше у него будет развита речь до поступления в школу, тем быстрее ученик овладеет чтением и пись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a"/>
                </a:solidFill>
                <a:latin typeface="Franklin Gothic Medium"/>
              </a:rPr>
              <a:t>Родителям в первую очередь следует обратить внимание на:</a:t>
            </a: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334280" y="3716280"/>
            <a:ext cx="1800360" cy="2578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60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Правильное произношение всех звуков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ние различать звуки речи на слух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Владение навыками звукового анализа и синтеза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ловарный запас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формированность грамматического строя речи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вязную речь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Речевую коммуникацию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Мелкую моторику рук и психические процессы (память, внимание, мышление, восприятие)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  </a:t>
            </a: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Звукопроизношение и    фонематический слух: 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 норме вся звуковая сторона речи должна быть усвоена ребёнком полностью к 5 – 6 годам. К этому возрасту ребёнок должен уметь различать звуки на слух и в произношении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риходя в школу, он должен отчётливо произносить звуки в различных словах, во фразовой речи, не должен их пропускать, искажать, заменять другими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712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Владение навыками звукового анализа и синтеза: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ние выделять звук на фоне слова;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лышать и выделять первый и последний звук в слове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определять позицию звука в слове (начало, середина, конец)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определять количество и последовательность звуков в слове, место звука в слове по отношению к другим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называть слова с заданным звуком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ть составлять слова из звуков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дети должны знать и правильно употреблять термины «звук», «слог», «слово», «предложение»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07800" y="11970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3226"/>
                </a:solidFill>
                <a:latin typeface="Franklin Gothic Book"/>
              </a:rPr>
              <a:t>Ребенку 6 -7 лет доступны слова сложной слоговой структуры (аквариум, библиотекарь, баскетболист, экскаватор). Он произносит их в быстром темпе, не переставляет, не выкидывает, не добавляет звуки и слоги. 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778120" y="3976560"/>
            <a:ext cx="3203640" cy="211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2087640" cy="2643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4"/>
          <a:stretch/>
        </p:blipFill>
        <p:spPr>
          <a:xfrm>
            <a:off x="6337440" y="2604960"/>
            <a:ext cx="197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2" descr=""/>
          <p:cNvPicPr/>
          <p:nvPr/>
        </p:nvPicPr>
        <p:blipFill>
          <a:blip r:embed="rId1"/>
          <a:srcRect l="8098" t="12492" r="7862" b="0"/>
          <a:stretch/>
        </p:blipFill>
        <p:spPr>
          <a:xfrm>
            <a:off x="930240" y="4560840"/>
            <a:ext cx="2057400" cy="166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2"/>
          <a:srcRect l="5569" t="7062" r="4529" b="9567"/>
          <a:stretch/>
        </p:blipFill>
        <p:spPr>
          <a:xfrm>
            <a:off x="3670200" y="4606920"/>
            <a:ext cx="2421000" cy="16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6516720" y="4606920"/>
            <a:ext cx="2003400" cy="16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245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Словарный запас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1562040"/>
            <a:ext cx="828036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К 7 годам у ребёнка должен быть достаточно большой словарный запас (около  2000  слов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В своей речи он должен активно использовать все части речи (существительные, прилагательные, глаголы, наречия, антонимы, синонимы, числительные), пони мать переносное значение слов, подбирать обобщающие понятия для группы предметов. </a:t>
            </a:r>
            <a:r>
              <a:rPr b="0" lang="ru-RU" sz="2000" spc="-1" strike="noStrike">
                <a:solidFill>
                  <a:srgbClr val="4832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148360" y="3365640"/>
            <a:ext cx="352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Мелкая моторика рук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2520720" cy="1998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95280" y="1125000"/>
            <a:ext cx="802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Хорошо развитая мелкая моторика способствует развитию речи (пальчиковая гимнастика, игры с прищепками, ниткография, использование шариков Су-джок, обведение и штриховка предметов, шнуровка, нанизывание бусинок, аппликации, лепка, плетение, вырезание ножницами и т.д.)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се психические процессы тесно взаимосвязаны. Недоразвитие хотя бы одного психического процесса приводит к нарушению умственного развития ребёнка  в целом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1835280" y="3860640"/>
            <a:ext cx="49323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3-11-09T16:17:11Z</dcterms:modified>
  <cp:revision>5</cp:revision>
  <dc:subject/>
  <dc:title>Логопедическая готовность к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9990</vt:lpwstr>
  </property>
</Properties>
</file>