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EDF1-282D-478C-A938-CCC9FC5A99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CD5F-5FBD-425A-BB70-CF365B9CBA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19D3-F981-4E6A-B9CB-13C7FDFEDB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9744-3A67-4130-8C40-2B875ACB36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83B-B160-484C-AA04-D779A957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737-D818-4AE9-83D4-1EC6CA3F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3C5-BD04-49E6-A5AF-DD08BA4E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9EB-BD4F-4C30-8A4E-3BF92AF7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98CF-78DB-4BA8-9705-ED618B7D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29D2-33CB-49F4-B12F-457F03F5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6B4F-5823-4A00-B7CC-65F7E051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02FA-99AB-437A-8E56-E1DE26B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CCB7-BD07-42B5-8DEB-641AEFE7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B5E2-F854-428A-9C72-5A5429D9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387A-3F44-451A-B800-E65E6C9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786-0DFA-469C-8379-6268A9AC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E8A9-9638-48E6-B0A9-FFCC1280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EFDF-7B13-4575-B3B5-252823D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FE19-6569-4A6D-8485-C48B15FF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B663-F663-44BA-8649-92D3E77C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4546-A457-4CEB-9919-E2C990A8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2DF-1CEB-4DD4-8BF2-1880BECF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821-A163-4C0B-9FB1-A92C890E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34F-E518-4AF5-88F5-7EC43D26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B58-D415-4977-B4D7-911926F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DF2-D768-4E7A-9846-4171476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7D4-E4D3-47FC-837A-215A331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423-C76E-4C24-9433-4EF484C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C8EF-32AE-4990-8DE2-264541908BEE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1EF4-EFF1-4602-B0B1-7FB181412DFF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858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Arial"/>
              </a:rPr>
              <a:t>Речевая</a:t>
            </a:r>
            <a:br>
              <a:rPr sz="4400"/>
            </a:br>
            <a:r>
              <a:rPr b="1" lang="ru-RU" sz="4400" spc="-1" strike="noStrike">
                <a:solidFill>
                  <a:srgbClr val="00339a"/>
                </a:solidFill>
                <a:latin typeface="Arial"/>
              </a:rPr>
              <a:t> готовность к школе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95640" y="3213000"/>
            <a:ext cx="4968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Дёмина Ольга Валентиновна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учитель-логопед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019160" y="69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59652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товность к школе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5280" y="2492280"/>
            <a:ext cx="38163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Когда говорят о "готовности к школе", то имеют в виду не отдельные умения и знания, а их определенный набор, в котором присутствуют все основные компонен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лист"/>
          <p:cNvPicPr/>
          <p:nvPr/>
        </p:nvPicPr>
        <p:blipFill>
          <a:blip r:embed="rId2"/>
          <a:stretch/>
        </p:blipFill>
        <p:spPr>
          <a:xfrm>
            <a:off x="2916360" y="53737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5148360" y="672840"/>
            <a:ext cx="3527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f2c1f"/>
                </a:solidFill>
                <a:latin typeface="Arial"/>
              </a:rPr>
              <a:t>Наша речь</a:t>
            </a: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 – процесс общения, поэтому готовность или неготовность к обучению в школе во многом определяется уровнем  речевого развития. Ведь именно, при помощи речи устной и письменной ребенку предстоит усвоить всю систему знаний. Чем лучше у него будет развита речь до поступления в школу, тем быстрее ученик овладеет чтением и пись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a"/>
                </a:solidFill>
                <a:latin typeface="Franklin Gothic Medium"/>
              </a:rPr>
              <a:t>Родителям в первую очередь следует обратить внимание на: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334280" y="3716280"/>
            <a:ext cx="1800360" cy="2578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60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Правильное произношение всех звуков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ние различать звуки речи на слух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Владение навыками звукового анализа и синтеза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ловарный запас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формированность грамматического строя речи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вязную речь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Речевую коммуникацию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Мелкую моторику рук и психические процессы (память, внимание, мышление, восприятие)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 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Звукопроизношение и    фонематический слух: 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 норме вся звуковая сторона речи должна быть усвоена ребёнком полностью к 5 – 6 годам. К этому возрасту ребёнок должен уметь различать звуки на слух и в произношении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риходя в школу, он должен отчётливо произносить звуки в различных словах, во фразовой речи, не должен их пропускать, искажать, заменять другими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712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Владение навыками звукового анализа и синтеза: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ние выделять звук на фоне слова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лышать и выделять первый и последний звук в слове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позицию звука в слове (начало, середина, конец)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количество и последовательность звуков в слове, место звука в слове по отношению к другим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азывать слова с заданным звуком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ть составлять слова из звуков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дети должны знать и правильно употреблять термины «звук», «слог», «слово», «предложение»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7800" y="11970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3226"/>
                </a:solidFill>
                <a:latin typeface="Franklin Gothic Book"/>
              </a:rPr>
              <a:t>Ребенку 6 -7 лет доступны слова сложной слоговой структуры (аквариум, библиотекарь, баскетболист, экскаватор). Он произносит их в быстром темпе, не переставляет, не выкидывает, не добавляет звуки и слоги.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778120" y="3976560"/>
            <a:ext cx="3203640" cy="211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2087640" cy="2643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4"/>
          <a:stretch/>
        </p:blipFill>
        <p:spPr>
          <a:xfrm>
            <a:off x="6337440" y="2604960"/>
            <a:ext cx="197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2" descr=""/>
          <p:cNvPicPr/>
          <p:nvPr/>
        </p:nvPicPr>
        <p:blipFill>
          <a:blip r:embed="rId1"/>
          <a:srcRect l="8098" t="12492" r="7862" b="0"/>
          <a:stretch/>
        </p:blipFill>
        <p:spPr>
          <a:xfrm>
            <a:off x="930240" y="4560840"/>
            <a:ext cx="2057400" cy="166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2"/>
          <a:srcRect l="5569" t="7062" r="4529" b="9567"/>
          <a:stretch/>
        </p:blipFill>
        <p:spPr>
          <a:xfrm>
            <a:off x="3670200" y="4606920"/>
            <a:ext cx="2421000" cy="16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6516720" y="4606920"/>
            <a:ext cx="2003400" cy="16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245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Словарный запас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1562040"/>
            <a:ext cx="828036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К 7 годам у ребёнка должен быть достаточно большой словарный запас (около  2000  слов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В своей речи он должен активно использовать все части речи (существительные, прилагательные, глаголы, наречия, антонимы, синонимы, числительные), пони мать переносное значение слов, подбирать обобщающие понятия для группы предметов. </a:t>
            </a:r>
            <a:r>
              <a:rPr b="0" lang="ru-RU" sz="2000" spc="-1" strike="noStrike">
                <a:solidFill>
                  <a:srgbClr val="4832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148360" y="3365640"/>
            <a:ext cx="352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Мелкая моторика рук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2520720" cy="199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95280" y="1125000"/>
            <a:ext cx="802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Хорошо развитая мелкая моторика способствует развитию речи (пальчиковая гимнастика, игры с прищепками, ниткография, использование шариков Су-джок, обведение и штриховка предметов, шнуровка, нанизывание бусинок, аппликации, лепка, плетение, вырезание ножницами и т.д.)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се психические процессы тесно взаимосвязаны. Недоразвитие хотя бы одного психического процесса приводит к нарушению умственного развития ребёнка  в целом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1835280" y="3860640"/>
            <a:ext cx="4932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3-11-09T16:17:11Z</dcterms:modified>
  <cp:revision>5</cp:revision>
  <dc:subject/>
  <dc:title>Логопедическая готовность к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9990</vt:lpwstr>
  </property>
</Properties>
</file>