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5091-CC33-4566-BC38-76B1FA6063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51B2-C909-4070-A791-956C4557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EF7F-1BB3-4236-BB33-37B9ACA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74E9-8D4D-4C44-902D-5785D61B48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75BB-7C95-49B7-AA53-F1C39329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0FCC-BB11-4D47-A8F5-BA5512D7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BA79-BECA-423A-9C3B-0CFA956B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9F57-EC8A-42D8-B2B5-448F31AF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8F84-79D5-428B-A3D9-78A37EBE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65AB-7596-409B-885D-90386BAB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90BA0-0855-4AD2-8D63-BA9C9A49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8E30-F2C3-408A-9BA1-E122733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7AA091-DB8C-41B0-8CAE-E9C35D6C52B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4320" y="357120"/>
            <a:ext cx="8329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Сочинение – описание по картине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П.П. Кончаловского «Сирень в корзин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0160" y="3143160"/>
            <a:ext cx="535788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785880"/>
            <a:ext cx="300816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По утру, на за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По росистой тра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Я пойду свежим утром д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И в душистую т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Где теснится сире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Я пойду свое счастье иск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В жизни счастье 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Мне найти сужде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И то счастье в сирени жив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 зеленых ветв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 душистых ки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Мое бедное счастье цве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Е.Беке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57760" y="714240"/>
            <a:ext cx="4335480" cy="3929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6200" y="4537080"/>
            <a:ext cx="2786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.Врубель  «Сире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85880" y="428760"/>
            <a:ext cx="807228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ЦВЕТЫ :                             ГРОЗДИ:                            СИРЕНЬ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ВОНОЧКИ                        ТЯЖЕЛЫЕ                   СВЕЖ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ВЕЗДОЧКИ                       НАРЯДНЫЕ                РОСКО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ЖНЫЕ                     АРОМА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ЫШНЫЕ                    ЧУ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ЗВЕС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335772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28760" y="214200"/>
            <a:ext cx="82580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5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</a:t>
            </a:r>
            <a:r>
              <a:rPr b="1" lang="ru-RU" sz="6500" spc="-1" strike="noStrike">
                <a:solidFill>
                  <a:srgbClr val="000000"/>
                </a:solidFill>
                <a:latin typeface="Calibri"/>
                <a:ea typeface="Microsoft YaHei"/>
              </a:rPr>
              <a:t>Оттенки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434960"/>
            <a:ext cx="661500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Бледно-роз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Голубова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ребр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Лилов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лоснеж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Краснова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Фиолет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68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дание.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спределите слова в две колонки: цвет сирени и описание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Пышный, великолепный, свежий, дышащий, желтый, чудесный, стройный, фиолетовый, оранжевый, лиловый, белоснежный, жемчужный, опьяняющий, зеленый, белый, переливающийся, бледно-розовый, голу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286160" y="4286160"/>
            <a:ext cx="30006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Цвет сир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фиолет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лил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лосне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жемчу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бледно-роз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еле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голу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бе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исание бу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ыш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великолеп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ве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дыша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уде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реливающи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571680"/>
            <a:ext cx="9142560" cy="6305400"/>
            <a:chOff x="0" y="571680"/>
            <a:chExt cx="9142560" cy="6305400"/>
          </a:xfrm>
        </p:grpSpPr>
        <p:sp>
          <p:nvSpPr>
            <p:cNvPr id="85" name=""/>
            <p:cNvSpPr/>
            <p:nvPr/>
          </p:nvSpPr>
          <p:spPr>
            <a:xfrm>
              <a:off x="0" y="571680"/>
              <a:ext cx="180936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с</a:t>
              </a: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лова и словосочетания на тему «Сирень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0800" y="571680"/>
              <a:ext cx="148248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5080" y="571680"/>
              <a:ext cx="98208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79320" y="571680"/>
              <a:ext cx="166464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45760" y="571680"/>
              <a:ext cx="144720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4760" y="571680"/>
              <a:ext cx="1746000" cy="12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855440"/>
              <a:ext cx="180936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Цвет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10800" y="1855440"/>
              <a:ext cx="148248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Листв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95080" y="1855440"/>
              <a:ext cx="98208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Форм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79320" y="1855440"/>
              <a:ext cx="166464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Запах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45760" y="1855440"/>
              <a:ext cx="144720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Впечатление от сирени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4760" y="1855440"/>
              <a:ext cx="1746000" cy="10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Эпитеты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910600"/>
              <a:ext cx="180936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бледно-розовая, тёмно-красная, белоснежная, лиловая, жемчужная, с голубоватым, серебристым оттенко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0800" y="2910600"/>
              <a:ext cx="148248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листочки сердцевидной формы, зелёные листочки с тоненькими прожилками, насыщенный тёмно-зелёный цве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95080" y="2910600"/>
              <a:ext cx="98208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соцветия сирени в форме кисти, грозди; пышные, крупные, тяжёлы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79320" y="2910600"/>
              <a:ext cx="166464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приятный аромат, душистый, благоухающий, нежный, пробуждающий, напоминающий о весне, невозможно спутать с запахами других цвет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45760" y="2910600"/>
              <a:ext cx="144720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восхищение, любование, наслаждени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94760" y="2910600"/>
              <a:ext cx="1746000" cy="396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" rIns="6120" tIns="6120" bIns="61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400" spc="-1" strike="noStrike">
                  <a:solidFill>
                    <a:srgbClr val="444444"/>
                  </a:solidFill>
                  <a:latin typeface="Arial"/>
                  <a:ea typeface="Times New Roman"/>
                </a:rPr>
                <a:t>чудесная, прекрасная, очаровательная, роскошная, дивная, восхитительна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080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9508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932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576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476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855440"/>
              <a:ext cx="9141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910600"/>
              <a:ext cx="9141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2560" y="571680"/>
              <a:ext cx="0" cy="630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71680"/>
              <a:ext cx="9141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877080"/>
              <a:ext cx="9141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4400" y="1800"/>
            <a:ext cx="69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4444"/>
                </a:solidFill>
                <a:latin typeface="Arial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444444"/>
                </a:solidFill>
                <a:latin typeface="Arial"/>
                <a:ea typeface="Times New Roman"/>
              </a:rPr>
              <a:t>Словарно-стилистиче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План  сочи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1240" indent="-74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Моя встреча с карти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ловек, создавший шедев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Буйство крас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Мое отношение к карти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1240" indent="-741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П.Кончаловский – мастер изображения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Чудесный букет сир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.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2. Грозд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3. Ли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4. Бу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В букете всё живёт, цветёт и радуется» (П.Кончаловск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 картине изображена…(праздничная)и… (яркая)сирень. Посмотришь на неё и остановишься…(поражённый). Вот склонились…(тяжёлые) кисти…(серебристой),…(лиловой) и …(тёмно- красной) сирени. Весь букет окаймляют…(изумрудные) листья. Когда смотришь на эту…(прекрасную ) сирень, то как будто чувствуешь её…(благоухающий) аромат. Кажется, …(чудесный) и…(душистый) запах наполняет всю комнату. Эти …(роскошные),…(свежие) грозди хочется  взять в руки и подар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Человек наслаждается минутной красотой, а сорванное растение погибает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Мы не должны этого допуст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Не рви цветов, не над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х нежный аро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полнил воздух са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Они так красят са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Ведь у тебя, малют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Есть дома много роз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А здесь вот незабуд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Вот ландыш, полный сле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Левкой – такой душист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Горошек, резе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Ромашки серебристой пахучая гря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 с нивы занес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елестный василе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 мак кичливо-сон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 белый-белый др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Не рви ж цветов, не над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Их нежный аро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полнил воздух сад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Они так красят сад!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Лидия Чар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00720" y="1928880"/>
            <a:ext cx="38862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йзаж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ртрет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тюрморт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(фр. «мертвая природа»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3714480" cy="35035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4920" y="2428920"/>
            <a:ext cx="38577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тр Петрович Кончаловский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  (1876 – 195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родный художник РСФСР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Букеты цветов, особенно букеты сирени, художни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писал на протяжении всей своей жизн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«Я пишу цветы, как музыкант играет гаммы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«В цветах есть все , что существует в природе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только в более утонченных и сложных формах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и в каждом цветке, а особенно в сирени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букете полевых цветов, надо разбиратьс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Microsoft YaHei"/>
              </a:rPr>
              <a:t>как в лесной чаще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2340000" cy="3071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3714840"/>
            <a:ext cx="3000240" cy="291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839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501040" cy="603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00120" y="5429160"/>
            <a:ext cx="62866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ирень в стеклянной банке»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440" y="557064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3080" y="13572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71800" y="5500800"/>
            <a:ext cx="5486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«Сирень в корзин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66438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ир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ирень. В народе син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иалект. сырень (сырой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имствовано из греч.я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словно «трубка». Э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стение называется т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тому, что его прям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ветки имеют толст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рдцевину, которую лег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выдавить, после чего вет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новится палой, к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уб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29289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357120"/>
            <a:ext cx="782964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Легенда о сир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Молодой Пан, бог лесов и лугов, повстречал однажды прекрасную речную нимфу Сирингу – нежную вестницу утренней зари. И так залюбовался её нежной грацией и красотой, что забыл о своих забавах. Решил Пан заговорить с Сирингой, но та испугалась и убежала. Пан побежал следом, желая её успокоить, но нимфа неожиданно превратилась в благоухающий куст с нежными лиловыми цве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к имя Сиринги и дало название дереву – сир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Вот что гласит древнегреческая леген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440" y="5570640"/>
            <a:ext cx="5486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43080" y="13572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71800" y="5500800"/>
            <a:ext cx="5486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Microsoft YaHei"/>
              </a:rPr>
              <a:t>«Сирень в корзин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6643800" cy="5072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8684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71960" y="357120"/>
            <a:ext cx="4573440" cy="600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500040"/>
            <a:ext cx="300816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Как празднично сад расцветила сирень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Лилового, белого цвета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егодня особый - сиреневый  день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чало цветущего лета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 несколько дней разоделись кусты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едавно раскрывшие листья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В большие и пышные гроздья-цветы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В густые и влажные кисти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И мы вспоминаем, с какой простото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 какою надеждой и страстью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Искали меж звездочек в грозди густой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ятилепестковое "счастье"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 тех пор столько раз перед нами цвели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Кусты этой щедрой сирени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И если мы счастья еще не нашли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о, может быть, только от л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.Я. 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1:24:30Z</dcterms:created>
  <dc:creator>Egor</dc:creator>
  <dc:description/>
  <dc:language>en-US</dc:language>
  <cp:lastModifiedBy>x</cp:lastModifiedBy>
  <dcterms:modified xsi:type="dcterms:W3CDTF">2018-11-27T16:53:13Z</dcterms:modified>
  <cp:revision>77</cp:revision>
  <dc:subject/>
  <dc:title>Сочинение – описание по картине Кончаловского « Сирень В корзине»</dc:title>
</cp:coreProperties>
</file>