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30FE-402C-49BF-8DA1-FB33D07A1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C81F-49A3-46B5-9550-C13261D9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94F8-CFC9-4D91-91A6-A48A9D7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69C0-F7C3-44EF-B024-46055F99B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DD64-7363-4FE2-84EB-102F0F07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22C7-DA06-4F98-ADD8-1D9E0D3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3901-8127-4813-BCB7-DD480CBB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464D-FA72-4EF1-B239-4ACBC84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A4A9-2A14-4154-A07D-7B979030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6841-B4F9-41F0-98E8-4B87F44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2714-8F3A-467B-9541-B1C7224E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A22C-FC1E-4A23-A452-FB277435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BA09E-E6C3-4ADF-BCD8-1594D0D2EE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4320" y="357120"/>
            <a:ext cx="8329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чинение – описание по картине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П.П. Кончаловского «Сирень в корзи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0160" y="3143160"/>
            <a:ext cx="535788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785880"/>
            <a:ext cx="300816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утру, на за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росистой тр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Я пойду свежим утром д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в душистую т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Где теснится сир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Я пойду свое счастье иск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В жизни счастье 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Мне найти сужде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И то счастье в сирени жи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зеленых ветв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душистых ки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Мое бедное счастье цве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.Бек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7760" y="714240"/>
            <a:ext cx="4335480" cy="3929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6200" y="4537080"/>
            <a:ext cx="2786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.Врубель  «Сир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5880" y="428760"/>
            <a:ext cx="807228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ЦВЕТЫ :                             ГРОЗДИ:                            СИРЕН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ОНОЧКИ                        ТЯЖЕЛЫЕ                   СВЕ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ЕЗДОЧКИ                       НАРЯДНЫЕ                РОСКО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ЖНЫЕ                     АРОМ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Е                    ЧУ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ЕС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335772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8760" y="214200"/>
            <a:ext cx="8258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</a:t>
            </a:r>
            <a:r>
              <a:rPr b="1" lang="ru-RU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тенки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434960"/>
            <a:ext cx="66150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ледно-ро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Голубов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ебр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оснеж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Краснов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68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спределите слова в две колонки: цвет сирени и описание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й, великолепный, свежий, дышащий, желтый, чудесный, стройный, фиолетовый, оранжевый, лиловый, белоснежный, жемчужный, опьяняющий, зеленый, белый, переливающийся, бледно-розовый, голу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6160" y="4286160"/>
            <a:ext cx="30006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вет сир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оле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осне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жемчу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ледно-ро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исание бу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ликолеп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ве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дыша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уд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еливаю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571680"/>
            <a:ext cx="9142560" cy="6305400"/>
            <a:chOff x="0" y="571680"/>
            <a:chExt cx="9142560" cy="6305400"/>
          </a:xfrm>
        </p:grpSpPr>
        <p:sp>
          <p:nvSpPr>
            <p:cNvPr id="85" name=""/>
            <p:cNvSpPr/>
            <p:nvPr/>
          </p:nvSpPr>
          <p:spPr>
            <a:xfrm>
              <a:off x="0" y="571680"/>
              <a:ext cx="180936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с</a:t>
              </a: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ова и словосочетания на тему «Сирен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0800" y="571680"/>
              <a:ext cx="148248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5080" y="571680"/>
              <a:ext cx="98208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9320" y="571680"/>
              <a:ext cx="166464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5760" y="571680"/>
              <a:ext cx="144720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4760" y="571680"/>
              <a:ext cx="174600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855440"/>
              <a:ext cx="180936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Цвет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10800" y="1855440"/>
              <a:ext cx="148248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иств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95080" y="1855440"/>
              <a:ext cx="98208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Форм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79320" y="1855440"/>
              <a:ext cx="166464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Запах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5760" y="1855440"/>
              <a:ext cx="144720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Впечатление от сирени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4760" y="1855440"/>
              <a:ext cx="174600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Эпитеты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910600"/>
              <a:ext cx="180936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бледно-розовая, тёмно-красная, белоснежная, лиловая, жемчужная, с голубоватым, серебристым оттенк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0800" y="2910600"/>
              <a:ext cx="148248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источки сердцевидной формы, зелёные листочки с тоненькими прожилками, насыщенный тёмно-зелёный цве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95080" y="2910600"/>
              <a:ext cx="98208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соцветия сирени в форме кисти, грозди; пышные, крупные, тяжёлы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79320" y="2910600"/>
              <a:ext cx="166464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приятный аромат, душистый, благоухающий, нежный, пробуждающий, напоминающий о весне, невозможно спутать с запахами других цвет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5760" y="2910600"/>
              <a:ext cx="144720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восхищение, любование, наслаждени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4760" y="2910600"/>
              <a:ext cx="174600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чудесная, прекрасная, очаровательная, роскошная, дивная, восхитительна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080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9508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932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57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47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85544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91060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25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168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87708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400" y="1800"/>
            <a:ext cx="69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Arial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444444"/>
                </a:solidFill>
                <a:latin typeface="Arial"/>
                <a:ea typeface="Times New Roman"/>
              </a:rPr>
              <a:t>Словарно-стилис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лан  сочи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я встреча с карти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ловек, создавший шеде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йство крас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е отношение к кар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.Кончаловский – мастер изображения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удесный букет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.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2. Грозд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3.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 букете всё живёт, цветёт и радуется» (П.Кончаловс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 картине изображена…(праздничная)и… (яркая)сирень. Посмотришь на неё и остановишься…(поражённый). Вот склонились…(тяжёлые) кисти…(серебристой),…(лиловой) и …(тёмно- красной) сирени. Весь букет окаймляют…(изумрудные) листья. Когда смотришь на эту…(прекрасную ) сирень, то как будто чувствуешь её…(благоухающий) аромат. Кажется, …(чудесный) и…(душистый) запах наполняет всю комнату. Эти …(роскошные),…(свежие) грозди хочется  взять в руки и пода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ловек наслаждается минутной красотой, а сорванное растение погибает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Мы не должны этого допуст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е рви цветов, не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х нежный аро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полнил воздух са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ни так красят с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Ведь у тебя, малют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Есть дома много роз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А здесь вот незабуд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Вот ландыш, полный сле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Левкой – такой душист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Горошек, резе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Ромашки серебристой пахучая гря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с нивы занес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елестный васил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мак кичливо-сон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белый-белый д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е рви ж цветов, не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х нежный аро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полнил воздух са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ни так красят сад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Лидия Ча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00720" y="1928880"/>
            <a:ext cx="38862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йзаж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ртрет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тюрморт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(фр. «мертвая природа»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3714480" cy="350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4920" y="2428920"/>
            <a:ext cx="38577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тр Петрович Кончаловский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  (1876 – 195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родный художник РСФСР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кеты цветов, особенно букеты сирени, худож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писал на протяжении всей своей жизн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«Я пишу цветы, как музыкант играет гаммы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 цветах есть все , что существует в природе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лько в более утонченных и сложных формах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в каждом цветке, а особенно в сирени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кете полевых цветов, надо разбиратьс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как в лесной чаще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234000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3714840"/>
            <a:ext cx="3000240" cy="291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501040" cy="603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00120" y="5429160"/>
            <a:ext cx="62866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ирень в стеклянной банке»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440" y="55706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3080" y="13572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5500800"/>
            <a:ext cx="5486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ирень в корзин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643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и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ирень. В народе син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алект. сырень (сыро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имствовано из греч.я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словно «трубка». Э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стение называется т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тому, что его пря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тки имеют толст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дцевину, которую лег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ыдавить, после чего вет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новится палой, к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уб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29289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57120"/>
            <a:ext cx="782964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Легенда о сир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лодой Пан, бог лесов и лугов, повстречал однажды прекрасную речную нимфу Сирингу – нежную вестницу утренней зари. И так залюбовался её нежной грацией и красотой, что забыл о своих забавах. Решил Пан заговорить с Сирингой, но та испугалась и убежала. Пан побежал следом, желая её успокоить, но нимфа неожиданно превратилась в благоухающий куст с нежными лиловыми цве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к имя Сиринги и дало название дереву – си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т что гласит древнегреческая леге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440" y="55706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3080" y="13572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71800" y="5500800"/>
            <a:ext cx="5486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ирень в корзин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643800" cy="507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8684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57344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00040"/>
            <a:ext cx="30081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Как празднично сад расцветила сирень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ого, белого цвета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годня особый - сиреневый  день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чало цветущего лет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 несколько дней разоделись кусты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давно раскрывшие листь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большие и пышные гроздья-цветы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густые и влажные кисти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мы вспоминаем, с какой простото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 какою надеждой и страстью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скали меж звездочек в грозди густой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илепестковое "счастье"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 тех пор столько раз перед нами цвели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Кусты этой щедрой сирен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если мы счастья еще не нашли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, может быть, только от л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.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1:24:30Z</dcterms:created>
  <dc:creator>Egor</dc:creator>
  <dc:description/>
  <dc:language>en-US</dc:language>
  <cp:lastModifiedBy>x</cp:lastModifiedBy>
  <dcterms:modified xsi:type="dcterms:W3CDTF">2018-11-27T16:53:13Z</dcterms:modified>
  <cp:revision>77</cp:revision>
  <dc:subject/>
  <dc:title>Сочинение – описание по картине Кончаловского « Сирень В корзине»</dc:title>
</cp:coreProperties>
</file>