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B188-11E5-4C0E-98AB-6F0D66A7F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E50A-40E6-4E6F-AFB2-7D46EEF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6C832-0D12-45A7-B5D4-C8332EB7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1816-A480-4C00-864C-8171F2BF9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9063-3CAA-4AA4-A36B-3719D6A3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3A33-E6C8-4CCD-8974-6661D62C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BAF7-B582-41FC-AB35-3F58A18D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9216-385C-4A3E-A2FB-8497F4D9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87ED-FC60-45C3-B83D-F00F97D3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0526-57DB-4BEA-9B6E-C6EA6787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29C9-1099-4DB7-92FF-0BF3DC80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F070-76CE-43DC-AE34-80B60DA6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7B5BA0-681B-4BB2-BEFD-2E1BAB135CE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480" y="73080"/>
            <a:ext cx="8948520" cy="6734160"/>
            <a:chOff x="60480" y="73080"/>
            <a:chExt cx="8948520" cy="67341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60480" y="73080"/>
              <a:ext cx="8948520" cy="67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28480" y="528480"/>
              <a:ext cx="8013960" cy="57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6"/>
          <a:stretch/>
        </p:blipFill>
        <p:spPr>
          <a:xfrm rot="60600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446120"/>
            <a:ext cx="7772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2960" y="141120"/>
            <a:ext cx="4857840" cy="5210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57160" y="55008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Игрок к</a:t>
            </a: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снулся клюшкой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мя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620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отрагиваться до чего-нибудь или кого-нибуд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71880" y="1143000"/>
            <a:ext cx="4429080" cy="378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430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Затронуть в разгов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исьме какую-либо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01948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Лектор лишь 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нулся этой пробле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но решить её не с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5676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84720" y="1341360"/>
            <a:ext cx="48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Franklin Gothic Book"/>
              </a:rPr>
              <a:t>Иметь отношение к чему-нибудь или кому-нибудь, быть причас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343480"/>
            <a:ext cx="881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Соблюдение правил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ется вс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№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7120" y="1143000"/>
            <a:ext cx="82868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своим дыханием___промерзлой земли, но робкое её ___еще не пробудило всей природы. Доброе солнышко своими нежными лучами ___всего на земле, и вскоре проснулись травы и цветы. ___их стебельков, солнышко пробудило в них движение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а для справ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ясь, прик…сновение, к…снулась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сло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бы выбрать гласную ___или___в корнях____,_____, нужно посмотреть, есть ли после корня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сли____, то в корне пишем гласную _____; если____, то в корне пишем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ример, 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бы выбрать гласную О или А в корнях -КОС-, -КАС-, нужно посмотреть, есть ли после корня суффикс 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сли есть, то в корне пишем гласную А; если нет, то в корне пишем 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пример, ____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ки сол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Жёлтый цвет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се понравилось на уроке и все было понятно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Оранжевый цвет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стались вопрос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расный цвет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ичего не поняли, не справились с задани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-14292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ь сказку о корнях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с- -кос-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оставить текст, употребив в нем как можно больше слов с чередующейся гласной в корн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; упр. 18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4120" y="-109440"/>
            <a:ext cx="8717040" cy="749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960" y="785880"/>
            <a:ext cx="761508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 Math"/>
                <a:ea typeface="Microsoft YaHei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Найти корень слова –  значит найти его                                                          внутренний, затаённый смысл –  то же,   что                                                зажечь внутри фонаря огонь.                                                              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М.Рыбник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  <a:ea typeface="Microsoft YaHe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ёд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8592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_гаться, выр_сти, расст_лать, предпол_жение, отп_реть, сл_жение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_снуться, прик_са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О и А в корнях      -кос- - кас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792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условия выбора букв      О или А в корнях -кос-  -кас-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безошибочно писать слова с корнем  -кос-  -кас-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8592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утьс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са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овени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-7452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714240"/>
            <a:ext cx="82296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 пришли к нам в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-КОС- и корень -КАС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 -а- примчался миго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ушил всех громким кр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де вы, где вы, корень -КАС-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я жить без в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сле корня -а-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рнем -КАС- пиши слов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1240" indent="-7412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кор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, есть ли после корня суффикс -а-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суффикс -а-, то пиши -кас-, если нет суффикса -а-, то пиши -кос-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4:37:12Z</dcterms:created>
  <dc:creator>Lenovo</dc:creator>
  <dc:description/>
  <dc:language>en-US</dc:language>
  <cp:lastModifiedBy>x</cp:lastModifiedBy>
  <dcterms:modified xsi:type="dcterms:W3CDTF">2018-10-23T15:24:18Z</dcterms:modified>
  <cp:revision>22</cp:revision>
  <dc:subject/>
  <dc:title>Слайд 1</dc:title>
</cp:coreProperties>
</file>