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0024-0F81-41AD-848A-ADE81E7E3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BAD5-6341-4560-9DC2-F14E23E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4916-3A8D-40B2-B945-E2F7CEA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6762-97A8-465E-9681-6CA6CDD6C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4F62-CDB5-495D-AD8B-0D1DD70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2F0B-6410-4A7A-91E5-E5FAF18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E69A-0486-497A-8F5C-B28864C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FD0A-25CA-44FA-B120-31F17A7F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E6A8-513B-4338-BEB1-4634E1BD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D501-D170-4F1E-B81E-980C220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8B89-5624-43FA-91E9-DFAA7E4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F8F7-7701-43E0-8872-41E53B6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FCEB90-B187-4558-9029-AB7840FAAC0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480" y="73080"/>
            <a:ext cx="8948520" cy="6734160"/>
            <a:chOff x="60480" y="73080"/>
            <a:chExt cx="8948520" cy="67341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60480" y="73080"/>
              <a:ext cx="8948520" cy="67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28480" y="528480"/>
              <a:ext cx="8013960" cy="57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 rot="60600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46120"/>
            <a:ext cx="7772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2960" y="141120"/>
            <a:ext cx="4857840" cy="5210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57160" y="55008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Игрок к</a:t>
            </a: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снулся клюшкой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мя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62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трагиваться до чего-нибудь или кого-нибу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71880" y="1143000"/>
            <a:ext cx="4429080" cy="378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430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Затронуть в разго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исьме какую-либо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0194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Лектор лишь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нулся этой пробле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но решить её не с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567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1341360"/>
            <a:ext cx="48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Franklin Gothic Book"/>
              </a:rPr>
              <a:t>Иметь отношение к чему-нибудь или кому-нибудь, быть причас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43480"/>
            <a:ext cx="881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облюдение правил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ется вс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7120" y="1143000"/>
            <a:ext cx="8286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своим дыханием___промерзлой земли, но робкое её ___еще не пробудило всей природы. Доброе солнышко своими нежными лучами ___всего на земле, и вскоре проснулись травы и цветы. ___их стебельков, солнышко пробудило в них движени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 для спра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ясь, прик…сновение, к…снулась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сл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ы выбрать гласную ___или___в корнях____,_____, нужно посмотреть, есть ли после корня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____, то в корне пишем гласную _____; если____, то в корне пишем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, 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бы выбрать гласную О или А в корнях -КОС-, -КАС-, нужно посмотреть, есть ли после корня суффикс 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ли есть, то в корне пишем гласную А; если нет, то в корне пишем 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пример, 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ки сол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Жёлт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се понравилось на уроке и все было понятно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Оранжев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стались вопрос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расн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ичего не поняли, не справились с задани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-1429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ь сказку о корнях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с- -кос-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ставить текст, употребив в нем как можно больше слов с чередующейся гласной в корн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; упр. 18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4120" y="-109440"/>
            <a:ext cx="8717040" cy="749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960" y="785880"/>
            <a:ext cx="761508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Microsoft YaHe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Найти корень слова –  значит найти его                                                          внутренний, затаённый смысл –  то же,   что                                                зажечь внутри фонаря огонь.           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М.Рыбник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  <a:ea typeface="Microsoft YaHe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ёд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8592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_гаться, выр_сти, расст_лать, предпол_жение, отп_реть, сл_жение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_снуться, прик_са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О и А в корнях      -кос- - кас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79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условия выбора букв      О или А в корнях -кос-  -кас-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безошибочно писать слова с корнем  -кос-  -кас-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8592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утьс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са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ове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-745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 пришли к нам в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-КОС- и корень -КАС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 -а- примчался миг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ушил всех громким кр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де вы, где вы, корень -КАС-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я жить без в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сле корня -а-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рнем -КАС- пиши слов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кор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, есть ли после корня суффикс -а-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суффикс -а-, то пиши -кас-, если нет суффикса -а-, то пиши -кос-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4:37:12Z</dcterms:created>
  <dc:creator>Lenovo</dc:creator>
  <dc:description/>
  <dc:language>en-US</dc:language>
  <cp:lastModifiedBy>x</cp:lastModifiedBy>
  <dcterms:modified xsi:type="dcterms:W3CDTF">2018-10-23T15:24:18Z</dcterms:modified>
  <cp:revision>22</cp:revision>
  <dc:subject/>
  <dc:title>Слайд 1</dc:title>
</cp:coreProperties>
</file>