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EE4-CAA5-41D2-800A-D3EEE2CA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04E-C58B-49BD-BEF4-0C46921B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1A6-CD69-46A2-99F0-95B736E5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5C1-BB5E-4E3E-A9A7-A674A0BB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23B1-EEA4-4600-AB02-BD4C2827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D51F-223D-41A2-8F75-9E8C5247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F0B7-885E-49E0-BBC8-14C1457C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2FCF-9420-4720-9CC6-A91FC7EA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CE38-BD93-4C05-8576-7B0E933A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3E9B-B823-4283-9EBD-DA7E50A7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478C-BCE6-468C-BE80-76992185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8FB-C57A-485D-9C8B-CDAD393E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FA61-2C1D-4520-ACEF-E70391A6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3616-2D48-42F5-AF92-B7FEA4C7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A198-DAE3-4201-B85C-A03C8B2D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172A-DC1C-4F39-B75E-01B5B353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3844-4B2A-41DC-B3FE-3C1EFDC5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34C16-04B6-44F0-8629-8BD8D26B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BD724-8FF4-4F7F-887A-DC23EF15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92199-0869-40A4-B8E4-702F9BEF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FAC06-10E6-4C11-AF83-5E742DB9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09D66-2AF5-49F7-B683-59B673C2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909-6FD6-4A49-B92A-90C6CCA1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0B6E5-969C-42D1-9011-6C534E18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3F035-1BF8-4EE4-807F-DD5AB37E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C15CB-2D6F-44F6-B7E5-FA2152DA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9D695-5F4F-4626-8F0C-3FD7F6FD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60B0B-BB38-4482-92BA-E2446F16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27FAD-263C-4224-BCFB-938E30CF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69F47-7075-4831-9A30-4574CE67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1EBF4-C9B2-4E8B-9511-AD2AAF3F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89D04-FA17-4F94-8D34-8CAD28D8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31015-9B39-49AF-98D2-1DD167DF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1DF-D11A-4B2C-9D84-77C39B10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95F10-6EBE-4039-98FF-48AE28EE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3BEDB-04F4-4E97-9C73-535D0F68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52314-C82A-460A-A52A-D5A954FB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17BD4-F526-4B11-B943-B2700759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E49E3-D9C8-4EB7-88C7-5A808D2C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05449-3D6B-477B-AA66-184DF7B4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EA45E-624F-4666-8E76-C98978E4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AB5B9-5F1D-4794-81A2-25CC99E5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1D60C-1DE3-44D3-9536-6ED211A1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D16-93B5-4D3C-9DC0-E67D4106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AC6A-A7C7-4162-B9F5-5C3496EF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1BE-6E23-48E3-82FB-7AF6A453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6A40-4DD2-48C3-A94E-B2209C72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013-CED7-49C9-A4AD-80C630A2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DD3B-A811-4561-B4F5-D171EFB4CCE1}" type="slidenum">
              <a:rPr b="0" lang="en-US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53B8-5B13-4910-A639-6F2AB6CA04E1}" type="slidenum">
              <a:rPr b="0" lang="en-US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99" name="TextBox 13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A5C5-B7B1-4C2C-B66C-488816D5E3F6}" type="slidenum">
              <a:rPr b="0" lang="en-US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8" name="TextBox 10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8A08-831C-485E-B728-BE6B4DC3E5EF}" type="slidenum">
              <a:rPr b="0" lang="en-US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5" descr=""/>
          <p:cNvPicPr/>
          <p:nvPr/>
        </p:nvPicPr>
        <p:blipFill>
          <a:blip r:embed="rId1"/>
          <a:stretch/>
        </p:blipFill>
        <p:spPr>
          <a:xfrm>
            <a:off x="0" y="-190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26840" y="334440"/>
            <a:ext cx="8232840" cy="124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167bf3"/>
                </a:solidFill>
                <a:latin typeface="Comic Sans MS"/>
              </a:rPr>
              <a:t>Муниципальное автономное дошкольное образовательное учреждение</a:t>
            </a:r>
            <a:br>
              <a:rPr sz="1100"/>
            </a:br>
            <a:r>
              <a:rPr b="1" lang="en-US" sz="1100" spc="-1" strike="noStrike">
                <a:solidFill>
                  <a:srgbClr val="167bf3"/>
                </a:solidFill>
                <a:latin typeface="Comic Sans MS"/>
              </a:rPr>
              <a:t>Центр развития ребенка</a:t>
            </a:r>
            <a:br>
              <a:rPr sz="1100"/>
            </a:br>
            <a:r>
              <a:rPr b="1" lang="en-US" sz="1100" spc="-1" strike="noStrike">
                <a:solidFill>
                  <a:srgbClr val="167bf3"/>
                </a:solidFill>
                <a:latin typeface="Comic Sans MS"/>
              </a:rPr>
              <a:t>Детский сад № 21 «Надежда»</a:t>
            </a:r>
            <a:br>
              <a:rPr sz="1100"/>
            </a:br>
            <a:r>
              <a:rPr b="1" lang="en-US" sz="1100" spc="-1" strike="noStrike">
                <a:solidFill>
                  <a:srgbClr val="167bf3"/>
                </a:solidFill>
                <a:latin typeface="Comic Sans MS"/>
              </a:rPr>
              <a:t>Городского округа Ступино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947680" y="2599920"/>
            <a:ext cx="7837560" cy="15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900" spc="-1" strike="noStrike">
                <a:solidFill>
                  <a:srgbClr val="167bf3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167bf3"/>
                </a:solidFill>
                <a:latin typeface="Comic Sans MS"/>
              </a:rPr>
              <a:t>Проект в первой группе раннего возраста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67bf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167bf3"/>
                </a:solidFill>
                <a:latin typeface="Comic Sans MS"/>
              </a:rPr>
              <a:t>на тему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67bf3"/>
                </a:solidFill>
                <a:latin typeface="Comic Sans MS"/>
              </a:rPr>
              <a:t>«В мире сказок»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7223040" y="4917960"/>
            <a:ext cx="3584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167bf3"/>
                </a:solidFill>
                <a:uFillTx/>
                <a:latin typeface="Comic Sans MS"/>
              </a:rPr>
              <a:t>Подготовила</a:t>
            </a:r>
            <a:r>
              <a:rPr b="1" lang="en-US" sz="1600" spc="-1" strike="noStrike">
                <a:solidFill>
                  <a:srgbClr val="167bf3"/>
                </a:solidFill>
                <a:latin typeface="Comic Sans MS"/>
              </a:rPr>
              <a:t>: Тищенко А. В.,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7bf3"/>
                </a:solidFill>
                <a:latin typeface="Comic Sans MS"/>
              </a:rPr>
              <a:t>воспитатель высшей квалификационной категори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5" descr=""/>
          <p:cNvPicPr/>
          <p:nvPr/>
        </p:nvPicPr>
        <p:blipFill>
          <a:blip r:embed="rId1"/>
          <a:stretch/>
        </p:blipFill>
        <p:spPr>
          <a:xfrm>
            <a:off x="0" y="32400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26840" y="502200"/>
            <a:ext cx="8232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167bf3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3880" y="1971720"/>
            <a:ext cx="7418160" cy="31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67bf3"/>
                </a:solidFill>
                <a:latin typeface="Comic Sans MS"/>
              </a:rPr>
              <a:t>СПАСИБО </a:t>
            </a:r>
            <a:endParaRPr b="0" lang="en-US" sz="4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67bf3"/>
                </a:solidFill>
                <a:latin typeface="Comic Sans MS"/>
              </a:rPr>
              <a:t>ЗА </a:t>
            </a:r>
            <a:endParaRPr b="0" lang="en-US" sz="4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67bf3"/>
                </a:solidFill>
                <a:latin typeface="Comic Sans MS"/>
              </a:rPr>
              <a:t>ВНИМАНИЕ!</a:t>
            </a:r>
            <a:endParaRPr b="0" lang="en-US" sz="48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7223040" y="54514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5" descr=""/>
          <p:cNvPicPr/>
          <p:nvPr/>
        </p:nvPicPr>
        <p:blipFill>
          <a:blip r:embed="rId1"/>
          <a:stretch/>
        </p:blipFill>
        <p:spPr>
          <a:xfrm>
            <a:off x="0" y="-190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26840" y="677880"/>
            <a:ext cx="823284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167bf3"/>
                </a:solidFill>
                <a:uFillTx/>
                <a:latin typeface="Comic Sans MS"/>
              </a:rPr>
              <a:t>Актуальность проекта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338280" y="1695600"/>
            <a:ext cx="72183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46194"/>
                </a:solidFill>
                <a:latin typeface="Comic Sans MS"/>
              </a:rPr>
              <a:t>Сказка – удивительное явление народного творчества. В мир сказок ребёнок вступает в самом раннем детстве, как только начинает говорить. Однажды, придя к малышу, сказка остается с ним навсегда как чудо, как радость, как память. В настоящее время трудно найти лучший способ воспитания детей, чем путь приобщения их с раннего детства к устному народному творчеству. Сказка даёт нравственные уроки сострадания, самоотверженности, сочувствия, любви ко всему живому, представление о морали, справедливости, необходимости борьбы со злом, расширяет жизненный опыт ребёнка. Сказка воспитывает любовь к Родине, знакомит с родной природой, обычаями, укладом русской жизни.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8" name="TextBox 4"/>
          <p:cNvSpPr/>
          <p:nvPr/>
        </p:nvSpPr>
        <p:spPr>
          <a:xfrm flipV="1">
            <a:off x="7223040" y="498636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5" descr=""/>
          <p:cNvPicPr/>
          <p:nvPr/>
        </p:nvPicPr>
        <p:blipFill>
          <a:blip r:embed="rId1"/>
          <a:stretch/>
        </p:blipFill>
        <p:spPr>
          <a:xfrm>
            <a:off x="0" y="-190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26840" y="0"/>
            <a:ext cx="8232840" cy="20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167bf3"/>
                </a:solidFill>
                <a:uFillTx/>
                <a:latin typeface="Comic Sans MS"/>
              </a:rPr>
              <a:t>Цель проекта: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Приучать детей слушать народные сказк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347640" y="2161800"/>
            <a:ext cx="73040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67bf3"/>
                </a:solidFill>
                <a:latin typeface="Century Gothic"/>
              </a:rPr>
              <a:t> </a:t>
            </a:r>
            <a:r>
              <a:rPr b="1" lang="en-US" sz="2400" spc="-1" strike="noStrike" u="sng">
                <a:solidFill>
                  <a:srgbClr val="167bf3"/>
                </a:solidFill>
                <a:uFillTx/>
                <a:latin typeface="Comic Sans MS"/>
              </a:rPr>
              <a:t>Задачи: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Учить слушать сказки с наглядным сопровождением, театром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Учить сопровождать небольшие поэтические произведения игровыми действиями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Предоставлять детям возможность договаривать слова, фразы при чтении воспитателем знакомых детям сказок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5" descr=""/>
          <p:cNvPicPr/>
          <p:nvPr/>
        </p:nvPicPr>
        <p:blipFill>
          <a:blip r:embed="rId1"/>
          <a:stretch/>
        </p:blipFill>
        <p:spPr>
          <a:xfrm>
            <a:off x="0" y="-190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26840" y="502200"/>
            <a:ext cx="8232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167bf3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233880" y="1285920"/>
            <a:ext cx="7418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167bf3"/>
                </a:solidFill>
                <a:uFillTx/>
                <a:latin typeface="Comic Sans MS"/>
              </a:rPr>
              <a:t>Вид проекта:</a:t>
            </a:r>
            <a:r>
              <a:rPr b="1" lang="en-US" sz="2400" spc="-1" strike="noStrike">
                <a:solidFill>
                  <a:srgbClr val="167bf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групповой, познавательный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167bf3"/>
                </a:solidFill>
                <a:uFillTx/>
                <a:latin typeface="Comic Sans MS"/>
              </a:rPr>
              <a:t>Продолжительность проекта: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краткосрочный (одна неделя)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167bf3"/>
                </a:solidFill>
                <a:uFillTx/>
                <a:latin typeface="Comic Sans MS"/>
              </a:rPr>
              <a:t>Участники проекта</a:t>
            </a:r>
            <a:r>
              <a:rPr b="1" lang="en-US" sz="1800" spc="-1" strike="noStrike" u="sng">
                <a:solidFill>
                  <a:srgbClr val="167bf3"/>
                </a:solidFill>
                <a:uFillTx/>
                <a:latin typeface="Comic Sans MS"/>
              </a:rPr>
              <a:t>: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дети первой группы раннего возраста (1-2 года), воспитатели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7223040" y="54514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5" descr=""/>
          <p:cNvPicPr/>
          <p:nvPr/>
        </p:nvPicPr>
        <p:blipFill>
          <a:blip r:embed="rId1"/>
          <a:stretch/>
        </p:blipFill>
        <p:spPr>
          <a:xfrm>
            <a:off x="0" y="-190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26840" y="502200"/>
            <a:ext cx="8232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167bf3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233880" y="1228680"/>
            <a:ext cx="74181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Подготовительный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формулировка цели и задач проекта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составление плана реализации проекта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«В мире сказок»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Основной: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чтение русских народных сказок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рассматривание иллюстраций в книгах «Русские народные сказки»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подвижные, дидактические, настольные игры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Заключительный: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инсценировка русских народных сказок с использованием различных видов театров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7223040" y="54514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5" descr=""/>
          <p:cNvPicPr/>
          <p:nvPr/>
        </p:nvPicPr>
        <p:blipFill>
          <a:blip r:embed="rId1"/>
          <a:stretch/>
        </p:blipFill>
        <p:spPr>
          <a:xfrm>
            <a:off x="0" y="-190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26840" y="502200"/>
            <a:ext cx="8232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167bf3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233880" y="1228680"/>
            <a:ext cx="74181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167bf3"/>
                </a:solidFill>
                <a:uFillTx/>
                <a:latin typeface="Comic Sans MS"/>
              </a:rPr>
              <a:t>Результаты проекты: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Дети познакомились с русскими народными сказками, научились слушать их от начала до конца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Во время игр дети учились соблюдать правила игр, учились уступать друг другу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Во время подвижных игр закрепили бег и ориентировку в пространстве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7223040" y="54514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5" descr=""/>
          <p:cNvPicPr/>
          <p:nvPr/>
        </p:nvPicPr>
        <p:blipFill>
          <a:blip r:embed="rId1"/>
          <a:stretch/>
        </p:blipFill>
        <p:spPr>
          <a:xfrm>
            <a:off x="0" y="-190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26840" y="502200"/>
            <a:ext cx="8232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167bf3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233880" y="2085840"/>
            <a:ext cx="741816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67bf3"/>
                </a:solidFill>
                <a:latin typeface="Comic Sans MS"/>
              </a:rPr>
              <a:t>ФОТОГАЛЕРЕЯ</a:t>
            </a:r>
            <a:endParaRPr b="0" lang="en-US" sz="48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7223040" y="54514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5" descr=""/>
          <p:cNvPicPr/>
          <p:nvPr/>
        </p:nvPicPr>
        <p:blipFill>
          <a:blip r:embed="rId1"/>
          <a:stretch/>
        </p:blipFill>
        <p:spPr>
          <a:xfrm>
            <a:off x="0" y="32400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26840" y="502200"/>
            <a:ext cx="8232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167bf3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233880" y="5301000"/>
            <a:ext cx="7418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167bf3"/>
              </a:solidFill>
              <a:latin typeface="Century Gothic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7223040" y="54514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2" name="Picture 1" descr=""/>
          <p:cNvPicPr/>
          <p:nvPr/>
        </p:nvPicPr>
        <p:blipFill>
          <a:blip r:embed="rId2"/>
          <a:stretch/>
        </p:blipFill>
        <p:spPr>
          <a:xfrm>
            <a:off x="3676680" y="1276200"/>
            <a:ext cx="2612880" cy="3067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3"/>
          <a:stretch/>
        </p:blipFill>
        <p:spPr>
          <a:xfrm>
            <a:off x="6611760" y="3181320"/>
            <a:ext cx="37515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5" descr=""/>
          <p:cNvPicPr/>
          <p:nvPr/>
        </p:nvPicPr>
        <p:blipFill>
          <a:blip r:embed="rId1"/>
          <a:stretch/>
        </p:blipFill>
        <p:spPr>
          <a:xfrm>
            <a:off x="0" y="32400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26840" y="502200"/>
            <a:ext cx="8232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167bf3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233880" y="5301000"/>
            <a:ext cx="7418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167bf3"/>
              </a:solidFill>
              <a:latin typeface="Century Gothic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7223040" y="54514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3333600" y="1181160"/>
            <a:ext cx="3040200" cy="4071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"/>
          <p:cNvPicPr/>
          <p:nvPr/>
        </p:nvPicPr>
        <p:blipFill>
          <a:blip r:embed="rId3"/>
          <a:stretch/>
        </p:blipFill>
        <p:spPr>
          <a:xfrm>
            <a:off x="7072200" y="2190600"/>
            <a:ext cx="323388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6T13:00:16Z</dcterms:created>
  <dc:creator>Elena</dc:creator>
  <dc:description/>
  <dc:language>en-US</dc:language>
  <cp:lastModifiedBy>WWWUSER</cp:lastModifiedBy>
  <cp:lastPrinted>2017-04-16T16:14:05Z</cp:lastPrinted>
  <dcterms:modified xsi:type="dcterms:W3CDTF">2019-05-19T16:43:48Z</dcterms:modified>
  <cp:revision>24</cp:revision>
  <dc:subject/>
  <dc:title>Презентация PowerPoint</dc:title>
</cp:coreProperties>
</file>