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064-389D-47A8-A5CF-B8ED33A2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303-DEDD-4D01-BB2B-5DD9D46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11D-4265-4FB1-B802-368C378B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B2D-D755-44D5-BB71-5DAD6B90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9B27-9CD6-4F8A-BA45-2067E6E0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D5F9-5369-47CB-94C8-53E4FBD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13A1-F9A9-4332-804E-5F9FBC11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C156-62A8-434D-91F5-FA5ECA7D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4BB8-909E-40F4-8D17-90551F1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8BBD-A93A-48B4-964B-73A0A39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4063-CDCD-4E99-B775-EFAD10B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E7C-24BB-4632-9BC8-72D28FB2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6764-C106-4A29-A442-3A964F0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2E6-DDBD-44C2-98DB-AC7287A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D5B-632F-4723-A37F-6343928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7AC1-45B6-4346-B13C-F6DF6408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9E93-5BCD-4FF8-90EA-312CA28C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C2E4-B962-4D22-82EB-DB85E7D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2A76-D12F-48AB-97DB-CC97970D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585D-1E07-4428-9D8D-9144D3E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87FC-6DAE-4255-99E3-C25433C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1D46-4A37-4173-96BA-5E58AB6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E42-FB76-4290-9F3A-CBAB686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8359-100A-4AEB-8E7A-A06E522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5549-1265-49FD-BEE9-BF39BCA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CF67-DD5E-4B4F-BB22-847CE4E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D4AF-5398-4B36-BCB5-E0C8125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5119-80A1-4737-BAB7-D11B6F0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99C8-DA2B-440F-9980-0FADD997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1DEA-8F03-4C10-B599-194FE4CD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2344-217B-4021-A107-EA8EE47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204E-F4B4-4929-938F-EBEED80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7CAE-8A33-46ED-9D29-29F18E4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732-79BC-4457-868D-4E27FF4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F0D5-5EBF-4CDB-A830-D73EA902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B40D-5DAA-43C7-B05A-D33818AB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0DED-A8B7-4D27-9678-22F5D62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6462-1E10-40CE-A9E5-BA48D6D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05A1-E696-44B4-AAFE-CD042FD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AE01-4163-4F42-A3B6-DD7768B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91E2-8E85-496A-8157-AA2001F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0EE5-5BEF-466F-8042-CB96EB98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B676-C4BE-463D-AE3E-F0783FCF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8B4-B6BE-4415-935B-913E98D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C6E-3810-4218-80CC-4C9AEC35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E5A-A5E7-4698-9CD7-08471B2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D23-4ACF-46F7-BADA-0344E72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66F-CA53-4A2D-AF31-7A1A58A8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0163-96A2-4128-BBFA-7235EC48C5B6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1ACE-8129-49BB-91A9-20FBEB86C172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3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E71-D845-45DF-9112-4244A60E5917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E938-D023-4F25-99B7-D98132AEA4F4}" type="slidenum">
              <a:rPr b="0" lang="en-US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26840" y="334440"/>
            <a:ext cx="8232840" cy="124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Муниципальное автономное дошкольное образовательное учреждение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Центр развития ребенка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Детский сад № 21 «Надежда»</a:t>
            </a:r>
            <a:br>
              <a:rPr sz="1100"/>
            </a:br>
            <a:r>
              <a:rPr b="1" lang="en-US" sz="1100" spc="-1" strike="noStrike">
                <a:solidFill>
                  <a:srgbClr val="167bf3"/>
                </a:solidFill>
                <a:latin typeface="Comic Sans MS"/>
              </a:rPr>
              <a:t>Городского округа Ступино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47680" y="2599920"/>
            <a:ext cx="783756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Проект в первой группе раннего возраст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на тему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67bf3"/>
                </a:solidFill>
                <a:latin typeface="Comic Sans MS"/>
              </a:rPr>
              <a:t>«В мире сказок»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223040" y="4917960"/>
            <a:ext cx="35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67bf3"/>
                </a:solidFill>
                <a:uFillTx/>
                <a:latin typeface="Comic Sans MS"/>
              </a:rPr>
              <a:t>Подготовила</a:t>
            </a: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: Тищенко А. В.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7bf3"/>
                </a:solidFill>
                <a:latin typeface="Comic Sans MS"/>
              </a:rPr>
              <a:t>воспитатель 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3880" y="1971720"/>
            <a:ext cx="741816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СПАСИБО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ЗА 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ВНИМАНИЕ!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26840" y="677880"/>
            <a:ext cx="82328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Актуальность проект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38280" y="1695600"/>
            <a:ext cx="72183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46194"/>
                </a:solidFill>
                <a:latin typeface="Comic Sans MS"/>
              </a:rPr>
              <a:t>Сказка – удивительное явление народного творчества. В мир сказок ребёнок вступает в самом раннем детстве, как только начинает говорить. Однажды, придя к малышу, сказка остается с ним навсегда как чудо, как радость, как память. В настоящее время трудно найти лучший способ воспитания детей, чем путь приобщения их с раннего детства к устному народному творчеству. Сказка даёт нравственные уроки сострадания, самоотверженности, сочувствия, любви ко всему живому, представление о морали, справедливости, необходимости борьбы со злом, расширяет жизненный опыт ребёнка. Сказка воспитывает любовь к Родине, знакомит с родной природой, обычаями, укладом русской жизни.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TextBox 4"/>
          <p:cNvSpPr/>
          <p:nvPr/>
        </p:nvSpPr>
        <p:spPr>
          <a:xfrm flipV="1">
            <a:off x="7223040" y="498636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26840" y="0"/>
            <a:ext cx="8232840" cy="20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Цель проекта: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иучать детей слушать народные сказк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347640" y="2161800"/>
            <a:ext cx="7304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67bf3"/>
                </a:solidFill>
                <a:latin typeface="Century Gothic"/>
              </a:rPr>
              <a:t> </a:t>
            </a: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Задачи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лушать сказки с наглядным сопровождением, театром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Учить сопровождать небольшие поэтические произведения игровыми действиям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редоставлять детям возможность договаривать слова, фразы при чтении воспитателем знакомых детям сказок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233880" y="1285920"/>
            <a:ext cx="7418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Вид проекта:</a:t>
            </a:r>
            <a:r>
              <a:rPr b="1" lang="en-US" sz="2400" spc="-1" strike="noStrike">
                <a:solidFill>
                  <a:srgbClr val="167bf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групповой, познавательны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Продолжительность проекта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краткосрочный (одна неделя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Участники проекта</a:t>
            </a:r>
            <a:r>
              <a:rPr b="1" lang="en-US" sz="1800" spc="-1" strike="noStrike" u="sng">
                <a:solidFill>
                  <a:srgbClr val="167bf3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ервой группы раннего возраста (1-2 года), воспитател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Подготовительный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формулировка цели и задач проект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составление плана реализации проекта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«В мире сказок»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Основно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чтение русских народных сказок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рассматривание иллюстраций в книгах «Русские народные сказки»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подвижные, дидактические, настольные игры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Заключительны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инсценировка русских народных сказок с использованием различных видов театро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33880" y="1228680"/>
            <a:ext cx="7418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167bf3"/>
                </a:solidFill>
                <a:uFillTx/>
                <a:latin typeface="Comic Sans MS"/>
              </a:rPr>
              <a:t>Результаты проекты: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Дети познакомились с русскими народными сказками, научились слушать их от начала до конца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игр дети учились соблюдать правила игр, учились уступать друг другу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46194"/>
                </a:solidFill>
                <a:latin typeface="Comic Sans MS"/>
              </a:rPr>
              <a:t>Во время подвижных игр закрепили бег и ориентировку в пространстве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5" descr=""/>
          <p:cNvPicPr/>
          <p:nvPr/>
        </p:nvPicPr>
        <p:blipFill>
          <a:blip r:embed="rId1"/>
          <a:stretch/>
        </p:blipFill>
        <p:spPr>
          <a:xfrm>
            <a:off x="0" y="-190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233880" y="2085840"/>
            <a:ext cx="741816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67bf3"/>
                </a:solidFill>
                <a:latin typeface="Comic Sans MS"/>
              </a:rPr>
              <a:t>ФОТОГАЛЕРЕЯ</a:t>
            </a:r>
            <a:endParaRPr b="0" lang="en-US" sz="4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3676680" y="1276200"/>
            <a:ext cx="2612880" cy="306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3"/>
          <a:stretch/>
        </p:blipFill>
        <p:spPr>
          <a:xfrm>
            <a:off x="6611760" y="3181320"/>
            <a:ext cx="37515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5" descr=""/>
          <p:cNvPicPr/>
          <p:nvPr/>
        </p:nvPicPr>
        <p:blipFill>
          <a:blip r:embed="rId1"/>
          <a:stretch/>
        </p:blipFill>
        <p:spPr>
          <a:xfrm>
            <a:off x="0" y="3240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26840" y="502200"/>
            <a:ext cx="82328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167bf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33880" y="5301000"/>
            <a:ext cx="7418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67bf3"/>
              </a:solidFill>
              <a:latin typeface="Century Gothic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223040" y="54514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3333600" y="1181160"/>
            <a:ext cx="3040200" cy="407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7072200" y="2190600"/>
            <a:ext cx="32338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13:00:16Z</dcterms:created>
  <dc:creator>Elena</dc:creator>
  <dc:description/>
  <dc:language>en-US</dc:language>
  <cp:lastModifiedBy>WWWUSER</cp:lastModifiedBy>
  <cp:lastPrinted>2017-04-16T16:14:05Z</cp:lastPrinted>
  <dcterms:modified xsi:type="dcterms:W3CDTF">2019-05-19T16:43:48Z</dcterms:modified>
  <cp:revision>24</cp:revision>
  <dc:subject/>
  <dc:title>Презентация PowerPoint</dc:title>
</cp:coreProperties>
</file>