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E1F-A5A4-46D3-98FC-0110C098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8AF-7832-41A5-A714-878745D6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6DB-65AB-4B2F-B627-FA062B35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25A-F5FA-4F93-A513-A854B483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C417-9F0E-4013-9220-4A8D8B0E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E74A-93B3-4B2E-AC71-F92C1ACD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9BD3-7D9B-4C2C-9973-E259805E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91E2-94CC-4965-90FF-25D6069A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1994-2531-4896-AB17-6365CFE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9242-8F8A-42B7-BA4E-26B44F02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9D72-F77A-401B-A11D-B03184C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70B-62C7-4B0F-9D19-23C6B38F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7DF1-8406-4862-B7CD-EE1E86CD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FE02-3ACD-4995-8E36-7B9FCD7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ABA1-75E6-44AC-8B0D-3E46365A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68BD-8700-42AF-AF9E-67F37F31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E370-286C-4A49-A9AE-EFE3EBB0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C194-2497-45D1-B7AB-FB3A224A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D598-7058-40C1-8FB8-962499AE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E099B-2172-42A8-855D-231C9E89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5D1C-37AB-400F-859B-4A6AC31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C8CF-9785-4D5F-9C79-10B1C556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D9E-DF3A-46D7-B7CC-81D1A9FB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591C-67CF-470F-8CB6-30B5BC5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C3C3-9208-4A7F-B845-A5284F4C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3EC1-16EB-4C3E-90A5-FC45E4DA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928E-5AE2-4E90-B70F-D4E7256D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1AF92-3384-4C38-A198-0A172102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2C89-82E6-4A12-9565-0B19ABF1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34A2-9A8E-4595-AF07-CBC1F602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B7AC-376C-457A-87A0-85D42CBC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359A5-6A79-4DD4-9919-4A1BBF9B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57EA5-7CD1-4079-B77D-1C262D3B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81C-5C24-4199-8BAF-753E055C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2DBD-2724-4581-B518-F383E8FF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C4074-3AF4-4E68-950C-5DA8A2AC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1D09B-FA6C-4DC9-A2A7-300A06B3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228C7-EBA8-494B-9CF2-EC9FFB9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3BAD5-5E51-4ABB-BF45-76B99267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BD68-C1D7-40AC-9993-8A3947F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C46F-D808-4A57-9B2E-1081BC67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404B-6278-4837-90D5-C6B43404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3498-5EF0-4E08-9135-91B56F18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7D4-F712-4204-83D5-A932AC0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8A8-0070-483E-AABC-F6EA1377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47B-3B49-4F9D-A7F1-D4DEB68D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8D9-8233-4C92-BB1F-53CB1CC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AE3-583C-4EF3-A6DA-79F781F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53AA-7CEF-4830-AD59-7C63B56BF646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472C-2ECA-48D3-94A5-AEAA895E7070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3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FCFA-1985-4FFD-8D2F-C6E2C35D04BD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0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578F-5AFD-4FBD-9564-58337EBDA586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26840" y="334440"/>
            <a:ext cx="8232840" cy="124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Муниципальное автономное дошкольное образовательное учреждение</a:t>
            </a:r>
            <a:br>
              <a:rPr sz="1100"/>
            </a:b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Центр развития ребенка</a:t>
            </a:r>
            <a:br>
              <a:rPr sz="1100"/>
            </a:b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Детский сад № 21 «Надежда»</a:t>
            </a:r>
            <a:br>
              <a:rPr sz="1100"/>
            </a:b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Городского округа Ступино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47680" y="2599920"/>
            <a:ext cx="783756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00" spc="-1" strike="noStrike">
                <a:solidFill>
                  <a:srgbClr val="167bf3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Проект в первой группе раннего возраста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на тему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«В мире сказок»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223040" y="4917960"/>
            <a:ext cx="358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67bf3"/>
                </a:solidFill>
                <a:uFillTx/>
                <a:latin typeface="Comic Sans MS"/>
              </a:rPr>
              <a:t>Подготовила</a:t>
            </a:r>
            <a:r>
              <a:rPr b="1" lang="en-US" sz="1600" spc="-1" strike="noStrike">
                <a:solidFill>
                  <a:srgbClr val="167bf3"/>
                </a:solidFill>
                <a:latin typeface="Comic Sans MS"/>
              </a:rPr>
              <a:t>: Тищенко А. В.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7bf3"/>
                </a:solidFill>
                <a:latin typeface="Comic Sans MS"/>
              </a:rPr>
              <a:t>воспитатель высшей квалификационной категори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5" descr=""/>
          <p:cNvPicPr/>
          <p:nvPr/>
        </p:nvPicPr>
        <p:blipFill>
          <a:blip r:embed="rId1"/>
          <a:stretch/>
        </p:blipFill>
        <p:spPr>
          <a:xfrm>
            <a:off x="0" y="32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3880" y="1971720"/>
            <a:ext cx="741816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СПАСИБО 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ЗА 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ВНИМАНИЕ!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26840" y="677880"/>
            <a:ext cx="82328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Актуальность проекта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38280" y="1695600"/>
            <a:ext cx="72183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46194"/>
                </a:solidFill>
                <a:latin typeface="Comic Sans MS"/>
              </a:rPr>
              <a:t>Сказка – удивительное явление народного творчества. В мир сказок ребёнок вступает в самом раннем детстве, как только начинает говорить. Однажды, придя к малышу, сказка остается с ним навсегда как чудо, как радость, как память. В настоящее время трудно найти лучший способ воспитания детей, чем путь приобщения их с раннего детства к устному народному творчеству. Сказка даёт нравственные уроки сострадания, самоотверженности, сочувствия, любви ко всему живому, представление о морали, справедливости, необходимости борьбы со злом, расширяет жизненный опыт ребёнка. Сказка воспитывает любовь к Родине, знакомит с родной природой, обычаями, укладом русской жизни.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8" name="TextBox 4"/>
          <p:cNvSpPr/>
          <p:nvPr/>
        </p:nvSpPr>
        <p:spPr>
          <a:xfrm flipV="1">
            <a:off x="7223040" y="498636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26840" y="0"/>
            <a:ext cx="8232840" cy="20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Цель проекта: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Приучать детей слушать народные сказк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347640" y="2161800"/>
            <a:ext cx="7304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67bf3"/>
                </a:solidFill>
                <a:latin typeface="Century Gothic"/>
              </a:rPr>
              <a:t> </a:t>
            </a: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Задачи: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Учить слушать сказки с наглядным сопровождением, театром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Учить сопровождать небольшие поэтические произведения игровыми действиями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Предоставлять детям возможность договаривать слова, фразы при чтении воспитателем знакомых детям сказок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233880" y="1285920"/>
            <a:ext cx="7418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Вид проекта:</a:t>
            </a:r>
            <a:r>
              <a:rPr b="1" lang="en-US" sz="2400" spc="-1" strike="noStrike">
                <a:solidFill>
                  <a:srgbClr val="167bf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групповой, познавательны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Продолжительность проекта: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краткосрочный (одна неделя)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Участники проекта</a:t>
            </a:r>
            <a:r>
              <a:rPr b="1" lang="en-US" sz="1800" spc="-1" strike="noStrike" u="sng">
                <a:solidFill>
                  <a:srgbClr val="167bf3"/>
                </a:solidFill>
                <a:uFillTx/>
                <a:latin typeface="Comic Sans MS"/>
              </a:rPr>
              <a:t>: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дети первой группы раннего возраста (1-2 года), воспитател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233880" y="1228680"/>
            <a:ext cx="7418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Подготовительный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формулировка цели и задач проекта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составление плана реализации проекта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«В мире сказок»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Основной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чтение русских народных сказок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рассматривание иллюстраций в книгах «Русские народные сказки»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подвижные, дидактические, настольные игры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Заключительный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инсценировка русских народных сказок с использованием различных видов театров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33880" y="1228680"/>
            <a:ext cx="7418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Результаты проекты: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Дети познакомились с русскими народными сказками, научились слушать их от начала до конца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Во время игр дети учились соблюдать правила игр, учились уступать друг другу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Во время подвижных игр закрепили бег и ориентировку в пространстве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233880" y="2085840"/>
            <a:ext cx="741816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ФОТОГАЛЕРЕЯ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5" descr=""/>
          <p:cNvPicPr/>
          <p:nvPr/>
        </p:nvPicPr>
        <p:blipFill>
          <a:blip r:embed="rId1"/>
          <a:stretch/>
        </p:blipFill>
        <p:spPr>
          <a:xfrm>
            <a:off x="0" y="32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233880" y="5301000"/>
            <a:ext cx="7418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67bf3"/>
              </a:solidFill>
              <a:latin typeface="Century Gothic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2"/>
          <a:stretch/>
        </p:blipFill>
        <p:spPr>
          <a:xfrm>
            <a:off x="3676680" y="1276200"/>
            <a:ext cx="2612880" cy="306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3"/>
          <a:stretch/>
        </p:blipFill>
        <p:spPr>
          <a:xfrm>
            <a:off x="6611760" y="3181320"/>
            <a:ext cx="37515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5" descr=""/>
          <p:cNvPicPr/>
          <p:nvPr/>
        </p:nvPicPr>
        <p:blipFill>
          <a:blip r:embed="rId1"/>
          <a:stretch/>
        </p:blipFill>
        <p:spPr>
          <a:xfrm>
            <a:off x="0" y="32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233880" y="5301000"/>
            <a:ext cx="7418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67bf3"/>
              </a:solidFill>
              <a:latin typeface="Century Gothic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3333600" y="1181160"/>
            <a:ext cx="3040200" cy="4071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3"/>
          <a:stretch/>
        </p:blipFill>
        <p:spPr>
          <a:xfrm>
            <a:off x="7072200" y="2190600"/>
            <a:ext cx="323388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13:00:16Z</dcterms:created>
  <dc:creator>Elena</dc:creator>
  <dc:description/>
  <dc:language>en-US</dc:language>
  <cp:lastModifiedBy>WWWUSER</cp:lastModifiedBy>
  <cp:lastPrinted>2017-04-16T16:14:05Z</cp:lastPrinted>
  <dcterms:modified xsi:type="dcterms:W3CDTF">2019-05-19T16:43:48Z</dcterms:modified>
  <cp:revision>24</cp:revision>
  <dc:subject/>
  <dc:title>Презентация PowerPoint</dc:title>
</cp:coreProperties>
</file>