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A442-8285-4AD1-9F43-4C1CF1BF61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5456-4D31-4CA7-B494-B221FDA27D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6480-0405-4AA6-8B9C-CD39507DF07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ADB8-0C6B-48BB-A3B9-E3E19E6C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561A-C35D-48D1-AD65-B575C42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7A60-E9B1-4042-8EBF-F4C9CA4A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BEBF-8124-4C24-A920-1CB2F37F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1BF3-F127-4829-9611-F7F8A476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3B16-B848-4595-AE3F-4C140DAE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0D58-7C0F-4703-B910-469C5EC9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AFC2-73CE-43BE-A4AE-120E1A18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B07F-77AD-4D25-9A48-78FC19D0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79D5-07CD-42A4-AE5C-C841E360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FC40-74D6-42C0-9576-9BF5C18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B757-1DBF-4E2C-9CEE-68BA154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BB1F-E19D-4EB7-B375-D97C61DA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5CA0-AD79-4516-A36B-D0C788BA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28AC-36AE-4D48-BDFA-15664DAC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3294-2878-4AA4-A2FD-17B38712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295A-30BB-4730-B2D1-1426F150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E58A-5F30-4BA2-B1F5-250D8C63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83E8-D7B2-4334-90F4-DCCE6F75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38D5-6446-4114-A3F0-FAA0EAB2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E2B2-E745-4C7E-BA9A-28D4E0AF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E9FE-7A48-420A-82D7-62AEE719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19F8-3C55-4FA1-A29A-890B992B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C793-27D6-449B-9557-A04838A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D2DC-638B-4CF7-AE5C-DBAD1E1F6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FCA-0B43-40E2-A8FE-84D251B228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slide39.xml"/><Relationship Id="rId17" Type="http://schemas.openxmlformats.org/officeDocument/2006/relationships/slide" Target="slide40.xml"/><Relationship Id="rId18" Type="http://schemas.openxmlformats.org/officeDocument/2006/relationships/slide" Target="slide41.xml"/><Relationship Id="rId19" Type="http://schemas.openxmlformats.org/officeDocument/2006/relationships/slide" Target="slide42.xml"/><Relationship Id="rId20" Type="http://schemas.openxmlformats.org/officeDocument/2006/relationships/slide" Target="slide43.xml"/><Relationship Id="rId21" Type="http://schemas.openxmlformats.org/officeDocument/2006/relationships/slide" Target="slide44.xml"/><Relationship Id="rId2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28560" y="4214520"/>
            <a:ext cx="60721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Рисунок 6" descr="0402dvlcsnap2010020318h57m29s79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-325440" y="3995640"/>
            <a:ext cx="100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Segoe Script"/>
              </a:rPr>
              <a:t>Новая история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Segoe Script"/>
              </a:rPr>
              <a:t>7 класс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468360" y="5641920"/>
            <a:ext cx="1120680" cy="93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642960" y="1500120"/>
            <a:ext cx="7858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изготавливает карт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ртограф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42960" y="1785960"/>
            <a:ext cx="72867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удия с длинными стволами, стрелявшие железными яд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785880" y="1714680"/>
            <a:ext cx="7572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типов имеет мануфактура, как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рассеянная, централизова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642960" y="1500120"/>
            <a:ext cx="8143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тин Лю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https://avatars.mds.yandex.net/i?id=9d0bf77dc06d27022f525c50a3b9d985b59f1f36-8285817-images-thumbs&amp;n=13"/>
          <p:cNvPicPr/>
          <p:nvPr/>
        </p:nvPicPr>
        <p:blipFill>
          <a:blip r:embed="rId2"/>
          <a:stretch/>
        </p:blipFill>
        <p:spPr>
          <a:xfrm>
            <a:off x="3059280" y="2637000"/>
            <a:ext cx="215244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000080" y="1643040"/>
            <a:ext cx="7388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Жан Кальв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https://sun9-41.userapi.com/impg/IeJjqFttLkQctK-3EFApSMGHdlrJWwMVArKvMQ/qjLxGTdqj20.jpg?size=674x800&amp;quality=95&amp;sign=81e54223f22d9391608680cbbfac70f0&amp;c_uniq_tag=cmqFwBzMBn49xFNQOOBJokfb6fp5RYg3jlGrv0cD9Pc&amp;type=album"/>
          <p:cNvPicPr/>
          <p:nvPr/>
        </p:nvPicPr>
        <p:blipFill>
          <a:blip r:embed="rId2"/>
          <a:stretch/>
        </p:blipFill>
        <p:spPr>
          <a:xfrm>
            <a:off x="3059280" y="2924280"/>
            <a:ext cx="25891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71680" y="1357200"/>
            <a:ext cx="80010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ия Крова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https://nlo-mir.ru/wp-content/uploads/2019/02/5c6ba172ab4d4_18-fevralja-1516-rodilas-marija-i-tjudor.jpg"/>
          <p:cNvPicPr/>
          <p:nvPr/>
        </p:nvPicPr>
        <p:blipFill>
          <a:blip r:embed="rId2"/>
          <a:stretch/>
        </p:blipFill>
        <p:spPr>
          <a:xfrm>
            <a:off x="3132000" y="2637000"/>
            <a:ext cx="2448000" cy="331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857160" y="1143000"/>
            <a:ext cx="76438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лизавета </a:t>
            </a:r>
            <a:r>
              <a:rPr b="1" i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https://nypost.com/wp-content/uploads/sites/2/2020/05/elizabeth-i-2.jpg"/>
          <p:cNvPicPr/>
          <p:nvPr/>
        </p:nvPicPr>
        <p:blipFill>
          <a:blip r:embed="rId2"/>
          <a:stretch/>
        </p:blipFill>
        <p:spPr>
          <a:xfrm>
            <a:off x="3203640" y="2717640"/>
            <a:ext cx="2539800" cy="3811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85880" y="142884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ернан Магелл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https://personajeshistoricos.com/wp-content/uploads/2018/02/Fernando-de-Magallanes-3.jpg"/>
          <p:cNvPicPr/>
          <p:nvPr/>
        </p:nvPicPr>
        <p:blipFill>
          <a:blip r:embed="rId2"/>
          <a:stretch/>
        </p:blipFill>
        <p:spPr>
          <a:xfrm>
            <a:off x="1619280" y="3284640"/>
            <a:ext cx="2859120" cy="2522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28800" y="1785960"/>
            <a:ext cx="72864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есть кого названа Амери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мериго Веспуч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57160" y="2000160"/>
            <a:ext cx="7429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то открыл Амери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ристофор Колум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1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14240" y="1397160"/>
          <a:ext cx="7429680" cy="395604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Garamond"/>
                        </a:rPr>
                        <a:t>1.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Поня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. Технические откры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. Их знают вс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4. Великие географические открыт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847800" y="1298520"/>
            <a:ext cx="7358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 называли человека, который мог купить перец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шок с перц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500120" y="1687680"/>
            <a:ext cx="6143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Чья экспедиция доказала, что Земля имеет форму шар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Магелл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642960" y="200016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Что такое конкис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завое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2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4240" y="1397160"/>
          <a:ext cx="7429680" cy="334800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Д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. Ре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 Контрре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4. Парла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6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7" action="ppaction://hlinksldjump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8" action="ppaction://hlinksldjump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9" action="ppaction://hlinksldjump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0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2" name="Управляющая кнопка: в конец 3">
            <a:hlinkClick r:id="rId21" action="ppaction://hlinksldjump"/>
          </p:cNvPr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465120" y="1700280"/>
            <a:ext cx="8072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в каком году открыли Амери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492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714240" y="1857240"/>
            <a:ext cx="7858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24 августа 1572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рфоломеевская ноч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714240" y="185724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598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нтский эди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 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143000" y="1785960"/>
            <a:ext cx="621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524-15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рестьянская война в Герм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1.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785880" y="171468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1534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образование ордена иезуитов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857160" y="1500120"/>
            <a:ext cx="7572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оположник лютеранской церк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тин Лю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28800" y="1785960"/>
            <a:ext cx="778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1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Последователи кальвинизма в Англ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: пури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857160" y="170640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началась Реформац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зя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9" descr="Качественные Печати В Музеях дворянин - паук, а крестьянин - муха по  Jacques Lagniet (1620-1675, France) |"/>
          <p:cNvPicPr/>
          <p:nvPr/>
        </p:nvPicPr>
        <p:blipFill>
          <a:blip r:embed="rId2"/>
          <a:stretch/>
        </p:blipFill>
        <p:spPr>
          <a:xfrm>
            <a:off x="2165400" y="3240000"/>
            <a:ext cx="266364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214280" y="1857240"/>
            <a:ext cx="6786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ульгенция – э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рамота об отпущении грех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571680" y="1857240"/>
            <a:ext cx="82864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ответ предложил верующим Мартин Лютер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достичь спасение душ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714240" y="178596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нники реформации – э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протеста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оположник кальви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Жан Кальв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428760" y="21430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онтрреформация – эт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церковная политика направленная на то, чтобы остановить распространение протестан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00040" y="1714680"/>
            <a:ext cx="828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тель «Общества Иисус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Игнатий Лойо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428760" y="1714680"/>
            <a:ext cx="8286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течение, отклоняющиеся от официального церковного у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ер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928800" y="178596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ак называлась церковь Жана Кальви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львинист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71680" y="1857240"/>
            <a:ext cx="8072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отличия Средневекового человека от человека Нового врем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Управляющая кнопка: назад 4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4240" y="2143080"/>
            <a:ext cx="80726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2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ижение за переустройство католической церк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Реформ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392040" y="1844640"/>
            <a:ext cx="835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ли новые зем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овый Свет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14240" y="1785960"/>
            <a:ext cx="78584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Кто такие гугенот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львинисты во Фран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1000080" y="1785960"/>
            <a:ext cx="73580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чем суть кар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9" descr="https://webpulse.imgsmail.ru/imgpreview?mb=webpulse&amp;key=pulse_cabinet-image-9e8b6aab-8193-4489-8347-a053d0b46218"/>
          <p:cNvPicPr/>
          <p:nvPr/>
        </p:nvPicPr>
        <p:blipFill>
          <a:blip r:embed="rId1"/>
          <a:stretch/>
        </p:blipFill>
        <p:spPr>
          <a:xfrm>
            <a:off x="1692360" y="3351240"/>
            <a:ext cx="4457520" cy="2960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714240" y="178596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В чем суть кар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8" descr="https://papik.pro/izobr/uploads/posts/2023-03/1677752756_papik-pro-p-karikatura-papa-rimskii-i-bogoslovi-12.jpg"/>
          <p:cNvPicPr/>
          <p:nvPr/>
        </p:nvPicPr>
        <p:blipFill>
          <a:blip r:embed="rId1"/>
          <a:srcRect l="2419" t="5705" r="2022" b="5861"/>
          <a:stretch/>
        </p:blipFill>
        <p:spPr>
          <a:xfrm>
            <a:off x="1116000" y="3716280"/>
            <a:ext cx="568800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Garamond"/>
              </a:rPr>
              <a:t>Подведение итогов викторины</a:t>
            </a:r>
            <a:br>
              <a:rPr sz="2600"/>
            </a:b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248" name="Рисунок 4" descr="casos.png"/>
          <p:cNvPicPr/>
          <p:nvPr/>
        </p:nvPicPr>
        <p:blipFill>
          <a:blip r:embed="rId1"/>
          <a:stretch/>
        </p:blipFill>
        <p:spPr>
          <a:xfrm>
            <a:off x="1547640" y="1484280"/>
            <a:ext cx="6123240" cy="583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071720" y="2143080"/>
            <a:ext cx="72151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3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предприятия, основанного на разделении тр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мануфа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71680" y="2000160"/>
            <a:ext cx="82152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5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й сословно-представительный орган во Фран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Генер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</a:rPr>
              <a:t>Шт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14240" y="1785960"/>
            <a:ext cx="7500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7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ое место, где осуществлялись купля и продажа товаров и ценных бум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Бирж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28800" y="1285920"/>
            <a:ext cx="7572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ый тип хорошо управляемого суд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равел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187280" y="1700280"/>
            <a:ext cx="72867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тильное крупнокалиберное руж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ушк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Василий Андреев</cp:lastModifiedBy>
  <dcterms:modified xsi:type="dcterms:W3CDTF">2023-11-12T06:24:05Z</dcterms:modified>
  <cp:revision>143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