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5044-B2A4-4691-9D2A-A577D3FD09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0207-527D-4DBB-B21E-3552FEEDCD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BD12-3EF3-4D92-9F10-EB95A19D19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1E39-1B42-4C6F-8E3F-D0598479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4541-606A-4697-968A-D8E0C636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D2BD-C614-41F0-9633-A18F9787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4C6F-5C96-4BA3-ABBC-08F7916B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5765-A3FD-4DFD-8D52-923490F9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FFD1-6722-4C8A-862B-9D0FE900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AFDA-8274-4152-94BD-A9D0AAAB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171C-4283-4D55-8723-5D8666CB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CCD0-5600-420F-8068-6AAE070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A09A-9BD2-4EAD-98ED-4307532B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2FA0-8935-4D64-A289-C0251704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7D24-722F-4BCE-BDB3-8EE95E14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61B6-EE60-4A92-9203-2613D8B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A3B6-3EBE-409F-A4FD-9EF3480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8BDA-570D-4074-A2A4-A122AD52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4776-5EF6-47C6-8669-6751E7D3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2BFC-1938-41BA-ABE4-F1CFC4C0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C7C0-034F-4C35-A00B-DBF8D4C2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8F55-F4E8-4990-97D7-41DE0FFE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0751-AD5F-4D19-B2C9-CFF29FFA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546B-8BC7-4FAA-B664-76807E1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0E1B-1F6B-4C6E-A85A-8B340361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976E-ED19-43C9-BA67-03DB3E05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9F58-B153-4737-A781-4F735C6F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8B2B-70EF-4859-9600-2AC8CF7E8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674-8A92-4FB5-9E32-37426B0D69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slide39.xml"/><Relationship Id="rId17" Type="http://schemas.openxmlformats.org/officeDocument/2006/relationships/slide" Target="slide40.xml"/><Relationship Id="rId18" Type="http://schemas.openxmlformats.org/officeDocument/2006/relationships/slide" Target="slide41.xml"/><Relationship Id="rId19" Type="http://schemas.openxmlformats.org/officeDocument/2006/relationships/slide" Target="slide42.xml"/><Relationship Id="rId20" Type="http://schemas.openxmlformats.org/officeDocument/2006/relationships/slide" Target="slide43.xml"/><Relationship Id="rId21" Type="http://schemas.openxmlformats.org/officeDocument/2006/relationships/slide" Target="slide44.xml"/><Relationship Id="rId2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28560" y="4214520"/>
            <a:ext cx="60721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Рисунок 6" descr="0402dvlcsnap2010020318h57m29s79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-325440" y="3995640"/>
            <a:ext cx="100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Segoe Script"/>
              </a:rPr>
              <a:t>Новая история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Segoe Script"/>
              </a:rPr>
              <a:t>7 класс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468360" y="5641920"/>
            <a:ext cx="1120680" cy="93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642960" y="1500120"/>
            <a:ext cx="7858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изготавливает карт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ртограф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42960" y="1785960"/>
            <a:ext cx="72867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удия с длинными стволами, стрелявшие железными яд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785880" y="1714680"/>
            <a:ext cx="7572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типов имеет мануфактура, как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рассеянная, централизова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642960" y="1500120"/>
            <a:ext cx="8143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тин Лю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https://avatars.mds.yandex.net/i?id=9d0bf77dc06d27022f525c50a3b9d985b59f1f36-8285817-images-thumbs&amp;n=13"/>
          <p:cNvPicPr/>
          <p:nvPr/>
        </p:nvPicPr>
        <p:blipFill>
          <a:blip r:embed="rId2"/>
          <a:stretch/>
        </p:blipFill>
        <p:spPr>
          <a:xfrm>
            <a:off x="3059280" y="2637000"/>
            <a:ext cx="215244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1643040"/>
            <a:ext cx="7388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Жан Кальв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https://sun9-41.userapi.com/impg/IeJjqFttLkQctK-3EFApSMGHdlrJWwMVArKvMQ/qjLxGTdqj20.jpg?size=674x800&amp;quality=95&amp;sign=81e54223f22d9391608680cbbfac70f0&amp;c_uniq_tag=cmqFwBzMBn49xFNQOOBJokfb6fp5RYg3jlGrv0cD9Pc&amp;type=album"/>
          <p:cNvPicPr/>
          <p:nvPr/>
        </p:nvPicPr>
        <p:blipFill>
          <a:blip r:embed="rId2"/>
          <a:stretch/>
        </p:blipFill>
        <p:spPr>
          <a:xfrm>
            <a:off x="3059280" y="2924280"/>
            <a:ext cx="25891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71680" y="1357200"/>
            <a:ext cx="80010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ия Крова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https://nlo-mir.ru/wp-content/uploads/2019/02/5c6ba172ab4d4_18-fevralja-1516-rodilas-marija-i-tjudor.jpg"/>
          <p:cNvPicPr/>
          <p:nvPr/>
        </p:nvPicPr>
        <p:blipFill>
          <a:blip r:embed="rId2"/>
          <a:stretch/>
        </p:blipFill>
        <p:spPr>
          <a:xfrm>
            <a:off x="3132000" y="2637000"/>
            <a:ext cx="2448000" cy="331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857160" y="1143000"/>
            <a:ext cx="76438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лизавета </a:t>
            </a:r>
            <a:r>
              <a:rPr b="1" i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https://nypost.com/wp-content/uploads/sites/2/2020/05/elizabeth-i-2.jpg"/>
          <p:cNvPicPr/>
          <p:nvPr/>
        </p:nvPicPr>
        <p:blipFill>
          <a:blip r:embed="rId2"/>
          <a:stretch/>
        </p:blipFill>
        <p:spPr>
          <a:xfrm>
            <a:off x="3203640" y="2717640"/>
            <a:ext cx="2539800" cy="3811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85880" y="142884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ернан Магелл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https://personajeshistoricos.com/wp-content/uploads/2018/02/Fernando-de-Magallanes-3.jpg"/>
          <p:cNvPicPr/>
          <p:nvPr/>
        </p:nvPicPr>
        <p:blipFill>
          <a:blip r:embed="rId2"/>
          <a:stretch/>
        </p:blipFill>
        <p:spPr>
          <a:xfrm>
            <a:off x="1619280" y="3284640"/>
            <a:ext cx="2859120" cy="2522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28800" y="1785960"/>
            <a:ext cx="72864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есть кого названа Амери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мериго Веспуч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57160" y="2000160"/>
            <a:ext cx="7429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то открыл Амери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ристофор Колум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1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14240" y="1397160"/>
          <a:ext cx="7429680" cy="395604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Garamond"/>
                        </a:rPr>
                        <a:t>1.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Поня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. Технические откры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. Их знают вс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4. Великие географические откры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847800" y="1298520"/>
            <a:ext cx="7358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 называли человека, который мог купить перец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шок с перц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500120" y="1687680"/>
            <a:ext cx="6143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Чья экспедиция доказала, что Земля имеет форму шар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Магелл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642960" y="200016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Что такое конкис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завое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2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4240" y="1397160"/>
          <a:ext cx="7429680" cy="334800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Д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. Ре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 Контрре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4. Парла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6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7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8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9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0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2" name="Управляющая кнопка: в конец 3">
            <a:hlinkClick r:id="rId21" action="ppaction://hlinksldjump"/>
          </p:cNvPr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465120" y="1700280"/>
            <a:ext cx="8072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в каком году открыли Амери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492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714240" y="1857240"/>
            <a:ext cx="7858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24 августа 1572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рфоломеевская ноч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714240" y="185724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598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нтский эди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143000" y="1785960"/>
            <a:ext cx="621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524-15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рестьянская война в Герм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785880" y="171468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534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образование ордена иезуитов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857160" y="1500120"/>
            <a:ext cx="7572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оположник лютеранской церк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тин Лю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28800" y="1785960"/>
            <a:ext cx="778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1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Последователи кальвинизма в Англ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: пури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857160" y="170640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началась Реформац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зя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9" descr="Качественные Печати В Музеях дворянин - паук, а крестьянин - муха по  Jacques Lagniet (1620-1675, France) |"/>
          <p:cNvPicPr/>
          <p:nvPr/>
        </p:nvPicPr>
        <p:blipFill>
          <a:blip r:embed="rId2"/>
          <a:stretch/>
        </p:blipFill>
        <p:spPr>
          <a:xfrm>
            <a:off x="2165400" y="3240000"/>
            <a:ext cx="266364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214280" y="1857240"/>
            <a:ext cx="6786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ульгенция – э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рамота об отпущении грех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571680" y="1857240"/>
            <a:ext cx="82864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ответ предложил верующим Мартин Лютер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достичь спасение душ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714240" y="178596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нники реформации – э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протеста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оположник кальви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Жан Кальв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428760" y="21430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онтрреформация – эт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церковная политика направленная на то, чтобы остановить распространение протестан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00040" y="1714680"/>
            <a:ext cx="828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тель «Общества Иисус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Игнатий Лойо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428760" y="1714680"/>
            <a:ext cx="8286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течение, отклоняющиеся от официального церковного у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ер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928800" y="178596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 называлась церковь Жана Кальви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львинист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71680" y="1857240"/>
            <a:ext cx="8072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отличия Средневекового человека от человека Нового врем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Управляющая кнопка: назад 4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4240" y="2143080"/>
            <a:ext cx="80726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2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ижение за переустройство католической церк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Реформ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392040" y="1844640"/>
            <a:ext cx="835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ли новые зем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овый Свет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14240" y="1785960"/>
            <a:ext cx="78584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то такие гугенот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львинисты во Фран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1000080" y="1785960"/>
            <a:ext cx="73580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чем суть кар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9" descr="https://webpulse.imgsmail.ru/imgpreview?mb=webpulse&amp;key=pulse_cabinet-image-9e8b6aab-8193-4489-8347-a053d0b46218"/>
          <p:cNvPicPr/>
          <p:nvPr/>
        </p:nvPicPr>
        <p:blipFill>
          <a:blip r:embed="rId1"/>
          <a:stretch/>
        </p:blipFill>
        <p:spPr>
          <a:xfrm>
            <a:off x="1692360" y="3351240"/>
            <a:ext cx="4457520" cy="2960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714240" y="178596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чем суть кар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8" descr="https://papik.pro/izobr/uploads/posts/2023-03/1677752756_papik-pro-p-karikatura-papa-rimskii-i-bogoslovi-12.jpg"/>
          <p:cNvPicPr/>
          <p:nvPr/>
        </p:nvPicPr>
        <p:blipFill>
          <a:blip r:embed="rId1"/>
          <a:srcRect l="2419" t="5705" r="2022" b="5861"/>
          <a:stretch/>
        </p:blipFill>
        <p:spPr>
          <a:xfrm>
            <a:off x="1116000" y="3716280"/>
            <a:ext cx="568800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Garamond"/>
              </a:rPr>
              <a:t>Подведение итогов викторины</a:t>
            </a:r>
            <a:br>
              <a:rPr sz="2600"/>
            </a:b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248" name="Рисунок 4" descr="casos.png"/>
          <p:cNvPicPr/>
          <p:nvPr/>
        </p:nvPicPr>
        <p:blipFill>
          <a:blip r:embed="rId1"/>
          <a:stretch/>
        </p:blipFill>
        <p:spPr>
          <a:xfrm>
            <a:off x="1547640" y="1484280"/>
            <a:ext cx="6123240" cy="583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071720" y="2143080"/>
            <a:ext cx="72151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3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предприятия, основанного на разделении тр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мануфа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71680" y="2000160"/>
            <a:ext cx="82152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5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й сословно-представительный орган во Фран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Генер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Шт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14240" y="1785960"/>
            <a:ext cx="7500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7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ое место, где осуществлялись купля и продажа товаров и ценных бум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Бирж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28800" y="1285920"/>
            <a:ext cx="7572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ый тип хорошо управляемого суд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равел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187280" y="1700280"/>
            <a:ext cx="72867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тильное крупнокалиберное руж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ушк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Василий Андреев</cp:lastModifiedBy>
  <dcterms:modified xsi:type="dcterms:W3CDTF">2023-11-12T06:24:05Z</dcterms:modified>
  <cp:revision>143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