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F0B-A568-4B23-80C2-A86B552D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8A1-656A-4996-A071-0DD9CFDE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5E9-03ED-443D-99CA-0A28B2E7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9B3-2ECB-47B9-A8D0-89E5A080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A9FA-4205-4BFC-8C21-A136FB3B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8B25-ED49-4A91-8857-438F00CA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4C97-1CF7-4F6B-A2D0-5159F827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1A8E-D70C-4682-96D5-D6AEFCF6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7C4A-FDB6-4D5A-A773-B353D157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85440" y="364680"/>
            <a:ext cx="69296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C67E-0F15-4D36-91F8-D26884F2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7E7F-8723-47AF-A25A-4C8C8D0B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82B-AC53-4F51-BEB0-46EA80A6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DB90-67CF-4A77-A554-33D9786F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B7AE-915B-4762-8B6A-8371C353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D10D-57F8-444F-9D1E-103B34A2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9680-76AD-4D0C-ACFF-DC447D01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CF29-717D-4ED8-BEB2-1212DDDD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866-17AA-45A6-93E1-59FDFCD2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314-BC49-4645-A70F-78EFE96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9BF-ADD9-4D1A-BBD1-9F80AA67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85440" y="364680"/>
            <a:ext cx="69296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2F0-F868-4043-9A46-A13BB2AE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B2D-0C16-4AB1-9C7D-F4DA02B4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9CC-B17F-4536-BE0C-729803DD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4F5-8B19-4AC3-B789-4F062ECB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E8B6-1967-4B4F-9BB8-84789B1370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352E-2A2A-434F-B325-8D99A6545A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066680" y="2514240"/>
            <a:ext cx="69292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А.С.Пушкин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 «Узник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Picture 5" descr="C:\Users\SONY\Desktop\Пушкин.jpg"/>
          <p:cNvPicPr/>
          <p:nvPr/>
        </p:nvPicPr>
        <p:blipFill>
          <a:blip r:embed="rId1"/>
          <a:stretch/>
        </p:blipFill>
        <p:spPr>
          <a:xfrm>
            <a:off x="4876920" y="1981080"/>
            <a:ext cx="3855960" cy="4351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Работа с названием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1447560"/>
            <a:ext cx="350532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Стихотво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А. С.Пушкина      называется «Узн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ff99"/>
                </a:solidFill>
                <a:latin typeface="Calibri"/>
              </a:rPr>
              <a:t>Ваше предполож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ff99"/>
                </a:solidFill>
                <a:latin typeface="Calibri"/>
              </a:rPr>
              <a:t>о чём это произведение? Запомните 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2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49053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Синтаксический  эксперимент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1447920"/>
            <a:ext cx="745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2239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050"/>
                </a:solidFill>
                <a:uFillTx/>
                <a:latin typeface="Calibri"/>
              </a:rPr>
              <a:t>УЗ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Сижу за решеткой в темнице сыр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Вскормлённый в неволе орёл мол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Мой грустный товарищ махая кры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ровавую пищу клюёт под ок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840" indent="-2239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асставьте  знаки препинани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5f5f5"/>
                </a:solidFill>
                <a:latin typeface="Calibri Light"/>
              </a:rPr>
              <a:t>В помощь «заплутавшимся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5120" y="1294920"/>
            <a:ext cx="7230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- Почему после первой строчки точка, а не запята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-Во время чтения после первого стиха должна быть   длинная пауза, потому чт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- Кто говорит «Сижу…»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- Кто это «мой грустный товарищ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-  Сколько персонаж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99"/>
                </a:solidFill>
                <a:latin typeface="Calibri Light"/>
              </a:rPr>
              <a:t>Создание  схемы месторасположения героев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29000" y="1523880"/>
            <a:ext cx="548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Нарисуйте схему размещения героев   стихотворе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Где они находятс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Докажите текст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Они за решетк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Оба. Всё врем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Гуляют лишь в мечт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ff0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12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576600" cy="39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85440" y="364680"/>
            <a:ext cx="6929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 Light"/>
              </a:rPr>
              <a:t>Какими приемами создается грустное настроение в </a:t>
            </a:r>
            <a:r>
              <a:rPr b="0" lang="en-US" sz="2500" spc="-1" strike="noStrike">
                <a:solidFill>
                  <a:srgbClr val="000000"/>
                </a:solidFill>
                <a:latin typeface="Calibri Light"/>
              </a:rPr>
              <a:t>I </a:t>
            </a:r>
            <a:r>
              <a:rPr b="0" lang="ru-RU" sz="2500" spc="-1" strike="noStrike">
                <a:solidFill>
                  <a:srgbClr val="000000"/>
                </a:solidFill>
                <a:latin typeface="Calibri Light"/>
              </a:rPr>
              <a:t>строфе?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5120" y="1523520"/>
            <a:ext cx="5097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21024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Сижу за решеткой в темнице  сыро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Вскормлённый в неволе орёл молодой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Мой грустный товарищ, махая крылом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                            </a:t>
            </a:r>
            <a:r>
              <a:rPr b="0" lang="ru-RU" sz="1900" spc="-1" strike="noStrike">
                <a:solidFill>
                  <a:srgbClr val="00b050"/>
                </a:solidFill>
                <a:latin typeface="Calibri"/>
              </a:rPr>
              <a:t>Кровавую пищу клюёт под окном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eeff"/>
                </a:solidFill>
                <a:latin typeface="Calibri Light"/>
              </a:rPr>
              <a:t>Почему Пушкин слову ТЮРЬМА предпочел ТЕМНИЦА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eeff"/>
                </a:solidFill>
                <a:latin typeface="Calibri Light"/>
              </a:rPr>
              <a:t>Почему уточнено, что ОРЕЛ </a:t>
            </a:r>
            <a:r>
              <a:rPr b="0" lang="ru-RU" sz="1900" spc="-1" strike="noStrike" u="sng">
                <a:solidFill>
                  <a:srgbClr val="c1eeff"/>
                </a:solidFill>
                <a:uFillTx/>
                <a:latin typeface="Calibri Light"/>
              </a:rPr>
              <a:t>МОЛОДОЙ</a:t>
            </a:r>
            <a:r>
              <a:rPr b="0" lang="ru-RU" sz="1900" spc="-1" strike="noStrike">
                <a:solidFill>
                  <a:srgbClr val="c1eeff"/>
                </a:solidFill>
                <a:latin typeface="Calibri Light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eeff"/>
                </a:solidFill>
                <a:latin typeface="Calibri Light"/>
              </a:rPr>
              <a:t>Есть ли движение? Выделите глаголы. Задумайтесь над их смысло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eeff"/>
                </a:solidFill>
                <a:latin typeface="Calibri Light"/>
              </a:rPr>
              <a:t>Прокомментируйте деталь. Почему : МАХАЯ КРЫЛОМ (а не КРЫЛЬЯМИ)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buClr>
                <a:srgbClr val="c1eeff"/>
              </a:buClr>
              <a:buFont typeface="Calibri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78000" indent="-210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8862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 Light"/>
              </a:rPr>
              <a:t>Что изменилось во второй строфе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 Light"/>
              </a:rPr>
              <a:t>по сравнению с первой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- Почему орёл «бросает» пищ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Отвращение? Уны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Или протес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-Есть ли движение?  Выделите глаголы. Дайте комментарий к 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Побудительная энерг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-Кому принадлежит внутренний монолог (прямая речь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Единомышленника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-Обратите внимание на первое слово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III-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ей строф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Гимн свобод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5120" y="1066320"/>
            <a:ext cx="7764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i="1" lang="ru-RU" sz="2400" spc="-1" strike="noStrike">
                <a:solidFill>
                  <a:srgbClr val="ffff99"/>
                </a:solidFill>
                <a:latin typeface="Calibri"/>
              </a:rPr>
              <a:t>Строфа- антит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Почему  соседствуют три (!) восклицательных зна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Докажите, что эта строфа – антитеза  первой.</a:t>
            </a:r>
            <a:r>
              <a:rPr b="0" i="1" lang="ru-RU" sz="24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Calibri"/>
              </a:rPr>
              <a:t>-  </a:t>
            </a:r>
            <a:r>
              <a:rPr b="0" i="1" lang="ru-RU" sz="2400" spc="-1" strike="noStrike">
                <a:solidFill>
                  <a:srgbClr val="ffff9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Цветовая гамма? Почему  её создают не прилагательные, а глагол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-     Что значит фраза «Пора, брат, пора»? Зачем повтор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-    Объясните АНАФОРУ «ТУДА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-    «Горы», «морские края», «ветер» - символы какого     понятия?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-   Почему глагол «гуляем» в форме настоящего времени? Кто гуляет?  Но ведь оба героя – узн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99"/>
                </a:solidFill>
                <a:latin typeface="Calibri"/>
              </a:rPr>
              <a:t>-   Зачем дважды использовано  многоточи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Объект 2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625968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43225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Calibri Light"/>
              </a:rPr>
              <a:t>Сделаем вывод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ffff99"/>
                </a:solidFill>
                <a:latin typeface="Calibri"/>
              </a:rPr>
              <a:t>Это произведение   о  свободе  или  о  невол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99"/>
                </a:solidFill>
                <a:latin typeface="Calibri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54000"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ffff99"/>
                </a:solidFill>
                <a:latin typeface="Calibri"/>
              </a:rPr>
              <a:t>Здесь единоборство невольнического  и свободолюбивого  нача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Admin</cp:lastModifiedBy>
  <dcterms:modified xsi:type="dcterms:W3CDTF">2023-11-12T21:21:38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