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F59D-5142-4B21-943B-38465EB6B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85440" y="364680"/>
            <a:ext cx="692964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EE62-352E-439A-98D3-44D10E5A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85440" y="364680"/>
            <a:ext cx="692964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7014-E16D-4F13-A37D-E19ECF651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85440" y="364680"/>
            <a:ext cx="692964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FA6A-082A-44D6-9B39-7A9029954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0F9A-4001-4E16-8F21-8A60BBEED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85440" y="364680"/>
            <a:ext cx="692964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115C-5257-4A1C-8737-8A11232A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85440" y="364680"/>
            <a:ext cx="692964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84DE-9AF3-4335-B828-AA0014CF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85440" y="364680"/>
            <a:ext cx="692964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9507-4A0B-45F1-BBC4-F419C9C6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85440" y="364680"/>
            <a:ext cx="692964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A5FA-EADB-4CF9-9429-26EC1748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85440" y="364680"/>
            <a:ext cx="692964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1EFE-6C26-4E79-84DB-47D71D5D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85440" y="364680"/>
            <a:ext cx="692964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7C83-AD94-49F4-8FD2-3224C01D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85440" y="364680"/>
            <a:ext cx="692964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8176-AC6D-40F7-B75D-7EE0A064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85440" y="364680"/>
            <a:ext cx="692964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F82EA-C076-41E4-9B5B-F49C17FC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85440" y="364680"/>
            <a:ext cx="692964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FF11-3D93-4A2A-9BC4-61C852E3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85440" y="364680"/>
            <a:ext cx="692964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4106-56D9-44F1-81EC-0CB5C2A3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85440" y="364680"/>
            <a:ext cx="692964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A9EF-E78D-41D2-8D45-B60FF6FC4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85440" y="364680"/>
            <a:ext cx="692964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1327-FBF3-45B3-B411-0DB49ADA9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85440" y="364680"/>
            <a:ext cx="692964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6C0B-56FA-4DB9-83A4-C9E15C49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85440" y="364680"/>
            <a:ext cx="692964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E91F-EAED-472A-B424-E999A04A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85440" y="364680"/>
            <a:ext cx="692964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3B65-1B57-41B5-A3DE-6EAA9188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85440" y="364680"/>
            <a:ext cx="692964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4D52-7BD0-402E-9B0E-9747F38E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85440" y="364680"/>
            <a:ext cx="692964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EB4C-FC3E-4724-AEB3-C941953C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85440" y="364680"/>
            <a:ext cx="692964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08E0-1A4D-43B6-A73A-3B145DB6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85440" y="364680"/>
            <a:ext cx="692964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4F45-67D7-463E-8135-132FEB4B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85440" y="364680"/>
            <a:ext cx="692964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1446-8DE8-452D-A104-2A1AEDAEDFD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85440" y="364680"/>
            <a:ext cx="692964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9547-180E-4771-A913-1CC0D5E47AE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1066680" y="2514240"/>
            <a:ext cx="69292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А.С.Пушкин </a:t>
            </a:r>
            <a:br>
              <a:rPr sz="5400"/>
            </a:b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  «Узник»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6" name="Picture 5" descr="C:\Users\SONY\Desktop\Пушкин.jpg"/>
          <p:cNvPicPr/>
          <p:nvPr/>
        </p:nvPicPr>
        <p:blipFill>
          <a:blip r:embed="rId1"/>
          <a:stretch/>
        </p:blipFill>
        <p:spPr>
          <a:xfrm>
            <a:off x="4876920" y="1981080"/>
            <a:ext cx="3855960" cy="4351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62888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85440" y="364680"/>
            <a:ext cx="692964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Работа с названием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0520" y="1447560"/>
            <a:ext cx="3505320" cy="49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ffff99"/>
                </a:solidFill>
                <a:latin typeface="Calibri"/>
              </a:rPr>
              <a:t>Стихотвор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99"/>
                </a:solidFill>
                <a:latin typeface="Calibri"/>
              </a:rPr>
              <a:t>А. С.Пушкина      называется «Узник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ffff99"/>
                </a:solidFill>
                <a:latin typeface="Calibri"/>
              </a:rPr>
              <a:t>Ваше предположение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99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ffff99"/>
                </a:solidFill>
                <a:latin typeface="Calibri"/>
              </a:rPr>
              <a:t>о чём это произведение? Запомните е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Объект 2" descr=""/>
          <p:cNvPicPr/>
          <p:nvPr/>
        </p:nvPicPr>
        <p:blipFill>
          <a:blip r:embed="rId1"/>
          <a:stretch/>
        </p:blipFill>
        <p:spPr>
          <a:xfrm>
            <a:off x="3657600" y="1600200"/>
            <a:ext cx="490536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85440" y="364680"/>
            <a:ext cx="692964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Синтаксический  эксперимент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0880" y="1447920"/>
            <a:ext cx="7459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22392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2840" indent="-22392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b050"/>
                </a:solidFill>
                <a:uFillTx/>
                <a:latin typeface="Calibri"/>
              </a:rPr>
              <a:t>УЗН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2840" indent="-2239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Сижу за решеткой в темнице сыр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2840" indent="-2239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Вскормлённый в неволе орёл молод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2840" indent="-2239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Мой грустный товарищ махая крыл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2840" indent="-2239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Кровавую пищу клюёт под окн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2840" indent="-2239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2840" indent="-2239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Расставьте  знаки препинания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2888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85440" y="364680"/>
            <a:ext cx="692964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5f5f5"/>
                </a:solidFill>
                <a:latin typeface="Calibri Light"/>
              </a:rPr>
              <a:t>В помощь «заплутавшимся»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5120" y="1294920"/>
            <a:ext cx="72309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ffff99"/>
                </a:solidFill>
                <a:latin typeface="Calibri"/>
              </a:rPr>
              <a:t>- Почему после первой строчки точка, а не запятая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ffff99"/>
                </a:solidFill>
                <a:latin typeface="Calibri"/>
              </a:rPr>
              <a:t>-Во время чтения после первого стиха должна быть   длинная пауза, потому что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ff99"/>
                </a:solidFill>
                <a:latin typeface="Calibri"/>
              </a:rPr>
              <a:t>- Кто говорит «Сижу…»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ff99"/>
                </a:solidFill>
                <a:latin typeface="Calibri"/>
              </a:rPr>
              <a:t>- Кто это «мой грустный товарищ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ff99"/>
                </a:solidFill>
                <a:latin typeface="Calibri"/>
              </a:rPr>
              <a:t>-  Сколько персонаже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Calibri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888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99"/>
                </a:solidFill>
                <a:latin typeface="Calibri Light"/>
              </a:rPr>
              <a:t>Создание  схемы месторасположения героев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429000" y="1523880"/>
            <a:ext cx="5486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1112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1112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ffff99"/>
                </a:solidFill>
                <a:latin typeface="Calibri"/>
              </a:rPr>
              <a:t>Нарисуйте схему размещения героев   стихотворени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1112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Calibri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1112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ffff99"/>
                </a:solidFill>
                <a:latin typeface="Calibri"/>
              </a:rPr>
              <a:t>Где они находятся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1112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ffff99"/>
                </a:solidFill>
                <a:latin typeface="Calibri"/>
              </a:rPr>
              <a:t>Докажите тексто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11120" indent="-228600"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Calibri"/>
              </a:rPr>
              <a:t>Они за решетко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11120" indent="-228600"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Calibri"/>
              </a:rPr>
              <a:t>Оба. Всё врем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11120" indent="-228600"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Calibri"/>
              </a:rPr>
              <a:t>Гуляют лишь в мечта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1112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Calibri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1112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ff00"/>
                </a:solidFill>
                <a:latin typeface="Calibri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1112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Рисунок 1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3576600" cy="396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85440" y="364680"/>
            <a:ext cx="692964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 Light"/>
              </a:rPr>
              <a:t>Какими приемами создается грустное настроение в </a:t>
            </a:r>
            <a:r>
              <a:rPr b="0" lang="en-US" sz="2500" spc="-1" strike="noStrike">
                <a:solidFill>
                  <a:srgbClr val="000000"/>
                </a:solidFill>
                <a:latin typeface="Calibri Light"/>
              </a:rPr>
              <a:t>I </a:t>
            </a:r>
            <a:r>
              <a:rPr b="0" lang="ru-RU" sz="2500" spc="-1" strike="noStrike">
                <a:solidFill>
                  <a:srgbClr val="000000"/>
                </a:solidFill>
                <a:latin typeface="Calibri Light"/>
              </a:rPr>
              <a:t>строфе?</a:t>
            </a:r>
            <a:br>
              <a:rPr sz="2900"/>
            </a:b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5120" y="1523520"/>
            <a:ext cx="5097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21024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b050"/>
                </a:solidFill>
                <a:latin typeface="Calibri"/>
              </a:rPr>
              <a:t>Сижу за решеткой в темнице  сырой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78000" indent="-21024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b050"/>
                </a:solidFill>
                <a:latin typeface="Calibri"/>
              </a:rPr>
              <a:t>                            </a:t>
            </a:r>
            <a:r>
              <a:rPr b="0" lang="ru-RU" sz="1900" spc="-1" strike="noStrike">
                <a:solidFill>
                  <a:srgbClr val="00b050"/>
                </a:solidFill>
                <a:latin typeface="Calibri"/>
              </a:rPr>
              <a:t>Вскормлённый в неволе орёл молодой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78000" indent="-21024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b050"/>
                </a:solidFill>
                <a:latin typeface="Calibri"/>
              </a:rPr>
              <a:t>                            </a:t>
            </a:r>
            <a:r>
              <a:rPr b="0" lang="ru-RU" sz="1900" spc="-1" strike="noStrike">
                <a:solidFill>
                  <a:srgbClr val="00b050"/>
                </a:solidFill>
                <a:latin typeface="Calibri"/>
              </a:rPr>
              <a:t>Мой грустный товарищ, махая крылом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78000" indent="-21024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b050"/>
                </a:solidFill>
                <a:latin typeface="Calibri"/>
              </a:rPr>
              <a:t>                            </a:t>
            </a:r>
            <a:r>
              <a:rPr b="0" lang="ru-RU" sz="1900" spc="-1" strike="noStrike">
                <a:solidFill>
                  <a:srgbClr val="00b050"/>
                </a:solidFill>
                <a:latin typeface="Calibri"/>
              </a:rPr>
              <a:t>Кровавую пищу клюёт под окном…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78000" indent="-21024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78000" indent="-210240">
              <a:lnSpc>
                <a:spcPct val="70000"/>
              </a:lnSpc>
              <a:spcBef>
                <a:spcPts val="1001"/>
              </a:spcBef>
              <a:buClr>
                <a:srgbClr val="c1eeff"/>
              </a:buClr>
              <a:buFont typeface="Calibri Ligh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1eeff"/>
                </a:solidFill>
                <a:latin typeface="Calibri Light"/>
              </a:rPr>
              <a:t>Почему Пушкин слову ТЮРЬМА предпочел ТЕМНИЦА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78000" indent="-210240">
              <a:lnSpc>
                <a:spcPct val="70000"/>
              </a:lnSpc>
              <a:spcBef>
                <a:spcPts val="1001"/>
              </a:spcBef>
              <a:buClr>
                <a:srgbClr val="c1eeff"/>
              </a:buClr>
              <a:buFont typeface="Calibri Ligh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1eeff"/>
                </a:solidFill>
                <a:latin typeface="Calibri Light"/>
              </a:rPr>
              <a:t>Почему уточнено, что ОРЕЛ </a:t>
            </a:r>
            <a:r>
              <a:rPr b="0" lang="ru-RU" sz="1900" spc="-1" strike="noStrike" u="sng">
                <a:solidFill>
                  <a:srgbClr val="c1eeff"/>
                </a:solidFill>
                <a:uFillTx/>
                <a:latin typeface="Calibri Light"/>
              </a:rPr>
              <a:t>МОЛОДОЙ</a:t>
            </a:r>
            <a:r>
              <a:rPr b="0" lang="ru-RU" sz="1900" spc="-1" strike="noStrike">
                <a:solidFill>
                  <a:srgbClr val="c1eeff"/>
                </a:solidFill>
                <a:latin typeface="Calibri Light"/>
              </a:rPr>
              <a:t>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78000" indent="-210240">
              <a:lnSpc>
                <a:spcPct val="70000"/>
              </a:lnSpc>
              <a:spcBef>
                <a:spcPts val="1001"/>
              </a:spcBef>
              <a:buClr>
                <a:srgbClr val="c1eeff"/>
              </a:buClr>
              <a:buFont typeface="Calibri Ligh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1eeff"/>
                </a:solidFill>
                <a:latin typeface="Calibri Light"/>
              </a:rPr>
              <a:t>Есть ли движение? Выделите глаголы. Задумайтесь над их смыслом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78000" indent="-210240">
              <a:lnSpc>
                <a:spcPct val="70000"/>
              </a:lnSpc>
              <a:spcBef>
                <a:spcPts val="1001"/>
              </a:spcBef>
              <a:buClr>
                <a:srgbClr val="c1eeff"/>
              </a:buClr>
              <a:buFont typeface="Calibri Ligh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1eeff"/>
                </a:solidFill>
                <a:latin typeface="Calibri Light"/>
              </a:rPr>
              <a:t>Прокомментируйте деталь. Почему : МАХАЯ КРЫЛОМ (а не КРЫЛЬЯМИ)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78000" indent="-210240">
              <a:lnSpc>
                <a:spcPct val="70000"/>
              </a:lnSpc>
              <a:spcBef>
                <a:spcPts val="1001"/>
              </a:spcBef>
              <a:buClr>
                <a:srgbClr val="c1eeff"/>
              </a:buClr>
              <a:buFont typeface="Calibri Ligh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78000" indent="-210240">
              <a:lnSpc>
                <a:spcPct val="70000"/>
              </a:lnSpc>
              <a:spcBef>
                <a:spcPts val="1001"/>
              </a:spcBef>
              <a:buClr>
                <a:srgbClr val="c1eeff"/>
              </a:buClr>
              <a:buFont typeface="Calibri Ligh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78000" indent="-21024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78000" indent="-21024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Объект 2" descr=""/>
          <p:cNvPicPr/>
          <p:nvPr/>
        </p:nvPicPr>
        <p:blipFill>
          <a:blip r:embed="rId1"/>
          <a:stretch/>
        </p:blipFill>
        <p:spPr>
          <a:xfrm>
            <a:off x="5029200" y="2743200"/>
            <a:ext cx="388620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 Light"/>
              </a:rPr>
              <a:t>Что изменилось во второй строфе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Calibri Light"/>
              </a:rPr>
              <a:t>по сравнению с первой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5235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ffff99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99"/>
                </a:solidFill>
                <a:latin typeface="Calibri"/>
              </a:rPr>
              <a:t>- Почему орёл «бросает» пищ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Calibri"/>
              </a:rPr>
              <a:t>Отвращение? Уныни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Calibri"/>
              </a:rPr>
              <a:t>Или протест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ffff99"/>
                </a:solidFill>
                <a:latin typeface="Calibri"/>
              </a:rPr>
              <a:t>-Есть ли движение?  Выделите глаголы. Дайте комментарий к ни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Calibri"/>
              </a:rPr>
              <a:t>Побудительная энергия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ffff99"/>
                </a:solidFill>
                <a:latin typeface="Calibri"/>
              </a:rPr>
              <a:t>-Кому принадлежит внутренний монолог (прямая речь)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Calibri"/>
              </a:rPr>
              <a:t>Единомышленникам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ffff99"/>
                </a:solidFill>
                <a:latin typeface="Calibri"/>
              </a:rPr>
              <a:t>-Обратите внимание на первое слово </a:t>
            </a:r>
            <a:r>
              <a:rPr b="0" lang="en-US" sz="2800" spc="-1" strike="noStrike">
                <a:solidFill>
                  <a:srgbClr val="ffff99"/>
                </a:solidFill>
                <a:latin typeface="Calibri"/>
              </a:rPr>
              <a:t>III-</a:t>
            </a:r>
            <a:r>
              <a:rPr b="0" lang="ru-RU" sz="2800" spc="-1" strike="noStrike">
                <a:solidFill>
                  <a:srgbClr val="ffff99"/>
                </a:solidFill>
                <a:latin typeface="Calibri"/>
              </a:rPr>
              <a:t>ей строф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Гимн свобод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5120" y="1066320"/>
            <a:ext cx="7764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1" i="1" lang="ru-RU" sz="2400" spc="-1" strike="noStrike">
                <a:solidFill>
                  <a:srgbClr val="ffff99"/>
                </a:solidFill>
                <a:latin typeface="Calibri"/>
              </a:rPr>
              <a:t>Строфа- антите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9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Calibri"/>
              </a:rPr>
              <a:t>Почему  соседствуют три (!) восклицательных знак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9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Calibri"/>
              </a:rPr>
              <a:t>Докажите, что эта строфа – антитеза  первой.</a:t>
            </a:r>
            <a:r>
              <a:rPr b="0" i="1" lang="ru-RU" sz="2400" spc="-1" strike="noStrike">
                <a:solidFill>
                  <a:srgbClr val="ffff9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99"/>
                </a:solidFill>
                <a:latin typeface="Calibri"/>
              </a:rPr>
              <a:t>-  </a:t>
            </a:r>
            <a:r>
              <a:rPr b="0" i="1" lang="ru-RU" sz="2400" spc="-1" strike="noStrike">
                <a:solidFill>
                  <a:srgbClr val="ffff9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ffff99"/>
                </a:solidFill>
                <a:latin typeface="Calibri"/>
              </a:rPr>
              <a:t>Цветовая гамма? Почему  её создают не прилагательные, а глагол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Calibri"/>
              </a:rPr>
              <a:t>-     Что значит фраза «Пора, брат, пора»? Зачем повтор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Calibri"/>
              </a:rPr>
              <a:t>-    Объясните АНАФОРУ «ТУДА…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Calibri"/>
              </a:rPr>
              <a:t>-    «Горы», «морские края», «ветер» - символы какого     понятия?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ffff99"/>
                </a:solidFill>
                <a:latin typeface="Calibri"/>
              </a:rPr>
              <a:t>-   Почему глагол «гуляем» в форме настоящего времени? Кто гуляет?  Но ведь оба героя – узник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ffff99"/>
                </a:solidFill>
                <a:latin typeface="Calibri"/>
              </a:rPr>
              <a:t>-   Зачем дважды использовано  многоточи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2888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4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Объект 2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6259680" cy="35812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0000" y="456840"/>
            <a:ext cx="43225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2060"/>
                </a:solidFill>
                <a:uFillTx/>
                <a:latin typeface="Calibri Light"/>
              </a:rPr>
              <a:t>Сделаем выводы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952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99"/>
                </a:solidFill>
                <a:latin typeface="Calibri"/>
              </a:rPr>
              <a:t> </a:t>
            </a:r>
            <a:r>
              <a:rPr b="0" i="1" lang="ru-RU" sz="2600" spc="-1" strike="noStrike">
                <a:solidFill>
                  <a:srgbClr val="ffff99"/>
                </a:solidFill>
                <a:latin typeface="Calibri"/>
              </a:rPr>
              <a:t>Это произведение   о  свободе  или  о  неволе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400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99"/>
                </a:solidFill>
                <a:latin typeface="Calibri"/>
              </a:rPr>
              <a:t>    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400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400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400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400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400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400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400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400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400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4000"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99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ffff99"/>
                </a:solidFill>
                <a:latin typeface="Calibri"/>
              </a:rPr>
              <a:t>Здесь единоборство невольнического  и свободолюбивого  нача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5" dur="2000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ONY</dc:creator>
  <dc:description/>
  <dc:language>en-US</dc:language>
  <cp:lastModifiedBy>Admin</cp:lastModifiedBy>
  <dcterms:modified xsi:type="dcterms:W3CDTF">2023-11-12T21:21:38Z</dcterms:modified>
  <cp:revision>1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