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E84F-B3BE-4504-80E1-CEEA657D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73216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93760" y="4098240"/>
            <a:ext cx="73216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572-8576-4EE1-B57C-EFFA0044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532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93760" y="409824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5320" y="409824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ABB9-D5C3-4826-9EFD-066FE8F8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9120" y="182520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4840" y="182520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93760" y="409824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9120" y="409824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4840" y="409824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3566-D844-40C6-A820-512E6C46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B2B8-0572-4273-AC5B-8E20A53F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93760" y="1825200"/>
            <a:ext cx="73216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9211-1AE7-4644-BFF9-5698F766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7321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A321-AA99-472C-90FB-ECD6D8DE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357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5320" y="1825200"/>
            <a:ext cx="357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ED4D-0860-4E7C-A3DC-D86CAE18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1539-422C-49E3-9C61-89315D21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93760" y="365040"/>
            <a:ext cx="73216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40C7-F435-4BE1-81FF-0C223985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45320" y="1825200"/>
            <a:ext cx="357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93760" y="409824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2D8D-2A22-46C4-8E7D-5480D62D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93760" y="1825200"/>
            <a:ext cx="73216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483-B31D-48AE-8BD8-7780820D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357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532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45320" y="409824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40A2-7D32-4370-9211-7E20190C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532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93760" y="4098240"/>
            <a:ext cx="73216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D004-E97E-472A-8BF2-61BB26FB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73216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93760" y="4098240"/>
            <a:ext cx="73216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2AD0-4758-4384-B00E-43DFB87D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532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93760" y="409824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45320" y="409824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CFBC-D4E7-4B2D-A031-356217D1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69120" y="182520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4840" y="182520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93760" y="409824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69120" y="409824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4840" y="409824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0CEF-1B01-420D-A44C-D99E93BD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7321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BF0-8171-4535-88EB-3048B2D6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357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5320" y="1825200"/>
            <a:ext cx="357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9A2-8C28-4738-8273-CA82BF32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018-5975-4C51-A635-6C19B276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93760" y="365040"/>
            <a:ext cx="73216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217-2729-40F1-B1C5-0D4C12FF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5320" y="1825200"/>
            <a:ext cx="357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93760" y="409824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4A9C-45F2-4007-84FC-9953B098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357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532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5320" y="409824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0B2-765D-48D6-8630-D787E5EB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532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93760" y="4098240"/>
            <a:ext cx="73216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DCD0-F3A9-4BEA-946A-264CC1E3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93760" y="1825200"/>
            <a:ext cx="7321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7825-EA7B-4AAE-AA0C-F313AAE0A2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93760" y="1825200"/>
            <a:ext cx="7321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7862-692C-4BC3-861D-C4F49A2312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roshkolu.ru/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5440" y="2471760"/>
            <a:ext cx="545652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 Light"/>
              </a:rPr>
              <a:t>Аллегория</a:t>
            </a:r>
            <a:endParaRPr b="0" lang="en-US" sz="6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898800" y="4994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 Light"/>
              </a:rPr>
              <a:t>Аллегория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93760" y="1825200"/>
            <a:ext cx="73216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4546a"/>
                </a:solidFill>
                <a:latin typeface="Calibri"/>
              </a:rPr>
              <a:t>Аллегория</a:t>
            </a:r>
            <a:r>
              <a:rPr b="0" lang="ru-RU" sz="2800" spc="-1" strike="noStrike">
                <a:solidFill>
                  <a:srgbClr val="44546a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(от греч.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allegouia –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иносказание) – это тоже одно из средств художественной выразительност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4546a"/>
                </a:solidFill>
                <a:latin typeface="Calibri"/>
              </a:rPr>
              <a:t>Аллегория</a:t>
            </a:r>
            <a:r>
              <a:rPr b="1" i="1" lang="ru-RU" sz="2800" spc="-1" strike="noStrike">
                <a:solidFill>
                  <a:srgbClr val="44546a"/>
                </a:solidFill>
                <a:latin typeface="Calibri"/>
              </a:rPr>
              <a:t> — иносказательное изображение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редмета или явления. Она помогает наглядно показать самое главное в явлени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2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 Light"/>
              </a:rPr>
              <a:t>Где мы встречаем аллегорию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31520" y="1484280"/>
            <a:ext cx="8412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чень часто </a:t>
            </a:r>
            <a:r>
              <a:rPr b="1" lang="ru-RU" sz="2800" spc="-1" strike="noStrike">
                <a:solidFill>
                  <a:srgbClr val="44546a"/>
                </a:solidFill>
                <a:latin typeface="Calibri"/>
              </a:rPr>
              <a:t>аллегория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употребляется </a:t>
            </a:r>
            <a:r>
              <a:rPr b="1" lang="ru-RU" sz="2800" spc="-1" strike="noStrike">
                <a:solidFill>
                  <a:srgbClr val="44546a"/>
                </a:solidFill>
                <a:latin typeface="Calibri"/>
              </a:rPr>
              <a:t>в пословицах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Без труда не вытащишь и рыбку из пруда,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 эти слова употребляем в переносном смысле; это значит, что для достижения любой цели надо потрудитьс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546a"/>
                </a:solidFill>
                <a:latin typeface="Calibri"/>
              </a:rPr>
              <a:t>На аллегории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снованы многие </a:t>
            </a:r>
            <a:r>
              <a:rPr b="1" lang="ru-RU" sz="2800" spc="-1" strike="noStrike">
                <a:solidFill>
                  <a:srgbClr val="44546a"/>
                </a:solidFill>
                <a:latin typeface="Calibri"/>
              </a:rPr>
              <a:t>фразеологизмы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ы говорим: он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любит пыль в глаза пускать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о пыль здесь ни при чём, это аллегория. Имеется в виду совсем другое: человек любит хвастаться, набивать себе цену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 Light"/>
              </a:rPr>
              <a:t>Кто быстрее соединит половинки пословиц?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1752480"/>
            <a:ext cx="3810240" cy="4646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546a"/>
                </a:solidFill>
                <a:latin typeface="Calibri"/>
              </a:rPr>
              <a:t>Выпустишь с воробушк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546a"/>
                </a:solidFill>
                <a:latin typeface="Calibri"/>
              </a:rPr>
              <a:t>Сперва подума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546a"/>
                </a:solidFill>
                <a:latin typeface="Calibri"/>
              </a:rPr>
              <a:t>До слова крепис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546a"/>
                </a:solidFill>
                <a:latin typeface="Calibri"/>
              </a:rPr>
              <a:t>Умная голов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546a"/>
                </a:solidFill>
                <a:latin typeface="Calibri"/>
              </a:rPr>
              <a:t>Не спеши языко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546a"/>
                </a:solidFill>
                <a:latin typeface="Calibri"/>
              </a:rPr>
              <a:t>Из поговорк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546a"/>
                </a:solidFill>
                <a:latin typeface="Calibri"/>
              </a:rPr>
              <a:t>Острый язык — даровани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59280" y="1752480"/>
            <a:ext cx="4284720" cy="464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е скажет пустые слова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лова не выкинеш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оропись делом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 длинный — наказание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 вырастет с коровушку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 давши слово — держись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том скаж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 Light"/>
              </a:rPr>
              <a:t>Играем со словами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93760" y="1825200"/>
            <a:ext cx="73216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Отгадайте многозначное слово по его значениям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alibri"/>
              </a:rPr>
              <a:t>На нём можно сидеть или стоять, поставить на него или снять с него, оно может быть прекрасным, интересным или опасным, его можно занять или уступить другому, иногда его трудно найти, и плохо, когда его нет.  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1900" spc="-1" strike="noStrike">
                <a:solidFill>
                  <a:srgbClr val="44546a"/>
                </a:solidFill>
                <a:latin typeface="Calibri"/>
              </a:rPr>
              <a:t>(Место)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alibri"/>
              </a:rPr>
              <a:t>Это часть лица, его можно повесить, поднять и совать куда не следует, воротить от чего-то, можно даже водить за него. Это есть у корабля, лодки и самолета. С ним можно остаться, и это неприятно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4546a"/>
                </a:solidFill>
                <a:latin typeface="Calibri"/>
              </a:rPr>
              <a:t>(Нос)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alibri"/>
              </a:rPr>
              <a:t>Этот глагол может быть употреблен с существительными: </a:t>
            </a:r>
            <a:r>
              <a:rPr b="1" i="1" lang="ru-RU" sz="1900" spc="-1" strike="noStrike">
                <a:solidFill>
                  <a:srgbClr val="c00000"/>
                </a:solidFill>
                <a:latin typeface="Calibri"/>
              </a:rPr>
              <a:t>чемодан, наказание, потери, ответственность, чепуха, </a:t>
            </a:r>
            <a:r>
              <a:rPr b="1" lang="ru-RU" sz="1900" spc="-1" strike="noStrike">
                <a:solidFill>
                  <a:srgbClr val="c00000"/>
                </a:solidFill>
                <a:latin typeface="Calibri"/>
              </a:rPr>
              <a:t>а в возвратной форме — со словами: </a:t>
            </a:r>
            <a:r>
              <a:rPr b="1" i="1" lang="ru-RU" sz="1900" spc="-1" strike="noStrike">
                <a:solidFill>
                  <a:srgbClr val="c00000"/>
                </a:solidFill>
                <a:latin typeface="Calibri"/>
              </a:rPr>
              <a:t>куры, слухи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4546a"/>
                </a:solidFill>
                <a:latin typeface="Calibri"/>
              </a:rPr>
              <a:t>(Нести, несутся, разносятся)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 Light"/>
              </a:rPr>
              <a:t>Где ещё мы встречаем аллегорию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97" name="Рисунок 6" descr="Крылов 007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2171880" y="2025720"/>
            <a:ext cx="2344680" cy="19778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1020600" y="4022640"/>
            <a:ext cx="767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546a"/>
                </a:solidFill>
                <a:latin typeface="Arial Narrow"/>
              </a:rPr>
              <a:t>Кого подразумевает автор под Дубом, Свиньёй и Вороном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1020600" y="4780080"/>
            <a:ext cx="787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ДУБ – русский народ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ВИНЬЯ – невежда и невежа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ВОРОН – умный человек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1139760" y="1538280"/>
            <a:ext cx="50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4546a"/>
                </a:solidFill>
                <a:latin typeface="Arial Narrow"/>
              </a:rPr>
              <a:t>Аллегория есть в баснях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4764240" y="3321000"/>
            <a:ext cx="39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4546a"/>
                </a:solidFill>
                <a:latin typeface="Arial Narrow"/>
              </a:rPr>
              <a:t>Басня И.А.Крылова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4546a"/>
                </a:solidFill>
                <a:latin typeface="Arial Narrow"/>
              </a:rPr>
              <a:t>«Свинья под дубом»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3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3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3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148360" y="1969920"/>
            <a:ext cx="3549600" cy="1729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0600" y="-36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 Light"/>
              </a:rPr>
              <a:t>Сказка «Волк и лиса» </a:t>
            </a:r>
            <a:endParaRPr b="0" lang="en-US" sz="4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31520" y="2725560"/>
            <a:ext cx="8412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казка о том, как хитрая лиса обманула волка. По её наущению серый хищник приморозил свой хвост в проруби, его отколотили мужики, да он же и вынужден везти на себе лису. А она едет да приговаривает: </a:t>
            </a:r>
            <a:r>
              <a:rPr b="1" i="1" lang="ru-RU" sz="2400" spc="-1" strike="noStrike">
                <a:solidFill>
                  <a:srgbClr val="44546a"/>
                </a:solidFill>
                <a:latin typeface="Calibri"/>
              </a:rPr>
              <a:t>Битый небитого везёт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 чём вы видите аллегорический смысл сказки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 какой жизненной ситуации можно произнести эту поговорку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1690560" y="1863720"/>
            <a:ext cx="2492640" cy="17906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8"/>
          <p:cNvSpPr/>
          <p:nvPr/>
        </p:nvSpPr>
        <p:spPr>
          <a:xfrm>
            <a:off x="944640" y="1484280"/>
            <a:ext cx="40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546a"/>
                </a:solidFill>
                <a:latin typeface="Arial Narrow"/>
              </a:rPr>
              <a:t>Аллегория есть в сказках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652840" y="1646280"/>
            <a:ext cx="4319640" cy="32576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922320" y="0"/>
            <a:ext cx="787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546a"/>
                </a:solidFill>
                <a:latin typeface="Arial Narrow"/>
              </a:rPr>
              <a:t>Басня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546a"/>
                </a:solidFill>
                <a:latin typeface="Arial Narrow"/>
              </a:rPr>
              <a:t>И. А. Крылова «Волк и Ягнёнок». Иллюстрация художника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546a"/>
                </a:solidFill>
                <a:latin typeface="Arial Narrow"/>
              </a:rPr>
              <a:t>Е. М. Рачёва. 1959 г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1211400" y="4941720"/>
            <a:ext cx="758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 Narrow"/>
              </a:rPr>
              <a:t>Объясните, почему художник одел Волка в генеральский мундир, а Ягнёнка – в крестьянский армяк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 Light"/>
              </a:rPr>
              <a:t>Информационные источники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93760" y="1825200"/>
            <a:ext cx="73216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1. Альбеткова Р.И. Русская словесность. От слова к словесности. 5 кл.: учебное пособие. – М.: Дрофа, 2009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2. Альбеткова Р.И. Русская словесность. От слова к словесности. 5 кл.: рабочая тетрадь. – М.: Дрофа, 2009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en-US" sz="17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www.proshkolu.ru/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2363760" y="2293920"/>
            <a:ext cx="1535040" cy="1141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rcRect l="0" t="-1294" r="0" b="0"/>
          <a:stretch/>
        </p:blipFill>
        <p:spPr>
          <a:xfrm>
            <a:off x="6108840" y="4346640"/>
            <a:ext cx="165096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09:40:19Z</dcterms:created>
  <dc:creator>User</dc:creator>
  <dc:description/>
  <dc:language>en-US</dc:language>
  <cp:lastModifiedBy>Admin</cp:lastModifiedBy>
  <dcterms:modified xsi:type="dcterms:W3CDTF">2023-11-12T21:26:21Z</dcterms:modified>
  <cp:revision>19</cp:revision>
  <dc:subject/>
  <dc:title>греческ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81049</vt:lpwstr>
  </property>
</Properties>
</file>