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3D3-3C6E-4035-9F47-2A7FD59E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93760" y="409824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846-6FF5-400B-ACE7-A1BA16F7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4532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E1C-C044-4449-ABAF-6675D351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912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84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9376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912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84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59B-4161-43BB-A53C-99612E54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DA83-75DA-4B0B-8042-9180577C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EF14-B968-443B-85CA-830AE322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9DB1-16A0-4020-A115-94E5BB32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5B74-F276-481A-A2AA-F63C3D28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9BDC-C5E0-4F9D-9B8A-5813E63C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93760" y="365040"/>
            <a:ext cx="73216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A0B8-5BB3-4FBC-8F59-B1BE815B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5086-A1DA-4329-B7C6-DC12BB86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0EB-5B9C-4960-A644-A0331568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4532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BCCA-5146-418E-82CB-58E563F9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344B-AD22-4319-83B6-5FB884C3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93760" y="409824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FA9F-548F-4155-AA08-D5CAE535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4532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1E38-0FDD-4B25-82F1-109702B7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912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4840" y="182520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9376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912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4840" y="4098240"/>
            <a:ext cx="23572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3F3D-C8A2-4EDD-BE9C-E9C7CDC1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A65-6F17-4028-A8FB-D498B7AD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2B2-D94A-4D63-B739-4303281E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D72-3F3F-413B-92A0-7F0C2E61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93760" y="365040"/>
            <a:ext cx="73216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FF6-1781-435C-A3DA-C5BFC320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7AF-4A79-4B91-96CE-C1C44DCF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45320" y="409824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866-74DA-4D6A-81C8-D41D18E9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9376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5320" y="1825200"/>
            <a:ext cx="35726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93760" y="4098240"/>
            <a:ext cx="73216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D16-D3B8-4480-8B8D-B81A984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D566-F4DF-4783-857B-51AD17575E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1DF3-4041-41F2-9CB3-166D7557DB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shkolu.ru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5440" y="2471760"/>
            <a:ext cx="545652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 Light"/>
              </a:rPr>
              <a:t>Аллегория</a:t>
            </a:r>
            <a:endParaRPr b="0" lang="en-US" sz="6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898800" y="4994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Аллегория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Calibri"/>
              </a:rPr>
              <a:t>Аллегория</a:t>
            </a:r>
            <a:r>
              <a:rPr b="0" lang="ru-RU" sz="28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(от греч.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llegouia –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носказание) – это тоже одно из средств художественной выразительнос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Calibri"/>
              </a:rPr>
              <a:t>Аллегория</a:t>
            </a:r>
            <a:r>
              <a:rPr b="1" i="1" lang="ru-RU" sz="2800" spc="-1" strike="noStrike">
                <a:solidFill>
                  <a:srgbClr val="44546a"/>
                </a:solidFill>
                <a:latin typeface="Calibri"/>
              </a:rPr>
              <a:t> — иносказательное изображение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редмета или явления. Она помогает наглядно показать самое главное в явлени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2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Где мы встречаем аллегорию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31520" y="1484280"/>
            <a:ext cx="8412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чень часто </a:t>
            </a: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аллегория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потребляется </a:t>
            </a: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в пословицах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Без труда не вытащишь и рыбку из пруда,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эти слова употребляем в переносном смысле; это значит, что для достижения любой цели надо потрудить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На аллегории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аны многие </a:t>
            </a: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фразеологизмы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ы говорим: он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юбит пыль в глаза пускать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о пыль здесь ни при чём, это аллегория. Имеется в виду совсем другое: человек любит хвастаться, набивать себе цену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Кто быстрее соединит половинки пословиц?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1752480"/>
            <a:ext cx="3810240" cy="4646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Выпустишь с воробуш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Сперва подума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До слова крепис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Умная голов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Не спеши язык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Из поговор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546a"/>
                </a:solidFill>
                <a:latin typeface="Calibri"/>
              </a:rPr>
              <a:t>Острый язык — даровани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9280" y="1752480"/>
            <a:ext cx="4284720" cy="464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 скажет пустые слова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лова не выкинеш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оропись делом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 длинный — наказание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 вырастет с коровушку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 давши слово — держись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том скаж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Играем со словами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тгадайте многозначное слово по его значениям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На нём можно сидеть или стоять, поставить на него или снять с него, оно может быть прекрасным, интересным или опасным, его можно занять или уступить другому, иногда его трудно найти, и плохо, когда его нет.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1900" spc="-1" strike="noStrike">
                <a:solidFill>
                  <a:srgbClr val="44546a"/>
                </a:solidFill>
                <a:latin typeface="Calibri"/>
              </a:rPr>
              <a:t>(Место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Это часть лица, его можно повесить, поднять и совать куда не следует, воротить от чего-то, можно даже водить за него. Это есть у корабля, лодки и самолета. С ним можно остаться, и это неприятно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546a"/>
                </a:solidFill>
                <a:latin typeface="Calibri"/>
              </a:rPr>
              <a:t>(Нос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Этот глагол может быть употреблен с существительными: </a:t>
            </a:r>
            <a:r>
              <a:rPr b="1" i="1" lang="ru-RU" sz="1900" spc="-1" strike="noStrike">
                <a:solidFill>
                  <a:srgbClr val="c00000"/>
                </a:solidFill>
                <a:latin typeface="Calibri"/>
              </a:rPr>
              <a:t>чемодан, наказание, потери, ответственность, чепуха, </a:t>
            </a:r>
            <a:r>
              <a:rPr b="1" lang="ru-RU" sz="1900" spc="-1" strike="noStrike">
                <a:solidFill>
                  <a:srgbClr val="c00000"/>
                </a:solidFill>
                <a:latin typeface="Calibri"/>
              </a:rPr>
              <a:t>а в возвратной форме — со словами: </a:t>
            </a:r>
            <a:r>
              <a:rPr b="1" i="1" lang="ru-RU" sz="1900" spc="-1" strike="noStrike">
                <a:solidFill>
                  <a:srgbClr val="c00000"/>
                </a:solidFill>
                <a:latin typeface="Calibri"/>
              </a:rPr>
              <a:t>куры, слухи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4546a"/>
                </a:solidFill>
                <a:latin typeface="Calibri"/>
              </a:rPr>
              <a:t>(Нести, несутся, разносятся)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Где ещё мы встречаем аллегорию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97" name="Рисунок 6" descr="Крылов 007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2171880" y="2025720"/>
            <a:ext cx="2344680" cy="1977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1020600" y="402264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Arial Narrow"/>
              </a:rPr>
              <a:t>Кого подразумевает автор под Дубом, Свиньёй и Вороном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1020600" y="4780080"/>
            <a:ext cx="787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УБ – русский народ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ВИНЬЯ – невежда и невежа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ВОРОН – умный человек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1139760" y="153828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4546a"/>
                </a:solidFill>
                <a:latin typeface="Arial Narrow"/>
              </a:rPr>
              <a:t>Аллегория есть в баснях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4764240" y="3321000"/>
            <a:ext cx="39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4546a"/>
                </a:solidFill>
                <a:latin typeface="Arial Narrow"/>
              </a:rPr>
              <a:t>Басня И.А.Крылова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4546a"/>
                </a:solidFill>
                <a:latin typeface="Arial Narrow"/>
              </a:rPr>
              <a:t>«Свинья под дубом»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3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3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148360" y="1969920"/>
            <a:ext cx="3549600" cy="1729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0600" y="-36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 Light"/>
              </a:rPr>
              <a:t>Сказка «Волк и лиса» </a:t>
            </a:r>
            <a:endParaRPr b="0" lang="en-US" sz="40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31520" y="2725560"/>
            <a:ext cx="8412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казка о том, как хитрая лиса обманула волка. По её наущению серый хищник приморозил свой хвост в проруби, его отколотили мужики, да он же и вынужден везти на себе лису. А она едет да приговаривает: </a:t>
            </a:r>
            <a:r>
              <a:rPr b="1" i="1" lang="ru-RU" sz="2400" spc="-1" strike="noStrike">
                <a:solidFill>
                  <a:srgbClr val="44546a"/>
                </a:solidFill>
                <a:latin typeface="Calibri"/>
              </a:rPr>
              <a:t>Битый небитого везёт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 чём вы видите аллегорический смысл сказки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 какой жизненной ситуации можно произнести эту поговорку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1690560" y="1863720"/>
            <a:ext cx="2492640" cy="17906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8"/>
          <p:cNvSpPr/>
          <p:nvPr/>
        </p:nvSpPr>
        <p:spPr>
          <a:xfrm>
            <a:off x="944640" y="148428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546a"/>
                </a:solidFill>
                <a:latin typeface="Arial Narrow"/>
              </a:rPr>
              <a:t>Аллегория есть в сказка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652840" y="1646280"/>
            <a:ext cx="4319640" cy="32576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922320" y="0"/>
            <a:ext cx="787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546a"/>
                </a:solidFill>
                <a:latin typeface="Arial Narrow"/>
              </a:rPr>
              <a:t>Басн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546a"/>
                </a:solidFill>
                <a:latin typeface="Arial Narrow"/>
              </a:rPr>
              <a:t>И. А. Крылова «Волк и Ягнёнок». Иллюстрация художник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546a"/>
                </a:solidFill>
                <a:latin typeface="Arial Narrow"/>
              </a:rPr>
              <a:t>Е. М. Рачёва. 1959 г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1211400" y="4941720"/>
            <a:ext cx="758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 Narrow"/>
              </a:rPr>
              <a:t>Объясните, почему художник одел Волка в генеральский мундир, а Ягнёнка – в крестьянский армяк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93760" y="365040"/>
            <a:ext cx="73216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 Light"/>
              </a:rPr>
              <a:t>Информационные источники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93760" y="1825200"/>
            <a:ext cx="7321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1. Альбеткова Р.И. Русская словесность. От слова к словесности. 5 кл.: учебное пособие. – М.: Дрофа, 2009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2. Альбеткова Р.И. Русская словесность. От слова к словесности. 5 кл.: рабочая тетрадь. – М.: Дрофа, 2009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en-US" sz="17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www.proshkolu.ru/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200880" indent="-20088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363760" y="2293920"/>
            <a:ext cx="1535040" cy="1141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rcRect l="0" t="-1294" r="0" b="0"/>
          <a:stretch/>
        </p:blipFill>
        <p:spPr>
          <a:xfrm>
            <a:off x="6108840" y="4346640"/>
            <a:ext cx="165096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9:40:19Z</dcterms:created>
  <dc:creator>User</dc:creator>
  <dc:description/>
  <dc:language>en-US</dc:language>
  <cp:lastModifiedBy>Admin</cp:lastModifiedBy>
  <dcterms:modified xsi:type="dcterms:W3CDTF">2023-11-12T21:26:21Z</dcterms:modified>
  <cp:revision>19</cp:revision>
  <dc:subject/>
  <dc:title>грече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81049</vt:lpwstr>
  </property>
</Properties>
</file>