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40A-AF66-4053-9613-0F784B1C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F19-52C1-4142-A615-D00248B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039-3C0F-4FCF-883B-376DC61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D63-00BC-4244-A7BE-21B003FC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FC9-A073-48AF-A033-D64B96A1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C736-2933-4EC4-AC29-990D2B1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9C1C-7377-46F0-83AF-D09820B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F79B-E7E6-41BF-8B65-228017AD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0C9-4E9A-414F-8913-C2D7E956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3F8E-A21F-4912-B379-6CE546F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F5AF-34CC-49AA-87CA-7E7B8B5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136-FFAA-4F20-9BB1-25019739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6B3-EF01-417E-8F0D-2DAE095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EF51-93A1-437D-A384-CED28BB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B2B4-53B1-42C5-B616-717B8319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7B8-1230-4D80-B9D7-14E67771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E4B3-FEF8-4824-9EE3-184DB9B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2E1-8844-4650-8387-1BAD307A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79B-A28E-4546-BB4D-D2186593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627-A00A-4702-A6F1-87F2A33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6D2-FE7A-46A4-AE0A-9A4C993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E1D-4473-47DD-96EE-BA5907C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C22-F25E-4053-B773-1071B75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CAB-31A2-4CCB-87DC-52FE9EC8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334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E33-7D66-48E8-9EA3-93A48C0B84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334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82A3-F837-4531-AF61-FC2B05BB5A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848720" cy="4319640"/>
          </a:xfrm>
          <a:prstGeom prst="rect">
            <a:avLst/>
          </a:prstGeom>
          <a:solidFill>
            <a:srgbClr val="e3d9b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Snap ITC"/>
              </a:rPr>
              <a:t>Образ Родины в лирике М.Ю.Лермонтова.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Snap ITC"/>
              </a:rPr>
              <a:t>Анализ стихотворения «Родина»</a:t>
            </a:r>
            <a:endParaRPr b="0" lang="en-US" sz="4800" spc="-1" strike="noStrike">
              <a:solidFill>
                <a:srgbClr val="533341"/>
              </a:solidFill>
              <a:latin typeface="Calibri Light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305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9e73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nap ITC"/>
              </a:rPr>
              <a:t>Работа с опорной схемой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e3d9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Snap ITC"/>
              </a:rPr>
              <a:t>Родина – тема лермонтовской лирики, развивавшаяся на протяжении всего творчества поэ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9e73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nap ITC"/>
              </a:rPr>
              <a:t>Ранняя лирика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Родина – земля, давшая жизнь и страдание </a:t>
            </a:r>
            <a:r>
              <a:rPr b="0" lang="ru-RU" sz="2000" spc="-1" strike="noStrike">
                <a:solidFill>
                  <a:srgbClr val="800000"/>
                </a:solidFill>
                <a:latin typeface="Snap ITC"/>
              </a:rPr>
              <a:t>(стихотв. «Смерть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щущение дисгармонии </a:t>
            </a:r>
            <a:r>
              <a:rPr b="0" lang="ru-RU" sz="2000" spc="-1" strike="noStrike">
                <a:solidFill>
                  <a:srgbClr val="800000"/>
                </a:solidFill>
                <a:latin typeface="Snap ITC"/>
              </a:rPr>
              <a:t>(стихотв. «Монолог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браз идеальной романтической отчизны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Отрывок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трицание той России, «где стонет человек от рабства и цепей»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Жалобы тур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бращение к историческому прошлому России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Кто видел Кремль в час утра золотой…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solidFill>
            <a:srgbClr val="e3d9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Snap ITC"/>
              </a:rPr>
              <a:t>Борьба за Родину для Лермонтова священ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Война 1812 года отражена в стихотворениях «Два великана», строфы в стихотворениях «Сашка», «Бородин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Monotype Corsiva"/>
              </a:rPr>
              <a:t>В образах простых людей Лермонтов открывает новый источник веры в роди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e3d9b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Snap ITC"/>
              </a:rPr>
              <a:t>Вопросы для обсуждения 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ие два облика России рисует Лермонт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 можно объяснить возникновение в стихотворении образа деревни, бесконечно далекого от романтических образов ранних произведени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овы особенности построения стихотворения (от широкого плана к более узкому)? Как это отразилось в лексик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Что нового, опираясь на традиции классической литературы, сказал Лермонтов о своем патриотическом чувстве? («Родина» - лирическое раздумье о </a:t>
            </a:r>
            <a:r>
              <a:rPr b="1" lang="ru-RU" sz="2200" spc="-1" strike="noStrike" u="sng">
                <a:solidFill>
                  <a:srgbClr val="660066"/>
                </a:solidFill>
                <a:uFillTx/>
                <a:latin typeface="Snap ITC"/>
              </a:rPr>
              <a:t>своем </a:t>
            </a: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отношении к отчизн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 читать это стихотворени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Snap ITC"/>
              </a:rPr>
              <a:t>Вывод</a:t>
            </a:r>
            <a:r>
              <a:rPr b="0" lang="ru-RU" sz="4000" spc="-1" strike="noStrike">
                <a:solidFill>
                  <a:srgbClr val="533341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5eca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Стихотворение положило начало литературной традиции, утвердив жанр лирического раздумья о родине, где мысль о ней нерасторжима с образами русской деревни и прир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9:31:16Z</dcterms:created>
  <dc:creator>user</dc:creator>
  <dc:description/>
  <dc:language>en-US</dc:language>
  <cp:lastModifiedBy>Admin</cp:lastModifiedBy>
  <dcterms:modified xsi:type="dcterms:W3CDTF">2023-11-12T21:05:43Z</dcterms:modified>
  <cp:revision>4</cp:revision>
  <dc:subject/>
  <dc:title>Образ Родины в лирике М.Ю.Лермонтова</dc:title>
</cp:coreProperties>
</file>