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961D-078A-4C6F-9842-E7473BF12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28560" y="351360"/>
            <a:ext cx="78868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33341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4F70-83D7-4FCD-9F15-F9C44F05D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28560" y="351360"/>
            <a:ext cx="78868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33341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1759-D78F-455D-AC8E-DAEDD73F4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28560" y="351360"/>
            <a:ext cx="78868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33341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5D58-F0C7-46AE-9283-58E2FB38A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87713-0F5B-4B9A-9DFF-7F567C6F2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51360"/>
            <a:ext cx="78868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33341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4964B-1406-40B4-A155-935122035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51360"/>
            <a:ext cx="78868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33341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11DB5-AB22-4EF3-B072-32820F979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51360"/>
            <a:ext cx="78868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33341"/>
              </a:solidFill>
              <a:latin typeface="Calibri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8CCD6-8D9A-40DE-9E77-C0B9A2DEA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51360"/>
            <a:ext cx="78868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33341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F99D7-5BFB-4340-99C7-8F578E94B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28560" y="364680"/>
            <a:ext cx="7886880" cy="31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64DDE-AA56-4D8C-BBAC-04B02A729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28560" y="351360"/>
            <a:ext cx="78868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33341"/>
              </a:solidFill>
              <a:latin typeface="Calibri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FB08A-6ACC-4D86-BFCE-EB1995F64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28560" y="351360"/>
            <a:ext cx="78868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33341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CF60-6F8F-4A5A-A1F2-7891AFA3D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28560" y="351360"/>
            <a:ext cx="78868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33341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448F6-4524-4346-8B32-0BCAB1D30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28560" y="351360"/>
            <a:ext cx="78868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33341"/>
              </a:solidFill>
              <a:latin typeface="Calibri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74777-A504-49E6-8D95-0498C4A23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51360"/>
            <a:ext cx="78868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33341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C2E64-D741-45F7-B9B5-04B2109BD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28560" y="351360"/>
            <a:ext cx="78868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33341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7853E-069F-4970-9A88-D37F2C70B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28560" y="351360"/>
            <a:ext cx="78868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33341"/>
              </a:solidFill>
              <a:latin typeface="Calibri Ligh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9A336-034A-4886-94BC-E7C3F9AE7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28560" y="351360"/>
            <a:ext cx="78868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33341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E24F-0B62-476A-BF30-6990C46DC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28560" y="351360"/>
            <a:ext cx="78868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33341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E17F-1BD4-4537-A9ED-4CDA39F26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28560" y="351360"/>
            <a:ext cx="78868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33341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2E73-B6CF-426B-A68B-3016FC6FE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28560" y="364680"/>
            <a:ext cx="7886880" cy="31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982F-5A56-4FC9-8DC4-AF526C4E5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28560" y="351360"/>
            <a:ext cx="78868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33341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9602-EF36-405E-99C1-E2D7F70B0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28560" y="351360"/>
            <a:ext cx="78868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33341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41E2-7774-405A-ADC0-92D4E8C24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28560" y="351360"/>
            <a:ext cx="78868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33341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0C4B-579C-4461-97ED-7C2530B30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Рисунок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33341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533341"/>
              </a:solidFill>
              <a:latin typeface="Calibri Ligh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9496F-D104-4965-8E53-83275709E9A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Рисунок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8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33341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533341"/>
              </a:solidFill>
              <a:latin typeface="Calibri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676DC-1005-4B78-8F97-90991614DE1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55640" y="1412640"/>
            <a:ext cx="7848720" cy="4319640"/>
          </a:xfrm>
          <a:prstGeom prst="rect">
            <a:avLst/>
          </a:prstGeom>
          <a:solidFill>
            <a:srgbClr val="e3d9bf"/>
          </a:solidFill>
          <a:ln w="9360">
            <a:solidFill>
              <a:srgbClr val="000000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a50021"/>
                </a:solidFill>
                <a:latin typeface="Snap ITC"/>
              </a:rPr>
              <a:t>Образ Родины в лирике М.Ю.Лермонтова.</a:t>
            </a:r>
            <a:br>
              <a:rPr sz="4800"/>
            </a:br>
            <a:r>
              <a:rPr b="1" lang="ru-RU" sz="4800" spc="-1" strike="noStrike">
                <a:solidFill>
                  <a:srgbClr val="a50021"/>
                </a:solidFill>
                <a:latin typeface="Snap ITC"/>
              </a:rPr>
              <a:t>Анализ стихотворения «Родина»</a:t>
            </a:r>
            <a:endParaRPr b="0" lang="en-US" sz="4800" spc="-1" strike="noStrike">
              <a:solidFill>
                <a:srgbClr val="533341"/>
              </a:solidFill>
              <a:latin typeface="Calibri Light"/>
            </a:endParaRPr>
          </a:p>
        </p:txBody>
      </p:sp>
      <p:pic>
        <p:nvPicPr>
          <p:cNvPr id="86" name="Рисунок 3" descr=""/>
          <p:cNvPicPr/>
          <p:nvPr/>
        </p:nvPicPr>
        <p:blipFill>
          <a:blip r:embed="rId1"/>
          <a:stretch/>
        </p:blipFill>
        <p:spPr>
          <a:xfrm>
            <a:off x="5867280" y="333360"/>
            <a:ext cx="2305080" cy="26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669960"/>
          </a:xfrm>
          <a:prstGeom prst="rect">
            <a:avLst/>
          </a:prstGeom>
          <a:solidFill>
            <a:srgbClr val="9e733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50021"/>
                </a:solidFill>
                <a:latin typeface="Snap ITC"/>
              </a:rPr>
              <a:t>Работа с опорной схемой</a:t>
            </a:r>
            <a:endParaRPr b="0" lang="en-US" sz="4000" spc="-1" strike="noStrike">
              <a:solidFill>
                <a:srgbClr val="533341"/>
              </a:solidFill>
              <a:latin typeface="Calibri Light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solidFill>
            <a:srgbClr val="e3d9bf"/>
          </a:solidFill>
          <a:ln w="0">
            <a:noFill/>
          </a:ln>
        </p:spPr>
        <p:txBody>
          <a:bodyPr anchor="t">
            <a:normAutofit/>
          </a:bodyPr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Snap ITC"/>
              </a:rPr>
              <a:t>Родина – тема лермонтовской лирики, развивавшаяся на протяжении всего творчества поэт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669960"/>
          </a:xfrm>
          <a:prstGeom prst="rect">
            <a:avLst/>
          </a:prstGeom>
          <a:solidFill>
            <a:srgbClr val="9e733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50021"/>
                </a:solidFill>
                <a:latin typeface="Snap ITC"/>
              </a:rPr>
              <a:t>Ранняя лирика</a:t>
            </a:r>
            <a:endParaRPr b="0" lang="en-US" sz="4000" spc="-1" strike="noStrike">
              <a:solidFill>
                <a:srgbClr val="533341"/>
              </a:solidFill>
              <a:latin typeface="Calibri Light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 fontScale="96000"/>
          </a:bodyPr>
          <a:p>
            <a:pPr marL="219240" indent="-219240">
              <a:lnSpc>
                <a:spcPct val="90000"/>
              </a:lnSpc>
              <a:spcBef>
                <a:spcPts val="10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Snap ITC"/>
              </a:rPr>
              <a:t>Родина – земля, давшая жизнь и страдание </a:t>
            </a:r>
            <a:r>
              <a:rPr b="0" lang="ru-RU" sz="2000" spc="-1" strike="noStrike">
                <a:solidFill>
                  <a:srgbClr val="800000"/>
                </a:solidFill>
                <a:latin typeface="Snap ITC"/>
              </a:rPr>
              <a:t>(стихотв. «Смерть»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90000"/>
              </a:lnSpc>
              <a:spcBef>
                <a:spcPts val="10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Snap ITC"/>
              </a:rPr>
              <a:t>Ощущение дисгармонии </a:t>
            </a:r>
            <a:r>
              <a:rPr b="0" lang="ru-RU" sz="2000" spc="-1" strike="noStrike">
                <a:solidFill>
                  <a:srgbClr val="800000"/>
                </a:solidFill>
                <a:latin typeface="Snap ITC"/>
              </a:rPr>
              <a:t>(стихотв. «Монолог»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90000"/>
              </a:lnSpc>
              <a:spcBef>
                <a:spcPts val="10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Snap ITC"/>
              </a:rPr>
              <a:t>Образ идеальной романтической отчизны </a:t>
            </a:r>
            <a:r>
              <a:rPr b="0" lang="ru-RU" sz="2400" spc="-1" strike="noStrike">
                <a:solidFill>
                  <a:srgbClr val="800000"/>
                </a:solidFill>
                <a:latin typeface="Snap ITC"/>
              </a:rPr>
              <a:t>(стихотв. «Отрывок»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90000"/>
              </a:lnSpc>
              <a:spcBef>
                <a:spcPts val="10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Snap ITC"/>
              </a:rPr>
              <a:t>Отрицание той России, «где стонет человек от рабства и цепей» </a:t>
            </a:r>
            <a:r>
              <a:rPr b="0" lang="ru-RU" sz="2400" spc="-1" strike="noStrike">
                <a:solidFill>
                  <a:srgbClr val="800000"/>
                </a:solidFill>
                <a:latin typeface="Snap ITC"/>
              </a:rPr>
              <a:t>(стихотв. «Жалобы турка»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90000"/>
              </a:lnSpc>
              <a:spcBef>
                <a:spcPts val="10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Snap ITC"/>
              </a:rPr>
              <a:t>Обращение к историческому прошлому России </a:t>
            </a:r>
            <a:r>
              <a:rPr b="0" lang="ru-RU" sz="2400" spc="-1" strike="noStrike">
                <a:solidFill>
                  <a:srgbClr val="800000"/>
                </a:solidFill>
                <a:latin typeface="Snap ITC"/>
              </a:rPr>
              <a:t>(стихотв. «Кто видел Кремль в час утра золотой…»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457200" y="549360"/>
            <a:ext cx="8229600" cy="5904000"/>
          </a:xfrm>
          <a:prstGeom prst="rect">
            <a:avLst/>
          </a:prstGeom>
          <a:solidFill>
            <a:srgbClr val="e3d9bf"/>
          </a:solidFill>
          <a:ln w="0">
            <a:noFill/>
          </a:ln>
        </p:spPr>
        <p:txBody>
          <a:bodyPr anchor="t">
            <a:normAutofit/>
          </a:bodyPr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800000"/>
                </a:solidFill>
                <a:uFillTx/>
                <a:latin typeface="Snap ITC"/>
              </a:rPr>
              <a:t>Борьба за Родину для Лермонтова священ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Snap ITC"/>
              </a:rPr>
              <a:t>     </a:t>
            </a:r>
            <a:r>
              <a:rPr b="1" lang="ru-RU" sz="2800" spc="-1" strike="noStrike">
                <a:solidFill>
                  <a:srgbClr val="660066"/>
                </a:solidFill>
                <a:latin typeface="Snap ITC"/>
              </a:rPr>
              <a:t>Война 1812 года отражена в стихотворениях «Два великана», строфы в стихотворениях «Сашка», «Бородино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Snap ITC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2060"/>
                </a:solidFill>
                <a:uFillTx/>
                <a:latin typeface="Monotype Corsiva"/>
              </a:rPr>
              <a:t>В образах простых людей Лермонтов открывает новый источник веры в родин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669960"/>
          </a:xfrm>
          <a:prstGeom prst="rect">
            <a:avLst/>
          </a:prstGeom>
          <a:solidFill>
            <a:srgbClr val="e3d9b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Snap ITC"/>
              </a:rPr>
              <a:t>Вопросы для обсуждения </a:t>
            </a:r>
            <a:endParaRPr b="0" lang="en-US" sz="4000" spc="-1" strike="noStrike">
              <a:solidFill>
                <a:srgbClr val="533341"/>
              </a:solidFill>
              <a:latin typeface="Calibri Light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 fontScale="96000"/>
          </a:bodyPr>
          <a:p>
            <a:pPr marL="219240" indent="-219240">
              <a:lnSpc>
                <a:spcPct val="90000"/>
              </a:lnSpc>
              <a:spcBef>
                <a:spcPts val="10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60066"/>
                </a:solidFill>
                <a:latin typeface="Snap ITC"/>
              </a:rPr>
              <a:t>Какие два облика России рисует Лермонтов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90000"/>
              </a:lnSpc>
              <a:spcBef>
                <a:spcPts val="10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60066"/>
                </a:solidFill>
                <a:latin typeface="Snap ITC"/>
              </a:rPr>
              <a:t>Как можно объяснить возникновение в стихотворении образа деревни, бесконечно далекого от романтических образов ранних произведений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90000"/>
              </a:lnSpc>
              <a:spcBef>
                <a:spcPts val="10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60066"/>
                </a:solidFill>
                <a:latin typeface="Snap ITC"/>
              </a:rPr>
              <a:t>Каковы особенности построения стихотворения (от широкого плана к более узкому)? Как это отразилось в лексике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90000"/>
              </a:lnSpc>
              <a:spcBef>
                <a:spcPts val="10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60066"/>
                </a:solidFill>
                <a:latin typeface="Snap ITC"/>
              </a:rPr>
              <a:t>Что нового, опираясь на традиции классической литературы, сказал Лермонтов о своем патриотическом чувстве? («Родина» - лирическое раздумье о </a:t>
            </a:r>
            <a:r>
              <a:rPr b="1" lang="ru-RU" sz="2200" spc="-1" strike="noStrike" u="sng">
                <a:solidFill>
                  <a:srgbClr val="660066"/>
                </a:solidFill>
                <a:uFillTx/>
                <a:latin typeface="Snap ITC"/>
              </a:rPr>
              <a:t>своем </a:t>
            </a:r>
            <a:r>
              <a:rPr b="1" lang="ru-RU" sz="2200" spc="-1" strike="noStrike">
                <a:solidFill>
                  <a:srgbClr val="660066"/>
                </a:solidFill>
                <a:latin typeface="Snap ITC"/>
              </a:rPr>
              <a:t>отношении к отчизне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90000"/>
              </a:lnSpc>
              <a:spcBef>
                <a:spcPts val="10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60066"/>
                </a:solidFill>
                <a:latin typeface="Snap ITC"/>
              </a:rPr>
              <a:t>Как читать это стихотворение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90000"/>
              </a:lnSpc>
              <a:spcBef>
                <a:spcPts val="10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5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669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Snap ITC"/>
              </a:rPr>
              <a:t>Вывод</a:t>
            </a:r>
            <a:r>
              <a:rPr b="0" lang="ru-RU" sz="4000" spc="-1" strike="noStrike">
                <a:solidFill>
                  <a:srgbClr val="533341"/>
                </a:solidFill>
                <a:latin typeface="Calibri Light"/>
              </a:rPr>
              <a:t> </a:t>
            </a:r>
            <a:endParaRPr b="0" lang="en-US" sz="4000" spc="-1" strike="noStrike">
              <a:solidFill>
                <a:srgbClr val="533341"/>
              </a:solidFill>
              <a:latin typeface="Calibri Light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solidFill>
            <a:srgbClr val="f5eca9"/>
          </a:solidFill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Snap ITC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Snap ITC"/>
              </a:rPr>
              <a:t>     </a:t>
            </a:r>
            <a:r>
              <a:rPr b="1" lang="ru-RU" sz="2800" spc="-1" strike="noStrike">
                <a:solidFill>
                  <a:srgbClr val="660066"/>
                </a:solidFill>
                <a:latin typeface="Snap ITC"/>
              </a:rPr>
              <a:t>Стихотворение положило начало литературной традиции, утвердив жанр лирического раздумья о родине, где мысль о ней нерасторжима с образами русской деревни и природ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1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9T09:31:16Z</dcterms:created>
  <dc:creator>user</dc:creator>
  <dc:description/>
  <dc:language>en-US</dc:language>
  <cp:lastModifiedBy>Admin</cp:lastModifiedBy>
  <dcterms:modified xsi:type="dcterms:W3CDTF">2023-11-12T21:05:43Z</dcterms:modified>
  <cp:revision>4</cp:revision>
  <dc:subject/>
  <dc:title>Образ Родины в лирике М.Ю.Лермонтова</dc:title>
</cp:coreProperties>
</file>