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97F-52A9-48AE-B210-83539CF5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7520" y="409824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E07-B2D8-457B-842B-567319EA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2544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439-1DC1-43B0-B3BB-8C822A69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604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92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752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604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92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079-969C-4A1E-A2EC-BE6CA0E4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6033-36C7-4919-A4A0-276BD74C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7E16-0884-49D3-89E2-DB9DCAC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1FC0-B633-485D-A493-77E1DF52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A14F-E642-4F57-BEA7-4C62F7B2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4826-EB2A-459F-B6C5-F51E8A1B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47520" y="364680"/>
            <a:ext cx="75675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F44D-E355-47C6-B5C8-19BBA4EE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CD7C-577C-4C3E-8144-8C32481E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A38-0B20-4342-840B-48A23CC5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2544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6813-E369-44E7-8D29-8E52E96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FAE7-27C7-4857-8035-3AE79010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47520" y="409824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4673-F523-4C7C-BA82-77998477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2544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BEBD-12AB-4D9D-8A7E-B75BDF59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604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920" y="182520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4752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0604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920" y="4098240"/>
            <a:ext cx="2436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A2BA-D08D-4D46-868F-F841CB69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92C-8506-495D-9534-2441CBC8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FC3-3E6F-4C26-9B2A-15CC10D1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332-95FD-4F74-AAB9-7849D232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47520" y="364680"/>
            <a:ext cx="75675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B32-AEB3-4396-88FD-AAAFB129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2A1-A123-4C81-8208-F29D7F0D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25440" y="409824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567-15F1-4ABA-92A0-8581358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752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5440" y="1825200"/>
            <a:ext cx="3692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7520" y="4098240"/>
            <a:ext cx="7567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361-D116-435D-817A-748B957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4287" t="0" r="0" b="0"/>
          <a:stretch/>
        </p:blipFill>
        <p:spPr>
          <a:xfrm>
            <a:off x="0" y="0"/>
            <a:ext cx="692316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"/>
          <p:cNvPicPr/>
          <p:nvPr/>
        </p:nvPicPr>
        <p:blipFill>
          <a:blip r:embed="rId3"/>
          <a:srcRect l="76074" t="0" r="0" b="0"/>
          <a:stretch/>
        </p:blipFill>
        <p:spPr>
          <a:xfrm>
            <a:off x="4735440" y="0"/>
            <a:ext cx="44085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8B3C-CCB2-4EFC-8369-D0B224B45F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2"/>
          <a:srcRect l="24287" t="0" r="0" b="0"/>
          <a:stretch/>
        </p:blipFill>
        <p:spPr>
          <a:xfrm>
            <a:off x="0" y="0"/>
            <a:ext cx="69231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3"/>
          <a:srcRect l="76074" t="0" r="0" b="0"/>
          <a:stretch/>
        </p:blipFill>
        <p:spPr>
          <a:xfrm>
            <a:off x="4735440" y="0"/>
            <a:ext cx="440856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47520" y="1825200"/>
            <a:ext cx="7567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01C6-5516-47C3-80B7-299811D0BF8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 Light"/>
              </a:rPr>
              <a:t>Единые требования к ведению школьной документации</a:t>
            </a:r>
            <a:br>
              <a:rPr sz="2500"/>
            </a:b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КОЛИЧЕСТВО ТЕТРАДЕЙ</a:t>
            </a:r>
            <a:endParaRPr b="0" lang="en-US" sz="2900" spc="-1" strike="noStrike">
              <a:solidFill>
                <a:srgbClr val="ffffff"/>
              </a:solidFill>
              <a:latin typeface="Calibri Light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935000"/>
          <a:ext cx="8381880" cy="4211640"/>
        </p:xfrm>
        <a:graphic>
          <a:graphicData uri="http://schemas.openxmlformats.org/drawingml/2006/table">
            <a:tbl>
              <a:tblPr/>
              <a:tblGrid>
                <a:gridCol w="1371600"/>
                <a:gridCol w="3809880"/>
                <a:gridCol w="320040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8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8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280a0"/>
                    </a:solidFill>
                  </a:tcPr>
                </a:tc>
              </a:tr>
              <a:tr h="19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– 9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бочие тетради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творческих работ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контрольных работ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бочая тетрадь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контрольных работ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6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– 1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бочая тетрадь 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творческих работ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допустимо для С1 – формат А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контрольных работ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бочая тетрадь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ля контрольных работ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1388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ТРАДИ ДЛЯ КОНТРОЛЬНЫХ РАБОТ ХРАНЯТСЯ В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9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062A-8089-4D32-8250-3CA0F40BB75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Единые требования к проверке тетрадей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alibri Light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1498680"/>
          <a:ext cx="8686800" cy="4749840"/>
        </p:xfrm>
        <a:graphic>
          <a:graphicData uri="http://schemas.openxmlformats.org/drawingml/2006/table">
            <a:tbl>
              <a:tblPr/>
              <a:tblGrid>
                <a:gridCol w="1866960"/>
                <a:gridCol w="2363760"/>
                <a:gridCol w="44560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класс 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угод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жедневно 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домашние и классные работ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I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лугодие 6 класса -  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слабых учеников - после каждого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сильных – важные по своей значимости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– 1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слабых учеников – после каждого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остальных – значимы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 всех учеников – 2 раз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УЧАЮЩ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 – 1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верка значимых работ в рабочих тетрад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92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57CD-CAB6-44D2-BD29-0A9969129EC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 Light"/>
              </a:rPr>
              <a:t>Единые требования к ведению школьной документации </a:t>
            </a:r>
            <a:br>
              <a:rPr sz="2500"/>
            </a:br>
            <a:r>
              <a:rPr b="1" lang="ru-RU" sz="2900" spc="-1" strike="noStrike">
                <a:solidFill>
                  <a:srgbClr val="ffffff"/>
                </a:solidFill>
                <a:latin typeface="Calibri Light"/>
              </a:rPr>
              <a:t>СРОКИ ПРОВЕРКИ РАБОТ УЧАЩИХСЯ</a:t>
            </a:r>
            <a:endParaRPr b="0" lang="en-US" sz="29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6816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трольные диктанты – к следующему урок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чинения, изложения – через неделю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через 10 дней, если работ больше 6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A6D5-B316-45B2-8B4A-EF05270AD8F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47520" y="364680"/>
            <a:ext cx="75675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 Light"/>
              </a:rPr>
              <a:t>Единые требования к ведению школьной документации 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Calibri Light"/>
              </a:rPr>
              <a:t>ТЕХНИКА ПРОВЕРКИ ПИСЬМЕННЫХ РАБОТ </a:t>
            </a:r>
            <a:endParaRPr b="0" lang="en-US" sz="2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93464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шибки подчёркиваются (у слабых - исправляются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шибки исправляются, если орфограммы или пунктограммы не изучались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чинении, изложении выносятся орфографические , пунктуационные ошибки и через дробь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актические, логические, речевые, грамматические: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     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/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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____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, Л, Р, Г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Любые графические пометы выносятся на поля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верка осуществляется красной пастой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9C2E-21D2-45B4-9457-65AD7D0C94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2</dc:creator>
  <dc:description/>
  <dc:language>en-US</dc:language>
  <cp:lastModifiedBy>Admin</cp:lastModifiedBy>
  <dcterms:modified xsi:type="dcterms:W3CDTF">2023-11-12T21:38:04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