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3DA-F518-4793-889F-E338CD4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34F-AF60-4134-92CF-F65EA81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892-E5F5-44F7-A565-785A2D24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604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75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604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26B-C603-4E75-956C-E7F49CA4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6464-BAE4-48EA-B7C4-8FDCF58C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0D3-47FB-4618-AE66-139AB823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1BC2-6F1D-4566-9DA5-CD5F7AE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438-3E77-4D68-86F2-3581A83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EA3-295A-4A4D-84B4-D9BE461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47520" y="364680"/>
            <a:ext cx="75675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A419-6747-43AF-88FB-0F444F8B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FED6-041E-4DC0-B77C-9B4E03B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DB9-77F4-4253-A827-A0DCAAF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B4B-B528-4B48-8622-B8B5499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A11-26BF-486F-8D89-46A4F32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9A2-1453-4748-B432-7CF5B77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8917-08AA-43A2-93F8-D80BF3BD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604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475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604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452-96F8-4107-9265-F0839161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956-B1C3-4436-B36B-F6C4F26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277-2CA6-4D38-BBCE-BDF12AC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E9E-0F02-4DA2-99E3-44B5E07F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47520" y="364680"/>
            <a:ext cx="75675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434-4F02-4ADC-8E47-AA93578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7B3-7454-4559-96B8-74D069E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39A-C204-491F-989A-1EF197B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AD2-189C-41F1-B7C7-B211296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4287" t="0" r="0" b="0"/>
          <a:stretch/>
        </p:blipFill>
        <p:spPr>
          <a:xfrm>
            <a:off x="0" y="0"/>
            <a:ext cx="69231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rcRect l="76074" t="0" r="0" b="0"/>
          <a:stretch/>
        </p:blipFill>
        <p:spPr>
          <a:xfrm>
            <a:off x="473544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77E-5D85-42EB-AEFA-7C7B235ADE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24287" t="0" r="0" b="0"/>
          <a:stretch/>
        </p:blipFill>
        <p:spPr>
          <a:xfrm>
            <a:off x="0" y="0"/>
            <a:ext cx="6923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rcRect l="76074" t="0" r="0" b="0"/>
          <a:stretch/>
        </p:blipFill>
        <p:spPr>
          <a:xfrm>
            <a:off x="4735440" y="0"/>
            <a:ext cx="4408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A0C7-5A52-4C33-828A-73DDD0B42B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</a:t>
            </a:r>
            <a:br>
              <a:rPr sz="2500"/>
            </a:b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КОЛИЧЕСТВО ТЕТРАДЕЙ</a:t>
            </a: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35000"/>
          <a:ext cx="8381880" cy="4211640"/>
        </p:xfrm>
        <a:graphic>
          <a:graphicData uri="http://schemas.openxmlformats.org/drawingml/2006/table">
            <a:tbl>
              <a:tblPr/>
              <a:tblGrid>
                <a:gridCol w="1371600"/>
                <a:gridCol w="3809880"/>
                <a:gridCol w="32004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</a:tr>
              <a:tr h="19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9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ие тетради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творчески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6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творчески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допустимо для С1 – формат А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38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ТРАДИ ДЛЯ КОНТРОЛЬНЫХ РАБОТ ХРАНЯТСЯ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472-C011-43E2-8231-587FAF8BBA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Единые требования к проверке тетрадей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498680"/>
          <a:ext cx="8686800" cy="4749840"/>
        </p:xfrm>
        <a:graphic>
          <a:graphicData uri="http://schemas.openxmlformats.org/drawingml/2006/table">
            <a:tbl>
              <a:tblPr/>
              <a:tblGrid>
                <a:gridCol w="1866960"/>
                <a:gridCol w="2363760"/>
                <a:gridCol w="44560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класс 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го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жедневно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домашние и классные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годие 6 класса -  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лабых учеников - после каждого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ильных – важные по своей значимост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лабых учеников – после каждого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остальных – значимы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всех учеников – 2 раз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УЧАЮЩ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верка значимых работ в рабочих тетрад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E83-76CB-4ECA-90AF-CAB42F94E0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 </a:t>
            </a:r>
            <a:br>
              <a:rPr sz="2500"/>
            </a:b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СРОКИ ПРОВЕРКИ РАБОТ УЧАЩИХСЯ</a:t>
            </a: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681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трольные диктанты – к следующему уро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чинения, изложения – через неделю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через 10 дней, если работ больше 6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AED-4EEB-46F8-A270-57A97F9D14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 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ТЕХНИКА ПРОВЕРКИ ПИСЬМЕННЫХ РАБОТ </a:t>
            </a:r>
            <a:endParaRPr b="0" lang="en-US" sz="2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шибки подчёркиваются (у слабых - исправляютс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шибки исправляются, если орфограммы или пунктограммы не изучалис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чинении, изложении выносятся орфографические , пунктуационные ошибки и через дроб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ктические, логические, речевые, грамматические: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     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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____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, Л, Р, Г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юбые графические пометы выносятся на пол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верка осуществляется красной паст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78E-5097-4829-8CAC-482913C5B4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</dc:creator>
  <dc:description/>
  <dc:language>en-US</dc:language>
  <cp:lastModifiedBy>Admin</cp:lastModifiedBy>
  <dcterms:modified xsi:type="dcterms:W3CDTF">2023-11-12T21:38:04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