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50F-B6F6-4901-A508-64080ED921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22B-C4B6-4D37-82DF-C4A2FA57E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966-AE18-4204-98E4-666EF3EE3E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B377-B475-4DCA-80AB-EAD8711B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1A71-9444-42EA-BEA8-B8E342D2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86D5-4D76-4F80-A7BA-B53077D1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B1DA-A71F-48F4-B84C-E4197462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C1F3-475D-4D2E-BA2A-6ED946B7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5C9B-8A6C-49A0-A155-79C3D53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F8A-37C7-494A-A8CF-E615089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BD06-4415-4F55-A79B-6CC8B30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C83F-2F7F-43AD-946A-095C2701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B7A7-A8AB-4145-9BC8-A464A693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DA0F-220B-4FB2-80A0-3C6CCD6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79D8-8762-48AA-BA6A-D38800A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A504-ECAE-472C-9A0D-E362C29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817-B5B5-488D-926D-120C346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1C4E-6043-40A2-8344-6A143312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12A-5017-407B-85EA-DAA3E6D5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2B4A-C4C8-450C-B8AF-21576341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AED7-E32B-4041-9704-72D60F5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26D4-E07E-4095-AE67-787D806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C210-5F15-4360-A56E-963D8A6A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4E85-E5E0-4005-93E6-A3CE39F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C7D8-4DF3-47C3-A72D-EA1535E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882C-C30D-40C3-80BE-A6F28B4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B30C-4A6A-4929-ACD7-771F071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0ABE-82C6-46A9-A5F5-D1CBF3A7B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9ED-5A2B-4864-B47C-A8C148625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050920" y="4005360"/>
            <a:ext cx="580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8 клас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произошел ввоз рабов-негр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619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й фигурой в колонии счит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уберна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«Бостонского чаепит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мас Джефферс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Джефферсон, Томас — Википедия"/>
          <p:cNvPicPr/>
          <p:nvPr/>
        </p:nvPicPr>
        <p:blipFill>
          <a:blip r:embed="rId2"/>
          <a:stretch/>
        </p:blipFill>
        <p:spPr>
          <a:xfrm>
            <a:off x="2916360" y="2492280"/>
            <a:ext cx="2879640" cy="343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-Жак Руссо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Жан-Жак Руссо"/>
          <p:cNvPicPr/>
          <p:nvPr/>
        </p:nvPicPr>
        <p:blipFill>
          <a:blip r:embed="rId2"/>
          <a:stretch/>
        </p:blipFill>
        <p:spPr>
          <a:xfrm>
            <a:off x="3348000" y="2924280"/>
            <a:ext cx="2265480" cy="293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жор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шингт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39400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аак Ньютон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Сэр Исаак Ньютон"/>
          <p:cNvPicPr/>
          <p:nvPr/>
        </p:nvPicPr>
        <p:blipFill>
          <a:blip r:embed="rId2"/>
          <a:stretch/>
        </p:blipFill>
        <p:spPr>
          <a:xfrm>
            <a:off x="2771640" y="285264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юдовик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Людовик XV (15 февраля 1710 - 10 мая 1774) , король Франции ..."/>
          <p:cNvPicPr/>
          <p:nvPr/>
        </p:nvPicPr>
        <p:blipFill>
          <a:blip r:embed="rId2"/>
          <a:stretch/>
        </p:blipFill>
        <p:spPr>
          <a:xfrm>
            <a:off x="3276720" y="2320920"/>
            <a:ext cx="285732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собрался первый Континентальный конгресс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первая Конституция СШ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3224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Английские колон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Их знают вс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Независимость 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колько ветвей власти было в США (какие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, законодательная, исполнительная, судебная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Англия и США подписали равноправный мирный договор, в котором Англия признала независимость Соединённых штат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1783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войны за независ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ела к созданию независимого государства –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я предусматривала разделение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ничтожила все препятствия, тормозившие развитие промышленности и торгов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южных штатах сохранялось раб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264636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Пути модер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Европа меняющая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16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00040" y="1714680"/>
            <a:ext cx="8072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4 июля 1776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зависимости СШ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73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остонское чаепит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4 июля 17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независимости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8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здание Уаттом паровой маш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медаль Исаака Ньют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26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е население, не занимающиеся физическим трудом – богатела за счет торговли, развития мануфак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ржу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форма правления, при которой неограниченная власть принадлежит одному человеку- монарх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Абсолютизм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ображ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орянин и крестьянин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1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жанин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ородской житель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фикация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иведение к единообразию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суть картины «Модный бра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7" descr="Модный брак (цикл картин) — Википедия"/>
          <p:cNvPicPr/>
          <p:nvPr/>
        </p:nvPicPr>
        <p:blipFill>
          <a:blip r:embed="rId1"/>
          <a:stretch/>
        </p:blipFill>
        <p:spPr>
          <a:xfrm>
            <a:off x="1332000" y="3357720"/>
            <a:ext cx="4108320" cy="312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214308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уть выражения «Воспитанный ребенок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00040" y="171468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сколько лет было принято жениться мужчине,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28-29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428760" y="171468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ая мебель появляется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ом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8800" y="178596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Батрак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аемный рабоч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31" name="Рисунок 4" descr="casos.png"/>
          <p:cNvPicPr/>
          <p:nvPr/>
        </p:nvPicPr>
        <p:blipFill>
          <a:blip r:embed="rId1"/>
          <a:stretch/>
        </p:blipFill>
        <p:spPr>
          <a:xfrm>
            <a:off x="2268360" y="1844640"/>
            <a:ext cx="536292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стантский пропове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пас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Н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праздника – День отцов-пилигри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00080" y="1571760"/>
            <a:ext cx="728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ниальные ассамбле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ное самоупра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52:38Z</dcterms:modified>
  <cp:revision>138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