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AAA4-CE8E-4F8A-8AA9-B198CA0927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D7DF-1F20-4713-9A17-513B9190FC2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5E71-4BA2-4E94-8323-01F7050E00D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A8A9-77CC-44F2-B3E9-F0B153D7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72F1-1597-40D1-A282-FD79A814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8263-1CC9-40F7-9E3E-2198E389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A79D-EBE3-4CBC-B77D-74E8D024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E8EC-E5AD-46A8-9EC4-9F33EEBF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FA12-A6A8-42F9-87FD-E97B6351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3A3E-087C-4A00-B74C-66F86280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54BB-1012-4882-87EA-8BC0584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0C3C-F572-4C40-90B7-69480CEF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12FB-C616-4101-8BA9-9184AA6B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DAB5-BE7C-416F-A7D9-A05E6419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9727-B377-4E2F-8889-E8DD1438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6D5A-2194-4AA2-B59E-8483E81B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F977-88F1-4A86-90BD-6EA22FBC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68E9-ADEB-48DF-B732-E35360D7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E39A-7DC4-47CB-BC88-5FE37CFD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231C-72EE-4465-870A-4DE607A9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CB23-B9E8-4F21-850F-DD0F15B6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38E2-E2A1-4AE0-B582-3ED4EC1D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78D9-A9D5-453E-A95F-FFCADED1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52F7-CCAC-45EB-992D-2CEB64FC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9385-C049-481B-9E98-ED7EA00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57CD-34D8-4C8A-8FB3-3AA9F5FE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1494-FFEC-410E-AE4A-B00B311A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DC9E-63DC-44E0-AFF7-864B4F4EA9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C7BC-7FA5-41B3-9E7C-CC6FA6B14A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7.xml"/><Relationship Id="rId15" Type="http://schemas.openxmlformats.org/officeDocument/2006/relationships/slide" Target="slide38.xml"/><Relationship Id="rId16" Type="http://schemas.openxmlformats.org/officeDocument/2006/relationships/slide" Target="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28560" y="4214520"/>
            <a:ext cx="60721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Рисунок 6" descr="0402dvlcsnap2010020318h57m29s79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2050920" y="4005360"/>
            <a:ext cx="580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Segoe Script"/>
              </a:rPr>
              <a:t>Новая история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Segoe Script"/>
              </a:rPr>
              <a:t>8 класс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Рисунок 1" descr=""/>
          <p:cNvPicPr/>
          <p:nvPr/>
        </p:nvPicPr>
        <p:blipFill>
          <a:blip r:embed="rId2"/>
          <a:stretch/>
        </p:blipFill>
        <p:spPr>
          <a:xfrm>
            <a:off x="468360" y="5641920"/>
            <a:ext cx="1120680" cy="93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642960" y="1500120"/>
            <a:ext cx="78580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м году произошел ввоз рабов-негро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619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42960" y="1785960"/>
            <a:ext cx="72867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ой фигурой в колонии считал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уберна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785880" y="1714680"/>
            <a:ext cx="75722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ть «Бостонского чаепит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642960" y="1500120"/>
            <a:ext cx="8143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омас Джефферсо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Джефферсон, Томас — Википедия"/>
          <p:cNvPicPr/>
          <p:nvPr/>
        </p:nvPicPr>
        <p:blipFill>
          <a:blip r:embed="rId2"/>
          <a:stretch/>
        </p:blipFill>
        <p:spPr>
          <a:xfrm>
            <a:off x="2916360" y="2492280"/>
            <a:ext cx="2879640" cy="3435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1643040"/>
            <a:ext cx="7388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Жан-Жак Руссо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Жан-Жак Руссо"/>
          <p:cNvPicPr/>
          <p:nvPr/>
        </p:nvPicPr>
        <p:blipFill>
          <a:blip r:embed="rId2"/>
          <a:stretch/>
        </p:blipFill>
        <p:spPr>
          <a:xfrm>
            <a:off x="3348000" y="2924280"/>
            <a:ext cx="2265480" cy="2931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71680" y="1357200"/>
            <a:ext cx="800100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жорд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шингто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2394000" cy="2892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857160" y="1143000"/>
            <a:ext cx="76438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аак Ньютон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Сэр Исаак Ньютон"/>
          <p:cNvPicPr/>
          <p:nvPr/>
        </p:nvPicPr>
        <p:blipFill>
          <a:blip r:embed="rId2"/>
          <a:stretch/>
        </p:blipFill>
        <p:spPr>
          <a:xfrm>
            <a:off x="2771640" y="2852640"/>
            <a:ext cx="340056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785880" y="1428840"/>
            <a:ext cx="75009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юдовик </a:t>
            </a:r>
            <a:r>
              <a:rPr b="1" i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X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Людовик XV (15 февраля 1710 - 10 мая 1774) , король Франции ..."/>
          <p:cNvPicPr/>
          <p:nvPr/>
        </p:nvPicPr>
        <p:blipFill>
          <a:blip r:embed="rId2"/>
          <a:stretch/>
        </p:blipFill>
        <p:spPr>
          <a:xfrm>
            <a:off x="3276720" y="2320920"/>
            <a:ext cx="285732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928800" y="1785960"/>
            <a:ext cx="72864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м году собрался первый Континентальный конгресс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7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857160" y="2000160"/>
            <a:ext cx="74296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каком году была выпущена первая Конституция СШ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78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1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14240" y="1397160"/>
          <a:ext cx="7429680" cy="332244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Garamond"/>
                        </a:rPr>
                        <a:t>1.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Поня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. Английские колон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3.Их знают вс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4. Независимость С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Управляющая кнопка: далее 3">
            <a:hlinkClick r:id="rId21" action="ppaction://hlinksldjump"/>
          </p:cNvPr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20513" y="10800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847800" y="1298520"/>
            <a:ext cx="735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Сколько ветвей власти было в США (какие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, законодательная, исполнительная, судебная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500120" y="1687680"/>
            <a:ext cx="6143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каком году Англия и США подписали равноправный мирный договор, в котором Англия признала независимость Соединённых штат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1783 г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642960" y="2000160"/>
            <a:ext cx="77151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и войны за независи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вела к созданию независимого государства –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титуция предусматривала разделение вла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ничтожила все препятствия, тормозившие развитие промышленности и торгов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южных штатах сохранялось раб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2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14240" y="1397160"/>
          <a:ext cx="7429680" cy="264636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.Д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2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.Пути модерниз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6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7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8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9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0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. Европа меняющая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2" name="Управляющая кнопка: в конец 3">
            <a:hlinkClick r:id="rId16" action="ppaction://hlinksldjump"/>
          </p:cNvPr>
          <p:cNvSpPr/>
          <p:nvPr/>
        </p:nvSpPr>
        <p:spPr>
          <a:xfrm>
            <a:off x="64296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500040" y="1714680"/>
            <a:ext cx="80726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4 июля 1776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нятие Деклар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зависимости СШ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714240" y="1857240"/>
            <a:ext cx="7858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773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остонское чаепит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714240" y="1857240"/>
            <a:ext cx="8001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4 июля 17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нятие Декларации независимости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1143000" y="1785960"/>
            <a:ext cx="621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784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здание Уаттом паровой маш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785880" y="171468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каком году была выпущена медаль Исаака Ньют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726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857160" y="1500120"/>
            <a:ext cx="75726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ское население, не занимающиеся физическим трудом – богатела за счет торговли, развития мануфакту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уржу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928800" y="1785960"/>
            <a:ext cx="7786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1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форма правления, при которой неограниченная власть принадлежит одному человеку- монарх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:Абсолютизм.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857160" y="170640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изображ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зя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ворянин и крестьянин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9" descr="Качественные Печати В Музеях дворянин - паук, а крестьянин - муха по  Jacques Lagniet (1620-1675, France) |"/>
          <p:cNvPicPr/>
          <p:nvPr/>
        </p:nvPicPr>
        <p:blipFill>
          <a:blip r:embed="rId1"/>
          <a:stretch/>
        </p:blipFill>
        <p:spPr>
          <a:xfrm>
            <a:off x="2165400" y="3240000"/>
            <a:ext cx="266364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214280" y="1857240"/>
            <a:ext cx="6786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жанин -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ородской житель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571680" y="1857240"/>
            <a:ext cx="82864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ая общность людей, складывающаяся в процессе формирования общности их территории, экономических связей, литературного я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714240" y="17859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ификация -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приведение к единообразию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ем суть картины «Модный бра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7" descr="Модный брак (цикл картин) — Википедия"/>
          <p:cNvPicPr/>
          <p:nvPr/>
        </p:nvPicPr>
        <p:blipFill>
          <a:blip r:embed="rId1"/>
          <a:stretch/>
        </p:blipFill>
        <p:spPr>
          <a:xfrm>
            <a:off x="1332000" y="3357720"/>
            <a:ext cx="4108320" cy="3122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428760" y="214308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Суть выражения «Воспитанный ребенок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500040" y="1714680"/>
            <a:ext cx="82868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сколько лет было принято жениться мужчине, почем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28-29 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428760" y="1714680"/>
            <a:ext cx="828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акая мебель появляется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ом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928800" y="178596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Батрак – эт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наемный рабоч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968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Garamond"/>
              </a:rPr>
              <a:t>Подведение итогов викторины</a:t>
            </a:r>
            <a:br>
              <a:rPr sz="2600"/>
            </a:b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231" name="Рисунок 4" descr="casos.png"/>
          <p:cNvPicPr/>
          <p:nvPr/>
        </p:nvPicPr>
        <p:blipFill>
          <a:blip r:embed="rId1"/>
          <a:stretch/>
        </p:blipFill>
        <p:spPr>
          <a:xfrm>
            <a:off x="2268360" y="1844640"/>
            <a:ext cx="5362920" cy="510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4240" y="2143080"/>
            <a:ext cx="80726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2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естантский проповед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пас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071720" y="2143080"/>
            <a:ext cx="721512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3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ая общность людей, складывающаяся в процессе формирования общности их территории, экономических связей, литературного я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Н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Управляющая кнопка: назад 5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71680" y="2000160"/>
            <a:ext cx="82152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5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ий сословно-представительный орган во Фра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Генера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Шт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14240" y="1785960"/>
            <a:ext cx="7500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7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ое место, где осуществлялись купля и продажа товаров и ценных бум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Бирж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28800" y="1285920"/>
            <a:ext cx="75722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ть праздника – День отцов-пилигри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000080" y="1571760"/>
            <a:ext cx="72867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ниальные ассамблеи – эт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стное самоуправление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Василий Андреев</cp:lastModifiedBy>
  <dcterms:modified xsi:type="dcterms:W3CDTF">2023-11-12T06:52:38Z</dcterms:modified>
  <cp:revision>138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</Properties>
</file>