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089-47A7-4623-A70D-9CB775E0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CCA-B4CC-444C-A2C5-EC492050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19E-4842-484B-AC24-E48AF9DC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3E5-49D3-4FE7-88AD-D7F49B27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223E-F766-484C-A2F4-B8479BFB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40BB-F21C-4E06-A0F2-58D74F12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F096-C427-46EB-BC30-416BDF81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6079-10AF-4D62-9E3B-DDD2E59C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9801-232A-4620-A87C-48421705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76E8-F34A-4108-9089-1380F81A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E440-F8A1-405B-BA54-813BB957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D9E-7765-4DC4-8B7C-4A7ED494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BF3C-BC62-482C-911E-32103581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8E37-A992-46E9-B271-A7DD16AA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D91D-D3F9-4748-9761-FE89B68F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251B-5392-469F-B7E8-B697F6CF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7328-5EAF-4B3A-8E19-645BCFBA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DC4-2F13-42C9-8467-CDC40101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3BF-E40E-4922-8FBF-F06A8236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9FB-0203-482D-87BC-4329F855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E39-9733-4584-AB28-FE55C62C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5A8-40A6-40B0-AFE0-8FECB10C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EF8-A839-4D25-AB96-1A53F728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321-7B53-4D6C-922D-42889752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A648-C401-4959-871B-69FFCCAB39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66D2-4EE6-4F8D-8CC7-A697ED8EC2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6621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Geneva"/>
              </a:rPr>
              <a:t>Викторина по сказке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Geneva"/>
              </a:rPr>
              <a:t>«Маленькие человечки»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Geneva"/>
              </a:rPr>
              <a:t>Братьев Гримм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41414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 студентка 5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Щипунова Надежда Ива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6382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Что сделали маленькие человечки после того, как примерили новую одежду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1715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бежали из дома сапо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шли кожу и продолжили шить сапо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танцевали и зап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иделись на сапо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6285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должили ли маленькие человечки шить сапоги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1301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т, они исчезли и больше не приходи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, они остались жить у сапо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пожник подружился с ними и они работали вмес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и остались у сапожника, но перестали шить сапо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Что означает слово «тачать»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0458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убить др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отовить е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Шить сапо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Шить одеж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авильные ответы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19411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                                         8. 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                                         9. 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                                         10. 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                                         11. 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500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езультаты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1301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1 до 4 правильных ответов - пожалуйста, прочти сказку еще несколько раз. Многое ты не запомн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5 до 8 правильных ответов - ты внимательно читал эту сказку, но кое-что не запомнил. Попробуй прочесть ее ещё ра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9 до 11 правильных ответов - ты очень внимательно читал сказку и запомнил все детали. Молодец, так держа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968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Чем занимался главный герой сказки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2004840"/>
            <a:ext cx="1051560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оил до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Шил сапо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одил пчё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овил рыб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500040"/>
            <a:ext cx="10712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колько кусков кожи осталось у сапожника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21618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я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д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ся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00040"/>
            <a:ext cx="10712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Что сапожник увидел утром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21618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шитые сапо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следний кусок кожи пропа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се его инструменты были слом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пожки маленьких человеч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793800"/>
            <a:ext cx="10712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ак были сшиты сапоги, которые обнаружил утром главный герой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8080" y="23936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и не были сши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ыли сшиты очень плох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апоги сразу же исчезли, растворили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ыли сшиты хорош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909720"/>
            <a:ext cx="10712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На сколько пар сапог смог купить кожи сапожник после продажи работы маленьких человечков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25142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десять пар сап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две пары сап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 не покупал кож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одну пару сап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606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де спрятались сапожник и его жена, чтобы посмотреть, кто же шьет сапоги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18232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 стол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 кровать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углу, под плат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 печ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606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Что предложила жена сапожника для того, чтобы отблагодарить маленьких человечков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1618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гостить их конфет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арить им инструменты для шит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делать для них маленькие кроват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шить для них одежду и сапож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6382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акого цвета были сшитые для человечков рубашки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1096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асн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ине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ел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елён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0T08:59:21Z</dcterms:created>
  <dc:creator>Microsoft Office User</dc:creator>
  <dc:description/>
  <dc:language>en-US</dc:language>
  <cp:lastModifiedBy>Windows User</cp:lastModifiedBy>
  <dcterms:modified xsi:type="dcterms:W3CDTF">2023-11-12T16:24:02Z</dcterms:modified>
  <cp:revision>6</cp:revision>
  <dc:subject/>
  <dc:title>NAME OF  PRESENTATION</dc:title>
</cp:coreProperties>
</file>