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EC6-DF5A-444B-944A-4BD23C64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449-7BEE-4506-9875-843CB7E7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82CD-C1D1-4667-BB9D-378D1146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1065-4FC8-4669-A583-7A6201F5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9FE3-ED18-41C6-B24A-B82ABE4E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6B1B-53B0-45D2-BF17-FF80FC03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4059-3459-46A3-8104-4A7ECF1C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4237-002A-42FE-A14D-7083B7FD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0DF1-64A1-4D20-BF0B-700C023E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F766-DC34-4799-B90F-7E16CBD5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9B48-85A7-408F-9E44-92187063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179-1135-4731-AC48-BD82AC7D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4A40-6D19-4F85-B5C6-E8F7A846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AE79-71AB-4204-B0D0-EECC39DA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FD66-D2C6-45ED-A5C0-72FADECF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2389-955F-4EF0-8866-17EDCE2F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22EC-9B52-400F-8B00-8372B9BB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950-4BB1-4E11-BE90-0B1F7AA1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45A5-D736-43A8-87FA-404323C3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EFFC-A6BA-4B71-B34A-297F2BEA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7C4-4884-4634-A917-5C7A9250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5F05-9CD6-4BCF-A494-69F26F0E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5AF-D4D9-442D-A647-3FFD0B0E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238-76D0-4231-AF2A-33B43B71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F4A6-B058-45A9-9471-DD6103CDB4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990D-8153-4FFB-8CCB-B351992D5E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66212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Geneva"/>
              </a:rPr>
              <a:t>Викторина по сказке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Geneva"/>
              </a:rPr>
              <a:t>«Маленькие человечки»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Geneva"/>
              </a:rPr>
              <a:t>Братьев Гримм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414144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ла студентка 5 кур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Щипунова Надежда Ива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6382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Что сделали маленькие человечки после того, как примерили новую одежду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1715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бежали из дома сапож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шли кожу и продолжили шить сапог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танцевали и запе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иделись на сапож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6285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должили ли маленькие человечки шить сапоги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1301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т, они исчезли и больше не приходи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а, они остались жить у сапож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апожник подружился с ними и они работали вмес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и остались у сапожника, но перестали шить сапог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Что означает слово «тачать»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0458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убить др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отовить е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Шить сапог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Шить одеж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авильные ответы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19411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                                         8. 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                                         9. 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                                         10. 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                                         11. 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езультаты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1301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1 до 4 правильных ответов - пожалуйста, прочти сказку еще несколько раз. Многое ты не запомн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5 до 8 правильных ответов - ты внимательно читал эту сказку, но кое-что не запомнил. Попробуй прочесть ее ещё ра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9 до 11 правильных ответов - ты очень внимательно читал сказку и запомнил все детали. Молодец, так держат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968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Чем занимался главный герой сказки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8080" y="2004840"/>
            <a:ext cx="1051560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оил до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Шил сапог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одил пчё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овил рыб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500040"/>
            <a:ext cx="10712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колько кусков кожи осталось у сапожника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21618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я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д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ся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00040"/>
            <a:ext cx="10712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Что сапожник увидел утром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21618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шитые сапог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следний кусок кожи пропа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се его инструменты были слома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апожки маленьких человеч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793800"/>
            <a:ext cx="10712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Как были сшиты сапоги, которые обнаружил утром главный герой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38080" y="23936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и не были сши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ыли сшиты очень плох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апоги сразу же исчезли, растворилис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ыли сшиты хорош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909720"/>
            <a:ext cx="10712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На сколько пар сапог смог купить кожи сапожник после продажи работы маленьких человечков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25142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десять пар сапо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две пары сапо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 не покупал кож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одну пару сапо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606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Где спрятались сапожник и его жена, чтобы посмотреть, кто же шьет сапоги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182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 стол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 кровать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углу, под плать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 печк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606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Что предложила жена сапожника для того, чтобы отблагодарить маленьких человечков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1618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гостить их конфет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арить им инструменты для шит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делать для них маленькие кроват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шить для них одежду и сапож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6382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Какого цвета были сшитые для человечков рубашки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1096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асн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ине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ел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елён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0T08:59:21Z</dcterms:created>
  <dc:creator>Microsoft Office User</dc:creator>
  <dc:description/>
  <dc:language>en-US</dc:language>
  <cp:lastModifiedBy>Windows User</cp:lastModifiedBy>
  <dcterms:modified xsi:type="dcterms:W3CDTF">2023-11-12T16:24:02Z</dcterms:modified>
  <cp:revision>6</cp:revision>
  <dc:subject/>
  <dc:title>NAME OF  PRESENTATION</dc:title>
</cp:coreProperties>
</file>