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BA9-0AD7-4EA2-8C81-266BF3C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BAF-3343-4F94-976E-242F97FD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90E-C44F-423C-BAD1-C5978046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6EB-2860-4541-A7B3-E5EE708A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95C-E33C-43C7-A612-ED9835C6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F648-75BC-4C83-BCF2-CE70DFA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D22-3B70-426E-9160-69F6D8B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7B77-532C-465C-A211-7C224865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8C5-6A09-48C7-8731-CCD0DCC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089-6DE5-4FC6-8862-CAE6FB4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75D-CE8F-4E27-B2DF-BEE1EC56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9E6-1CF8-442A-B98E-BF3B826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C926-D17B-4C37-A594-223737A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51B-595B-4871-BF39-269C4E3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D65-C1A9-4EB1-9109-83B8E2D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7A0-0A5E-48A2-A359-16137B2D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601-0BA6-4B8B-B653-FE29BF36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09D-BFDA-4C69-BAAF-23A3DCA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F81-01A6-4FA8-9F44-C2E33E6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537-150A-4030-8C58-63F2CFC9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518-6A42-4EFC-9559-F8857B9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E2F-3368-4957-85E6-49CAE3EC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C0C-F025-44B2-8BE3-F5B63D6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14B-E276-4F52-8E72-D56F76E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06C0-69CB-46D5-BE15-94B5A8618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EC1-B553-4B65-B807-14DC960FD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6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603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ЖЗЛ: Михаил</a:t>
            </a:r>
            <a:br>
              <a:rPr sz="5400"/>
            </a:b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Васильевич</a:t>
            </a:r>
            <a:br>
              <a:rPr sz="5400"/>
            </a:b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Ломоно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08276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За сколько лет Михаил Ломоносов закончил академию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5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10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7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6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10395000" y="544032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ую страну Михаил Ломоносов отправился в 25 лет для обуч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25 лет Михаил Ломоносов отправился в Герм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3605040" y="2567160"/>
            <a:ext cx="4981680" cy="37447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10490040" y="545148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59920"/>
            <a:ext cx="105156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Сколько времени понадобилось Ломоносову на то, чтобы заработать денег для возвращения из Германии домой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417760"/>
            <a:ext cx="10515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ый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и меся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а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е не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10533240" y="5419800"/>
            <a:ext cx="127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ихи Михаила Ломоносова очень нравились императрице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лизавете Петро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3605040" y="2575080"/>
            <a:ext cx="4981680" cy="3736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"/>
          <p:cNvPicPr/>
          <p:nvPr/>
        </p:nvPicPr>
        <p:blipFill>
          <a:blip r:embed="rId2"/>
          <a:stretch/>
        </p:blipFill>
        <p:spPr>
          <a:xfrm>
            <a:off x="10553760" y="5483160"/>
            <a:ext cx="12794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ую диссертацию защитил Михаил Ломоносов в 34 год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серебрян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золот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металлическ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б алмазн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10574280" y="550404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то покупал Михаил Ломоносов после получения заработной платы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аждый раз, когда Михаил Ломоносов получал зарплату, он покупал 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4340160" y="2809800"/>
            <a:ext cx="3517920" cy="3754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10563120" y="540864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ой университет открыл Михаил Ломоносов в возрасте 44 лет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888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ФУ (Северный Арктический Федеральный Университе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сковский университ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нкт-Петербургский университ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открыл университет в Герм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10617120" y="5514840"/>
            <a:ext cx="12794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м году умер Михаил Васильевич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7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8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10617120" y="5492880"/>
            <a:ext cx="127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>
            <a:hlinkClick r:id="rId1" action="ppaction://hlinksldjump"/>
          </p:cNvPr>
          <p:cNvSpPr/>
          <p:nvPr/>
        </p:nvSpPr>
        <p:spPr>
          <a:xfrm>
            <a:off x="223848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">
            <a:hlinkClick r:id="rId2" action="ppaction://hlinksldjump"/>
          </p:cNvPr>
          <p:cNvSpPr/>
          <p:nvPr/>
        </p:nvSpPr>
        <p:spPr>
          <a:xfrm>
            <a:off x="223848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>
            <a:hlinkClick r:id="rId3" action="ppaction://hlinksldjump"/>
          </p:cNvPr>
          <p:cNvSpPr/>
          <p:nvPr/>
        </p:nvSpPr>
        <p:spPr>
          <a:xfrm>
            <a:off x="223848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>
            <a:hlinkClick r:id="rId4" action="ppaction://hlinksldjump"/>
          </p:cNvPr>
          <p:cNvSpPr/>
          <p:nvPr/>
        </p:nvSpPr>
        <p:spPr>
          <a:xfrm>
            <a:off x="403560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>
            <a:hlinkClick r:id="rId5" action="ppaction://hlinksldjump"/>
          </p:cNvPr>
          <p:cNvSpPr/>
          <p:nvPr/>
        </p:nvSpPr>
        <p:spPr>
          <a:xfrm>
            <a:off x="403560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>
            <a:hlinkClick r:id="rId6" action="ppaction://hlinksldjump"/>
          </p:cNvPr>
          <p:cNvSpPr/>
          <p:nvPr/>
        </p:nvSpPr>
        <p:spPr>
          <a:xfrm>
            <a:off x="4041720" y="4214880"/>
            <a:ext cx="118764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7">
            <a:hlinkClick r:id="rId7" action="ppaction://hlinksldjump"/>
          </p:cNvPr>
          <p:cNvSpPr/>
          <p:nvPr/>
        </p:nvSpPr>
        <p:spPr>
          <a:xfrm>
            <a:off x="580716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8">
            <a:hlinkClick r:id="rId8" action="ppaction://hlinksldjump"/>
          </p:cNvPr>
          <p:cNvSpPr/>
          <p:nvPr/>
        </p:nvSpPr>
        <p:spPr>
          <a:xfrm>
            <a:off x="580716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9">
            <a:hlinkClick r:id="rId9" action="ppaction://hlinksldjump"/>
          </p:cNvPr>
          <p:cNvSpPr/>
          <p:nvPr/>
        </p:nvSpPr>
        <p:spPr>
          <a:xfrm>
            <a:off x="580716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0">
            <a:hlinkClick r:id="rId10" action="ppaction://hlinksldjump"/>
          </p:cNvPr>
          <p:cNvSpPr/>
          <p:nvPr/>
        </p:nvSpPr>
        <p:spPr>
          <a:xfrm>
            <a:off x="757872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1">
            <a:hlinkClick r:id="rId11" action="ppaction://hlinksldjump"/>
          </p:cNvPr>
          <p:cNvSpPr/>
          <p:nvPr/>
        </p:nvSpPr>
        <p:spPr>
          <a:xfrm>
            <a:off x="757872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2">
            <a:hlinkClick r:id="rId12" action="ppaction://hlinksldjump"/>
          </p:cNvPr>
          <p:cNvSpPr/>
          <p:nvPr/>
        </p:nvSpPr>
        <p:spPr>
          <a:xfrm>
            <a:off x="757872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3">
            <a:hlinkClick r:id="rId13" action="ppaction://hlinksldjump"/>
          </p:cNvPr>
          <p:cNvSpPr/>
          <p:nvPr/>
        </p:nvSpPr>
        <p:spPr>
          <a:xfrm>
            <a:off x="934884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934884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934884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м году и какого числа родился Михаил Васильевич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025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хаил Васильевич Ломоносов родился 19 ноября 17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3730680" y="2828880"/>
            <a:ext cx="4730760" cy="354816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4"/>
          <p:cNvSpPr/>
          <p:nvPr/>
        </p:nvSpPr>
        <p:spPr>
          <a:xfrm>
            <a:off x="10679040" y="5602320"/>
            <a:ext cx="1271520" cy="1030320"/>
          </a:xfrm>
          <a:prstGeom prst="ellipse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называлась деревня, в которой родился М.В.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рень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монос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шанин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ров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0605960" y="5556240"/>
            <a:ext cx="12798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о сколько лет М.В. Ломоносов научился читать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ленький Миша научился читать в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767040" y="2747880"/>
            <a:ext cx="46576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10563120" y="552456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колько лет было Ломоносову, когда отец впервые взял его на корабль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0364760" y="5460840"/>
            <a:ext cx="12794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ем был Миша на борту корабл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ша Ломоносов был юнг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Рисунок 3"/>
          <p:cNvSpPr/>
          <p:nvPr/>
        </p:nvSpPr>
        <p:spPr>
          <a:xfrm>
            <a:off x="3546360" y="2487600"/>
            <a:ext cx="51040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10626840" y="5472000"/>
            <a:ext cx="12808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 какому морю ходил корабль семьи Ломоносовых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Бел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Чёр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Крас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Средизем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10594800" y="544032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й большой город Михаил Ломоносов отправился в 19 лет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хаил Васильевич Ломоносов отправился в Моск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3465360" y="2670120"/>
            <a:ext cx="5261040" cy="3506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10458360" y="5430960"/>
            <a:ext cx="128124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4T10:38:21Z</dcterms:created>
  <dc:creator>user</dc:creator>
  <dc:description/>
  <dc:language>en-US</dc:language>
  <cp:lastModifiedBy>Windows User</cp:lastModifiedBy>
  <dcterms:modified xsi:type="dcterms:W3CDTF">2023-11-12T15:52:20Z</dcterms:modified>
  <cp:revision>10</cp:revision>
  <dc:subject/>
  <dc:title>NAME OF PRESENTATION</dc:title>
</cp:coreProperties>
</file>