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894-F0E5-48F0-A50F-62A89FF2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43A-7293-4097-8FF5-28C1B673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864-298C-40FD-990E-841C9155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8EB-0C1D-42BC-8524-13CB548C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0D6-E024-423A-B593-38BFB553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CDA4-E61A-45EE-9197-F277A9E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3A48-09D9-4B1C-9693-D8911431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9B34-240B-4005-9387-6004BCB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DDE2-0BAC-4245-9346-5EB56EB6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A64A-E0FC-4E53-AE6E-C8DB4F51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880F-F291-4272-BAE0-1B7E08B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D81-B141-4ADE-BCEC-0F33B205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4378-D0FA-450D-80DA-80CCF17A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E63-093C-4160-A8F6-394CA47B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C264-693B-4F1C-B66D-4104D30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EA3F-2355-414A-A67E-562FFF1D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A558-5D90-40CB-A5B1-182586CD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97C-57E1-42EF-BF6C-2D607EE4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C09-6FD2-4BB0-BDCE-97634DE2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396-1EB8-4499-A3C9-3DDA5DAC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83E-5E98-4A51-AB86-BFE7EF53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FE8-A944-4B0A-9BAB-63899FA1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705-02E7-47B0-A5E9-02763F7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982-B80E-4344-995E-5EF72C77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FA62-7E56-4E64-8A41-2B7B709F3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D89E-F579-4502-A73E-F9C13F3C3F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4.xml"/><Relationship Id="rId5" Type="http://schemas.openxmlformats.org/officeDocument/2006/relationships/slide" Target="slide9.xml"/><Relationship Id="rId6" Type="http://schemas.openxmlformats.org/officeDocument/2006/relationships/slide" Target="slide14.xml"/><Relationship Id="rId7" Type="http://schemas.openxmlformats.org/officeDocument/2006/relationships/slide" Target="slide5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16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603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3403b"/>
                </a:solidFill>
                <a:latin typeface="Arial"/>
                <a:ea typeface="Arial"/>
              </a:rPr>
              <a:t>ЖЗЛ: Михаил</a:t>
            </a:r>
            <a:br>
              <a:rPr sz="5400"/>
            </a:br>
            <a:r>
              <a:rPr b="1" lang="ru-RU" sz="5400" spc="-1" strike="noStrike">
                <a:solidFill>
                  <a:srgbClr val="b3403b"/>
                </a:solidFill>
                <a:latin typeface="Arial"/>
                <a:ea typeface="Arial"/>
              </a:rPr>
              <a:t>Васильевич</a:t>
            </a:r>
            <a:br>
              <a:rPr sz="5400"/>
            </a:br>
            <a:r>
              <a:rPr b="1" lang="ru-RU" sz="5400" spc="-1" strike="noStrike">
                <a:solidFill>
                  <a:srgbClr val="b3403b"/>
                </a:solidFill>
                <a:latin typeface="Arial"/>
                <a:ea typeface="Arial"/>
              </a:rPr>
              <a:t>Ломоносов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08276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студентка 5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За сколько лет Михаил Ломоносов закончил академию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5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10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7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6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10395000" y="544032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ую страну Михаил Ломоносов отправился в 25 лет для обуч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В 25 лет Михаил Ломоносов отправился в Герм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3605040" y="2567160"/>
            <a:ext cx="4981680" cy="37447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10490040" y="545148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59920"/>
            <a:ext cx="10515600" cy="17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Сколько времени понадобилось Ломоносову на то, чтобы заработать денег для возвращения из Германии домой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417760"/>
            <a:ext cx="105156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ый 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и меся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а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ве не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10533240" y="5419800"/>
            <a:ext cx="127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тихи Михаила Ломоносова очень нравились императрице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лизавете Петро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3605040" y="2575080"/>
            <a:ext cx="4981680" cy="37368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"/>
          <p:cNvPicPr/>
          <p:nvPr/>
        </p:nvPicPr>
        <p:blipFill>
          <a:blip r:embed="rId2"/>
          <a:stretch/>
        </p:blipFill>
        <p:spPr>
          <a:xfrm>
            <a:off x="10553760" y="5483160"/>
            <a:ext cx="12794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ую диссертацию защитил Михаил Ломоносов в 34 год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серебрян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золот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 металлическ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Об алмазном блес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10574280" y="550404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Что покупал Михаил Ломоносов после получения заработной платы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аждый раз, когда Михаил Ломоносов получал зарплату, он покупал кн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"/>
          <p:cNvPicPr/>
          <p:nvPr/>
        </p:nvPicPr>
        <p:blipFill>
          <a:blip r:embed="rId1"/>
          <a:stretch/>
        </p:blipFill>
        <p:spPr>
          <a:xfrm>
            <a:off x="4340160" y="2809800"/>
            <a:ext cx="3517920" cy="37544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"/>
          <p:cNvPicPr/>
          <p:nvPr/>
        </p:nvPicPr>
        <p:blipFill>
          <a:blip r:embed="rId2"/>
          <a:stretch/>
        </p:blipFill>
        <p:spPr>
          <a:xfrm>
            <a:off x="10563120" y="540864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ой университет открыл Михаил Ломоносов в возрасте 44 лет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8889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ФУ (Северный Арктический Федеральный Университе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сковский университ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нкт-Петербургский университ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 открыл университет в Герм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10617120" y="5514840"/>
            <a:ext cx="12794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ом году умер Михаил Васильевич Ломоносов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77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7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77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18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10617120" y="5492880"/>
            <a:ext cx="12794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>
            <a:hlinkClick r:id="rId1" action="ppaction://hlinksldjump"/>
          </p:cNvPr>
          <p:cNvSpPr/>
          <p:nvPr/>
        </p:nvSpPr>
        <p:spPr>
          <a:xfrm>
            <a:off x="223848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2">
            <a:hlinkClick r:id="rId2" action="ppaction://hlinksldjump"/>
          </p:cNvPr>
          <p:cNvSpPr/>
          <p:nvPr/>
        </p:nvSpPr>
        <p:spPr>
          <a:xfrm>
            <a:off x="223848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>
            <a:hlinkClick r:id="rId3" action="ppaction://hlinksldjump"/>
          </p:cNvPr>
          <p:cNvSpPr/>
          <p:nvPr/>
        </p:nvSpPr>
        <p:spPr>
          <a:xfrm>
            <a:off x="223848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4">
            <a:hlinkClick r:id="rId4" action="ppaction://hlinksldjump"/>
          </p:cNvPr>
          <p:cNvSpPr/>
          <p:nvPr/>
        </p:nvSpPr>
        <p:spPr>
          <a:xfrm>
            <a:off x="403560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">
            <a:hlinkClick r:id="rId5" action="ppaction://hlinksldjump"/>
          </p:cNvPr>
          <p:cNvSpPr/>
          <p:nvPr/>
        </p:nvSpPr>
        <p:spPr>
          <a:xfrm>
            <a:off x="403560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6">
            <a:hlinkClick r:id="rId6" action="ppaction://hlinksldjump"/>
          </p:cNvPr>
          <p:cNvSpPr/>
          <p:nvPr/>
        </p:nvSpPr>
        <p:spPr>
          <a:xfrm>
            <a:off x="4041720" y="4214880"/>
            <a:ext cx="118764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7">
            <a:hlinkClick r:id="rId7" action="ppaction://hlinksldjump"/>
          </p:cNvPr>
          <p:cNvSpPr/>
          <p:nvPr/>
        </p:nvSpPr>
        <p:spPr>
          <a:xfrm>
            <a:off x="580716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8">
            <a:hlinkClick r:id="rId8" action="ppaction://hlinksldjump"/>
          </p:cNvPr>
          <p:cNvSpPr/>
          <p:nvPr/>
        </p:nvSpPr>
        <p:spPr>
          <a:xfrm>
            <a:off x="580716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9">
            <a:hlinkClick r:id="rId9" action="ppaction://hlinksldjump"/>
          </p:cNvPr>
          <p:cNvSpPr/>
          <p:nvPr/>
        </p:nvSpPr>
        <p:spPr>
          <a:xfrm>
            <a:off x="580716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0">
            <a:hlinkClick r:id="rId10" action="ppaction://hlinksldjump"/>
          </p:cNvPr>
          <p:cNvSpPr/>
          <p:nvPr/>
        </p:nvSpPr>
        <p:spPr>
          <a:xfrm>
            <a:off x="757872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1">
            <a:hlinkClick r:id="rId11" action="ppaction://hlinksldjump"/>
          </p:cNvPr>
          <p:cNvSpPr/>
          <p:nvPr/>
        </p:nvSpPr>
        <p:spPr>
          <a:xfrm>
            <a:off x="757872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2">
            <a:hlinkClick r:id="rId12" action="ppaction://hlinksldjump"/>
          </p:cNvPr>
          <p:cNvSpPr/>
          <p:nvPr/>
        </p:nvSpPr>
        <p:spPr>
          <a:xfrm>
            <a:off x="757872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3">
            <a:hlinkClick r:id="rId13" action="ppaction://hlinksldjump"/>
          </p:cNvPr>
          <p:cNvSpPr/>
          <p:nvPr/>
        </p:nvSpPr>
        <p:spPr>
          <a:xfrm>
            <a:off x="9348840" y="851040"/>
            <a:ext cx="1187280" cy="115704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9348840" y="25336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9348840" y="4214880"/>
            <a:ext cx="1187280" cy="1155600"/>
          </a:xfrm>
          <a:prstGeom prst="rect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ом году и какого числа родился Михаил Васильевич Ломоносов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0253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хаил Васильевич Ломоносов родился 19 ноября 1711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3730680" y="2828880"/>
            <a:ext cx="4730760" cy="354816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4"/>
          <p:cNvSpPr/>
          <p:nvPr/>
        </p:nvSpPr>
        <p:spPr>
          <a:xfrm>
            <a:off x="10679040" y="5602320"/>
            <a:ext cx="1271520" cy="1030320"/>
          </a:xfrm>
          <a:prstGeom prst="ellipse">
            <a:avLst/>
          </a:prstGeom>
          <a:solidFill>
            <a:srgbClr val="b3403b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называлась деревня, в которой родился М.В. Ломоносов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рень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омонос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ишанин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тров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0605960" y="5556240"/>
            <a:ext cx="127980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0000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о сколько лет М.В. Ломоносов научился читать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аленький Миша научился читать в 5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767040" y="2747880"/>
            <a:ext cx="46576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"/>
          <p:cNvPicPr/>
          <p:nvPr/>
        </p:nvPicPr>
        <p:blipFill>
          <a:blip r:embed="rId2"/>
          <a:stretch/>
        </p:blipFill>
        <p:spPr>
          <a:xfrm>
            <a:off x="10563120" y="552456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колько лет было Ломоносову, когда отец впервые взял его на корабль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10364760" y="5460840"/>
            <a:ext cx="12794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ем был Миша на борту корабл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ша Ломоносов был юнг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Рисунок 3"/>
          <p:cNvSpPr/>
          <p:nvPr/>
        </p:nvSpPr>
        <p:spPr>
          <a:xfrm>
            <a:off x="3546360" y="2487600"/>
            <a:ext cx="51040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10626840" y="5472000"/>
            <a:ext cx="12808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 какому морю ходил корабль семьи Ломоносовых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Бел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Чёрн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Красн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Средиземному Мор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10594800" y="5440320"/>
            <a:ext cx="12812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3403b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В какой большой город Михаил Ломоносов отправился в 19 лет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ихаил Васильевич Ломоносов отправился в Моск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3465360" y="2670120"/>
            <a:ext cx="5261040" cy="3506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10458360" y="5430960"/>
            <a:ext cx="128124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4T10:38:21Z</dcterms:created>
  <dc:creator>user</dc:creator>
  <dc:description/>
  <dc:language>en-US</dc:language>
  <cp:lastModifiedBy>Windows User</cp:lastModifiedBy>
  <dcterms:modified xsi:type="dcterms:W3CDTF">2023-11-12T15:52:20Z</dcterms:modified>
  <cp:revision>10</cp:revision>
  <dc:subject/>
  <dc:title>NAME OF PRESENTATION</dc:title>
</cp:coreProperties>
</file>