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570-DB0C-4897-974D-38896256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934-53F7-49AA-87F1-1E16711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82A-D724-44CF-8277-BEC5C66C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EE5-9401-46FE-827C-562208D8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6334-E374-4BAA-8854-B4819B28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8538-3A41-4061-B2BF-EB30DE5D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50C9-73E7-44D4-BB7C-A152DEC8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FA99-21FE-4880-84D8-9ACB79FF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7C77-1E01-4837-8F56-4B8C60D5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3197-3F7C-475F-B692-84101F01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1694-981D-4F3F-BD5F-942F5075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26C-E242-4038-B9C3-83771450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BC82-353E-4BE0-A19D-00EB4CC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A8B7-11DC-413A-8BE1-13DB0821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C037-3F09-4CE1-AF59-F867D7EA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60FF-17B3-402E-AB9F-DAD93579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8414-31A7-4BFD-9B10-B69FB377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32D-918A-45D0-B197-63FBD7DC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B0E-6393-4F57-A22C-0F78C872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EA3-0EA7-4FF2-B410-902BC0E8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C62-41ED-472E-8FEE-41C2023D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8AD-F4C9-4E11-ABC0-52621064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B74-925C-461C-97AA-16ED068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2EA-9228-4DDB-B830-55EF9D0E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4D1C-B3D8-408E-A80F-18C044669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A1CB-ACC4-4305-AD57-F23FF29D6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468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Викторина по сказке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Х. – К. Андерсена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«Пятеро из одного стручка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4054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 студентка 5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ипунова Надежд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49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Что случилось с больной девочкой в конце сказки? Напиши свое мнение на лист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2762280" y="2351160"/>
            <a:ext cx="6667560" cy="4219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Правильные ответ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                                         5.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                                         6.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                                         7.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                                         8.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Результаты викторин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1 до 3 правильных ответов: тебе еще есть, над чем поработать. Не сдавайся, и у тебя всё обязательно получит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4 до 6 правильных ответов: молодец, ты хорошо постарался! Но, попробуй перечитать сказку еще р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7 до 9 правильных ответов: ты отлично справился с этой викториной. Гордись своими знаниям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286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Основная мысль сказк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5714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новная мысль сказки заключается в том, что каждый должен приносить кому-то пользу, а не думать только о себе. В этом и заключается настоящее счастья и смысл жизн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497400" y="3699000"/>
            <a:ext cx="4752720" cy="286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54476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54476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669960" y="0"/>
            <a:ext cx="10837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154476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430200" y="0"/>
            <a:ext cx="11383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06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Кем были «пятеро из одного стручка»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2045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тенчи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рошин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тят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сти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606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О чем мечтали горошинк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2045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расти и стать стручками горо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всегда остаться внутри стру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правиться в большой ми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ть людьми и жить в обычном ми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954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Кто сорвал стручок, в котором находились горошинк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24141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руш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ленькая дево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учок сам оторвался от стебл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ленький мальч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933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Что маленький мальчик сделал с горошинкам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рядил горошинками свое ружье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бросил и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садил горошинки в своем маленьком сад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арил их своей мам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7218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Куда попала последняя горошинк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2338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пала в глубокое озер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годила в щель, на подоконнике, где рос мо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пала на крыльцо красивого до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годила в гнездо прекрасной птиц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795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Кто жил в маленькой чердачной комнате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удожник с маленькой собач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исатель, автор этой сказ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едная женщина и ее больная доч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ренькие бабушка и дедуш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933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Что случилось с девочкой после того, как она увидела росток горошк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начала поправля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захотела сорвать е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решила пересадить его в цветочный горш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а не заметила росток, потому что бол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933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 Light"/>
              </a:rPr>
              <a:t>Какую окраску имели распустившиеся цветы горошк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506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луб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ел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ёлт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ветло-розову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0T09:14:09Z</dcterms:created>
  <dc:creator>Microsoft Office User</dc:creator>
  <dc:description/>
  <dc:language>en-US</dc:language>
  <cp:lastModifiedBy>Windows User</cp:lastModifiedBy>
  <dcterms:modified xsi:type="dcterms:W3CDTF">2023-11-12T16:21:56Z</dcterms:modified>
  <cp:revision>7</cp:revision>
  <dc:subject/>
  <dc:title>NAME OF PRESENTATION</dc:title>
</cp:coreProperties>
</file>