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299-A084-4F5E-82A9-6D31E374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840-D989-4EB7-A57D-A4F7D5A0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3E7-BC7B-47F1-AD14-68E5B81D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C4E-9557-4DDC-9A99-31150F75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8EB2-7E7B-4287-A960-025570D9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0E28-042A-4886-BDCA-7723EA27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E5EC-1B5A-40ED-8B10-698F5B0D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A46D-23A3-4C9E-8628-9E680257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A907-3A1D-45F8-B945-9FED1C2F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3C50-1311-4530-B3A0-1AA39276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52EB-8B8C-4E74-9CB6-EC0581C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E87-D3A4-4104-8F64-378EB967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3E62-BC9B-4BFA-9437-5F3F852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9270-A7AC-4C0D-9F47-B980967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8740-6E6C-4EFF-BC0B-91B351F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65D6-91B5-4C8D-B456-3027584C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79B2-B31E-419A-A39F-72BFDB41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E73-C0D5-4277-BA47-CB9CF415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392-59B3-4107-BAD1-FBE2923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F2C-3EA6-428C-90AB-255D0CC5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C48-B508-4DE9-B93F-76C0960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700-CFF7-4F45-9B4B-83A6B35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BAA-8EEF-4489-AD96-1B453B8A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4D2-4FA6-47C0-859F-B173103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0A0A-D088-4F82-8053-D3C742014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EA50-A516-4D47-9863-1F00E94BB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468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Викторина по сказк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Х. – К. Андерсена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«Пятеро из одного стручка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4054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 студентка 5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ипунова Надежд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49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Что случилось с больной девочкой в конце сказки? Напиши свое мнение на лист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2762280" y="2351160"/>
            <a:ext cx="6667560" cy="421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Правильные отве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                                         5.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                                         6.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                                        7.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                                         8.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Результаты викторин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1 до 3 правильных ответов: тебе еще есть, над чем поработать. Не сдавайся, и у тебя всё обязательно получит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4 до 6 правильных ответов: молодец, ты хорошо постарался! Но, попробуй перечитать сказку еще р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7 до 9 правильных ответов: ты отлично справился с этой викториной. Гордись своими знания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286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Основная мысль сказк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5714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ая мысль сказки заключается в том, что каждый должен приносить кому-то пользу, а не думать только о себе. В этом и заключается настоящее счастья и смысл жизн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497400" y="3699000"/>
            <a:ext cx="4752720" cy="286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54476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54476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66996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154476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430200" y="0"/>
            <a:ext cx="11383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06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ем были «пятеро из одного стручка»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2045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тенчи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рошин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тят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и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6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О чем мечтали горошинк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2045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расти и стать стручками горо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всегда остаться внутри стру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правиться в большой ми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ть людьми и жить в обычном ми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954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то сорвал стручок, в котором находились горошинк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414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руш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ленькая дево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учок сам оторвался от стеб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ленький мальч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933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Что маленький мальчик сделал с горошинкам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рядил горошинками свое ружье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бросил 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садил горошинки в своем маленьком сад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арил их своей ма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218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уда попала последняя горошин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338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пала в глубокое озер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годила в щель, на подоконнике, где рос мо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пала на крыльцо красивого до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годила в гнездо прекрасной пт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795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то жил в маленькой чердачной комнате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удожник с маленькой собач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исатель, автор этой сказ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едная женщина и ее больная доч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ренькие бабушка и дедуш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933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Что случилось с девочкой после того, как она увидела росток горош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начала поправля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захотела сорвать е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решила пересадить его в цветочный горш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не заметила росток, потому что бол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933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акую окраску имели распустившиеся цветы горош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луб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ел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ёлт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етло-розов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0T09:14:09Z</dcterms:created>
  <dc:creator>Microsoft Office User</dc:creator>
  <dc:description/>
  <dc:language>en-US</dc:language>
  <cp:lastModifiedBy>Windows User</cp:lastModifiedBy>
  <dcterms:modified xsi:type="dcterms:W3CDTF">2023-11-12T16:21:56Z</dcterms:modified>
  <cp:revision>7</cp:revision>
  <dc:subject/>
  <dc:title>NAME OF PRESENTATION</dc:title>
</cp:coreProperties>
</file>