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335-B995-4660-ABCC-99B2F7E9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920-6C61-4D18-9EA3-3C3ACBFA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160-4C13-4469-8F54-26452BCC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C7D-0E8C-4164-9AE2-0A4DCBB9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9F0-32FB-4517-B933-FA8E5E0C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558-AAC2-4F69-9117-B41B764C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909-85FD-4E22-A915-E4CC7047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F43-4E5C-4188-B3F9-AB1045D5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23000"/>
            <a:ext cx="9143640" cy="101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20B-567D-4899-AB30-BF11D993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195-4092-443B-82B8-0C03A247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CFB-E76D-4774-88DE-6AB5310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B7D-16FF-4F6D-85C9-7FE21B85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 algn="ctr">
              <a:lnSpc>
                <a:spcPct val="13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59960" y="1610280"/>
            <a:ext cx="9685800" cy="24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</a:pPr>
            <a:r>
              <a:rPr b="1" lang="ru-RU" sz="8800" spc="-1" strike="noStrike">
                <a:solidFill>
                  <a:srgbClr val="000000"/>
                </a:solidFill>
                <a:latin typeface="Calibri Light"/>
              </a:rPr>
              <a:t>Знать, как свои пять пальцев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101" name="Изображение 4" descr=""/>
          <p:cNvPicPr/>
          <p:nvPr/>
        </p:nvPicPr>
        <p:blipFill>
          <a:blip r:embed="rId2"/>
          <a:stretch/>
        </p:blipFill>
        <p:spPr>
          <a:xfrm>
            <a:off x="1840320" y="138600"/>
            <a:ext cx="10407960" cy="671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5" name="Рисунок 11" descr=""/>
          <p:cNvPicPr/>
          <p:nvPr/>
        </p:nvPicPr>
        <p:blipFill>
          <a:blip r:embed="rId2"/>
          <a:srcRect l="0" t="20425" r="0" b="56601"/>
          <a:stretch/>
        </p:blipFill>
        <p:spPr>
          <a:xfrm>
            <a:off x="1983600" y="957600"/>
            <a:ext cx="9734040" cy="3243960"/>
          </a:xfrm>
          <a:prstGeom prst="rect">
            <a:avLst/>
          </a:prstGeom>
          <a:ln w="0">
            <a:noFill/>
          </a:ln>
        </p:spPr>
      </p:pic>
      <p:sp>
        <p:nvSpPr>
          <p:cNvPr id="46" name="Текстовое поле 5"/>
          <p:cNvSpPr/>
          <p:nvPr/>
        </p:nvSpPr>
        <p:spPr>
          <a:xfrm>
            <a:off x="2701440" y="2803680"/>
            <a:ext cx="799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Текстовое поле 6"/>
          <p:cNvSpPr/>
          <p:nvPr/>
        </p:nvSpPr>
        <p:spPr>
          <a:xfrm>
            <a:off x="3786480" y="2803680"/>
            <a:ext cx="678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Текстовое поле 8"/>
          <p:cNvSpPr/>
          <p:nvPr/>
        </p:nvSpPr>
        <p:spPr>
          <a:xfrm>
            <a:off x="5832000" y="2803680"/>
            <a:ext cx="528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Текстовое поле 9"/>
          <p:cNvSpPr/>
          <p:nvPr/>
        </p:nvSpPr>
        <p:spPr>
          <a:xfrm>
            <a:off x="4827960" y="2930400"/>
            <a:ext cx="678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Текстовое поле 11"/>
          <p:cNvSpPr/>
          <p:nvPr/>
        </p:nvSpPr>
        <p:spPr>
          <a:xfrm>
            <a:off x="5770800" y="2797920"/>
            <a:ext cx="64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Текстовое поле 12"/>
          <p:cNvSpPr/>
          <p:nvPr/>
        </p:nvSpPr>
        <p:spPr>
          <a:xfrm>
            <a:off x="6910200" y="2797920"/>
            <a:ext cx="543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Текстовое поле 13"/>
          <p:cNvSpPr/>
          <p:nvPr/>
        </p:nvSpPr>
        <p:spPr>
          <a:xfrm>
            <a:off x="7725240" y="2870280"/>
            <a:ext cx="678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овое поле 14"/>
          <p:cNvSpPr/>
          <p:nvPr/>
        </p:nvSpPr>
        <p:spPr>
          <a:xfrm>
            <a:off x="8780760" y="2797920"/>
            <a:ext cx="972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Текстовое поле 15"/>
          <p:cNvSpPr/>
          <p:nvPr/>
        </p:nvSpPr>
        <p:spPr>
          <a:xfrm>
            <a:off x="9716760" y="2644200"/>
            <a:ext cx="648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Текстовое поле 16"/>
          <p:cNvSpPr/>
          <p:nvPr/>
        </p:nvSpPr>
        <p:spPr>
          <a:xfrm>
            <a:off x="10818360" y="2644200"/>
            <a:ext cx="754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Текстовое поле 19"/>
          <p:cNvSpPr/>
          <p:nvPr/>
        </p:nvSpPr>
        <p:spPr>
          <a:xfrm>
            <a:off x="4955040" y="2876400"/>
            <a:ext cx="528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Изображение 20" descr=""/>
          <p:cNvPicPr/>
          <p:nvPr/>
        </p:nvPicPr>
        <p:blipFill>
          <a:blip r:embed="rId3"/>
          <a:stretch/>
        </p:blipFill>
        <p:spPr>
          <a:xfrm>
            <a:off x="3627720" y="4309200"/>
            <a:ext cx="59907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11160" y="1594440"/>
            <a:ext cx="10003320" cy="324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</a:pPr>
            <a:r>
              <a:rPr b="1" lang="ru-RU" sz="8000" spc="-1" strike="noStrike">
                <a:solidFill>
                  <a:srgbClr val="000000"/>
                </a:solidFill>
                <a:latin typeface="Calibri Light"/>
              </a:rPr>
              <a:t>232*3     5*126    89*4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Calibri Light"/>
              </a:rPr>
              <a:t>426:2      848:8     693: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20080" y="885240"/>
            <a:ext cx="9792000" cy="571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>
              <a:lnSpc>
                <a:spcPct val="130000"/>
              </a:lnSpc>
              <a:buNone/>
            </a:pPr>
            <a:r>
              <a:rPr b="1" lang="ru-RU" sz="6700" spc="-1" strike="noStrike">
                <a:solidFill>
                  <a:srgbClr val="000000"/>
                </a:solidFill>
                <a:latin typeface="Calibri Light"/>
              </a:rPr>
              <a:t>Тема:</a:t>
            </a:r>
            <a:r>
              <a:rPr b="0" lang="ru-RU" sz="6700" spc="-1" strike="noStrike">
                <a:solidFill>
                  <a:srgbClr val="000000"/>
                </a:solidFill>
                <a:latin typeface="Calibri Light"/>
              </a:rPr>
              <a:t>Деление трёхзначного числа на однозначное </a:t>
            </a:r>
            <a:br>
              <a:rPr sz="6700"/>
            </a:b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Цель:</a:t>
            </a:r>
            <a:r>
              <a:rPr b="1" lang="ru-RU" sz="5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5300" spc="-1" strike="noStrike">
                <a:solidFill>
                  <a:srgbClr val="000000"/>
                </a:solidFill>
                <a:latin typeface="Calibri Light"/>
              </a:rPr>
              <a:t>Учиться выполнять деление трехзначных</a:t>
            </a:r>
            <a:r>
              <a:rPr b="1" lang="ru-RU" sz="5300" spc="-1" strike="noStrike">
                <a:solidFill>
                  <a:srgbClr val="000000"/>
                </a:solidFill>
                <a:latin typeface="Calibri Light"/>
              </a:rPr>
              <a:t>чисел в столбик по алгоритму </a:t>
            </a:r>
            <a:br>
              <a:rPr sz="5300"/>
            </a:b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10800000">
            <a:off x="1523880" y="3509640"/>
            <a:ext cx="914364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4000"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Текстовое поле 3"/>
          <p:cNvSpPr/>
          <p:nvPr/>
        </p:nvSpPr>
        <p:spPr>
          <a:xfrm>
            <a:off x="2315880" y="781560"/>
            <a:ext cx="92635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Определяем первое неполное делимое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Начинаем деление сбольшого разря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Определяем количество цифр в частном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екстовое поле 4"/>
          <p:cNvSpPr/>
          <p:nvPr/>
        </p:nvSpPr>
        <p:spPr>
          <a:xfrm>
            <a:off x="2511360" y="4702680"/>
            <a:ext cx="6096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Потом делю десят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Текстовое поле 5"/>
          <p:cNvSpPr/>
          <p:nvPr/>
        </p:nvSpPr>
        <p:spPr>
          <a:xfrm>
            <a:off x="2511360" y="5431320"/>
            <a:ext cx="55519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.Делю еденицы, читаю отв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Текстовое поле 6"/>
          <p:cNvSpPr/>
          <p:nvPr/>
        </p:nvSpPr>
        <p:spPr>
          <a:xfrm>
            <a:off x="4903560" y="410760"/>
            <a:ext cx="4632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АЛГОРИТ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Текстовое поле 7"/>
          <p:cNvSpPr/>
          <p:nvPr/>
        </p:nvSpPr>
        <p:spPr>
          <a:xfrm>
            <a:off x="2315880" y="4138200"/>
            <a:ext cx="6940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Делю сначала сот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71" name="Изображение 3" descr=""/>
          <p:cNvPicPr/>
          <p:nvPr/>
        </p:nvPicPr>
        <p:blipFill>
          <a:blip r:embed="rId2"/>
          <a:srcRect l="17882" t="31200" r="59042" b="24000"/>
          <a:stretch/>
        </p:blipFill>
        <p:spPr>
          <a:xfrm>
            <a:off x="2961720" y="255960"/>
            <a:ext cx="7706160" cy="631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74" name="Таблица 3"/>
          <p:cNvGraphicFramePr/>
          <p:nvPr/>
        </p:nvGraphicFramePr>
        <p:xfrm>
          <a:off x="1828800" y="864720"/>
          <a:ext cx="9136080" cy="4131720"/>
        </p:xfrm>
        <a:graphic>
          <a:graphicData uri="http://schemas.openxmlformats.org/drawingml/2006/table">
            <a:tbl>
              <a:tblPr/>
              <a:tblGrid>
                <a:gridCol w="3045240"/>
                <a:gridCol w="3045240"/>
                <a:gridCol w="3045240"/>
              </a:tblGrid>
              <a:tr h="137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137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137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sp>
        <p:nvSpPr>
          <p:cNvPr id="75" name="Текстовое поле 4"/>
          <p:cNvSpPr/>
          <p:nvPr/>
        </p:nvSpPr>
        <p:spPr>
          <a:xfrm>
            <a:off x="1870560" y="1107360"/>
            <a:ext cx="285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ая м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Текстовое поле 5"/>
          <p:cNvSpPr/>
          <p:nvPr/>
        </p:nvSpPr>
        <p:spPr>
          <a:xfrm>
            <a:off x="5009400" y="916200"/>
            <a:ext cx="27752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личеств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ш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Текстовое поле 6"/>
          <p:cNvSpPr/>
          <p:nvPr/>
        </p:nvSpPr>
        <p:spPr>
          <a:xfrm>
            <a:off x="8071560" y="916200"/>
            <a:ext cx="2142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1го меш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Текстовое поле 7"/>
          <p:cNvSpPr/>
          <p:nvPr/>
        </p:nvSpPr>
        <p:spPr>
          <a:xfrm>
            <a:off x="2745720" y="2704320"/>
            <a:ext cx="181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Текстовое поле 8"/>
          <p:cNvSpPr/>
          <p:nvPr/>
        </p:nvSpPr>
        <p:spPr>
          <a:xfrm>
            <a:off x="2625120" y="4168080"/>
            <a:ext cx="134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00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овое поле 9"/>
          <p:cNvSpPr/>
          <p:nvPr/>
        </p:nvSpPr>
        <p:spPr>
          <a:xfrm>
            <a:off x="5673240" y="2783880"/>
            <a:ext cx="156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ш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Текстовое поле 10"/>
          <p:cNvSpPr/>
          <p:nvPr/>
        </p:nvSpPr>
        <p:spPr>
          <a:xfrm>
            <a:off x="5673240" y="4078440"/>
            <a:ext cx="12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?ш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овое поле 11"/>
          <p:cNvSpPr/>
          <p:nvPr/>
        </p:nvSpPr>
        <p:spPr>
          <a:xfrm>
            <a:off x="8072280" y="3202200"/>
            <a:ext cx="2429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кг одинако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537840"/>
            <a:ext cx="10183680" cy="41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lnSpc>
                <a:spcPct val="130000"/>
              </a:lnSpc>
              <a:buNone/>
            </a:pP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1.Какова масса одного мешка картофеля?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2. Сколько мешков потребуется для 500 кг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Текстовое поле 3"/>
          <p:cNvSpPr/>
          <p:nvPr/>
        </p:nvSpPr>
        <p:spPr>
          <a:xfrm>
            <a:off x="1855440" y="4431600"/>
            <a:ext cx="7031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400:8=50(кг)-Масса одного м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500:50=10(м)-понадоб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10 меш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323000"/>
            <a:ext cx="9143640" cy="218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85320" y="3602520"/>
            <a:ext cx="8782200" cy="22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1)96:8=16(д)-масса одного м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2)96:4=24(д)-понадоб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3)24-16=8(д)на столько деталей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Calibri Light"/>
              </a:rPr>
              <a:t>Ответ:На 8 деталей бо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Таблица 3"/>
          <p:cNvGraphicFramePr/>
          <p:nvPr/>
        </p:nvGraphicFramePr>
        <p:xfrm>
          <a:off x="2025720" y="325080"/>
          <a:ext cx="9545040" cy="3184920"/>
        </p:xfrm>
        <a:graphic>
          <a:graphicData uri="http://schemas.openxmlformats.org/drawingml/2006/table">
            <a:tbl>
              <a:tblPr/>
              <a:tblGrid>
                <a:gridCol w="2386080"/>
                <a:gridCol w="2386080"/>
                <a:gridCol w="2386080"/>
                <a:gridCol w="2386080"/>
              </a:tblGrid>
              <a:tr h="106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  <a:tr h="106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тарый стан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44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106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вый стан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sp>
        <p:nvSpPr>
          <p:cNvPr id="89" name="Текстовое поле 4"/>
          <p:cNvSpPr/>
          <p:nvPr/>
        </p:nvSpPr>
        <p:spPr>
          <a:xfrm>
            <a:off x="4467240" y="369720"/>
            <a:ext cx="2065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рма за ч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Текстовое поле 5"/>
          <p:cNvSpPr/>
          <p:nvPr/>
        </p:nvSpPr>
        <p:spPr>
          <a:xfrm>
            <a:off x="6760800" y="585000"/>
            <a:ext cx="2442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емя рабо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Текстовое поле 6"/>
          <p:cNvSpPr/>
          <p:nvPr/>
        </p:nvSpPr>
        <p:spPr>
          <a:xfrm>
            <a:off x="9203760" y="369720"/>
            <a:ext cx="2127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е колличество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Текстовое поле 7"/>
          <p:cNvSpPr/>
          <p:nvPr/>
        </p:nvSpPr>
        <p:spPr>
          <a:xfrm>
            <a:off x="4360680" y="1554480"/>
            <a:ext cx="633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екстовое поле 8"/>
          <p:cNvSpPr/>
          <p:nvPr/>
        </p:nvSpPr>
        <p:spPr>
          <a:xfrm>
            <a:off x="4467240" y="2616120"/>
            <a:ext cx="632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Текстовое поле 9"/>
          <p:cNvSpPr/>
          <p:nvPr/>
        </p:nvSpPr>
        <p:spPr>
          <a:xfrm>
            <a:off x="4813200" y="2063160"/>
            <a:ext cx="20062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Текстовое поле 10"/>
          <p:cNvSpPr/>
          <p:nvPr/>
        </p:nvSpPr>
        <p:spPr>
          <a:xfrm>
            <a:off x="6941880" y="1677600"/>
            <a:ext cx="723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6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Текстовое поле 11"/>
          <p:cNvSpPr/>
          <p:nvPr/>
        </p:nvSpPr>
        <p:spPr>
          <a:xfrm>
            <a:off x="7167240" y="2769840"/>
            <a:ext cx="105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овое поле 12"/>
          <p:cNvSpPr/>
          <p:nvPr/>
        </p:nvSpPr>
        <p:spPr>
          <a:xfrm>
            <a:off x="9308520" y="1739160"/>
            <a:ext cx="117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6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Текстовое поле 13"/>
          <p:cNvSpPr/>
          <p:nvPr/>
        </p:nvSpPr>
        <p:spPr>
          <a:xfrm>
            <a:off x="9385200" y="2801160"/>
            <a:ext cx="128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6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60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03T07:28:00Z</dcterms:created>
  <dc:creator/>
  <dc:description/>
  <dc:language>en-US</dc:language>
  <cp:lastModifiedBy>LENOVO</cp:lastModifiedBy>
  <dcterms:modified xsi:type="dcterms:W3CDTF">2023-11-13T08:48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76616E469D4422DA6AC3B582294F3E9</vt:lpwstr>
  </property>
  <property fmtid="{D5CDD505-2E9C-101B-9397-08002B2CF9AE}" pid="3" name="KSOProductBuildVer">
    <vt:lpwstr>1049-12.2.0.13266</vt:lpwstr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