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E96-0138-4609-A4AE-A2AAE014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FE3-14FA-4370-A88B-D3D91ED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A84-1659-40A0-AC54-713DA738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359-B88E-4BD7-97BC-0DB7C57D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27F-ADE9-47C8-A833-0E94D67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1A3-C088-45F8-B24B-6AD04C6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775-920C-416F-970E-6DF5AF56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F6C-0626-43F5-AC8A-E923ABCF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23000"/>
            <a:ext cx="9143640" cy="101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2B8-66C5-4D19-B7C9-E961CBC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71E-E70F-4315-A7AC-D3D9E01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552-ACC1-4424-8BA6-44A7AB20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4BF-E153-4D25-9E81-12093D8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9960" y="1610280"/>
            <a:ext cx="9685800" cy="24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</a:pPr>
            <a:r>
              <a:rPr b="1" lang="ru-RU" sz="8800" spc="-1" strike="noStrike">
                <a:solidFill>
                  <a:srgbClr val="000000"/>
                </a:solidFill>
                <a:latin typeface="Calibri Light"/>
              </a:rPr>
              <a:t>Знать, как свои пять пальцев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01" name="Изображение 4" descr=""/>
          <p:cNvPicPr/>
          <p:nvPr/>
        </p:nvPicPr>
        <p:blipFill>
          <a:blip r:embed="rId2"/>
          <a:stretch/>
        </p:blipFill>
        <p:spPr>
          <a:xfrm>
            <a:off x="1840320" y="138600"/>
            <a:ext cx="10407960" cy="671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5" name="Рисунок 11" descr=""/>
          <p:cNvPicPr/>
          <p:nvPr/>
        </p:nvPicPr>
        <p:blipFill>
          <a:blip r:embed="rId2"/>
          <a:srcRect l="0" t="20425" r="0" b="56601"/>
          <a:stretch/>
        </p:blipFill>
        <p:spPr>
          <a:xfrm>
            <a:off x="1983600" y="957600"/>
            <a:ext cx="9734040" cy="3243960"/>
          </a:xfrm>
          <a:prstGeom prst="rect">
            <a:avLst/>
          </a:prstGeom>
          <a:ln w="0">
            <a:noFill/>
          </a:ln>
        </p:spPr>
      </p:pic>
      <p:sp>
        <p:nvSpPr>
          <p:cNvPr id="46" name="Текстовое поле 5"/>
          <p:cNvSpPr/>
          <p:nvPr/>
        </p:nvSpPr>
        <p:spPr>
          <a:xfrm>
            <a:off x="2701440" y="2803680"/>
            <a:ext cx="79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Текстовое поле 6"/>
          <p:cNvSpPr/>
          <p:nvPr/>
        </p:nvSpPr>
        <p:spPr>
          <a:xfrm>
            <a:off x="3786480" y="2803680"/>
            <a:ext cx="678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Текстовое поле 8"/>
          <p:cNvSpPr/>
          <p:nvPr/>
        </p:nvSpPr>
        <p:spPr>
          <a:xfrm>
            <a:off x="5832000" y="2803680"/>
            <a:ext cx="528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Текстовое поле 9"/>
          <p:cNvSpPr/>
          <p:nvPr/>
        </p:nvSpPr>
        <p:spPr>
          <a:xfrm>
            <a:off x="4827960" y="2930400"/>
            <a:ext cx="67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Текстовое поле 11"/>
          <p:cNvSpPr/>
          <p:nvPr/>
        </p:nvSpPr>
        <p:spPr>
          <a:xfrm>
            <a:off x="5770800" y="2797920"/>
            <a:ext cx="64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екстовое поле 12"/>
          <p:cNvSpPr/>
          <p:nvPr/>
        </p:nvSpPr>
        <p:spPr>
          <a:xfrm>
            <a:off x="6910200" y="2797920"/>
            <a:ext cx="543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Текстовое поле 13"/>
          <p:cNvSpPr/>
          <p:nvPr/>
        </p:nvSpPr>
        <p:spPr>
          <a:xfrm>
            <a:off x="7725240" y="2870280"/>
            <a:ext cx="67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овое поле 14"/>
          <p:cNvSpPr/>
          <p:nvPr/>
        </p:nvSpPr>
        <p:spPr>
          <a:xfrm>
            <a:off x="8780760" y="2797920"/>
            <a:ext cx="972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Текстовое поле 15"/>
          <p:cNvSpPr/>
          <p:nvPr/>
        </p:nvSpPr>
        <p:spPr>
          <a:xfrm>
            <a:off x="9716760" y="2644200"/>
            <a:ext cx="648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Текстовое поле 16"/>
          <p:cNvSpPr/>
          <p:nvPr/>
        </p:nvSpPr>
        <p:spPr>
          <a:xfrm>
            <a:off x="10818360" y="2644200"/>
            <a:ext cx="754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Текстовое поле 19"/>
          <p:cNvSpPr/>
          <p:nvPr/>
        </p:nvSpPr>
        <p:spPr>
          <a:xfrm>
            <a:off x="4955040" y="2876400"/>
            <a:ext cx="528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Изображение 20" descr=""/>
          <p:cNvPicPr/>
          <p:nvPr/>
        </p:nvPicPr>
        <p:blipFill>
          <a:blip r:embed="rId3"/>
          <a:stretch/>
        </p:blipFill>
        <p:spPr>
          <a:xfrm>
            <a:off x="3627720" y="4309200"/>
            <a:ext cx="59907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11160" y="1594440"/>
            <a:ext cx="10003320" cy="324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</a:pPr>
            <a:r>
              <a:rPr b="1" lang="ru-RU" sz="8000" spc="-1" strike="noStrike">
                <a:solidFill>
                  <a:srgbClr val="000000"/>
                </a:solidFill>
                <a:latin typeface="Calibri Light"/>
              </a:rPr>
              <a:t>232*3     5*126    89*4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 Light"/>
              </a:rPr>
              <a:t>426:2      848:8     693: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20080" y="885240"/>
            <a:ext cx="9792000" cy="571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30000"/>
              </a:lnSpc>
              <a:buNone/>
            </a:pPr>
            <a:r>
              <a:rPr b="1" lang="ru-RU" sz="6700" spc="-1" strike="noStrike">
                <a:solidFill>
                  <a:srgbClr val="000000"/>
                </a:solidFill>
                <a:latin typeface="Calibri Light"/>
              </a:rPr>
              <a:t>Тема:</a:t>
            </a:r>
            <a:r>
              <a:rPr b="0" lang="ru-RU" sz="6700" spc="-1" strike="noStrike">
                <a:solidFill>
                  <a:srgbClr val="000000"/>
                </a:solidFill>
                <a:latin typeface="Calibri Light"/>
              </a:rPr>
              <a:t>Деление трёхзначного числа на однозначное </a:t>
            </a:r>
            <a:br>
              <a:rPr sz="67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Цель:</a:t>
            </a:r>
            <a:r>
              <a:rPr b="1" lang="ru-RU" sz="5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5300" spc="-1" strike="noStrike">
                <a:solidFill>
                  <a:srgbClr val="000000"/>
                </a:solidFill>
                <a:latin typeface="Calibri Light"/>
              </a:rPr>
              <a:t>Учиться выполнять деление трехзначных</a:t>
            </a:r>
            <a:r>
              <a:rPr b="1" lang="ru-RU" sz="5300" spc="-1" strike="noStrike">
                <a:solidFill>
                  <a:srgbClr val="000000"/>
                </a:solidFill>
                <a:latin typeface="Calibri Light"/>
              </a:rPr>
              <a:t>чисел в столбик по алгоритму </a:t>
            </a:r>
            <a:br>
              <a:rPr sz="5300"/>
            </a:b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0800000">
            <a:off x="1523880" y="3509640"/>
            <a:ext cx="914364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4000"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Текстовое поле 3"/>
          <p:cNvSpPr/>
          <p:nvPr/>
        </p:nvSpPr>
        <p:spPr>
          <a:xfrm>
            <a:off x="2315880" y="781560"/>
            <a:ext cx="92635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Определяем первое неполное делимое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Начинаем деление сбольшого разря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Определяем количество цифр в частном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екстовое поле 4"/>
          <p:cNvSpPr/>
          <p:nvPr/>
        </p:nvSpPr>
        <p:spPr>
          <a:xfrm>
            <a:off x="2511360" y="4702680"/>
            <a:ext cx="6096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Потом делю десят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Текстовое поле 5"/>
          <p:cNvSpPr/>
          <p:nvPr/>
        </p:nvSpPr>
        <p:spPr>
          <a:xfrm>
            <a:off x="2511360" y="5431320"/>
            <a:ext cx="55519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Делю еденицы, читаю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Текстовое поле 6"/>
          <p:cNvSpPr/>
          <p:nvPr/>
        </p:nvSpPr>
        <p:spPr>
          <a:xfrm>
            <a:off x="4903560" y="410760"/>
            <a:ext cx="4632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АЛГОРИТ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екстовое поле 7"/>
          <p:cNvSpPr/>
          <p:nvPr/>
        </p:nvSpPr>
        <p:spPr>
          <a:xfrm>
            <a:off x="2315880" y="4138200"/>
            <a:ext cx="6940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Делю сначала с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71" name="Изображение 3" descr=""/>
          <p:cNvPicPr/>
          <p:nvPr/>
        </p:nvPicPr>
        <p:blipFill>
          <a:blip r:embed="rId2"/>
          <a:srcRect l="17882" t="31200" r="59042" b="24000"/>
          <a:stretch/>
        </p:blipFill>
        <p:spPr>
          <a:xfrm>
            <a:off x="2961720" y="255960"/>
            <a:ext cx="7706160" cy="631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74" name="Таблица 3"/>
          <p:cNvGraphicFramePr/>
          <p:nvPr/>
        </p:nvGraphicFramePr>
        <p:xfrm>
          <a:off x="1828800" y="864720"/>
          <a:ext cx="9136080" cy="4131720"/>
        </p:xfrm>
        <a:graphic>
          <a:graphicData uri="http://schemas.openxmlformats.org/drawingml/2006/table">
            <a:tbl>
              <a:tblPr/>
              <a:tblGrid>
                <a:gridCol w="3045240"/>
                <a:gridCol w="3045240"/>
                <a:gridCol w="3045240"/>
              </a:tblGrid>
              <a:tr h="137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37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137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75" name="Текстовое поле 4"/>
          <p:cNvSpPr/>
          <p:nvPr/>
        </p:nvSpPr>
        <p:spPr>
          <a:xfrm>
            <a:off x="1870560" y="1107360"/>
            <a:ext cx="285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ая м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Текстовое поле 5"/>
          <p:cNvSpPr/>
          <p:nvPr/>
        </p:nvSpPr>
        <p:spPr>
          <a:xfrm>
            <a:off x="5009400" y="916200"/>
            <a:ext cx="2775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личеств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ш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овое поле 6"/>
          <p:cNvSpPr/>
          <p:nvPr/>
        </p:nvSpPr>
        <p:spPr>
          <a:xfrm>
            <a:off x="8071560" y="916200"/>
            <a:ext cx="2142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1го меш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Текстовое поле 7"/>
          <p:cNvSpPr/>
          <p:nvPr/>
        </p:nvSpPr>
        <p:spPr>
          <a:xfrm>
            <a:off x="2745720" y="2704320"/>
            <a:ext cx="181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Текстовое поле 8"/>
          <p:cNvSpPr/>
          <p:nvPr/>
        </p:nvSpPr>
        <p:spPr>
          <a:xfrm>
            <a:off x="2625120" y="4168080"/>
            <a:ext cx="134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овое поле 9"/>
          <p:cNvSpPr/>
          <p:nvPr/>
        </p:nvSpPr>
        <p:spPr>
          <a:xfrm>
            <a:off x="5673240" y="2783880"/>
            <a:ext cx="156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ш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Текстовое поле 10"/>
          <p:cNvSpPr/>
          <p:nvPr/>
        </p:nvSpPr>
        <p:spPr>
          <a:xfrm>
            <a:off x="5673240" y="4078440"/>
            <a:ext cx="12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ш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овое поле 11"/>
          <p:cNvSpPr/>
          <p:nvPr/>
        </p:nvSpPr>
        <p:spPr>
          <a:xfrm>
            <a:off x="8072280" y="3202200"/>
            <a:ext cx="2429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кг одинако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537840"/>
            <a:ext cx="10183680" cy="41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lnSpc>
                <a:spcPct val="130000"/>
              </a:lnSpc>
              <a:buNone/>
            </a:pP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1.Какова масса одного мешка картофеля?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2. Сколько мешков потребуется для 500 кг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Текстовое поле 3"/>
          <p:cNvSpPr/>
          <p:nvPr/>
        </p:nvSpPr>
        <p:spPr>
          <a:xfrm>
            <a:off x="1855440" y="4431600"/>
            <a:ext cx="7031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400:8=50(кг)-Масса одного м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500:50=10(м)-понадоб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10 меш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85320" y="3602520"/>
            <a:ext cx="87822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1)96:8=16(д)-масса одного м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2)96:4=24(д)-понадоб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3)24-16=8(д)на столько деталей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Ответ:На 8 деталей бо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Таблица 3"/>
          <p:cNvGraphicFramePr/>
          <p:nvPr/>
        </p:nvGraphicFramePr>
        <p:xfrm>
          <a:off x="2025720" y="325080"/>
          <a:ext cx="9545040" cy="3184920"/>
        </p:xfrm>
        <a:graphic>
          <a:graphicData uri="http://schemas.openxmlformats.org/drawingml/2006/table">
            <a:tbl>
              <a:tblPr/>
              <a:tblGrid>
                <a:gridCol w="2386080"/>
                <a:gridCol w="2386080"/>
                <a:gridCol w="2386080"/>
                <a:gridCol w="2386080"/>
              </a:tblGrid>
              <a:tr h="106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06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тарый стан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4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106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вый стан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89" name="Текстовое поле 4"/>
          <p:cNvSpPr/>
          <p:nvPr/>
        </p:nvSpPr>
        <p:spPr>
          <a:xfrm>
            <a:off x="4467240" y="369720"/>
            <a:ext cx="2065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рма за ч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Текстовое поле 5"/>
          <p:cNvSpPr/>
          <p:nvPr/>
        </p:nvSpPr>
        <p:spPr>
          <a:xfrm>
            <a:off x="6760800" y="585000"/>
            <a:ext cx="244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емя рабо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овое поле 6"/>
          <p:cNvSpPr/>
          <p:nvPr/>
        </p:nvSpPr>
        <p:spPr>
          <a:xfrm>
            <a:off x="9203760" y="369720"/>
            <a:ext cx="2127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колличество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Текстовое поле 7"/>
          <p:cNvSpPr/>
          <p:nvPr/>
        </p:nvSpPr>
        <p:spPr>
          <a:xfrm>
            <a:off x="4360680" y="1554480"/>
            <a:ext cx="633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екстовое поле 8"/>
          <p:cNvSpPr/>
          <p:nvPr/>
        </p:nvSpPr>
        <p:spPr>
          <a:xfrm>
            <a:off x="4467240" y="2616120"/>
            <a:ext cx="632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Текстовое поле 9"/>
          <p:cNvSpPr/>
          <p:nvPr/>
        </p:nvSpPr>
        <p:spPr>
          <a:xfrm>
            <a:off x="4813200" y="2063160"/>
            <a:ext cx="2006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Текстовое поле 10"/>
          <p:cNvSpPr/>
          <p:nvPr/>
        </p:nvSpPr>
        <p:spPr>
          <a:xfrm>
            <a:off x="6941880" y="1677600"/>
            <a:ext cx="72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екстовое поле 11"/>
          <p:cNvSpPr/>
          <p:nvPr/>
        </p:nvSpPr>
        <p:spPr>
          <a:xfrm>
            <a:off x="7167240" y="2769840"/>
            <a:ext cx="105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овое поле 12"/>
          <p:cNvSpPr/>
          <p:nvPr/>
        </p:nvSpPr>
        <p:spPr>
          <a:xfrm>
            <a:off x="9308520" y="1739160"/>
            <a:ext cx="117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6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Текстовое поле 13"/>
          <p:cNvSpPr/>
          <p:nvPr/>
        </p:nvSpPr>
        <p:spPr>
          <a:xfrm>
            <a:off x="9385200" y="2801160"/>
            <a:ext cx="128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6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60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3T07:28:00Z</dcterms:created>
  <dc:creator/>
  <dc:description/>
  <dc:language>en-US</dc:language>
  <cp:lastModifiedBy>LENOVO</cp:lastModifiedBy>
  <dcterms:modified xsi:type="dcterms:W3CDTF">2023-11-13T08:48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76616E469D4422DA6AC3B582294F3E9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