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png" ContentType="image/png"/>
  <Override PartName="/ppt/media/image3.wmf" ContentType="image/x-wmf"/>
  <Override PartName="/ppt/media/image7.gif" ContentType="image/gif"/>
  <Override PartName="/ppt/media/image29.jpeg" ContentType="image/jpeg"/>
  <Override PartName="/ppt/media/image4.gif" ContentType="image/gif"/>
  <Override PartName="/ppt/media/image12.wmf" ContentType="image/x-wmf"/>
  <Override PartName="/ppt/media/image13.png" ContentType="image/png"/>
  <Override PartName="/ppt/media/image8.png" ContentType="image/png"/>
  <Override PartName="/ppt/media/image5.gif" ContentType="image/gif"/>
  <Override PartName="/ppt/media/image9.png" ContentType="image/png"/>
  <Override PartName="/ppt/media/image27.jpeg" ContentType="image/jpeg"/>
  <Override PartName="/ppt/media/image10.png" ContentType="image/png"/>
  <Override PartName="/ppt/media/image11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6.gif" ContentType="image/gif"/>
  <Override PartName="/ppt/media/chimes.wav" ContentType="audio/x-wav"/>
  <Override PartName="/ppt/media/image2.wmf" ContentType="image/x-wmf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563E-3261-429F-87ED-55695F8CC9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DC97-3E5B-4239-BE3F-76B6CC4CD3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4BD5-0C2D-40E3-85F4-CF7A004394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6F61-5081-4CBE-A182-168E9670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0118-3B23-4C2A-881A-4B9E61D1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044B-F936-4551-BCCE-9D513ABA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34DA-9875-4024-BA66-A811AEAC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03FE-2FD0-474C-9165-EAD1AB51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0BA-842D-4A5E-8DFE-44ABDF36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285C-5D65-4C56-B409-21707135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3BF6-4969-4BE6-B5D4-BE9C710D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948-130F-4A70-ACFD-DB73A379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177E-39B6-48B3-9AD9-744DACDD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9998-C3B4-42B2-B6A2-05EF0D29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1B41-0996-4694-97D5-10EE9A28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68E2-6736-4D8B-B251-80C645899F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5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755640" y="476280"/>
            <a:ext cx="763272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2916360" y="2708280"/>
            <a:ext cx="3463920" cy="8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1332000" y="1844640"/>
            <a:ext cx="6769080" cy="28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ТИЛИ  РЕЧИ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51" name="Picture 6" descr="Biz00017"/>
          <p:cNvPicPr/>
          <p:nvPr/>
        </p:nvPicPr>
        <p:blipFill>
          <a:blip r:embed="rId1"/>
          <a:stretch/>
        </p:blipFill>
        <p:spPr>
          <a:xfrm>
            <a:off x="468360" y="4508640"/>
            <a:ext cx="3476520" cy="20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447840" y="63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303560" y="352440"/>
            <a:ext cx="68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ФИЦИАЛЬНО – ДЕЛОВОЙ     СТИЛЬ     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6" name="Picture 4" descr="Лена1"/>
          <p:cNvPicPr/>
          <p:nvPr/>
        </p:nvPicPr>
        <p:blipFill>
          <a:blip r:embed="rId1"/>
          <a:stretch/>
        </p:blipFill>
        <p:spPr>
          <a:xfrm>
            <a:off x="179280" y="0"/>
            <a:ext cx="1658880" cy="2952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225520" y="907920"/>
            <a:ext cx="6918480" cy="916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Сф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употреб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использу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фициаль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бста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овке ( сфера  законодательства ,  делопроизводства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дминистративно –правовой деятельности )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716280" y="2276640"/>
            <a:ext cx="41889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ообщ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информир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059280" y="3213000"/>
            <a:ext cx="5940360" cy="1191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сно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жан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зак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иказ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остановления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резолюции, протоколы, акты ,справки , инструкции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бъявления, деловые бумаги (заявление, рапорт  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окладная…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87480" y="4673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-9216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0" y="4724280"/>
            <a:ext cx="4216320" cy="1739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собенности языка: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1.Официально – деловая лексика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2.Устойчивые , стандартизированны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бороты речи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3.Точность,не допускающая иного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толк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63" name="Picture 11" descr=""/>
          <p:cNvPicPr/>
          <p:nvPr/>
        </p:nvPicPr>
        <p:blipFill>
          <a:blip r:embed="rId2"/>
          <a:stretch/>
        </p:blipFill>
        <p:spPr>
          <a:xfrm>
            <a:off x="6588000" y="5157720"/>
            <a:ext cx="176400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Схема научного стиля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464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ечевая ситуация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1692360" y="3573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4427640" y="2708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6659640" y="2708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4427640" y="4005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6588000" y="4005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3348000" y="3716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1895040" y="5176800"/>
            <a:ext cx="591408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ЦЕЛЬ   - СООБЩЕНИЕ,ПЕРЕДАЧА ИНФОРМАЦИИ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408560" y="524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37620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245160" y="6113520"/>
            <a:ext cx="8710560" cy="6426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илев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р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огич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злож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твлечён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общён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очность , доказательность, неэмоциональность и объективность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77" name="Picture 14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p:transition>
    <p:push dir="r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6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2180"/>
                            </p:stCondLst>
                            <p:childTnLst>
                              <p:par>
                                <p:cTn id="6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6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3180"/>
                            </p:stCondLst>
                            <p:childTnLst>
                              <p:par>
                                <p:cTn id="6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6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636" nodeType="afterEffect" fill="remove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37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638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639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5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46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647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648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4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55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656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657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3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64" dur="1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665" dur="1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666" dur="1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2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73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674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675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1" autoRev="1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14680"/>
                            </p:stCondLst>
                            <p:childTnLst>
                              <p:par>
                                <p:cTn id="6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6040"/>
                            </p:stCondLst>
                            <p:childTnLst>
                              <p:par>
                                <p:cTn id="6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6"/>
          <p:cNvSpPr txBox="1"/>
          <p:nvPr/>
        </p:nvSpPr>
        <p:spPr>
          <a:xfrm>
            <a:off x="1332000" y="404640"/>
            <a:ext cx="655308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Использованные ресурсы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88640" y="2108160"/>
            <a:ext cx="764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1.Розенталь Д.Э Практическая стилистика русского языка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М.: Высшая школа, 1998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2. http://www.gifzona.ru/i/ok_d/05.gif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http://images.google.ru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-632160" y="189000"/>
            <a:ext cx="8730360" cy="703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>
                  <a:alpha val="9607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Для чего нужна человеку речь ?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9280" y="2060640"/>
            <a:ext cx="2640240" cy="398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ЧЬ ПОМОГАЕ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761640" y="1011240"/>
            <a:ext cx="628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Общаться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Делиться  мыслями ,чувствами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Договориться о чём- нибудь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Согласовать свои действия.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Похвалить, развеселить, рассмешить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Предостеречь, посоветовать,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Остановить.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 flipV="1">
            <a:off x="2771640" y="1267920"/>
            <a:ext cx="1871640" cy="792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 flipV="1">
            <a:off x="2771640" y="1484280"/>
            <a:ext cx="1944720" cy="72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 flipV="1">
            <a:off x="2987640" y="1916280"/>
            <a:ext cx="1657440" cy="28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2843280" y="2492280"/>
            <a:ext cx="194292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2843280" y="2349360"/>
            <a:ext cx="1800000" cy="28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2771640" y="227664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4284720" y="429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3" name="Picture 19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00000" cy="1179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pic>
        <p:nvPicPr>
          <p:cNvPr id="64" name="Picture 20" descr="043"/>
          <p:cNvPicPr/>
          <p:nvPr/>
        </p:nvPicPr>
        <p:blipFill>
          <a:blip r:embed="rId2"/>
          <a:stretch/>
        </p:blipFill>
        <p:spPr>
          <a:xfrm>
            <a:off x="611280" y="5445000"/>
            <a:ext cx="1311120" cy="83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034"/>
          <p:cNvPicPr/>
          <p:nvPr/>
        </p:nvPicPr>
        <p:blipFill>
          <a:blip r:embed="rId3"/>
          <a:stretch/>
        </p:blipFill>
        <p:spPr>
          <a:xfrm>
            <a:off x="4067280" y="4653000"/>
            <a:ext cx="1944720" cy="212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035"/>
          <p:cNvPicPr/>
          <p:nvPr/>
        </p:nvPicPr>
        <p:blipFill>
          <a:blip r:embed="rId4"/>
          <a:stretch/>
        </p:blipFill>
        <p:spPr>
          <a:xfrm>
            <a:off x="6732720" y="5373720"/>
            <a:ext cx="931680" cy="622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034"/>
          <p:cNvPicPr/>
          <p:nvPr/>
        </p:nvPicPr>
        <p:blipFill>
          <a:blip r:embed="rId5"/>
          <a:stretch/>
        </p:blipFill>
        <p:spPr>
          <a:xfrm>
            <a:off x="7812000" y="5013360"/>
            <a:ext cx="892440" cy="809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052"/>
          <p:cNvPicPr/>
          <p:nvPr/>
        </p:nvPicPr>
        <p:blipFill>
          <a:blip r:embed="rId6"/>
          <a:stretch/>
        </p:blipFill>
        <p:spPr>
          <a:xfrm>
            <a:off x="7596360" y="5734080"/>
            <a:ext cx="7603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22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720"/>
                            </p:stCondLst>
                            <p:childTnLst>
                              <p:par>
                                <p:cTn id="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22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220"/>
                            </p:stCondLst>
                            <p:childTnLst>
                              <p:par>
                                <p:cTn id="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72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172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259920" y="2276640"/>
            <a:ext cx="122616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ечевая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итуация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1476360" y="2637000"/>
            <a:ext cx="936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 flipV="1">
            <a:off x="1476360" y="1484280"/>
            <a:ext cx="863640" cy="100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1476360" y="2708280"/>
            <a:ext cx="79200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124000" y="1125360"/>
            <a:ext cx="180036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д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ворим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484360" y="2421000"/>
            <a:ext cx="1295640" cy="36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кем 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124000" y="3860640"/>
            <a:ext cx="200196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какой целью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V="1">
            <a:off x="3995640" y="475920"/>
            <a:ext cx="1297080" cy="6476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440320" y="260280"/>
            <a:ext cx="3370320" cy="368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официальной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становк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3995640" y="1268280"/>
            <a:ext cx="1297080" cy="358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5503680" y="1484280"/>
            <a:ext cx="363564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неофициальной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становк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3851280" y="2420640"/>
            <a:ext cx="1727280" cy="142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Line 14"/>
          <p:cNvSpPr/>
          <p:nvPr/>
        </p:nvSpPr>
        <p:spPr>
          <a:xfrm>
            <a:off x="3851280" y="2708280"/>
            <a:ext cx="1512720" cy="504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5798160" y="2276640"/>
            <a:ext cx="2568960" cy="368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и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ом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505620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5940360" y="3933720"/>
            <a:ext cx="218124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5940360" y="4724280"/>
            <a:ext cx="201636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общ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5940360" y="5589720"/>
            <a:ext cx="225288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здейств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Line 20"/>
          <p:cNvSpPr/>
          <p:nvPr/>
        </p:nvSpPr>
        <p:spPr>
          <a:xfrm>
            <a:off x="4211640" y="4005360"/>
            <a:ext cx="1655640" cy="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Line 21"/>
          <p:cNvSpPr/>
          <p:nvPr/>
        </p:nvSpPr>
        <p:spPr>
          <a:xfrm>
            <a:off x="4211640" y="4076640"/>
            <a:ext cx="1655640" cy="8650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>
            <a:off x="4211640" y="4149720"/>
            <a:ext cx="1728720" cy="1727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5724360" y="3068640"/>
            <a:ext cx="285624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большой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удиторие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-290160" y="85680"/>
            <a:ext cx="441432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Выбор стиля речи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3" name="Picture 25" descr="ED00318_"/>
          <p:cNvPicPr/>
          <p:nvPr/>
        </p:nvPicPr>
        <p:blipFill>
          <a:blip r:embed="rId5"/>
          <a:stretch/>
        </p:blipFill>
        <p:spPr>
          <a:xfrm>
            <a:off x="755640" y="4437000"/>
            <a:ext cx="1160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74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18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668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768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818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882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932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9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-356040" y="189000"/>
            <a:ext cx="10286280" cy="70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                     </a:t>
            </a: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Стили        речи                             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169720" y="1073160"/>
            <a:ext cx="5284440" cy="42087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ртисты говорят в гримёрной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вой  друг  беседует  с  тобой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тиль это просто  …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 не какой – нибудь иной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ассказ читаешь или стих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оман, поэму , пьесу –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най в них      …                            стиль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тиль очень интересный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Ещё есть стиль …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татей в журнале политическом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азетных очерков, заметок –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апомни также стиль и этот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 биографию открой – стиль …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 правила когда мы учим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Употребляем стиль   …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32200" y="5511960"/>
            <a:ext cx="1762560" cy="39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Разговорный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34000" y="6184800"/>
            <a:ext cx="208116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Художественны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768920" y="5465880"/>
            <a:ext cx="225504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ублицистически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968560" y="5969160"/>
            <a:ext cx="2648160" cy="368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Официально - делово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352920" y="6184800"/>
            <a:ext cx="1125720" cy="3682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Научны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6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-0.02313 0.00018 -0.04626 0.00139 -0.06938 C 0.00157 -0.07355 0.01007 -0.09459 0.01198 -0.09783 C 0.01389 -0.10107 0.01875 -0.10662 0.01875 -0.10662 C 0.0224 -0.12281 0.01788 -0.10107 0.02136 -0.14038 C 0.0224 -0.15125 0.02535 -0.16166 0.02674 -0.1723 C 0.02709 -0.18409 0.02726 -0.19612 0.02795 -0.20791 C 0.02847 -0.21624 0.0349 -0.21878 0.03872 -0.22387 C 0.04236 -0.22873 0.04427 -0.23497 0.04809 -0.23983 C 0.05191 -0.25047 0.05209 -0.24492 0.05729 -0.25232 C 0.06059 -0.26527 0.07327 -0.28331 0.08143 -0.2914 C 0.08472 -0.30019 0.08733 -0.30551 0.09341 -0.31083 C 0.09479 -0.3136 0.09636 -0.31777 0.09861 -0.31985 C 0.10122 -0.32239 0.10677 -0.32678 0.10677 -0.32678 C 0.11528 -0.34413 0.13004 -0.35685 0.14271 -0.36772 C 0.15521 -0.37836 0.15209 -0.38275 0.16667 -0.38553 C 0.17743 -0.39617 0.17483 -0.41397 0.18542 -0.42808 C 0.18663 -0.43363 0.18594 -0.4334 0.18941 -0.43687 C 0.19323 -0.44057 0.19809 -0.44288 0.20139 -0.44751 C 0.20573 -0.45375 0.21268 -0.46092 0.21875 -0.4637 C 0.22483 -0.4741 0.2283 -0.47179 0.23733 -0.47965 C 0.23976 -0.48173 0.2415 -0.48497 0.2441 -0.48659 C 0.24566 -0.48775 0.24757 -0.48752 0.24931 -0.48844 C 0.25122 -0.48937 0.25295 -0.49052 0.25469 -0.49191 C 0.26181 -0.49723 0.26684 -0.5044 0.27466 -0.5081 C 0.28334 -0.51989 0.29618 -0.52591 0.30799 -0.53099 C 0.31233 -0.53284 0.31563 -0.53631 0.31997 -0.53816 C 0.33056 -0.54233 0.3415 -0.5458 0.35209 -0.55065 C 0.35972 -0.55828 0.36563 -0.56106 0.37466 -0.56476 C 0.38056 -0.57262 0.38959 -0.56915 0.3974 -0.57193 C 0.39879 -0.57239 0.4 -0.57378 0.40139 -0.57378 C 0.42761 -0.57493 0.45382 -0.57493 0.48004 -0.5754 C 0.49288 -0.57725 0.50243 -0.57956 0.51597 -0.5754 C 0.51736 -0.57493 0.51632 -0.57147 0.51736 -0.57008 C 0.51841 -0.56869 0.51997 -0.56892 0.52136 -0.56846 C 0.53108 -0.57008 0.52761 -0.57008 0.53195 -0.57008 E">
                                      <p:cBhvr>
                                        <p:cTn id="27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57 -0.00578 0.004 -0.01781 0.004 -0.01781 C 0.00521 -0.04949 0.00365 -0.06845 0.02014 -0.09042 C 0.02171 -0.09713 0.02518 -0.10083 0.02813 -0.10661 C 0.03125 -0.12026 0.0415 -0.12882 0.0507 -0.13483 C 0.05851 -0.1487 0.06789 -0.15911 0.07483 -0.17391 C 0.07882 -0.19172 0.07535 -0.21045 0.08143 -0.22734 C 0.08264 -0.23635 0.08299 -0.24306 0.08681 -0.25046 C 0.09046 -0.26665 0.09896 -0.27683 0.10677 -0.28955 C 0.11615 -0.30481 0.12448 -0.31961 0.13611 -0.3321 C 0.14098 -0.35893 0.15643 -0.38159 0.17483 -0.39431 C 0.19063 -0.42183 0.16493 -0.37882 0.18542 -0.40657 C 0.18733 -0.40911 0.18768 -0.41304 0.18941 -0.41559 C 0.19445 -0.42322 0.19688 -0.42229 0.20278 -0.42808 C 0.2158 -0.44056 0.22605 -0.45097 0.24011 -0.46184 C 0.24341 -0.46438 0.24514 -0.46924 0.24809 -0.47248 C 0.25278 -0.47757 0.26736 -0.49098 0.27483 -0.49722 C 0.27691 -0.49907 0.27969 -0.5 0.28143 -0.50254 C 0.2823 -0.5037 0.28282 -0.50601 0.28403 -0.50624 C 0.29723 -0.50879 0.31077 -0.50809 0.32414 -0.50971 C 0.3316 -0.51249 0.33941 -0.51318 0.34671 -0.51688 C 0.35261 -0.51989 0.35782 -0.52359 0.36407 -0.52567 C 0.3823 -0.52498 0.40052 -0.52613 0.41875 -0.52382 C 0.42066 -0.52359 0.42118 -0.51989 0.42275 -0.5185 C 0.42934 -0.51272 0.44167 -0.51943 0.44549 -0.50971 E">
                                      <p:cBhvr>
                                        <p:cTn id="27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42 -0.02475 0.00365 -0.14639 0.00399 -0.17045 C 0.00573 -0.321 -0.0316 -0.318 0.01215 -0.318 E">
                                      <p:cBhvr>
                                        <p:cTn id="28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61 -0.01134 -0.00104 -0.00047 0.00538 -0.00694 C 0.00799 -0.00949 0.00938 -0.01365 0.01198 -0.01596 C 0.01458 -0.01827 0.01771 -0.01989 0.01997 -0.0229 C 0.02274 -0.02683 0.0257 -0.03123 0.02934 -0.03377 C 0.03177 -0.03539 0.03472 -0.03608 0.03733 -0.03724 C 0.04097 -0.04487 0.04462 -0.04926 0.0507 -0.0532 C 0.0566 -0.06106 0.06389 -0.06638 0.07205 -0.06915 C 0.07674 -0.07887 0.08316 -0.08002 0.09063 -0.08511 C 0.09288 -0.08673 0.09479 -0.08904 0.09722 -0.09043 C 0.10486 -0.09482 0.11372 -0.09667 0.12136 -0.10107 C 0.13229 -0.10731 0.14323 -0.11425 0.15469 -0.11888 C 0.15677 -0.12836 0.16233 -0.13067 0.16788 -0.13668 C 0.17483 -0.14432 0.1816 -0.15125 0.18802 -0.15981 C 0.18906 -0.1612 0.1908 -0.16097 0.19202 -0.16166 C 0.19566 -0.16374 0.19913 -0.16629 0.20261 -0.1686 C 0.20434 -0.16975 0.20799 -0.1723 0.20799 -0.1723 C 0.21424 -0.18525 0.2059 -0.16999 0.21597 -0.18109 C 0.21719 -0.18247 0.21719 -0.18525 0.21858 -0.18641 C 0.22014 -0.18779 0.22222 -0.18733 0.22396 -0.18826 C 0.2309 -0.19219 0.23577 -0.19843 0.24271 -0.20051 C 0.24774 -0.20421 0.25174 -0.20606 0.25729 -0.20768 C 0.26163 -0.21161 0.26424 -0.21624 0.26927 -0.21832 C 0.27431 -0.22503 0.27413 -0.22757 0.28004 -0.22896 C 0.29288 -0.23173 0.29202 -0.22526 0.29202 -0.23428 E">
                                      <p:cBhvr>
                                        <p:cTn id="284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21 -0.03053 -0.00191 -0.05943 -0.01458 -0.08534 C -0.0151 -0.08834 -0.01458 -0.09181 -0.01597 -0.09412 C -0.01788 -0.09759 -0.02395 -0.10129 -0.02395 -0.10129 C -0.02621 -0.11147 -0.025 -0.12581 -0.02916 -0.13506 C -0.03125 -0.13968 -0.03593 -0.14107 -0.03854 -0.1457 C -0.04305 -0.15379 -0.046 -0.16235 -0.05191 -0.16882 C -0.05694 -0.17437 -0.06354 -0.17391 -0.06927 -0.17761 C -0.07274 -0.17992 -0.07639 -0.18224 -0.07986 -0.18478 E">
                                      <p:cBhvr>
                                        <p:cTn id="28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тили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речи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(где? с кем? зачем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Книж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Разговор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062680" y="2276640"/>
            <a:ext cx="4081320" cy="916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бщ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азговорные слова, неполны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едложения,диалог 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568920" y="2800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95040" y="2655720"/>
            <a:ext cx="1460880" cy="1191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АУЧНЫЙ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сообщ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термины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824120" y="3305160"/>
            <a:ext cx="2730240" cy="916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ХУДОЖЕСТВЕННЫЙ –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воздейств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образные слова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856320" y="4365720"/>
            <a:ext cx="3309480" cy="916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ФИЦИАЛЬНО – ДЕЛОВО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(сообщение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особые слова и обороты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419640" y="5445000"/>
            <a:ext cx="4608360" cy="6426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УБЛИЦИСТИЧЕСКИ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042720" y="5942160"/>
            <a:ext cx="6101640" cy="916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ообщение информации , воздейств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общественно-политическая лексика,совмещ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оржественной лексики и разговорных средств 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 flipH="1">
            <a:off x="324000" y="2133720"/>
            <a:ext cx="2016000" cy="5032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2484360" y="2060640"/>
            <a:ext cx="1224000" cy="1150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2771640" y="2133720"/>
            <a:ext cx="4105440" cy="2158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2484360" y="2060640"/>
            <a:ext cx="6335640" cy="3816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Line 15"/>
          <p:cNvSpPr/>
          <p:nvPr/>
        </p:nvSpPr>
        <p:spPr>
          <a:xfrm flipH="1">
            <a:off x="2484360" y="1484280"/>
            <a:ext cx="2232000" cy="2890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4788000" y="1484280"/>
            <a:ext cx="3313080" cy="2890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8" name="Picture 17" descr=""/>
          <p:cNvPicPr/>
          <p:nvPr/>
        </p:nvPicPr>
        <p:blipFill>
          <a:blip r:embed="rId6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pic>
        <p:nvPicPr>
          <p:cNvPr id="119" name="Picture 18" descr="ED00318_"/>
          <p:cNvPicPr/>
          <p:nvPr/>
        </p:nvPicPr>
        <p:blipFill>
          <a:blip r:embed="rId7"/>
          <a:stretch/>
        </p:blipFill>
        <p:spPr>
          <a:xfrm>
            <a:off x="755640" y="4437000"/>
            <a:ext cx="1160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Monotype Corsiva"/>
              </a:rPr>
              <a:t>Разговорный сти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собенности разговорного сти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763640" y="2492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5796000" y="2492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635280" y="2637000"/>
            <a:ext cx="976320" cy="772920"/>
          </a:xfrm>
          <a:prstGeom prst="rightArrow">
            <a:avLst>
              <a:gd name="adj1" fmla="val 50000"/>
              <a:gd name="adj2" fmla="val 315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599480" y="342900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               </a:t>
            </a:r>
            <a:r>
              <a:rPr b="1" i="1" lang="ru-RU" sz="3200" spc="-1" strike="noStrike">
                <a:solidFill>
                  <a:srgbClr val="0000cc"/>
                </a:solidFill>
                <a:latin typeface="Monotype Corsiva"/>
              </a:rPr>
              <a:t>Цель  -  общение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52712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69236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67148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1239840" y="78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233280" y="4097160"/>
            <a:ext cx="8516880" cy="642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фера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потреблени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– общение с близкими и хорошо  знакомыми людьми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фера бытовых отношений и устная форма профессиональных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451080" y="4889520"/>
            <a:ext cx="2277720" cy="368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тилевые черты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2556000" y="4941720"/>
            <a:ext cx="6588000" cy="1191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 Мы не всегда знаем, о чём будем  говорить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 Мы не знаем , какие  слова подберём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 Мы должны видеть и слышать участника разговора.    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181440" y="5932440"/>
            <a:ext cx="8518680" cy="916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Языковы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ред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граниче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ста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ниж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лов,м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сторечных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лов,большое количество междометий, частиц, наличие неполных и коротких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едложений, богатство интонаций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5" name="Picture 16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remove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94" dur="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95" dur="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96" dur="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2" nodeType="withEffect" fill="remove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3" dur="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04" dur="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5" dur="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18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2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1060"/>
                            </p:stCondLst>
                            <p:childTnLst>
                              <p:par>
                                <p:cTn id="4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380"/>
                            </p:stCondLst>
                            <p:childTnLst>
                              <p:par>
                                <p:cTn id="434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802800" y="281160"/>
            <a:ext cx="1972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898560" y="189000"/>
            <a:ext cx="549468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           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ХУДОЖЕСТВЕННЫЙ      СТИЛЬ     РЕЧИ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800" y="907920"/>
            <a:ext cx="7236720" cy="36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фер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потреблен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язык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художественной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литератур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58400" y="1576440"/>
            <a:ext cx="6975000" cy="1465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Цел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спользован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оздани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художественног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образа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эмоционально – эстетическое воздействие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50920" y="4437000"/>
            <a:ext cx="6092640" cy="2288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Языковые средства : 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.Эпитеты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, сравнения, метафоры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                       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гипербола и т. д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.Стилистические фигуры ( фигуры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ечи)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: анафора, антитеза ,бессоюзие ,градация 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инверсия ,параллелизм ,риторический вопрос ,об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ращение ,умолчание ,эллипсис, эпифора.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877320" y="3089160"/>
            <a:ext cx="6352920" cy="916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Художественный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стиль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отличается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образностью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широким использованием изобразительно –вырази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тельных средств языка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3" name="Picture 8" descr="Kiprensky_17005"/>
          <p:cNvPicPr/>
          <p:nvPr/>
        </p:nvPicPr>
        <p:blipFill>
          <a:blip r:embed="rId4"/>
          <a:stretch/>
        </p:blipFill>
        <p:spPr>
          <a:xfrm>
            <a:off x="7429680" y="189000"/>
            <a:ext cx="1714320" cy="208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"/>
          <p:cNvPicPr/>
          <p:nvPr/>
        </p:nvPicPr>
        <p:blipFill>
          <a:blip r:embed="rId5"/>
          <a:stretch/>
        </p:blipFill>
        <p:spPr>
          <a:xfrm>
            <a:off x="7020000" y="537372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8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2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Публицистический ст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ублицистика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-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особый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тип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литературных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произведений</a:t>
            </a: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,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в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к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торых</a:t>
            </a:r>
            <a:r>
              <a:rPr b="0" i="1" lang="en-US" sz="4000" spc="-1" strike="noStrike">
                <a:solidFill>
                  <a:srgbClr val="0000cc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освещаются, разъясняю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актуальные вопросы общественно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политической жизни, поднимаются нравственные проблем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Лена7"/>
          <p:cNvPicPr/>
          <p:nvPr/>
        </p:nvPicPr>
        <p:blipFill>
          <a:blip r:embed="rId1"/>
          <a:stretch/>
        </p:blipFill>
        <p:spPr>
          <a:xfrm>
            <a:off x="7229520" y="1125360"/>
            <a:ext cx="1914480" cy="30895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76400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8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Публицистический ст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62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ф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употреб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стиль радио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телевидения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газет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журналь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статей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пере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информ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одновремен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воздействи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читателя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слуш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Жанры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: информация, критическая заметка,  репортаж ,интервью ,стат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рецензия, зарисовка, очерк ,фельетон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Лена8"/>
          <p:cNvPicPr/>
          <p:nvPr/>
        </p:nvPicPr>
        <p:blipFill>
          <a:blip r:embed="rId1"/>
          <a:stretch/>
        </p:blipFill>
        <p:spPr>
          <a:xfrm>
            <a:off x="7153200" y="2492280"/>
            <a:ext cx="1990800" cy="2592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811440" y="5897520"/>
            <a:ext cx="59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ОРАТОРСКАЯ  РЕЧЬ,  СУДЕБНАЯ РЕЧЬ , ДОКЛАД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9:02:55Z</dcterms:created>
  <dc:creator>Учитель</dc:creator>
  <dc:description/>
  <dc:language>en-US</dc:language>
  <cp:lastModifiedBy>Admin</cp:lastModifiedBy>
  <dcterms:modified xsi:type="dcterms:W3CDTF">2012-02-15T06:09:21Z</dcterms:modified>
  <cp:revision>83</cp:revision>
  <dc:subject/>
  <dc:title>Слайд 1</dc:title>
</cp:coreProperties>
</file>