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75D-4537-4140-A028-2CB5D3BD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FF3-583D-4E2D-87AA-A88BBE7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DA9-A504-4C18-9C3F-55A6482E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C29-35FB-4FDB-8EC5-3E75426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B75-2AC2-43F0-B6B4-78AB07D3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AB9-6A73-46E3-ABD2-DB9588F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CEC-3461-4521-8901-D75DE2F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012-95A4-40A1-80BC-C5E4B176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3CB-0BE2-4615-8D9D-DB50808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7DE-13EC-4691-9EC7-FF56F24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7E8-05FE-4ACE-BB6A-C77C3BF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041-1F0A-488A-BFF5-2D15B07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54E4-3B45-4E5F-84F8-8851D185E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2205000"/>
            <a:ext cx="6337440" cy="24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ипы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5548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ипы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8560" y="1622520"/>
            <a:ext cx="223812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00560" y="1647720"/>
            <a:ext cx="203508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писание 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373080" y="1603440"/>
            <a:ext cx="185400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572000" y="981000"/>
            <a:ext cx="0" cy="647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118728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7200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0920" y="2492280"/>
            <a:ext cx="0" cy="216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50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50920" y="2492280"/>
            <a:ext cx="2376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627280" y="249228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3492360" y="2421000"/>
            <a:ext cx="2016360" cy="22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6443640" y="2565360"/>
            <a:ext cx="0" cy="2158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6443640" y="2349360"/>
            <a:ext cx="1441440" cy="1656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17" descr="1024-12116"/>
          <p:cNvPicPr/>
          <p:nvPr/>
        </p:nvPicPr>
        <p:blipFill>
          <a:blip r:embed="rId1"/>
          <a:stretch/>
        </p:blipFill>
        <p:spPr>
          <a:xfrm>
            <a:off x="3708360" y="292428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j0293828"/>
          <p:cNvPicPr/>
          <p:nvPr/>
        </p:nvPicPr>
        <p:blipFill>
          <a:blip r:embed="rId2"/>
          <a:stretch/>
        </p:blipFill>
        <p:spPr>
          <a:xfrm flipH="1" rot="21327000">
            <a:off x="539640" y="2491560"/>
            <a:ext cx="2013120" cy="1101960"/>
          </a:xfrm>
          <a:prstGeom prst="rect">
            <a:avLst/>
          </a:prstGeom>
          <a:ln w="0">
            <a:noFill/>
          </a:ln>
        </p:spPr>
      </p:pic>
      <p:sp>
        <p:nvSpPr>
          <p:cNvPr id="61" name="Tree"/>
          <p:cNvSpPr/>
          <p:nvPr/>
        </p:nvSpPr>
        <p:spPr>
          <a:xfrm>
            <a:off x="539640" y="3284640"/>
            <a:ext cx="1871640" cy="1368360"/>
          </a:xfrm>
          <a:custGeom>
            <a:avLst/>
            <a:gdLst>
              <a:gd name="textAreaLeft" fmla="*/ 65880 w 1871640"/>
              <a:gd name="textAreaRight" fmla="*/ 1825920 w 1871640"/>
              <a:gd name="textAreaTop" fmla="*/ 1422720 h 1368360"/>
              <a:gd name="textAreaBottom" fmla="*/ 1792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Picture 20" descr="j0304933"/>
          <p:cNvPicPr/>
          <p:nvPr/>
        </p:nvPicPr>
        <p:blipFill>
          <a:blip r:embed="rId3"/>
          <a:stretch/>
        </p:blipFill>
        <p:spPr>
          <a:xfrm>
            <a:off x="1763640" y="4365720"/>
            <a:ext cx="936720" cy="54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158040" y="51055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оизошло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33640" y="53928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й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666720" y="6113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лагол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41964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ок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я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лагательны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6641640" y="5032440"/>
            <a:ext cx="18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чему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отограф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реч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26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80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овествование и его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3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5718960" y="226116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V="1" rot="16200000">
              <a:off x="465192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6" name="_s1030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3585600" y="332856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8" name="_s1031"/>
            <p:cNvCxnSpPr>
              <a:stCxn id="79" idx="0"/>
              <a:endCxn id="73" idx="2"/>
            </p:cNvCxnSpPr>
            <p:nvPr/>
          </p:nvCxnSpPr>
          <p:spPr>
            <a:xfrm flipH="1" flipV="1" rot="5400000">
              <a:off x="25185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73" name="_s1032"/>
            <p:cNvSpPr/>
            <p:nvPr/>
          </p:nvSpPr>
          <p:spPr>
            <a:xfrm>
              <a:off x="3657240" y="1600200"/>
              <a:ext cx="1828440" cy="1809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_s1033"/>
            <p:cNvSpPr/>
            <p:nvPr/>
          </p:nvSpPr>
          <p:spPr>
            <a:xfrm>
              <a:off x="457200" y="4314960"/>
              <a:ext cx="1828440" cy="1809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" name="_s1034"/>
            <p:cNvSpPr/>
            <p:nvPr/>
          </p:nvSpPr>
          <p:spPr>
            <a:xfrm>
              <a:off x="2590560" y="4314960"/>
              <a:ext cx="1828440" cy="1809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" name="_s1035"/>
            <p:cNvSpPr/>
            <p:nvPr/>
          </p:nvSpPr>
          <p:spPr>
            <a:xfrm>
              <a:off x="4724280" y="4314960"/>
              <a:ext cx="1828440" cy="1809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6857640" y="4314960"/>
              <a:ext cx="1828440" cy="1809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395280" y="4869000"/>
            <a:ext cx="19494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ступлени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535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2627280" y="4869000"/>
            <a:ext cx="1719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вязк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267984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4644360" y="4869000"/>
            <a:ext cx="1818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звязк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637800" y="1844640"/>
            <a:ext cx="1901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ЛЬМИН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И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57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V="1">
            <a:off x="457200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133200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3492360" y="3429000"/>
            <a:ext cx="1079640" cy="720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4572000" y="3429000"/>
            <a:ext cx="107964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565164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Picture 26" descr="Лена1"/>
          <p:cNvPicPr/>
          <p:nvPr/>
        </p:nvPicPr>
        <p:blipFill>
          <a:blip r:embed="rId6"/>
          <a:stretch/>
        </p:blipFill>
        <p:spPr>
          <a:xfrm>
            <a:off x="684360" y="765000"/>
            <a:ext cx="2201760" cy="3384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6877080" y="4869000"/>
            <a:ext cx="204948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ключени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4" name="Picture 29" descr=""/>
          <p:cNvPicPr/>
          <p:nvPr/>
        </p:nvPicPr>
        <p:blipFill>
          <a:blip r:embed="rId7"/>
          <a:stretch/>
        </p:blipFill>
        <p:spPr>
          <a:xfrm>
            <a:off x="6804000" y="189000"/>
            <a:ext cx="2340000" cy="1533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92360" y="2276640"/>
            <a:ext cx="619272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ъекты описани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 зависимости  от   ситуации   и целей могут быть самые  разны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" name="Picture 3" descr="m-9202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207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-9961"/>
          <p:cNvPicPr/>
          <p:nvPr/>
        </p:nvPicPr>
        <p:blipFill>
          <a:blip r:embed="rId2"/>
          <a:stretch/>
        </p:blipFill>
        <p:spPr>
          <a:xfrm>
            <a:off x="324000" y="333360"/>
            <a:ext cx="201132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-8697"/>
          <p:cNvPicPr/>
          <p:nvPr/>
        </p:nvPicPr>
        <p:blipFill>
          <a:blip r:embed="rId3"/>
          <a:stretch/>
        </p:blipFill>
        <p:spPr>
          <a:xfrm>
            <a:off x="6588000" y="333360"/>
            <a:ext cx="201132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090386"/>
          <p:cNvPicPr/>
          <p:nvPr/>
        </p:nvPicPr>
        <p:blipFill>
          <a:blip r:embed="rId4"/>
          <a:stretch/>
        </p:blipFill>
        <p:spPr>
          <a:xfrm>
            <a:off x="6516720" y="4292640"/>
            <a:ext cx="2338200" cy="2001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40719"/>
          <p:cNvPicPr/>
          <p:nvPr/>
        </p:nvPicPr>
        <p:blipFill>
          <a:blip r:embed="rId5"/>
          <a:stretch/>
        </p:blipFill>
        <p:spPr>
          <a:xfrm>
            <a:off x="468360" y="4149720"/>
            <a:ext cx="166032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m-8635"/>
          <p:cNvPicPr/>
          <p:nvPr/>
        </p:nvPicPr>
        <p:blipFill>
          <a:blip r:embed="rId6"/>
          <a:stretch/>
        </p:blipFill>
        <p:spPr>
          <a:xfrm>
            <a:off x="3635280" y="189000"/>
            <a:ext cx="165096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Line 9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1618920" y="3429000"/>
            <a:ext cx="280836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4427640" y="3429000"/>
            <a:ext cx="309708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4427640" y="1628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 flipV="1">
            <a:off x="2339640" y="1052280"/>
            <a:ext cx="208764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4427640" y="1052280"/>
            <a:ext cx="208908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2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460"/>
                            </p:stCondLst>
                            <p:childTnLst>
                              <p:par>
                                <p:cTn id="2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2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96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460"/>
                            </p:stCondLst>
                            <p:childTnLst>
                              <p:par>
                                <p:cTn id="2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446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96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333360"/>
            <a:ext cx="684072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Рассуждение  и  его  структура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9320" y="1263600"/>
            <a:ext cx="88826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это словесное  изложение , разъяснение, подтвержд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акой – либо мысли 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0520" y="2198520"/>
            <a:ext cx="905328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очен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жный тип реч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чтобы  убедить в чём – то, над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меть рассуждать , доказывать , логически мыслить , делать обоснован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ые выводы . Это умение необходимо ,чтобы опровергнуть точку зр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понента , с которым вы не согласны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00000" y="3573360"/>
            <a:ext cx="8244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Тезис ( высказывается какая – то мысль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Аргументы( доказательства  или  опровержение  этой  мысли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б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627280" y="508464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18360" y="5176800"/>
            <a:ext cx="5456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бедительные, сопровождаемые примерам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00720" y="5805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Вывод ( заключение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68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88640" y="210816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2-02-14T12:58:32Z</dcterms:modified>
  <cp:revision>78</cp:revision>
  <dc:subject/>
  <dc:title>Слайд 1</dc:title>
</cp:coreProperties>
</file>