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C1F-DF7F-47B8-AE0F-648250CB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2EB-65E1-4462-82FB-3A49613C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41A-70A0-497B-9C1B-278BC1B7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22C-6947-4FB1-83DE-5F75C0D9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8713-3E3B-40BA-A238-CD8B8F70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2F99-869C-438C-A376-6DE510FC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F980-1A5F-433F-BAFB-16B7FBF6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BB6F-A8CF-4EBE-9EAB-639ED1F9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962C-956E-4FBA-903A-F90D5D8B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A3FB-CF63-48A0-BE13-E1D76938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C6E2-ACB7-49ED-B0DD-52E185B8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2719-CFB7-4D23-824C-20720DD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4E00-A183-425A-A818-6B669A8B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9B6C-A3AA-4B14-834C-2A76A75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2FA8-CBA2-412C-8CC9-C3D69771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C592-C65B-4471-9D9F-1EBD433E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E359-5635-410A-A527-6C713D3C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ECC-2161-4FC6-BE9C-A47D6EEE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8DB-FA04-4C56-869C-395A3867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627-AFA5-4CC1-8AA9-B0071FC8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C18-B559-42CA-BD63-2B5F4E04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F42-B792-4572-AA65-EDB28E80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943-4629-4F4B-B402-7D0FFC54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180-01EB-430B-9981-263AB8E6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5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0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2DE6-3E19-4CC8-A86B-2F19F2232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46"/>
          <p:cNvGrpSpPr/>
          <p:nvPr/>
        </p:nvGrpSpPr>
        <p:grpSpPr>
          <a:xfrm>
            <a:off x="0" y="175680"/>
            <a:ext cx="7696080" cy="1117800"/>
            <a:chOff x="0" y="175680"/>
            <a:chExt cx="7696080" cy="1117800"/>
          </a:xfrm>
        </p:grpSpPr>
        <p:grpSp>
          <p:nvGrpSpPr>
            <p:cNvPr id="29" name="Rectangle 39"/>
            <p:cNvGrpSpPr/>
            <p:nvPr/>
          </p:nvGrpSpPr>
          <p:grpSpPr>
            <a:xfrm>
              <a:off x="0" y="1200600"/>
              <a:ext cx="7696080" cy="91440"/>
              <a:chOff x="0" y="1200600"/>
              <a:chExt cx="7696080" cy="91440"/>
            </a:xfrm>
          </p:grpSpPr>
          <p:pic>
            <p:nvPicPr>
              <p:cNvPr id="30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200600"/>
                <a:ext cx="769608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" name=""/>
              <p:cNvSpPr/>
              <p:nvPr/>
            </p:nvSpPr>
            <p:spPr>
              <a:xfrm rot="16200000">
                <a:off x="3802680" y="-2601360"/>
                <a:ext cx="87480" cy="76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44"/>
            <p:cNvGrpSpPr/>
            <p:nvPr/>
          </p:nvGrpSpPr>
          <p:grpSpPr>
            <a:xfrm>
              <a:off x="0" y="175680"/>
              <a:ext cx="6865920" cy="1117800"/>
              <a:chOff x="0" y="175680"/>
              <a:chExt cx="6865920" cy="1117800"/>
            </a:xfrm>
          </p:grpSpPr>
          <p:sp>
            <p:nvSpPr>
              <p:cNvPr id="33" name="Rectangle 41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" name="Rectangle 42"/>
              <p:cNvGrpSpPr/>
              <p:nvPr/>
            </p:nvGrpSpPr>
            <p:grpSpPr>
              <a:xfrm>
                <a:off x="0" y="175680"/>
                <a:ext cx="5855040" cy="261720"/>
                <a:chOff x="0" y="175680"/>
                <a:chExt cx="5855040" cy="261720"/>
              </a:xfrm>
            </p:grpSpPr>
            <p:pic>
              <p:nvPicPr>
                <p:cNvPr id="35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0" y="176040"/>
                  <a:ext cx="585432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" name=""/>
                <p:cNvSpPr/>
                <p:nvPr/>
              </p:nvSpPr>
              <p:spPr>
                <a:xfrm rot="16200000">
                  <a:off x="2796120" y="-2620440"/>
                  <a:ext cx="261720" cy="58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" name="Rectangle 43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2286000" y="0"/>
            <a:ext cx="2287440" cy="4960800"/>
            <a:chOff x="2286000" y="0"/>
            <a:chExt cx="2287440" cy="4960800"/>
          </a:xfrm>
        </p:grpSpPr>
        <p:sp>
          <p:nvSpPr>
            <p:cNvPr id="78" name="Rectangle 8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2668680" y="0"/>
              <a:ext cx="1671480" cy="4960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1595c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4575240" y="0"/>
            <a:ext cx="2286000" cy="3716280"/>
            <a:chOff x="4575240" y="0"/>
            <a:chExt cx="2286000" cy="3716280"/>
          </a:xfrm>
        </p:grpSpPr>
        <p:sp>
          <p:nvSpPr>
            <p:cNvPr id="82" name="Rectangle 12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4575240" y="0"/>
              <a:ext cx="1285920" cy="3716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80e05a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6858000" y="0"/>
            <a:ext cx="2286000" cy="4941720"/>
            <a:chOff x="6858000" y="0"/>
            <a:chExt cx="2286000" cy="4941720"/>
          </a:xfrm>
        </p:grpSpPr>
        <p:sp>
          <p:nvSpPr>
            <p:cNvPr id="86" name="Rectangle 11"/>
            <p:cNvSpPr/>
            <p:nvPr/>
          </p:nvSpPr>
          <p:spPr>
            <a:xfrm>
              <a:off x="6858000" y="0"/>
              <a:ext cx="177840" cy="4214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8"/>
            <p:cNvGrpSpPr/>
            <p:nvPr/>
          </p:nvGrpSpPr>
          <p:grpSpPr>
            <a:xfrm>
              <a:off x="6858000" y="0"/>
              <a:ext cx="2286000" cy="4941720"/>
              <a:chOff x="6858000" y="0"/>
              <a:chExt cx="2286000" cy="4941720"/>
            </a:xfrm>
          </p:grpSpPr>
          <p:sp>
            <p:nvSpPr>
              <p:cNvPr id="88" name="Rectangle 9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8604360" y="0"/>
                <a:ext cx="539640" cy="4214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4"/>
          <p:cNvGrpSpPr/>
          <p:nvPr/>
        </p:nvGrpSpPr>
        <p:grpSpPr>
          <a:xfrm>
            <a:off x="0" y="0"/>
            <a:ext cx="2286000" cy="3714840"/>
            <a:chOff x="0" y="0"/>
            <a:chExt cx="2286000" cy="3714840"/>
          </a:xfrm>
        </p:grpSpPr>
        <p:sp>
          <p:nvSpPr>
            <p:cNvPr id="92" name="Rectangle 7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124000" y="0"/>
              <a:ext cx="16200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0" y="0"/>
              <a:ext cx="77148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7" name="Rectangle 24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8" descr="1"/>
          <p:cNvPicPr/>
          <p:nvPr/>
        </p:nvPicPr>
        <p:blipFill>
          <a:blip r:embed="rId2"/>
          <a:srcRect l="0" t="0" r="20135" b="0"/>
          <a:stretch/>
        </p:blipFill>
        <p:spPr>
          <a:xfrm>
            <a:off x="7164360" y="907920"/>
            <a:ext cx="19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2"/>
          <p:cNvPicPr/>
          <p:nvPr/>
        </p:nvPicPr>
        <p:blipFill>
          <a:blip r:embed="rId3"/>
          <a:srcRect l="0" t="0" r="16923" b="0"/>
          <a:stretch/>
        </p:blipFill>
        <p:spPr>
          <a:xfrm>
            <a:off x="5062680" y="1268280"/>
            <a:ext cx="1795320" cy="273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4"/>
          <a:srcRect l="0" t="0" r="18696" b="0"/>
          <a:stretch/>
        </p:blipFill>
        <p:spPr>
          <a:xfrm>
            <a:off x="314280" y="692280"/>
            <a:ext cx="1973160" cy="36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4"/>
          <p:cNvPicPr/>
          <p:nvPr/>
        </p:nvPicPr>
        <p:blipFill>
          <a:blip r:embed="rId5"/>
          <a:stretch/>
        </p:blipFill>
        <p:spPr>
          <a:xfrm>
            <a:off x="2496960" y="374760"/>
            <a:ext cx="2071800" cy="499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7855200" y="23976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6290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DC43-5EAD-44E3-8B2B-73A5D5635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07960" y="573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3 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2019 – 2020 уч.го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468360" y="4941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ЬСКОЕ СОБРАНИЕ №1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5796000" y="189000"/>
            <a:ext cx="320364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КОУ СОШ № 5 г. Алза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выки чтени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098960" y="2421000"/>
            <a:ext cx="2622600" cy="284796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847960"/>
              <a:gd name="textAreaBottom" fmla="*/ 2848320 h 28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2062080" y="2421000"/>
            <a:ext cx="2809800" cy="28494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49400"/>
              <a:gd name="textAreaBottom" fmla="*/ 2849760 h 28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e05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324000" y="2421000"/>
            <a:ext cx="2687400" cy="2895480"/>
          </a:xfrm>
          <a:custGeom>
            <a:avLst/>
            <a:gdLst>
              <a:gd name="textAreaLeft" fmla="*/ 0 w 2687400"/>
              <a:gd name="textAreaRight" fmla="*/ 2687760 w 2687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a304"/>
              </a:gs>
              <a:gs pos="100000">
                <a:srgbClr val="b07203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395280" y="305748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раз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имание   прочит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2916360" y="314172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65 – 70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15"/>
          <p:cNvSpPr txBox="1"/>
          <p:nvPr/>
        </p:nvSpPr>
        <p:spPr>
          <a:xfrm>
            <a:off x="7020000" y="2492280"/>
            <a:ext cx="1655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4716360" y="4076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85 - 90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</a:rPr>
              <a:t>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214200" y="760320"/>
            <a:ext cx="87156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ть содержание текста и подтекст более сложных по художественному и смысловому уровню произведений, выявлять отношение автора к тому, о чем ведется речь, и осознавать собственное отношение к тому, что и как написа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ть с толковым словар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в речи средства интонационной вырази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ать подробную характеристику персонажей и их взаимоотношений, ссылаясь на текс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ть тему и главную мысль произвед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заглавливать иллюстрации и текс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простой план произвед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ывать подробно, частично, выборочно, творчес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главное и второстепенное в более насыщенных информацией текст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вить вопросы к прочитанно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такие языковые средства, как сравнение, эпитет, олицетворение, повтор, звукопись, и определять их функции в художественной реч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 художественные особенности сказок, их структур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ть подготовить графическую, музыкальную или словесную иллюстрацию, овладеть приемом словесного рисования сюжетного и пейзажного фрагментов тек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оить формы драматизации: чтение по ролям, живые картины, произнесение реплики героя с использованием мимики, развернутой драмат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имать участие в конкурсе чтец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ть собственные высказывания на основе прочитан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57120" y="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литературному чт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0" y="76284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еловек — часть природы и об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что такое тела и вещества, твердые вещества, жидкости и газ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сновные свойства воздуха и воды, круговорот воды в природ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основные группы живого (растения, животные, грибы, бактерии); группы растений (водоросли, мхи, папоротники, хвойные, цветковые); группы животных (насекомые, рыбы, земноводные, пресмыкающиеся, птицы, звери);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неживой и живой природой, внутри живой природы (между растениями и животными, между различными животными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заимосвязи между природой и человеком (значение природы для человека, отрицательное и положительное воздействие людей на природу, меры по охране природы, правила личного поведения в природе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строение тела человека, основные системы органов и их роль в организм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авила гигиены; основы здорового образа жизн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правила безопасного поведения в быту и на улице, основные дорожные знаки; правила противопожарной безопасности, основы экологической безопасност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отребности людей; товары и услуг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оль природных богатств в экономике; основные отрасли сельского хозяйства и промышленности; роль денег в экономике, основы семейного бюджет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- некоторые города России, их главные достопримечательности; страны, граничащие с Россией (с опорой на карту); страны зарубежной Европы, их столицы (с опорой на карту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еся должны умет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распознавать природные объекты; различать растения, животных, съедобные и несъедобные гриб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проводить наблюдения природных тел и явлен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объяснять в пределах требований программы взаимосвязи в природе и между природой и человеком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-выполнять правила личного поведения в природе, обосновывать их необходим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"/>
          <p:cNvSpPr/>
          <p:nvPr/>
        </p:nvSpPr>
        <p:spPr>
          <a:xfrm>
            <a:off x="2143080" y="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окружающему ми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4"/>
          <p:cNvSpPr/>
          <p:nvPr/>
        </p:nvSpPr>
        <p:spPr>
          <a:xfrm>
            <a:off x="142920" y="1071720"/>
            <a:ext cx="900108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обучение самостоятельности в подготовке домашних за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истематический контроль выполнения домашне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дготовка ребенка к грамотному написанию текс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достичь нормы на конец года по технике чт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работа над развитием вычислительн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оспитание культуры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оспитание таких качеств и умений как: самообслуживание, аккуратность в работе, ответственность по отношению к учёбе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развивать умение выразить свою точку зрения, принять друг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развивать умение слушать и вступать в диало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читься самостоятельно осуществлять поиск информации, ответы на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519920" y="21420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тельства по обеспечению успешности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остижении образовательных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 Black"/>
              </a:rPr>
              <a:t>Игры, направленные на развитие внимания, памяти, мыш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60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256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гры на развитие концентрации внима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щем бу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путанные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гры па развитие во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ление расск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лшебные кляк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иск а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ы применения предм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Игры па развитие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Сделай, как 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Зеркал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Угадай-к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Запомни сло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476360" y="594972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WordArt 8"/>
          <p:cNvSpPr txBox="1"/>
          <p:nvPr/>
        </p:nvSpPr>
        <p:spPr>
          <a:xfrm>
            <a:off x="468360" y="5157720"/>
            <a:ext cx="828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5940360" y="189000"/>
            <a:ext cx="3059280" cy="52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КОУ СОШ № 5 г. Алза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2124000" y="5300640"/>
            <a:ext cx="4927680" cy="531720"/>
            <a:chOff x="2124000" y="5300640"/>
            <a:chExt cx="4927680" cy="531720"/>
          </a:xfrm>
        </p:grpSpPr>
        <p:sp>
          <p:nvSpPr>
            <p:cNvPr id="151" name="AutoShape 3"/>
            <p:cNvSpPr/>
            <p:nvPr/>
          </p:nvSpPr>
          <p:spPr>
            <a:xfrm>
              <a:off x="2124000" y="530064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"/>
            <p:cNvSpPr/>
            <p:nvPr/>
          </p:nvSpPr>
          <p:spPr>
            <a:xfrm>
              <a:off x="2163960" y="531972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6"/>
          <p:cNvGrpSpPr/>
          <p:nvPr/>
        </p:nvGrpSpPr>
        <p:grpSpPr>
          <a:xfrm>
            <a:off x="2128680" y="4410000"/>
            <a:ext cx="4927680" cy="531720"/>
            <a:chOff x="2128680" y="4410000"/>
            <a:chExt cx="4927680" cy="531720"/>
          </a:xfrm>
        </p:grpSpPr>
        <p:sp>
          <p:nvSpPr>
            <p:cNvPr id="154" name="AutoShape 7"/>
            <p:cNvSpPr/>
            <p:nvPr/>
          </p:nvSpPr>
          <p:spPr>
            <a:xfrm>
              <a:off x="2128680" y="441000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fca304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>
              <a:off x="2168640" y="442908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ca304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2128680" y="3571920"/>
            <a:ext cx="4927680" cy="531720"/>
            <a:chOff x="2128680" y="3571920"/>
            <a:chExt cx="4927680" cy="531720"/>
          </a:xfrm>
        </p:grpSpPr>
        <p:sp>
          <p:nvSpPr>
            <p:cNvPr id="157" name="AutoShape 11"/>
            <p:cNvSpPr/>
            <p:nvPr/>
          </p:nvSpPr>
          <p:spPr>
            <a:xfrm>
              <a:off x="2128680" y="357192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2"/>
            <p:cNvSpPr/>
            <p:nvPr/>
          </p:nvSpPr>
          <p:spPr>
            <a:xfrm>
              <a:off x="2168640" y="359100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a304"/>
                </a:solidFill>
                <a:latin typeface="Arial"/>
              </a:rPr>
              <a:t>ПОВЕСТКА ДН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1273320" y="1494000"/>
            <a:ext cx="6553080" cy="86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595c"/>
                </a:solidFill>
                <a:latin typeface="Kozuka Mincho Pro M"/>
              </a:rPr>
              <a:t>С НОВЫМ УЧЕБНЫМ ГО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1792440" y="3486240"/>
            <a:ext cx="685800" cy="685800"/>
          </a:xfrm>
          <a:prstGeom prst="diamond">
            <a:avLst/>
          </a:prstGeom>
          <a:solidFill>
            <a:srgbClr val="e1595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1948320" y="358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1792440" y="4324320"/>
            <a:ext cx="685800" cy="685800"/>
          </a:xfrm>
          <a:prstGeom prst="diamond">
            <a:avLst/>
          </a:prstGeom>
          <a:solidFill>
            <a:srgbClr val="fca304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1948320" y="442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1790640" y="5205240"/>
            <a:ext cx="685800" cy="685800"/>
          </a:xfrm>
          <a:prstGeom prst="diamond">
            <a:avLst/>
          </a:prstGeom>
          <a:solidFill>
            <a:srgbClr val="4ba5e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946520" y="530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2"/>
          <p:cNvGrpSpPr/>
          <p:nvPr/>
        </p:nvGrpSpPr>
        <p:grpSpPr>
          <a:xfrm>
            <a:off x="2050920" y="2708280"/>
            <a:ext cx="4927680" cy="531720"/>
            <a:chOff x="2050920" y="2708280"/>
            <a:chExt cx="4927680" cy="531720"/>
          </a:xfrm>
        </p:grpSpPr>
        <p:sp>
          <p:nvSpPr>
            <p:cNvPr id="168" name="AutoShape 23"/>
            <p:cNvSpPr/>
            <p:nvPr/>
          </p:nvSpPr>
          <p:spPr>
            <a:xfrm>
              <a:off x="2050920" y="2708280"/>
              <a:ext cx="4927680" cy="5317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24"/>
            <p:cNvSpPr/>
            <p:nvPr/>
          </p:nvSpPr>
          <p:spPr>
            <a:xfrm>
              <a:off x="2090880" y="2727360"/>
              <a:ext cx="4870440" cy="23508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26"/>
          <p:cNvSpPr/>
          <p:nvPr/>
        </p:nvSpPr>
        <p:spPr>
          <a:xfrm>
            <a:off x="1792440" y="2647800"/>
            <a:ext cx="685800" cy="685800"/>
          </a:xfrm>
          <a:prstGeom prst="diamond">
            <a:avLst/>
          </a:prstGeom>
          <a:solidFill>
            <a:srgbClr val="80e05a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1948320" y="274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8" descr="3"/>
          <p:cNvPicPr/>
          <p:nvPr/>
        </p:nvPicPr>
        <p:blipFill>
          <a:blip r:embed="rId1"/>
          <a:srcRect l="0" t="0" r="18696" b="0"/>
          <a:stretch/>
        </p:blipFill>
        <p:spPr>
          <a:xfrm>
            <a:off x="7286760" y="0"/>
            <a:ext cx="185724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1"/>
          <p:cNvSpPr/>
          <p:nvPr/>
        </p:nvSpPr>
        <p:spPr>
          <a:xfrm>
            <a:off x="2535120" y="278136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класс: программа,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2550600" y="364392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5"/>
          <p:cNvSpPr/>
          <p:nvPr/>
        </p:nvSpPr>
        <p:spPr>
          <a:xfrm>
            <a:off x="2556000" y="4508640"/>
            <a:ext cx="70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, направленные на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я, памяти,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6"/>
          <p:cNvSpPr/>
          <p:nvPr/>
        </p:nvSpPr>
        <p:spPr>
          <a:xfrm>
            <a:off x="2629440" y="5373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3"/>
          <p:cNvSpPr/>
          <p:nvPr/>
        </p:nvSpPr>
        <p:spPr>
          <a:xfrm>
            <a:off x="214200" y="1011240"/>
            <a:ext cx="850104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язык – 5 урок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ое чтение – 4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 – 4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ий мир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глийский язык – 2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, музыка, ИЗО – по 1 уроку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а – 3 урока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0" y="35712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Учебный план на 2019-2020 учебный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452520" y="642960"/>
            <a:ext cx="83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ДОВОЙ КАЛЕНДАРНЫЙ УЧЕБНЫЙ 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80120" y="1773360"/>
            <a:ext cx="684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8.10-04.11-о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.12-12.01-зим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3.03-29.03-всенние кани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.05-последний учебны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4"/>
          <p:cNvSpPr/>
          <p:nvPr/>
        </p:nvSpPr>
        <p:spPr>
          <a:xfrm>
            <a:off x="500040" y="235728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Учителя-предмет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0" y="3214800"/>
            <a:ext cx="90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изкуль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Трапезникова Юлия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узы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убботина Ларис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З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Подгорная Елен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нглийский язы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Фадеенко Наталья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тыненкова Ирина Валери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0" y="500040"/>
            <a:ext cx="90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усский язык, литературное чтение, математика, окружающий мир, технология, 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яхутдинова Евгени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6156360" y="1413000"/>
            <a:ext cx="2749320" cy="1247040"/>
            <a:chOff x="6156360" y="1413000"/>
            <a:chExt cx="2749320" cy="1247040"/>
          </a:xfrm>
        </p:grpSpPr>
        <p:sp>
          <p:nvSpPr>
            <p:cNvPr id="185" name="AutoShape 3"/>
            <p:cNvSpPr/>
            <p:nvPr/>
          </p:nvSpPr>
          <p:spPr>
            <a:xfrm>
              <a:off x="6156360" y="141300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4"/>
            <p:cNvSpPr/>
            <p:nvPr/>
          </p:nvSpPr>
          <p:spPr>
            <a:xfrm>
              <a:off x="6199200" y="148824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6407280" y="2997360"/>
            <a:ext cx="2736360" cy="1222920"/>
            <a:chOff x="6407280" y="2997360"/>
            <a:chExt cx="2736360" cy="1222920"/>
          </a:xfrm>
        </p:grpSpPr>
        <p:sp>
          <p:nvSpPr>
            <p:cNvPr id="188" name="AutoShape 6"/>
            <p:cNvSpPr/>
            <p:nvPr/>
          </p:nvSpPr>
          <p:spPr>
            <a:xfrm>
              <a:off x="6407280" y="2997360"/>
              <a:ext cx="2736360" cy="12229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6449760" y="307116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5940360" y="4724280"/>
            <a:ext cx="2663640" cy="1150200"/>
            <a:chOff x="5940360" y="4724280"/>
            <a:chExt cx="2663640" cy="1150200"/>
          </a:xfrm>
        </p:grpSpPr>
        <p:sp>
          <p:nvSpPr>
            <p:cNvPr id="191" name="AutoShape 9"/>
            <p:cNvSpPr/>
            <p:nvPr/>
          </p:nvSpPr>
          <p:spPr>
            <a:xfrm>
              <a:off x="5940360" y="4724280"/>
              <a:ext cx="266364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0"/>
            <p:cNvSpPr/>
            <p:nvPr/>
          </p:nvSpPr>
          <p:spPr>
            <a:xfrm>
              <a:off x="5981760" y="4793760"/>
              <a:ext cx="257004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0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2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4"/>
          <p:cNvSpPr/>
          <p:nvPr/>
        </p:nvSpPr>
        <p:spPr>
          <a:xfrm>
            <a:off x="5249880" y="3384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5"/>
          <p:cNvSpPr/>
          <p:nvPr/>
        </p:nvSpPr>
        <p:spPr>
          <a:xfrm rot="10800000">
            <a:off x="3031920" y="3379320"/>
            <a:ext cx="795240" cy="265320"/>
          </a:xfrm>
          <a:prstGeom prst="rightArrow">
            <a:avLst>
              <a:gd name="adj1" fmla="val 35167"/>
              <a:gd name="adj2" fmla="val 121376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6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27"/>
          <p:cNvGrpSpPr/>
          <p:nvPr/>
        </p:nvGrpSpPr>
        <p:grpSpPr>
          <a:xfrm>
            <a:off x="3484440" y="2516040"/>
            <a:ext cx="1989360" cy="1987560"/>
            <a:chOff x="3484440" y="2516040"/>
            <a:chExt cx="1989360" cy="1987560"/>
          </a:xfrm>
        </p:grpSpPr>
        <p:sp>
          <p:nvSpPr>
            <p:cNvPr id="201" name="Oval 28"/>
            <p:cNvSpPr/>
            <p:nvPr/>
          </p:nvSpPr>
          <p:spPr>
            <a:xfrm>
              <a:off x="3484440" y="2516040"/>
              <a:ext cx="1989360" cy="19875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9"/>
            <p:cNvSpPr/>
            <p:nvPr/>
          </p:nvSpPr>
          <p:spPr>
            <a:xfrm>
              <a:off x="3614040" y="2645640"/>
              <a:ext cx="1729080" cy="172764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0"/>
            <p:cNvSpPr/>
            <p:nvPr/>
          </p:nvSpPr>
          <p:spPr>
            <a:xfrm>
              <a:off x="3615840" y="2648520"/>
              <a:ext cx="1729080" cy="172764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1"/>
            <p:cNvSpPr/>
            <p:nvPr/>
          </p:nvSpPr>
          <p:spPr>
            <a:xfrm>
              <a:off x="3708000" y="2731680"/>
              <a:ext cx="1556280" cy="155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32"/>
            <p:cNvGrpSpPr/>
            <p:nvPr/>
          </p:nvGrpSpPr>
          <p:grpSpPr>
            <a:xfrm>
              <a:off x="3735360" y="2749320"/>
              <a:ext cx="1506960" cy="1505880"/>
              <a:chOff x="3735360" y="2749320"/>
              <a:chExt cx="1506960" cy="1505880"/>
            </a:xfrm>
          </p:grpSpPr>
          <p:sp>
            <p:nvSpPr>
              <p:cNvPr id="206" name="Oval 33"/>
              <p:cNvSpPr/>
              <p:nvPr/>
            </p:nvSpPr>
            <p:spPr>
              <a:xfrm>
                <a:off x="3735360" y="2749320"/>
                <a:ext cx="1506960" cy="15058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4"/>
              <p:cNvSpPr/>
              <p:nvPr/>
            </p:nvSpPr>
            <p:spPr>
              <a:xfrm>
                <a:off x="3754440" y="2757600"/>
                <a:ext cx="1470960" cy="1468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5"/>
              <p:cNvSpPr/>
              <p:nvPr/>
            </p:nvSpPr>
            <p:spPr>
              <a:xfrm>
                <a:off x="3770280" y="2772000"/>
                <a:ext cx="1398600" cy="137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36"/>
              <p:cNvSpPr/>
              <p:nvPr/>
            </p:nvSpPr>
            <p:spPr>
              <a:xfrm>
                <a:off x="3852000" y="2810520"/>
                <a:ext cx="1243080" cy="111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 Box 37"/>
            <p:cNvSpPr/>
            <p:nvPr/>
          </p:nvSpPr>
          <p:spPr>
            <a:xfrm>
              <a:off x="4403880" y="33058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6"/>
          <p:cNvSpPr/>
          <p:nvPr/>
        </p:nvSpPr>
        <p:spPr>
          <a:xfrm>
            <a:off x="3718080" y="313992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7"/>
          <p:cNvSpPr/>
          <p:nvPr/>
        </p:nvSpPr>
        <p:spPr>
          <a:xfrm>
            <a:off x="6372360" y="1628640"/>
            <a:ext cx="22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 на конце имён существительных 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8"/>
          <p:cNvGrpSpPr/>
          <p:nvPr/>
        </p:nvGrpSpPr>
        <p:grpSpPr>
          <a:xfrm>
            <a:off x="179280" y="1484280"/>
            <a:ext cx="2749320" cy="1247040"/>
            <a:chOff x="179280" y="1484280"/>
            <a:chExt cx="2749320" cy="1247040"/>
          </a:xfrm>
        </p:grpSpPr>
        <p:sp>
          <p:nvSpPr>
            <p:cNvPr id="215" name="AutoShape 49"/>
            <p:cNvSpPr/>
            <p:nvPr/>
          </p:nvSpPr>
          <p:spPr>
            <a:xfrm>
              <a:off x="179280" y="14842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50"/>
            <p:cNvSpPr/>
            <p:nvPr/>
          </p:nvSpPr>
          <p:spPr>
            <a:xfrm>
              <a:off x="222120" y="15595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51"/>
          <p:cNvGrpSpPr/>
          <p:nvPr/>
        </p:nvGrpSpPr>
        <p:grpSpPr>
          <a:xfrm>
            <a:off x="611280" y="4797360"/>
            <a:ext cx="2663280" cy="1150200"/>
            <a:chOff x="611280" y="4797360"/>
            <a:chExt cx="2663280" cy="1150200"/>
          </a:xfrm>
        </p:grpSpPr>
        <p:sp>
          <p:nvSpPr>
            <p:cNvPr id="218" name="AutoShape 52"/>
            <p:cNvSpPr/>
            <p:nvPr/>
          </p:nvSpPr>
          <p:spPr>
            <a:xfrm>
              <a:off x="611280" y="479736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3"/>
            <p:cNvSpPr/>
            <p:nvPr/>
          </p:nvSpPr>
          <p:spPr>
            <a:xfrm>
              <a:off x="652680" y="486684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54"/>
          <p:cNvGrpSpPr/>
          <p:nvPr/>
        </p:nvGrpSpPr>
        <p:grpSpPr>
          <a:xfrm>
            <a:off x="0" y="3068640"/>
            <a:ext cx="2736360" cy="1223280"/>
            <a:chOff x="0" y="3068640"/>
            <a:chExt cx="2736360" cy="1223280"/>
          </a:xfrm>
        </p:grpSpPr>
        <p:sp>
          <p:nvSpPr>
            <p:cNvPr id="221" name="AutoShape 55"/>
            <p:cNvSpPr/>
            <p:nvPr/>
          </p:nvSpPr>
          <p:spPr>
            <a:xfrm>
              <a:off x="0" y="306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56"/>
            <p:cNvSpPr/>
            <p:nvPr/>
          </p:nvSpPr>
          <p:spPr>
            <a:xfrm>
              <a:off x="42480" y="314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57"/>
          <p:cNvSpPr/>
          <p:nvPr/>
        </p:nvSpPr>
        <p:spPr>
          <a:xfrm>
            <a:off x="6696000" y="2997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родовых окончаний имён прилаг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8"/>
          <p:cNvSpPr/>
          <p:nvPr/>
        </p:nvSpPr>
        <p:spPr>
          <a:xfrm>
            <a:off x="6012000" y="479736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 имён существительных по падеж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9"/>
          <p:cNvSpPr/>
          <p:nvPr/>
        </p:nvSpPr>
        <p:spPr>
          <a:xfrm>
            <a:off x="468360" y="162864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безударной 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0"/>
          <p:cNvSpPr/>
          <p:nvPr/>
        </p:nvSpPr>
        <p:spPr>
          <a:xfrm>
            <a:off x="250920" y="3213000"/>
            <a:ext cx="20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парн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1"/>
          <p:cNvSpPr/>
          <p:nvPr/>
        </p:nvSpPr>
        <p:spPr>
          <a:xfrm>
            <a:off x="755640" y="494172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непроизносимой согла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0" y="115920"/>
            <a:ext cx="9144000" cy="66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 концу обучения в третьем классе учащиеся долж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имя существительное, имя прилагательное, личное местоим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ы предложений по цели высказывания и инто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главные (подлежащее и сказуемое) и второстепенные члены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ложения с однородными член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ять, наход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грамматическую основу простого двусоставного предло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в простом предложении однородные члены(как главные, так и второстепенны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практические зада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оводить фонетический анализ слова и разбор слова по соста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характеризовать имя существительное и имя прилагательное как части речи (значение и морфологические призна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оставлять план текста (при помощи учител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равопис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суффиксов имен существительных –онок- (-енок-),-ек-, -ик-, -ост(ь)-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адежных окончаний имен существитель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оварных слов, определенных программ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постановки знаков препинания при однородных членах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6156360" y="1413000"/>
            <a:ext cx="2749320" cy="1247040"/>
            <a:chOff x="6156360" y="1413000"/>
            <a:chExt cx="2749320" cy="1247040"/>
          </a:xfrm>
        </p:grpSpPr>
        <p:sp>
          <p:nvSpPr>
            <p:cNvPr id="230" name="AutoShape 3"/>
            <p:cNvSpPr/>
            <p:nvPr/>
          </p:nvSpPr>
          <p:spPr>
            <a:xfrm>
              <a:off x="6156360" y="141300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"/>
            <p:cNvSpPr/>
            <p:nvPr/>
          </p:nvSpPr>
          <p:spPr>
            <a:xfrm>
              <a:off x="6199200" y="148824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5"/>
          <p:cNvGrpSpPr/>
          <p:nvPr/>
        </p:nvGrpSpPr>
        <p:grpSpPr>
          <a:xfrm>
            <a:off x="6407280" y="2997360"/>
            <a:ext cx="2736360" cy="1222920"/>
            <a:chOff x="6407280" y="2997360"/>
            <a:chExt cx="2736360" cy="1222920"/>
          </a:xfrm>
        </p:grpSpPr>
        <p:sp>
          <p:nvSpPr>
            <p:cNvPr id="233" name="AutoShape 6"/>
            <p:cNvSpPr/>
            <p:nvPr/>
          </p:nvSpPr>
          <p:spPr>
            <a:xfrm>
              <a:off x="6407280" y="2997360"/>
              <a:ext cx="2736360" cy="122292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7"/>
            <p:cNvSpPr/>
            <p:nvPr/>
          </p:nvSpPr>
          <p:spPr>
            <a:xfrm>
              <a:off x="6449760" y="307116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8"/>
          <p:cNvGrpSpPr/>
          <p:nvPr/>
        </p:nvGrpSpPr>
        <p:grpSpPr>
          <a:xfrm>
            <a:off x="6012000" y="4724280"/>
            <a:ext cx="2663280" cy="1150200"/>
            <a:chOff x="6012000" y="4724280"/>
            <a:chExt cx="2663280" cy="1150200"/>
          </a:xfrm>
        </p:grpSpPr>
        <p:sp>
          <p:nvSpPr>
            <p:cNvPr id="236" name="AutoShape 9"/>
            <p:cNvSpPr/>
            <p:nvPr/>
          </p:nvSpPr>
          <p:spPr>
            <a:xfrm>
              <a:off x="6012000" y="472428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0"/>
            <p:cNvSpPr/>
            <p:nvPr/>
          </p:nvSpPr>
          <p:spPr>
            <a:xfrm>
              <a:off x="6053400" y="479376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utoShape 11"/>
          <p:cNvSpPr/>
          <p:nvPr/>
        </p:nvSpPr>
        <p:spPr>
          <a:xfrm rot="17973000">
            <a:off x="4716360" y="2346480"/>
            <a:ext cx="730080" cy="266760"/>
          </a:xfrm>
          <a:prstGeom prst="rightArrow">
            <a:avLst>
              <a:gd name="adj1" fmla="val 35167"/>
              <a:gd name="adj2" fmla="val 110829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 rot="3465600">
            <a:off x="4716720" y="4338000"/>
            <a:ext cx="728640" cy="266760"/>
          </a:xfrm>
          <a:prstGeom prst="rightArrow">
            <a:avLst>
              <a:gd name="adj1" fmla="val 35167"/>
              <a:gd name="adj2" fmla="val 11061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 rot="14368800">
            <a:off x="3595680" y="241776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 rot="7534800">
            <a:off x="3560400" y="4308120"/>
            <a:ext cx="728640" cy="264960"/>
          </a:xfrm>
          <a:prstGeom prst="rightArrow">
            <a:avLst>
              <a:gd name="adj1" fmla="val 35167"/>
              <a:gd name="adj2" fmla="val 111362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580000" y="3357720"/>
            <a:ext cx="728640" cy="266400"/>
          </a:xfrm>
          <a:prstGeom prst="rightArrow">
            <a:avLst>
              <a:gd name="adj1" fmla="val 35167"/>
              <a:gd name="adj2" fmla="val 110760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6"/>
          <p:cNvSpPr/>
          <p:nvPr/>
        </p:nvSpPr>
        <p:spPr>
          <a:xfrm rot="10800000">
            <a:off x="2842920" y="3357720"/>
            <a:ext cx="795240" cy="264960"/>
          </a:xfrm>
          <a:prstGeom prst="rightArrow">
            <a:avLst>
              <a:gd name="adj1" fmla="val 35167"/>
              <a:gd name="adj2" fmla="val 121541"/>
            </a:avLst>
          </a:prstGeom>
          <a:gradFill rotWithShape="0">
            <a:gsLst>
              <a:gs pos="0">
                <a:srgbClr val="555555">
                  <a:alpha val="0"/>
                </a:srgbClr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7"/>
          <p:cNvSpPr/>
          <p:nvPr/>
        </p:nvSpPr>
        <p:spPr>
          <a:xfrm>
            <a:off x="2843280" y="1773360"/>
            <a:ext cx="3444840" cy="3446280"/>
          </a:xfrm>
          <a:prstGeom prst="ellipse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3276720" y="2708280"/>
            <a:ext cx="2663280" cy="1512720"/>
            <a:chOff x="3276720" y="2708280"/>
            <a:chExt cx="2663280" cy="1512720"/>
          </a:xfrm>
        </p:grpSpPr>
        <p:sp>
          <p:nvSpPr>
            <p:cNvPr id="246" name="Oval 19"/>
            <p:cNvSpPr/>
            <p:nvPr/>
          </p:nvSpPr>
          <p:spPr>
            <a:xfrm>
              <a:off x="3276720" y="2708280"/>
              <a:ext cx="2663280" cy="151272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"/>
            <p:cNvSpPr/>
            <p:nvPr/>
          </p:nvSpPr>
          <p:spPr>
            <a:xfrm>
              <a:off x="3450600" y="280692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3452760" y="2809080"/>
              <a:ext cx="2315160" cy="131508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3576240" y="2872440"/>
              <a:ext cx="2083680" cy="1184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23"/>
            <p:cNvGrpSpPr/>
            <p:nvPr/>
          </p:nvGrpSpPr>
          <p:grpSpPr>
            <a:xfrm>
              <a:off x="3612960" y="2885760"/>
              <a:ext cx="2017440" cy="1146240"/>
              <a:chOff x="3612960" y="2885760"/>
              <a:chExt cx="2017440" cy="1146240"/>
            </a:xfrm>
          </p:grpSpPr>
          <p:sp>
            <p:nvSpPr>
              <p:cNvPr id="251" name="Oval 24"/>
              <p:cNvSpPr/>
              <p:nvPr/>
            </p:nvSpPr>
            <p:spPr>
              <a:xfrm>
                <a:off x="3612960" y="2885760"/>
                <a:ext cx="2017440" cy="1146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25"/>
              <p:cNvSpPr/>
              <p:nvPr/>
            </p:nvSpPr>
            <p:spPr>
              <a:xfrm>
                <a:off x="3638520" y="2891880"/>
                <a:ext cx="1969200" cy="1117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6"/>
              <p:cNvSpPr/>
              <p:nvPr/>
            </p:nvSpPr>
            <p:spPr>
              <a:xfrm>
                <a:off x="3659400" y="2903040"/>
                <a:ext cx="1872360" cy="1044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27"/>
              <p:cNvSpPr/>
              <p:nvPr/>
            </p:nvSpPr>
            <p:spPr>
              <a:xfrm>
                <a:off x="3769200" y="2932200"/>
                <a:ext cx="1664640" cy="847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 Box 28"/>
            <p:cNvSpPr/>
            <p:nvPr/>
          </p:nvSpPr>
          <p:spPr>
            <a:xfrm>
              <a:off x="4536720" y="3309480"/>
              <a:ext cx="18360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иболее сложные тем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3638160" y="3284640"/>
            <a:ext cx="19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2"/>
          <p:cNvGrpSpPr/>
          <p:nvPr/>
        </p:nvGrpSpPr>
        <p:grpSpPr>
          <a:xfrm>
            <a:off x="179280" y="1484280"/>
            <a:ext cx="2749320" cy="1247040"/>
            <a:chOff x="179280" y="1484280"/>
            <a:chExt cx="2749320" cy="1247040"/>
          </a:xfrm>
        </p:grpSpPr>
        <p:sp>
          <p:nvSpPr>
            <p:cNvPr id="259" name="AutoShape 33"/>
            <p:cNvSpPr/>
            <p:nvPr/>
          </p:nvSpPr>
          <p:spPr>
            <a:xfrm>
              <a:off x="179280" y="1484280"/>
              <a:ext cx="2749320" cy="124704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34"/>
            <p:cNvSpPr/>
            <p:nvPr/>
          </p:nvSpPr>
          <p:spPr>
            <a:xfrm>
              <a:off x="222120" y="1559520"/>
              <a:ext cx="2652840" cy="5065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5"/>
          <p:cNvGrpSpPr/>
          <p:nvPr/>
        </p:nvGrpSpPr>
        <p:grpSpPr>
          <a:xfrm>
            <a:off x="611280" y="4797360"/>
            <a:ext cx="2663280" cy="1150200"/>
            <a:chOff x="611280" y="4797360"/>
            <a:chExt cx="2663280" cy="1150200"/>
          </a:xfrm>
        </p:grpSpPr>
        <p:sp>
          <p:nvSpPr>
            <p:cNvPr id="262" name="AutoShape 36"/>
            <p:cNvSpPr/>
            <p:nvPr/>
          </p:nvSpPr>
          <p:spPr>
            <a:xfrm>
              <a:off x="611280" y="4797360"/>
              <a:ext cx="2663280" cy="115020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7"/>
            <p:cNvSpPr/>
            <p:nvPr/>
          </p:nvSpPr>
          <p:spPr>
            <a:xfrm>
              <a:off x="652680" y="4866840"/>
              <a:ext cx="2569680" cy="4672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8"/>
          <p:cNvGrpSpPr/>
          <p:nvPr/>
        </p:nvGrpSpPr>
        <p:grpSpPr>
          <a:xfrm>
            <a:off x="0" y="3068640"/>
            <a:ext cx="2736360" cy="1223280"/>
            <a:chOff x="0" y="3068640"/>
            <a:chExt cx="2736360" cy="1223280"/>
          </a:xfrm>
        </p:grpSpPr>
        <p:sp>
          <p:nvSpPr>
            <p:cNvPr id="265" name="AutoShape 39"/>
            <p:cNvSpPr/>
            <p:nvPr/>
          </p:nvSpPr>
          <p:spPr>
            <a:xfrm>
              <a:off x="0" y="3068640"/>
              <a:ext cx="2736360" cy="1223280"/>
            </a:xfrm>
            <a:prstGeom prst="roundRect">
              <a:avLst>
                <a:gd name="adj" fmla="val 16667"/>
              </a:avLst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0"/>
            <p:cNvSpPr/>
            <p:nvPr/>
          </p:nvSpPr>
          <p:spPr>
            <a:xfrm>
              <a:off x="42480" y="3142440"/>
              <a:ext cx="2640240" cy="496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0e05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47"/>
          <p:cNvSpPr/>
          <p:nvPr/>
        </p:nvSpPr>
        <p:spPr>
          <a:xfrm>
            <a:off x="6516720" y="1557000"/>
            <a:ext cx="193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табличное умн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8"/>
          <p:cNvSpPr/>
          <p:nvPr/>
        </p:nvSpPr>
        <p:spPr>
          <a:xfrm>
            <a:off x="395280" y="162864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чное умножение и 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9"/>
          <p:cNvSpPr/>
          <p:nvPr/>
        </p:nvSpPr>
        <p:spPr>
          <a:xfrm>
            <a:off x="255240" y="34290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ны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0"/>
          <p:cNvSpPr/>
          <p:nvPr/>
        </p:nvSpPr>
        <p:spPr>
          <a:xfrm>
            <a:off x="6516720" y="321300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орядок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1"/>
          <p:cNvSpPr/>
          <p:nvPr/>
        </p:nvSpPr>
        <p:spPr>
          <a:xfrm>
            <a:off x="759240" y="5229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2"/>
          <p:cNvSpPr/>
          <p:nvPr/>
        </p:nvSpPr>
        <p:spPr>
          <a:xfrm>
            <a:off x="6159600" y="4869000"/>
            <a:ext cx="219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менова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0" y="412920"/>
            <a:ext cx="9144000" cy="64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зн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сложения однозначных чисел в пределах 20 и соответствующие случаи вычита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у умножения однозначных чисел и соответствующие случаи деления (на уровне автоматизированного навык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 арифметических действ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) сложения (переместительное и сочета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умножения (переместительное, сочетательное, распределительное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) деления суммы на числ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 компонентов  и  результатов  действий;  правила  нахождения слагаемого, уменьшаемого, вычитаемого, множителя, делимого, делите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ядный состав многозначных чисел (названия разрядов, классов, соотношение разрядных единиц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лгоритм письменного сложения и выч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сравнения и измерения площад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вычисления площади и периметра прямоугольни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порядка выполнения действий в выражен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ия геометрических фигур: точка, прямая, кривая, отрезок, ломаная, угол (прямой, тупой, острый), многоугольник, прямоугольник, квадрат, треугольник, окружность, кр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у задачи: условие, вопро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жны уме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ь и записывать числа в пределах 1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 выполнять устно четыре арифметических действия в пределах 100 и в пределах 1000 в случаях, сводимых к действиям в пределах 1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правила порядка выполнения действий в выражениях, содержащих несколько действий (со скобками и без них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ть текстовые задачи, связанные со смыслом изученных арифметических действий и отнош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ять длину отрезка с помощью линейки и чертить отрезки заданной дл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714240" y="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к уровню подготовки по мате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21:44:03Z</dcterms:created>
  <dc:creator>школа</dc:creator>
  <dc:description/>
  <dc:language>en-US</dc:language>
  <cp:lastModifiedBy>Евгения</cp:lastModifiedBy>
  <dcterms:modified xsi:type="dcterms:W3CDTF">2023-11-13T16:05:04Z</dcterms:modified>
  <cp:revision>27</cp:revision>
  <dc:subject/>
  <dc:title>Презентация PowerPoint</dc:title>
</cp:coreProperties>
</file>