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499-E7D9-4147-BED1-4B3CE933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153-D8F4-41C0-A9CF-3906EAE5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2CB-9CF4-4B5E-BF88-4568AB34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5EB-3222-4EBF-92C9-B028AC5F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AECB-D817-4D3E-8B2F-08FC7B3C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E850-9DE3-4F9A-835E-7DB13C96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88B5-6C7D-4E4B-9566-6AA2B716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1B71-8F88-45C0-BCAA-E74BDAD2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B6B0-025C-4C9C-8EE0-1B9325ED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28CA-1C48-4BAE-B74E-C53E6544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81E5-02CF-421C-8790-8B525856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1AD-1D6F-4464-BC39-FF4F0DDE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EC4E-C9D0-4D58-A8BA-B23DB0D2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0E9C-5AD8-448C-9349-2C279D86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47A7-FE90-4EEF-A66A-CD63FA6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BEDC-8C42-4FA2-A523-41BFC135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1C83-37EB-4911-BAC0-EA64532A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A54-6CCB-4F79-B023-8D961A44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80C-FCE3-4947-A4FE-33555166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89A-3BFD-48DF-AAB1-8467B0E7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21E-2B9E-4CE5-B221-9EB54FE8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DD9-ACC7-436D-8D36-C6E1A539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646-79C9-45D0-9249-651579A2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CA2-50BC-4C9E-8AE2-95C942C3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3408-638D-4CAA-B0DE-E8E5A6ECC37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45AC-CDA3-4073-B205-A6B8601DAF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7007-7F74-4D4C-87F8-9F6F36295F5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622C-CBBA-4BCC-8280-622945819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льское хозяйство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тениеводств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5805360"/>
            <a:ext cx="6440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7905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опро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ем технические культуры отличаются от зернов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пределите, используя атлас, какова специализация земледелия в Брянской обла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дание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жите на схеме факторы, влияющие на развитие сельского хозяйства, и особенности, отличающие эту отрасль от других отраслей хозяйства (промышленности, транспорта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987640" y="2781360"/>
            <a:ext cx="3384720" cy="64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0000" y="3860640"/>
            <a:ext cx="259236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акторы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508720" y="3860640"/>
            <a:ext cx="273528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843280" y="342900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5580000" y="342900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826920" y="4869000"/>
            <a:ext cx="216252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724360" y="4869000"/>
            <a:ext cx="2232360" cy="1368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97964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7708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Ответ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916360" y="1773360"/>
            <a:ext cx="3384360" cy="64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826920" y="2924280"/>
            <a:ext cx="2592720" cy="57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акторы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076720" y="2852640"/>
            <a:ext cx="2735280" cy="576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2626920" y="249228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5219640" y="2421000"/>
            <a:ext cx="115272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826920" y="3933720"/>
            <a:ext cx="2449800" cy="180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лощадь с/х угод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качество с/х угод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гроклимат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5148360" y="3860640"/>
            <a:ext cx="2808360" cy="1657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природных усло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езонное произво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зональная специ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2124000" y="3500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644364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3628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ельскохозяйственного производства может осуществляться двумя путями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360" y="18446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кстенсивн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нсив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опро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те из курса географии 8 класса, чем отличаются экстенсивное и интенсивное сельское хозяй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2555640" y="184464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859280" y="1773360"/>
            <a:ext cx="136836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опро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экологические проблемы связаны с развитием сельского хозяйства и каким образом их можно избеж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267480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Тес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вариант правильного отв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075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Основой растениеводства служи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зерновое хозяй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технические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вощеводство и садово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Важнейшей культурой зернового хозяйства явля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ше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в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 каком экономическом районе выращивают сахарную свёкл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Централь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Центрально-Чернозем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еверо-Запад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68000" y="981000"/>
            <a:ext cx="8218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Из какой культуры в русских деревнях умели делать нарядное полотно - батист («северный шелк»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хлоп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коноп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льна-долгун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 западу от Волги сею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зимую пше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яровую пшен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каких природных зонах наиболее интенсивное сельское хозяйств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ес и лесостеп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лесостепи и степ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степи и полупусты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Само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Основой растениеводства служи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А) зерновое хозяй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технические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вощеводство и садово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Важнейшей культурой зернового хозяйства явля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р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Б) пше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в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 каком экономическом районе выращивают сахарную свёкл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Централь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Б) Центрально-Чернозем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еверо-Запад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Из какой культуры в русских деревнях умели делать нарядное полотно - батист («северный шелк»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хлоп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коноп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В) льна-долгун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 западу от Волги сею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А) озимую пшени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яровую пшени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В каких природных зонах наиболее интенсивное сельское хозяйств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лес и лесостеп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Б) лесостепи и степ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тепи и полупусты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000" y="1628280"/>
            <a:ext cx="8218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ое производство зависит от природных условий, поэтому в нашей стране оно имеет четко выраженный сезонный характе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ой растениеводства России служит зерновое хозяйство, а его важнейшей культурой является пшени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астениеводства страны характерна зональная специализация, то есть выращивание в каждой природно-хозяйственной  зоне определённого набора сельскохозяйственных культу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просы, рассматриваемые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989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е хозяйство - отрасль первич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ые особенности сельск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евой состав сельск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графия растение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9280" y="2060280"/>
            <a:ext cx="820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Спасибо за работу на уроке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68360" y="1052640"/>
            <a:ext cx="82296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льское хозяйство - эт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асль хозяйства, дающая людям продукты питания, а промышленности – сыр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42-19511236"/>
          <p:cNvPicPr/>
          <p:nvPr/>
        </p:nvPicPr>
        <p:blipFill>
          <a:blip r:embed="rId1"/>
          <a:stretch/>
        </p:blipFill>
        <p:spPr>
          <a:xfrm>
            <a:off x="3492360" y="4724280"/>
            <a:ext cx="2159280" cy="143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42-16248543"/>
          <p:cNvPicPr/>
          <p:nvPr/>
        </p:nvPicPr>
        <p:blipFill>
          <a:blip r:embed="rId2"/>
          <a:stretch/>
        </p:blipFill>
        <p:spPr>
          <a:xfrm>
            <a:off x="6443640" y="3068640"/>
            <a:ext cx="2108160" cy="215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42-16041240"/>
          <p:cNvPicPr/>
          <p:nvPr/>
        </p:nvPicPr>
        <p:blipFill>
          <a:blip r:embed="rId3"/>
          <a:stretch/>
        </p:blipFill>
        <p:spPr>
          <a:xfrm>
            <a:off x="900000" y="4149720"/>
            <a:ext cx="1714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опрос 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2133360"/>
            <a:ext cx="771516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чему сельское хозяйст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тносят к первичному сектор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хозяйст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10920" y="98064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амопров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льское хозяйство использует «производительные силы природы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чвенное плодород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лнечный свет и тепл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ад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ественную растительность (пастбища и сенокос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145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Одним из важнейших факторов развития сельского хозяйства является величина и качество сельскохозяйственных угодий</a:t>
            </a:r>
            <a:br>
              <a:rPr sz="2000"/>
            </a:br>
            <a:r>
              <a:rPr b="0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земельных угодий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100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мельные угод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спользуемы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льском хозяйстве, наз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ельскохозяйств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годь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опрос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Чем объяснить, что при та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значительной площади вс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территории России д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сельскохозяйственных угод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Arial"/>
              </a:rPr>
              <a:t>столь невел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11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62704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8075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Organization Chart 8"/>
          <p:cNvGrpSpPr/>
          <p:nvPr/>
        </p:nvGrpSpPr>
        <p:grpSpPr>
          <a:xfrm>
            <a:off x="250920" y="1092240"/>
            <a:ext cx="8424360" cy="4581720"/>
            <a:chOff x="250920" y="1092240"/>
            <a:chExt cx="8424360" cy="4581720"/>
          </a:xfrm>
        </p:grpSpPr>
        <p:sp>
          <p:nvSpPr>
            <p:cNvPr id="99" name="AutoShape 7"/>
            <p:cNvSpPr/>
            <p:nvPr/>
          </p:nvSpPr>
          <p:spPr>
            <a:xfrm>
              <a:off x="250920" y="1092240"/>
              <a:ext cx="8424360" cy="45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_s1028"/>
            <p:cNvCxnSpPr>
              <a:stCxn id="101" idx="0"/>
              <a:endCxn id="102" idx="2"/>
            </p:cNvCxnSpPr>
            <p:nvPr/>
          </p:nvCxnSpPr>
          <p:spPr>
            <a:xfrm flipH="1" flipV="1">
              <a:off x="4462560" y="2924280"/>
              <a:ext cx="2949120" cy="916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0"/>
              <a:endCxn id="102" idx="2"/>
            </p:cNvCxnSpPr>
            <p:nvPr/>
          </p:nvCxnSpPr>
          <p:spPr>
            <a:xfrm flipV="1">
              <a:off x="4460040" y="2918520"/>
              <a:ext cx="3240" cy="91692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</a:ln>
          </p:spPr>
        </p:cxnSp>
        <p:cxnSp>
          <p:nvCxnSpPr>
            <p:cNvPr id="105" name="_s1030"/>
            <p:cNvCxnSpPr>
              <a:stCxn id="106" idx="0"/>
              <a:endCxn id="102" idx="2"/>
            </p:cNvCxnSpPr>
            <p:nvPr/>
          </p:nvCxnSpPr>
          <p:spPr>
            <a:xfrm flipV="1">
              <a:off x="1514520" y="2924280"/>
              <a:ext cx="2949120" cy="916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1"/>
            <p:cNvSpPr/>
            <p:nvPr/>
          </p:nvSpPr>
          <p:spPr>
            <a:xfrm>
              <a:off x="3199320" y="1092240"/>
              <a:ext cx="2527200" cy="1832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ид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льскохозяй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годий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( 222 млн.г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250920" y="3841200"/>
              <a:ext cx="2527200" cy="1832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шни – 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132 млн.г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3199320" y="3841200"/>
              <a:ext cx="2527200" cy="1832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енокосы – 1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 23 млн.г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4"/>
            <p:cNvSpPr/>
            <p:nvPr/>
          </p:nvSpPr>
          <p:spPr>
            <a:xfrm>
              <a:off x="6147720" y="3841200"/>
              <a:ext cx="2527200" cy="1832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астбища – 30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 65 млн.г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8893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раслевой состав сельского хозяй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еделие              Животново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астениеводство – 53 % стоимости всей с/х продукции Росс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расли растениевод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ерновые культуры                                              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ОПРО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ернобобовые культур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технические культур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Приведите пример доказатель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масличные культуры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ртофелеводство                                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заимосвязи отраслей сельск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вощевод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бахчеводст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хозяй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садовод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виноградар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3851280" y="1773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9"/>
          <p:cNvSpPr/>
          <p:nvPr/>
        </p:nvSpPr>
        <p:spPr>
          <a:xfrm flipH="1">
            <a:off x="2843280" y="1341360"/>
            <a:ext cx="433440" cy="358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0"/>
          <p:cNvSpPr/>
          <p:nvPr/>
        </p:nvSpPr>
        <p:spPr>
          <a:xfrm>
            <a:off x="5292720" y="1268280"/>
            <a:ext cx="57456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334800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4"/>
          <p:cNvSpPr/>
          <p:nvPr/>
        </p:nvSpPr>
        <p:spPr>
          <a:xfrm>
            <a:off x="262728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5"/>
          <p:cNvSpPr/>
          <p:nvPr/>
        </p:nvSpPr>
        <p:spPr>
          <a:xfrm flipH="1">
            <a:off x="2124000" y="3500280"/>
            <a:ext cx="935280" cy="2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6"/>
          <p:cNvSpPr/>
          <p:nvPr/>
        </p:nvSpPr>
        <p:spPr>
          <a:xfrm flipH="1">
            <a:off x="2627280" y="191628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Задание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уя учебни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7 , атлас заполните табли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делайте вывод о географии размещения отраслей   растениево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71640" y="2060640"/>
          <a:ext cx="7345440" cy="45813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3168720"/>
              </a:tblGrid>
              <a:tr h="846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ь землед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выращи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и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ечи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6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ческие куль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еводство, садовод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Line 58"/>
          <p:cNvSpPr/>
          <p:nvPr/>
        </p:nvSpPr>
        <p:spPr>
          <a:xfrm flipV="1">
            <a:off x="971640" y="5877000"/>
            <a:ext cx="7345440" cy="7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3T16:49:55Z</dcterms:created>
  <dc:creator>Пользователь</dc:creator>
  <dc:description/>
  <dc:language>en-US</dc:language>
  <cp:lastModifiedBy>User</cp:lastModifiedBy>
  <dcterms:modified xsi:type="dcterms:W3CDTF">2023-11-13T17:07:24Z</dcterms:modified>
  <cp:revision>7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A9B6D7C6E7A46F582D690D9C9E39C1D_12</vt:lpwstr>
  </property>
  <property fmtid="{D5CDD505-2E9C-101B-9397-08002B2CF9AE}" pid="3" name="KSOProductBuildVer">
    <vt:lpwstr>1049-12.2.0.13266</vt:lpwstr>
  </property>
</Properties>
</file>