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EFCD-7E5C-422E-B145-753CEDDBD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FDDB-B57A-4CF5-9CBB-AAD919976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51B8-1040-418A-B343-1ACF162EC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3885-1DFE-4D80-8357-9CBD45646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E6FED-B56D-4DFF-AAAB-0CB3C067E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26548-2598-407D-90AF-7DE4B59FE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64ABB-4566-4D71-9D34-E40C18B6A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9C213-179A-4513-9294-E2A384711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89B9D-BCF4-437B-A965-D6C044C8D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D06B3-9A24-497D-BD3D-C6FC85410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3022B-D73B-411D-84E5-5B94D734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EB9B-9916-4EDE-BE9D-BAE7AAAA2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3D2D6-79E4-451D-8317-555A7E16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8FEEC-914A-4516-BB18-B39B43E1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422EA-03CB-4535-8D4A-ECBB86C69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6DD10-FB54-41D1-A5D8-AA4D24FB6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FF83B-4C00-418B-AF7B-2EF49AC1D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3A0A-FA8C-407D-A34B-A686FBC06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3212-5593-4F04-896B-DC164BB7C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4B1B-C517-423B-BCAA-66512EF3D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B66D-C50A-4A3C-A8CE-19FF7ACB9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C20A-86D5-42AC-9F94-47179A7C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D703-6E38-4476-A829-E1A2D8C2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2B15-7398-456C-927F-21505C87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412E7-B3D5-413E-9602-E370403FAD8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672A8-06F5-4941-8F56-9C11099781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93FBE-0783-4F23-A36C-64FAC2A79A3F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F652E-E597-4648-8DD1-27D9C45D86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Тема урока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ельское хозяйство.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астениеводство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32000" y="5805360"/>
            <a:ext cx="6440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24000" y="907560"/>
            <a:ext cx="7905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Вопрос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Чем технические культуры отличаются от зерновых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Определите, используя атлас, какова специализация земледелия в Брянской области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000" y="836640"/>
            <a:ext cx="82184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Задание  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кажите на схеме факторы, влияющие на развитие сельского хозяйства, и особенности, отличающие эту отрасль от других отраслей хозяйства (промышленности, транспорта и т.д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2987640" y="2781360"/>
            <a:ext cx="3384720" cy="647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льское хозяй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900000" y="3860640"/>
            <a:ext cx="2592360" cy="576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Факторы разви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5508720" y="3860640"/>
            <a:ext cx="2735280" cy="576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соб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7"/>
          <p:cNvSpPr/>
          <p:nvPr/>
        </p:nvSpPr>
        <p:spPr>
          <a:xfrm flipH="1">
            <a:off x="2843280" y="3429000"/>
            <a:ext cx="792000" cy="431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8"/>
          <p:cNvSpPr/>
          <p:nvPr/>
        </p:nvSpPr>
        <p:spPr>
          <a:xfrm>
            <a:off x="5580000" y="3429000"/>
            <a:ext cx="1152720" cy="431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826920" y="4869000"/>
            <a:ext cx="2162520" cy="1368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5724360" y="4869000"/>
            <a:ext cx="2232360" cy="1368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1"/>
          <p:cNvSpPr/>
          <p:nvPr/>
        </p:nvSpPr>
        <p:spPr>
          <a:xfrm>
            <a:off x="1979640" y="4437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2"/>
          <p:cNvSpPr/>
          <p:nvPr/>
        </p:nvSpPr>
        <p:spPr>
          <a:xfrm>
            <a:off x="6877080" y="4437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000" y="836640"/>
            <a:ext cx="82184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Ответ 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2916360" y="1773360"/>
            <a:ext cx="3384360" cy="647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льское хозяй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826920" y="2924280"/>
            <a:ext cx="2592720" cy="576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Факторы разви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5076720" y="2852640"/>
            <a:ext cx="2735280" cy="576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соб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7"/>
          <p:cNvSpPr/>
          <p:nvPr/>
        </p:nvSpPr>
        <p:spPr>
          <a:xfrm flipH="1">
            <a:off x="2626920" y="2492280"/>
            <a:ext cx="792360" cy="4320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5219640" y="2421000"/>
            <a:ext cx="1152720" cy="431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826920" y="3933720"/>
            <a:ext cx="2449800" cy="1800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площадь с/х угод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качество с/х угод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гроклиматическ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сло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5148360" y="3860640"/>
            <a:ext cx="2808360" cy="1657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висим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 природных услов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сезонное производ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зональная специализ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1"/>
          <p:cNvSpPr/>
          <p:nvPr/>
        </p:nvSpPr>
        <p:spPr>
          <a:xfrm>
            <a:off x="2124000" y="3500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3"/>
          <p:cNvSpPr/>
          <p:nvPr/>
        </p:nvSpPr>
        <p:spPr>
          <a:xfrm>
            <a:off x="6443640" y="3429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907920"/>
            <a:ext cx="836280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сельскохозяйственного производства может осуществляться двумя путями: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68360" y="184464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Экстенсивны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нтенсивны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Вопрос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помните из курса географии 8 класса, чем отличаются экстенсивное и интенсивное сельское хозяйств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Line 5"/>
          <p:cNvSpPr/>
          <p:nvPr/>
        </p:nvSpPr>
        <p:spPr>
          <a:xfrm flipH="1">
            <a:off x="2555640" y="1844640"/>
            <a:ext cx="936360" cy="7923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6"/>
          <p:cNvSpPr/>
          <p:nvPr/>
        </p:nvSpPr>
        <p:spPr>
          <a:xfrm>
            <a:off x="4859280" y="1773360"/>
            <a:ext cx="1368360" cy="7920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68000" y="1600200"/>
            <a:ext cx="828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Вопрос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экологические проблемы связаны с развитием сельского хозяйства и каким образом их можно избежат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179280" y="2674800"/>
            <a:ext cx="89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Тест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берите вариант правильного ответ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773000"/>
            <a:ext cx="807552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Основой растениеводства служит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зерновое хозяйств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технические культу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 овощеводство и садоводств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Важнейшей культурой зернового хозяйства являетс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ри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пшениц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 ове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В каком экономическом районе выращивают сахарную свёклу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Центральн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Центрально-Черноземн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 Северо-Западн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68000" y="981000"/>
            <a:ext cx="821844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Из какой культуры в русских деревнях умели делать нарядное полотно - батист («северный шелк»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хлоп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коноп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льна-долгунц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К западу от Волги сею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озимую пшениц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яровую пшениц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В каких природных зонах наиболее интенсивное сельское хозяйство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лес и лесостеп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лесостепи и степ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степи и полупусты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836640"/>
            <a:ext cx="821844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Самопровер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Основой растениеводства служит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А) зерновое хозяйств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технические культу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 овощеводство и садоводств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Важнейшей культурой зернового хозяйства являетс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ри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Б) пшениц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 ове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В каком экономическом районе выращивают сахарную свёклу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Центральн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Б) Центрально-Черноземн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 Северо-Западн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Из какой культуры в русских деревнях умели делать нарядное полотно - батист («северный шелк»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хлоп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конопл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В) льна-долгунц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К западу от Волги сеют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А) озимую пшениц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яровую пшениц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В каких природных зонах наиболее интенсивное сельское хозяйство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лес и лесостеп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Б) лесостепи и степ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 степи и полупусты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000" y="1052280"/>
            <a:ext cx="8280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Calibri"/>
              </a:rPr>
              <a:t>Выво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8000" y="1628280"/>
            <a:ext cx="82184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льскохозяйственное производство зависит от природных условий, поэтому в нашей стране оно имеет четко выраженный сезонный характер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ой растениеводства России служит зерновое хозяйство, а его важнейшей культурой является пшениц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растениеводства страны характерна зональная специализация, то есть выращивание в каждой природно-хозяйственной  зоне определённого набора сельскохозяйственных культур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457200" y="83664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опросы, рассматриваемые на урок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457200" y="1989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льское хозяйство - отрасль первичной сф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лавные особенности сельского хозяй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раслевой состав сельского хозяй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еография растениевод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280" y="1196640"/>
            <a:ext cx="81471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9280" y="2060280"/>
            <a:ext cx="8209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Arial"/>
              </a:rPr>
              <a:t>Спасибо за работу на уроке!!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468360" y="1052640"/>
            <a:ext cx="8229600" cy="50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ельское хозяйство - эт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трасль хозяйства, дающая людям продукты питания, а промышленности – сырь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42-19511236"/>
          <p:cNvPicPr/>
          <p:nvPr/>
        </p:nvPicPr>
        <p:blipFill>
          <a:blip r:embed="rId1"/>
          <a:stretch/>
        </p:blipFill>
        <p:spPr>
          <a:xfrm>
            <a:off x="3492360" y="4724280"/>
            <a:ext cx="2159280" cy="1435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42-16248543"/>
          <p:cNvPicPr/>
          <p:nvPr/>
        </p:nvPicPr>
        <p:blipFill>
          <a:blip r:embed="rId2"/>
          <a:stretch/>
        </p:blipFill>
        <p:spPr>
          <a:xfrm>
            <a:off x="6443640" y="3068640"/>
            <a:ext cx="2108160" cy="2158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42-16041240"/>
          <p:cNvPicPr/>
          <p:nvPr/>
        </p:nvPicPr>
        <p:blipFill>
          <a:blip r:embed="rId3"/>
          <a:stretch/>
        </p:blipFill>
        <p:spPr>
          <a:xfrm>
            <a:off x="900000" y="4149720"/>
            <a:ext cx="171468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280" y="1268280"/>
            <a:ext cx="814716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Вопрос 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71280" y="2133360"/>
            <a:ext cx="771516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Почему сельское хозяйство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относят к первичному сектору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хозяйств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10920" y="980640"/>
            <a:ext cx="8281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Самопровер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ельское хозяйство использует «производительные силы природы»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очвенное плодороди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олнечный свет и тепло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садк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естественную растительность (пастбища и сенокосы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814536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Одним из важнейших факторов развития сельского хозяйства является величина и качество сельскохозяйственных угодий</a:t>
            </a:r>
            <a:br>
              <a:rPr sz="2000"/>
            </a:br>
            <a:r>
              <a:rPr b="0" lang="ru-RU" sz="3200" spc="-1" strike="noStrike" u="sng">
                <a:solidFill>
                  <a:srgbClr val="ff0066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руктура земельных угодий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41004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емельные угодь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спользуемые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ельском хозяйстве, называ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ельскохозяйственн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угодь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Вопрос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99"/>
                </a:solidFill>
                <a:latin typeface="Arial"/>
              </a:rPr>
              <a:t>Чем объяснить, что при так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99"/>
                </a:solidFill>
                <a:latin typeface="Arial"/>
              </a:rPr>
              <a:t>значительной площади вс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99"/>
                </a:solidFill>
                <a:latin typeface="Arial"/>
              </a:rPr>
              <a:t>территории России дол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99"/>
                </a:solidFill>
                <a:latin typeface="Arial"/>
              </a:rPr>
              <a:t>сельскохозяйственных угод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99"/>
                </a:solidFill>
                <a:latin typeface="Arial"/>
              </a:rPr>
              <a:t>столь невелик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2"/>
          <p:cNvSpPr/>
          <p:nvPr/>
        </p:nvSpPr>
        <p:spPr>
          <a:xfrm>
            <a:off x="0" y="13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Object 11" descr=""/>
          <p:cNvPicPr/>
          <p:nvPr/>
        </p:nvPicPr>
        <p:blipFill>
          <a:blip r:embed="rId1"/>
          <a:stretch/>
        </p:blipFill>
        <p:spPr>
          <a:xfrm>
            <a:off x="4140360" y="1916280"/>
            <a:ext cx="6270480" cy="44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10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1000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1000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1000"/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1000"/>
                                        <p:tgtEl>
                                          <p:spTgt spid="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1000"/>
                                        <p:tgtEl>
                                          <p:spTgt spid="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2492280"/>
            <a:ext cx="807552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Organization Chart 8"/>
          <p:cNvGrpSpPr/>
          <p:nvPr/>
        </p:nvGrpSpPr>
        <p:grpSpPr>
          <a:xfrm>
            <a:off x="250920" y="1092240"/>
            <a:ext cx="8424360" cy="4581720"/>
            <a:chOff x="250920" y="1092240"/>
            <a:chExt cx="8424360" cy="4581720"/>
          </a:xfrm>
        </p:grpSpPr>
        <p:sp>
          <p:nvSpPr>
            <p:cNvPr id="99" name="AutoShape 7"/>
            <p:cNvSpPr/>
            <p:nvPr/>
          </p:nvSpPr>
          <p:spPr>
            <a:xfrm>
              <a:off x="250920" y="1092240"/>
              <a:ext cx="8424360" cy="458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0" name="_s1028"/>
            <p:cNvCxnSpPr>
              <a:stCxn id="101" idx="0"/>
              <a:endCxn id="102" idx="2"/>
            </p:cNvCxnSpPr>
            <p:nvPr/>
          </p:nvCxnSpPr>
          <p:spPr>
            <a:xfrm flipH="1" flipV="1">
              <a:off x="4462560" y="2924280"/>
              <a:ext cx="2949120" cy="9169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3" name="_s1029"/>
            <p:cNvCxnSpPr>
              <a:stCxn id="104" idx="0"/>
              <a:endCxn id="102" idx="2"/>
            </p:cNvCxnSpPr>
            <p:nvPr/>
          </p:nvCxnSpPr>
          <p:spPr>
            <a:xfrm flipV="1">
              <a:off x="4460040" y="2918520"/>
              <a:ext cx="3240" cy="916920"/>
            </a:xfrm>
            <a:prstGeom prst="straightConnector1">
              <a:avLst/>
            </a:prstGeom>
            <a:ln w="28440">
              <a:solidFill>
                <a:srgbClr val="000000"/>
              </a:solidFill>
              <a:round/>
            </a:ln>
          </p:spPr>
        </p:cxnSp>
        <p:cxnSp>
          <p:nvCxnSpPr>
            <p:cNvPr id="105" name="_s1030"/>
            <p:cNvCxnSpPr>
              <a:stCxn id="106" idx="0"/>
              <a:endCxn id="102" idx="2"/>
            </p:cNvCxnSpPr>
            <p:nvPr/>
          </p:nvCxnSpPr>
          <p:spPr>
            <a:xfrm flipV="1">
              <a:off x="1514520" y="2924280"/>
              <a:ext cx="2949120" cy="9169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2" name="_s1031"/>
            <p:cNvSpPr/>
            <p:nvPr/>
          </p:nvSpPr>
          <p:spPr>
            <a:xfrm>
              <a:off x="3199320" y="1092240"/>
              <a:ext cx="2527200" cy="18327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ид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ельскохозяйственны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угодий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( 222 млн.га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032"/>
            <p:cNvSpPr/>
            <p:nvPr/>
          </p:nvSpPr>
          <p:spPr>
            <a:xfrm>
              <a:off x="250920" y="3841200"/>
              <a:ext cx="2527200" cy="18327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ашни – 6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(132 млн.га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1033"/>
            <p:cNvSpPr/>
            <p:nvPr/>
          </p:nvSpPr>
          <p:spPr>
            <a:xfrm>
              <a:off x="3199320" y="3841200"/>
              <a:ext cx="2527200" cy="18327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енокосы – 10 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( 23 млн.га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1034"/>
            <p:cNvSpPr/>
            <p:nvPr/>
          </p:nvSpPr>
          <p:spPr>
            <a:xfrm>
              <a:off x="6147720" y="3841200"/>
              <a:ext cx="2527200" cy="18327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астбища – 30 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( 65 млн.га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-360" y="981000"/>
            <a:ext cx="88930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траслевой состав сельского хозяйств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емледелие              Животноводств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растениеводство – 53 % стоимости всей с/х продукции Росси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трасли растениеводств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зерновые культуры                                                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ВОПРОС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зернобобовые культур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технические культуры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Приведите пример доказательства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масличные культуры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картофелеводство                                </a:t>
            </a: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взаимосвязи отраслей сельског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овощеводств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бахчеводство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хозяйств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садоводств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виноградарств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Line 21"/>
          <p:cNvSpPr/>
          <p:nvPr/>
        </p:nvSpPr>
        <p:spPr>
          <a:xfrm>
            <a:off x="3851280" y="177336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9"/>
          <p:cNvSpPr/>
          <p:nvPr/>
        </p:nvSpPr>
        <p:spPr>
          <a:xfrm flipH="1">
            <a:off x="2843280" y="1341360"/>
            <a:ext cx="433440" cy="3589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0"/>
          <p:cNvSpPr/>
          <p:nvPr/>
        </p:nvSpPr>
        <p:spPr>
          <a:xfrm>
            <a:off x="5292720" y="1268280"/>
            <a:ext cx="574560" cy="3603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2"/>
          <p:cNvSpPr/>
          <p:nvPr/>
        </p:nvSpPr>
        <p:spPr>
          <a:xfrm>
            <a:off x="3348000" y="2637000"/>
            <a:ext cx="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4"/>
          <p:cNvSpPr/>
          <p:nvPr/>
        </p:nvSpPr>
        <p:spPr>
          <a:xfrm>
            <a:off x="2627280" y="3357720"/>
            <a:ext cx="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5"/>
          <p:cNvSpPr/>
          <p:nvPr/>
        </p:nvSpPr>
        <p:spPr>
          <a:xfrm flipH="1">
            <a:off x="2124000" y="3500280"/>
            <a:ext cx="935280" cy="287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46"/>
          <p:cNvSpPr/>
          <p:nvPr/>
        </p:nvSpPr>
        <p:spPr>
          <a:xfrm flipH="1">
            <a:off x="2627280" y="1916280"/>
            <a:ext cx="432000" cy="431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000" y="907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0066"/>
                </a:solidFill>
                <a:uFillTx/>
                <a:latin typeface="Arial"/>
              </a:rPr>
              <a:t>Задание</a:t>
            </a: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спользуя учебник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17 , атлас заполните таблиц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сделайте вывод о географии размещения отраслей   растениевод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971640" y="2060640"/>
          <a:ext cx="7345440" cy="4581360"/>
        </p:xfrm>
        <a:graphic>
          <a:graphicData uri="http://schemas.openxmlformats.org/drawingml/2006/table">
            <a:tbl>
              <a:tblPr/>
              <a:tblGrid>
                <a:gridCol w="2087640"/>
                <a:gridCol w="2089080"/>
                <a:gridCol w="3168720"/>
              </a:tblGrid>
              <a:tr h="8467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асль земледел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льту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йоны выращи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8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рнов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льту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шеница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зим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ров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ж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ечих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6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хнические культу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вощеводство, садовод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Line 58"/>
          <p:cNvSpPr/>
          <p:nvPr/>
        </p:nvSpPr>
        <p:spPr>
          <a:xfrm flipV="1">
            <a:off x="971640" y="5877000"/>
            <a:ext cx="7345440" cy="712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11-13T16:49:55Z</dcterms:created>
  <dc:creator>Пользователь</dc:creator>
  <dc:description/>
  <dc:language>en-US</dc:language>
  <cp:lastModifiedBy>User</cp:lastModifiedBy>
  <dcterms:modified xsi:type="dcterms:W3CDTF">2023-11-13T17:07:24Z</dcterms:modified>
  <cp:revision>7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A9B6D7C6E7A46F582D690D9C9E39C1D_12</vt:lpwstr>
  </property>
  <property fmtid="{D5CDD505-2E9C-101B-9397-08002B2CF9AE}" pid="3" name="KSOProductBuildVer">
    <vt:lpwstr>1049-12.2.0.13266</vt:lpwstr>
  </property>
</Properties>
</file>