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A0E8-A8A1-4C7F-BA69-DBCF1B79BE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69A54-DAD6-4B91-B257-7DB3804DD96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4FF1-CB94-4317-BEF4-F3D9876CC292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24F-8A61-4303-8709-05A7E35F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C75-D7B0-427B-BC99-9AFB26E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784-71BC-475E-9045-1B2A7B2B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DC6-9E3E-422D-8FA7-B8AFA2D7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4B9E-26B2-4697-9094-2D089881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707B-C65C-49AA-A93B-7B5F1F7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705-652F-4265-9693-8A395AB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1A8-7E22-4B3A-AC9C-F87514A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988-F013-4C41-8322-4149DE7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CEA-81CA-49A2-AFFF-3332BBC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74D6-1673-434A-BCA8-79BBBA2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EA7-B275-4908-8485-36C9D76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55E3-2EBA-4E84-B5F6-5A62649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574-A2E1-404C-B2F5-D8C481B4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D227-9C76-4907-A909-0E06E14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C79E-8787-4D98-98DA-4F072C74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3F3-1AED-4944-A770-5E9869C0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3D4-6C71-498D-9981-3639EB9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9B4-DC1F-47EB-A9B6-0834DEA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319-4853-43EB-960F-FC0D4B2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1A4-F1CF-4248-B731-C57EE40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D4D-28CF-46C3-9A83-42EDF56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182-0E70-4B33-8F1F-2B09B890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C04-48D6-49E0-B511-032E974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1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InfoUro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81609-BC24-47CC-9956-3B596E381A3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2.1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© InfoUro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970A60-534B-4F00-BA3B-AC592DB819A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458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1368360"/>
            <a:ext cx="85676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рок русского языка в 3 классе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ма урока: «Изменение существительных по падежам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8360" y="5327640"/>
            <a:ext cx="4535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вриченко Е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удентка 4 курса группы 44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000" y="115920"/>
            <a:ext cx="8883720" cy="67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просы для кроссв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уществительное женского рода 1-го склонения, синоним выражения «вооружённые силы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уществительное мужского рода 2-го склонения, с уменьшительно-ласкательным суффиксом, образованное от существительного медвед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Существительное мужского рода 2-го склонения, обозначающее сооружение для переезда и перехода через реку, в родительном падеже множествен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уществительное мужского рода 2-го склонения, с суффиксом -щик, обозначающее профессию и образованное от слова кам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Существительное женского рода 1-го склонения, являющееся названием домашней птицы, в дательном падеже единствен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уществительное 1-го склонения, обозначающее неопрятного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6335640" cy="591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р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медвежо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мо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мен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ур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неря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189000"/>
            <a:ext cx="551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03228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3092400" cy="212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292720" y="1339920"/>
            <a:ext cx="291312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"/>
          <p:cNvCxnSpPr/>
          <p:nvPr/>
        </p:nvCxnSpPr>
        <p:spPr>
          <a:xfrm>
            <a:off x="3913200" y="20257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1692360" y="192240"/>
            <a:ext cx="5740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ьте существитель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уж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75840" y="1701720"/>
            <a:ext cx="1690560" cy="3245760"/>
            <a:chOff x="1275840" y="1701720"/>
            <a:chExt cx="1690560" cy="3245760"/>
          </a:xfrm>
        </p:grpSpPr>
        <p:sp>
          <p:nvSpPr>
            <p:cNvPr id="105" name=""/>
            <p:cNvSpPr/>
            <p:nvPr/>
          </p:nvSpPr>
          <p:spPr>
            <a:xfrm>
              <a:off x="1310400" y="1701720"/>
              <a:ext cx="9748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мя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9320" y="2349360"/>
              <a:ext cx="94572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лё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5840" y="3005280"/>
              <a:ext cx="13982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сос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6920" y="3665520"/>
              <a:ext cx="16894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солнц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4560" y="4308480"/>
              <a:ext cx="9212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ле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05200" y="1701720"/>
            <a:ext cx="3259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думаю) о мя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07000" y="2346480"/>
            <a:ext cx="23860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нет) ль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3760" y="2992320"/>
            <a:ext cx="35946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горжусь) со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0520" y="3639960"/>
            <a:ext cx="27961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даю) сол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7560" y="4286160"/>
            <a:ext cx="2407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вижу)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09880" y="1805040"/>
            <a:ext cx="655920" cy="437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8960" y="2449440"/>
            <a:ext cx="631800" cy="4377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33640" y="3095640"/>
            <a:ext cx="622440" cy="4377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1320" y="3770280"/>
            <a:ext cx="666720" cy="4377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25720" y="4413240"/>
            <a:ext cx="639360" cy="4377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3913200" y="267660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"/>
          <p:cNvCxnSpPr/>
          <p:nvPr/>
        </p:nvCxnSpPr>
        <p:spPr>
          <a:xfrm>
            <a:off x="3913200" y="33163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"/>
          <p:cNvCxnSpPr/>
          <p:nvPr/>
        </p:nvCxnSpPr>
        <p:spPr>
          <a:xfrm>
            <a:off x="3913200" y="399096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"/>
          <p:cNvCxnSpPr/>
          <p:nvPr/>
        </p:nvCxnSpPr>
        <p:spPr>
          <a:xfrm>
            <a:off x="3913200" y="46339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4840" y="1079640"/>
            <a:ext cx="87120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хтанов М.В. И др. Методика разработки и внедрения рейтинг-контроля умений и знаний студентов. Учебное пособие М.19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Тюрнева С.М. Нетрадиционные формы контроля на уроках литературы: Статья из сборника: Воспитание личности на уроках русского языка и литературы: (сб.ст.)/М-во образованием Респ. Саха (Якутия), Упр . образованием г. Якутска, Якут. гор. лицей; [Авт.-сост.: Е.И.Борисова и др.] – Якутск, 2006. – С. 19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Чуракова Н. А., Каленчук М.Л. , Байкова Т.А., Малаховская О.В.. Русский язык. 3 класс: методическое пособие для учителя.- М.: Академкнига,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нформационные ресурсы: Н.А. Чуракова. Русский язык: учебник для 3 класса в 2-частях. Часть 1.- М.: Академкнига,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