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B8CDA-B6D9-4B54-8D80-585A139C31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2D68A-4002-47CE-A36B-DE31C62EF8FB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B3AA5-54A6-4751-8D03-DEE0B5F25D6F}" type="slidenum">
              <a:rPr b="0" lang="ru-RU" sz="18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480-8F51-4DF5-9873-78805841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8D4-9120-46CA-BB39-48B306FA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440-CF04-45EA-AA58-C3202B67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3C6-A118-431E-AB4E-B997D87B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345-51F9-4DF9-8444-A59C89CB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7DC-E781-4FBC-98C9-35EE30EB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6749-FA93-47B9-AC4E-A957628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A388-56F4-4140-B575-CC4C761B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4BC9-520B-4BDE-AEC4-FB63E0E5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E3F-3F8F-4183-B57E-63BE2C3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EA0B-6E95-4BA4-95DD-D2EF0FAB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3EA-9D96-402E-B1FF-286BF9F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27DD-4788-4FA4-AD8A-E1BEDFF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E5B0-75C3-45A9-8FD2-CD1D8DFB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8EC4-AFDB-4A0A-97FE-B3E274E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DF13-A9A3-4014-AAE2-363C36E3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B3ED-E90E-43ED-BDBA-8ACC2340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E6A-F563-4E53-945C-8508EC31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D51-8944-4127-BA2E-46AFD181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EAC-25A0-449C-8322-AA7ADDB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492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92E-1828-4AB6-8E54-67F785E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B9B-0593-44FE-BC55-7497D803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BE8-E057-4BAF-8347-092EA20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FD2-7E69-4770-AEA2-49CF2B3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772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1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© InfoUro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AB37A-D7B2-4E99-9DAE-C2F052DF4C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2.1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160"/>
            <a:ext cx="2890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© InfoUro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90E330-BACC-4CED-980C-3F8ECCBDC9C6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458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1368360"/>
            <a:ext cx="85676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рок русского языка в 3 классе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ема урока: «Изменение существительных по падежам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8360" y="5327640"/>
            <a:ext cx="4535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вриченко Е.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удентка 4 курса группы 44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000" y="115920"/>
            <a:ext cx="8883720" cy="67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просы для кроссво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уществительное женского рода 1-го склонения, синоним выражения «вооружённые силы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Существительное мужского рода 2-го склонения, с уменьшительно-ласкательным суффиксом, образованное от существительного медвед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Существительное мужского рода 2-го склонения, обозначающее сооружение для переезда и перехода через реку, в родительном падеже множествен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уществительное мужского рода 2-го склонения, с суффиксом -щик, обозначающее профессию и образованное от слова кам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Существительное женского рода 1-го склонения, являющееся названием домашней птицы, в дательном падеже единствен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4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уществительное 1-го склонения, обозначающее неопрятного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6335640" cy="591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ар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медвежо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мос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камен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кури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неря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189000"/>
            <a:ext cx="5514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гадай 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032280" cy="2879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3092400" cy="2129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292720" y="1339920"/>
            <a:ext cx="291312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"/>
          <p:cNvCxnSpPr/>
          <p:nvPr/>
        </p:nvCxnSpPr>
        <p:spPr>
          <a:xfrm>
            <a:off x="3913200" y="20257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1692360" y="192240"/>
            <a:ext cx="5740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вьте существительны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ужный пад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75840" y="1701720"/>
            <a:ext cx="1690560" cy="3245760"/>
            <a:chOff x="1275840" y="1701720"/>
            <a:chExt cx="1690560" cy="3245760"/>
          </a:xfrm>
        </p:grpSpPr>
        <p:sp>
          <p:nvSpPr>
            <p:cNvPr id="105" name=""/>
            <p:cNvSpPr/>
            <p:nvPr/>
          </p:nvSpPr>
          <p:spPr>
            <a:xfrm>
              <a:off x="1310400" y="1701720"/>
              <a:ext cx="9748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мя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9320" y="2349360"/>
              <a:ext cx="94572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лё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5840" y="3005280"/>
              <a:ext cx="13982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сос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6920" y="3665520"/>
              <a:ext cx="16894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солнц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4560" y="4308480"/>
              <a:ext cx="92124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"/>
                </a:rPr>
                <a:t>ле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05200" y="1701720"/>
            <a:ext cx="3259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думаю) о мяч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07000" y="2346480"/>
            <a:ext cx="23860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нет) ль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3760" y="2992320"/>
            <a:ext cx="359460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горжусь) сос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0520" y="3639960"/>
            <a:ext cx="27961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даю) сол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7560" y="4286160"/>
            <a:ext cx="2407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82440">
              <a:lnSpc>
                <a:spcPct val="100000"/>
              </a:lnSpc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(вижу) 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09880" y="1805040"/>
            <a:ext cx="655920" cy="437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28960" y="2449440"/>
            <a:ext cx="631800" cy="4377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33640" y="3095640"/>
            <a:ext cx="622440" cy="4377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1320" y="3770280"/>
            <a:ext cx="666720" cy="4377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25720" y="4413240"/>
            <a:ext cx="639360" cy="4377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/>
          <p:nvPr/>
        </p:nvCxnSpPr>
        <p:spPr>
          <a:xfrm>
            <a:off x="3913200" y="267660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"/>
          <p:cNvCxnSpPr/>
          <p:nvPr/>
        </p:nvCxnSpPr>
        <p:spPr>
          <a:xfrm>
            <a:off x="3913200" y="33163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2" name=""/>
          <p:cNvCxnSpPr/>
          <p:nvPr/>
        </p:nvCxnSpPr>
        <p:spPr>
          <a:xfrm>
            <a:off x="3913200" y="399096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3" name=""/>
          <p:cNvCxnSpPr/>
          <p:nvPr/>
        </p:nvCxnSpPr>
        <p:spPr>
          <a:xfrm>
            <a:off x="3913200" y="4633920"/>
            <a:ext cx="651600" cy="2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c0e4"/>
            </a:gs>
            <a:gs pos="100000">
              <a:srgbClr val="abc0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4840" y="1079640"/>
            <a:ext cx="87120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хтанов М.В. И др. Методика разработки и внедрения рейтинг-контроля умений и знаний студентов. Учебное пособие М.199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Тюрнева С.М. Нетрадиционные формы контроля на уроках литературы: Статья из сборника: Воспитание личности на уроках русского языка и литературы: (сб.ст.)/М-во образованием Респ. Саха (Якутия), Упр . образованием г. Якутска, Якут. гор. лицей; [Авт.-сост.: Е.И.Борисова и др.] – Якутск, 2006. – С. 19 - 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Чуракова Н. А., Каленчук М.Л. , Байкова Т.А., Малаховская О.В.. Русский язык. 3 класс: методическое пособие для учителя.- М.: Академкнига,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нформационные ресурсы: Н.А. Чуракова. Русский язык: учебник для 3 класса в 2-частях. Часть 1.- М.: Академкнига,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